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6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18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35.xml" ContentType="application/vnd.openxmlformats-officedocument.theme+xml"/>
  <Override PartName="/ppt/theme/theme36.xml" ContentType="application/vnd.openxmlformats-officedocument.theme+xml"/>
  <Override PartName="/ppt/theme/theme13.xml" ContentType="application/vnd.openxmlformats-officedocument.theme+xml"/>
  <Override PartName="/ppt/theme/theme37.xml" ContentType="application/vnd.openxmlformats-officedocument.theme+xml"/>
  <Override PartName="/ppt/theme/theme38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9.xml" ContentType="application/vnd.openxmlformats-officedocument.theme+xml"/>
  <Override PartName="/ppt/theme/theme26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25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_rels/slideLayout4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</p:sldMasterIdLst>
  <p:notesMasterIdLst>
    <p:notesMasterId r:id="rId40"/>
  </p:notesMasterIdLst>
  <p:sldIdLst>
    <p:sldId id="256" r:id="rId41"/>
    <p:sldId id="257" r:id="rId42"/>
    <p:sldId id="258" r:id="rId43"/>
    <p:sldId id="259" r:id="rId44"/>
    <p:sldId id="260" r:id="rId45"/>
    <p:sldId id="261" r:id="rId46"/>
  </p:sldIdLst>
  <p:sldSz cx="9144000" cy="6858000"/>
  <p:notesSz cx="68183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notesMaster" Target="notesMasters/notesMaster1.xml"/><Relationship Id="rId41" Type="http://schemas.openxmlformats.org/officeDocument/2006/relationships/slide" Target="slides/slide1.xml"/><Relationship Id="rId42" Type="http://schemas.openxmlformats.org/officeDocument/2006/relationships/slide" Target="slides/slide2.xml"/><Relationship Id="rId43" Type="http://schemas.openxmlformats.org/officeDocument/2006/relationships/slide" Target="slides/slide3.xml"/><Relationship Id="rId44" Type="http://schemas.openxmlformats.org/officeDocument/2006/relationships/slide" Target="slides/slide4.xml"/><Relationship Id="rId45" Type="http://schemas.openxmlformats.org/officeDocument/2006/relationships/slide" Target="slides/slide5.xml"/><Relationship Id="rId46" Type="http://schemas.openxmlformats.org/officeDocument/2006/relationships/slide" Target="slides/slide6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3" name=""/>
          <p:cNvSpPr/>
          <p:nvPr/>
        </p:nvSpPr>
        <p:spPr>
          <a:xfrm>
            <a:off x="0" y="0"/>
            <a:ext cx="6818400" cy="993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55960" cy="4968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" name="PlaceHolder 2"/>
          <p:cNvSpPr>
            <a:spLocks noGrp="1"/>
          </p:cNvSpPr>
          <p:nvPr>
            <p:ph type="dt" idx="115"/>
          </p:nvPr>
        </p:nvSpPr>
        <p:spPr>
          <a:xfrm>
            <a:off x="3862080" y="0"/>
            <a:ext cx="2955960" cy="4968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PlaceHolder 3"/>
          <p:cNvSpPr>
            <a:spLocks noGrp="1"/>
          </p:cNvSpPr>
          <p:nvPr>
            <p:ph type="sldImg"/>
          </p:nvPr>
        </p:nvSpPr>
        <p:spPr>
          <a:xfrm>
            <a:off x="928440" y="744120"/>
            <a:ext cx="4964040" cy="372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1800" rIns="9180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7" name="PlaceHolder 4"/>
          <p:cNvSpPr>
            <a:spLocks noGrp="1"/>
          </p:cNvSpPr>
          <p:nvPr>
            <p:ph type="body"/>
          </p:nvPr>
        </p:nvSpPr>
        <p:spPr>
          <a:xfrm>
            <a:off x="681120" y="4717800"/>
            <a:ext cx="5457600" cy="44686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8" name="PlaceHolder 5"/>
          <p:cNvSpPr>
            <a:spLocks noGrp="1"/>
          </p:cNvSpPr>
          <p:nvPr>
            <p:ph type="ftr" idx="116"/>
          </p:nvPr>
        </p:nvSpPr>
        <p:spPr>
          <a:xfrm>
            <a:off x="-360" y="9433080"/>
            <a:ext cx="2955960" cy="4968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9" name="PlaceHolder 6"/>
          <p:cNvSpPr>
            <a:spLocks noGrp="1"/>
          </p:cNvSpPr>
          <p:nvPr>
            <p:ph type="sldNum" idx="117"/>
          </p:nvPr>
        </p:nvSpPr>
        <p:spPr>
          <a:xfrm>
            <a:off x="3862080" y="9433080"/>
            <a:ext cx="2955960" cy="4968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D1F38-066E-45EA-9710-924FCE50B5D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8" name="Rectangle 7"/>
          <p:cNvSpPr/>
          <p:nvPr/>
        </p:nvSpPr>
        <p:spPr>
          <a:xfrm>
            <a:off x="3862440" y="9433080"/>
            <a:ext cx="29559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C7CFD-467F-4FA6-8005-E80A617D937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9" name="PlaceHolder 1"/>
          <p:cNvSpPr>
            <a:spLocks noGrp="1"/>
          </p:cNvSpPr>
          <p:nvPr>
            <p:ph type="sldImg"/>
          </p:nvPr>
        </p:nvSpPr>
        <p:spPr>
          <a:xfrm>
            <a:off x="932040" y="746280"/>
            <a:ext cx="4960800" cy="3722400"/>
          </a:xfrm>
          <a:prstGeom prst="rect">
            <a:avLst/>
          </a:prstGeom>
          <a:ln w="0">
            <a:noFill/>
          </a:ln>
        </p:spPr>
      </p:sp>
      <p:sp>
        <p:nvSpPr>
          <p:cNvPr id="1670" name="PlaceHolder 2"/>
          <p:cNvSpPr>
            <a:spLocks noGrp="1"/>
          </p:cNvSpPr>
          <p:nvPr>
            <p:ph type="body"/>
          </p:nvPr>
        </p:nvSpPr>
        <p:spPr>
          <a:xfrm>
            <a:off x="681120" y="4716360"/>
            <a:ext cx="545760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sldImg"/>
          </p:nvPr>
        </p:nvSpPr>
        <p:spPr>
          <a:xfrm>
            <a:off x="928800" y="744480"/>
            <a:ext cx="4964040" cy="3724200"/>
          </a:xfrm>
          <a:prstGeom prst="rect">
            <a:avLst/>
          </a:prstGeom>
          <a:ln w="0">
            <a:noFill/>
          </a:ln>
        </p:spPr>
      </p:sp>
      <p:sp>
        <p:nvSpPr>
          <p:cNvPr id="1672" name="PlaceHolder 2"/>
          <p:cNvSpPr>
            <a:spLocks noGrp="1"/>
          </p:cNvSpPr>
          <p:nvPr>
            <p:ph type="body"/>
          </p:nvPr>
        </p:nvSpPr>
        <p:spPr>
          <a:xfrm>
            <a:off x="681120" y="4717800"/>
            <a:ext cx="5457600" cy="44686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3" name="Номер слайда 3"/>
          <p:cNvSpPr/>
          <p:nvPr/>
        </p:nvSpPr>
        <p:spPr>
          <a:xfrm>
            <a:off x="3862440" y="9433080"/>
            <a:ext cx="29559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7B2A6-555E-4AA5-9355-4C090277AC2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4" name="PlaceHolder 1"/>
          <p:cNvSpPr>
            <a:spLocks noGrp="1"/>
          </p:cNvSpPr>
          <p:nvPr>
            <p:ph type="sldImg"/>
          </p:nvPr>
        </p:nvSpPr>
        <p:spPr>
          <a:xfrm>
            <a:off x="928800" y="744480"/>
            <a:ext cx="4964040" cy="3724200"/>
          </a:xfrm>
          <a:prstGeom prst="rect">
            <a:avLst/>
          </a:prstGeom>
          <a:ln w="0">
            <a:noFill/>
          </a:ln>
        </p:spPr>
      </p:sp>
      <p:sp>
        <p:nvSpPr>
          <p:cNvPr id="1675" name="PlaceHolder 2"/>
          <p:cNvSpPr>
            <a:spLocks noGrp="1"/>
          </p:cNvSpPr>
          <p:nvPr>
            <p:ph type="body"/>
          </p:nvPr>
        </p:nvSpPr>
        <p:spPr>
          <a:xfrm>
            <a:off x="681120" y="4717800"/>
            <a:ext cx="545760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6" name="Номер слайда 3"/>
          <p:cNvSpPr/>
          <p:nvPr/>
        </p:nvSpPr>
        <p:spPr>
          <a:xfrm>
            <a:off x="3862440" y="9433080"/>
            <a:ext cx="29559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3EAE2-F50B-4C38-BD06-586FB3010C7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7" name="PlaceHolder 1"/>
          <p:cNvSpPr>
            <a:spLocks noGrp="1"/>
          </p:cNvSpPr>
          <p:nvPr>
            <p:ph type="sldImg"/>
          </p:nvPr>
        </p:nvSpPr>
        <p:spPr>
          <a:xfrm>
            <a:off x="928800" y="744480"/>
            <a:ext cx="4964040" cy="3724200"/>
          </a:xfrm>
          <a:prstGeom prst="rect">
            <a:avLst/>
          </a:prstGeom>
          <a:ln w="0">
            <a:noFill/>
          </a:ln>
        </p:spPr>
      </p:sp>
      <p:sp>
        <p:nvSpPr>
          <p:cNvPr id="1678" name="PlaceHolder 2"/>
          <p:cNvSpPr>
            <a:spLocks noGrp="1"/>
          </p:cNvSpPr>
          <p:nvPr>
            <p:ph type="body"/>
          </p:nvPr>
        </p:nvSpPr>
        <p:spPr>
          <a:xfrm>
            <a:off x="681120" y="4717800"/>
            <a:ext cx="545760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9" name="Номер слайда 3"/>
          <p:cNvSpPr/>
          <p:nvPr/>
        </p:nvSpPr>
        <p:spPr>
          <a:xfrm>
            <a:off x="3862440" y="9433080"/>
            <a:ext cx="29559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B805F-4059-4DE1-B5DA-42A969667F1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0" name="PlaceHolder 1"/>
          <p:cNvSpPr>
            <a:spLocks noGrp="1"/>
          </p:cNvSpPr>
          <p:nvPr>
            <p:ph type="sldImg"/>
          </p:nvPr>
        </p:nvSpPr>
        <p:spPr>
          <a:xfrm>
            <a:off x="928800" y="744480"/>
            <a:ext cx="4964040" cy="3724200"/>
          </a:xfrm>
          <a:prstGeom prst="rect">
            <a:avLst/>
          </a:prstGeom>
          <a:ln w="0">
            <a:noFill/>
          </a:ln>
        </p:spPr>
      </p:sp>
      <p:sp>
        <p:nvSpPr>
          <p:cNvPr id="1681" name="PlaceHolder 2"/>
          <p:cNvSpPr>
            <a:spLocks noGrp="1"/>
          </p:cNvSpPr>
          <p:nvPr>
            <p:ph type="body"/>
          </p:nvPr>
        </p:nvSpPr>
        <p:spPr>
          <a:xfrm>
            <a:off x="681120" y="4717800"/>
            <a:ext cx="545760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2" name="Номер слайда 3"/>
          <p:cNvSpPr/>
          <p:nvPr/>
        </p:nvSpPr>
        <p:spPr>
          <a:xfrm>
            <a:off x="3862440" y="9433080"/>
            <a:ext cx="29559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C8F5E-ECB3-478D-B2A0-477D992047E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3" name="PlaceHolder 1"/>
          <p:cNvSpPr>
            <a:spLocks noGrp="1"/>
          </p:cNvSpPr>
          <p:nvPr>
            <p:ph type="sldImg"/>
          </p:nvPr>
        </p:nvSpPr>
        <p:spPr>
          <a:xfrm>
            <a:off x="928800" y="744480"/>
            <a:ext cx="4964040" cy="3724200"/>
          </a:xfrm>
          <a:prstGeom prst="rect">
            <a:avLst/>
          </a:prstGeom>
          <a:ln w="0">
            <a:noFill/>
          </a:ln>
        </p:spPr>
      </p:sp>
      <p:sp>
        <p:nvSpPr>
          <p:cNvPr id="1684" name="PlaceHolder 2"/>
          <p:cNvSpPr>
            <a:spLocks noGrp="1"/>
          </p:cNvSpPr>
          <p:nvPr>
            <p:ph type="body"/>
          </p:nvPr>
        </p:nvSpPr>
        <p:spPr>
          <a:xfrm>
            <a:off x="681120" y="4717800"/>
            <a:ext cx="545760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Номер слайда 3"/>
          <p:cNvSpPr/>
          <p:nvPr/>
        </p:nvSpPr>
        <p:spPr>
          <a:xfrm>
            <a:off x="3862440" y="9433080"/>
            <a:ext cx="29559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72860-B995-4737-BFD8-A63135D56F5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A19EE1-17B6-4199-A859-D227F8178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ACA625-0FD3-4C1E-A558-703454999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A24AE94-A564-4262-8924-9F72BCB3E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98A8747-8082-4EF9-AFC4-9173515C2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7A71BC0-6114-46B5-BC03-FACC01739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0EB10FC-4764-481D-84BE-9B452C88C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AC5C317-E04E-4313-8018-8D62E5219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DF80997-EDB5-4FF6-9E17-79BCA6793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2A11808-894F-46F1-A1DE-A3AA0033D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ED369CC-F5BF-4108-8F01-290FFD829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FBEF2B5-A2D9-4609-AFCF-2A6C9A595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CE71BF4-F757-4659-B117-483071515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ECAD32-B81E-4507-8E93-4F1C3EFC2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B9F7403-E974-4EE2-8D42-14D2162B9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9032F72-05EC-422B-9884-9CDD68F43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6D0AD1B-BEEF-4CFF-9AED-0FAF49B4B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9942E6F-17ED-4115-A7F8-6E98D80FF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CDD392D-5709-49AC-ABDA-16302804D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33474AD-C78B-4592-9441-992C85233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A59A5D0-7040-44E7-857C-5DA04602C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025E0C0-C1DA-4BB7-A809-2683643AC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E78BDE1-6453-4F81-960A-F668CE92D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E651B7F-6D4B-4676-9163-F4313CA42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9BE013-F467-4A76-9DC8-B44975939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D692747-8B45-40CB-A4E6-44396763A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FA9EBD9-088D-43BF-978D-55C45CA7D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85655F2-A01C-4F2A-A603-2172275E6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D999E4F-E24A-4742-9484-9A7CEC252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D3D49B3-9E58-4358-9098-4BA99F924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5A3B1F3-DD99-426E-A872-5696BC3A2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5A5A605-B18B-41C3-A67D-9EF29AE3E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5148A21-6972-4811-B17D-2E13AB339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D5AE5F8-F324-41CD-AD74-C320FF3AE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2AB5F83-3682-40C7-8ECF-4A939DC94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DB115-E84C-46BF-BB22-120E15057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AEA1E41-C1F2-4F6F-B0A5-EADA7C689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E563268-50FA-438D-9592-73777D3C5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E8486A8-C1DF-414A-97B7-74F053300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61A20BE-B489-420B-90CD-A7D1B1526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A4B223A-11D6-4EAD-A634-E2EA71689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7970F9C-202B-4F52-88FC-AF9B6992C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2179DFD-BDBA-4062-8FBE-A169FE371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5EA74D2-EDF5-4CA6-8A69-58E590537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2503FAD-70F5-4536-97E4-DA7DE6650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C6CF83B-C1D9-47C2-97F1-28704913E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CDA1A-DA7A-46B6-82ED-E8D237C1E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3988FBE-AF69-4571-8ECE-1A890C136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C64A595-CEA9-4E7C-9749-36EA04DEB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4111BDD-055C-4DD0-9558-B4E358034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B5CEC7F-5964-48C6-BFCC-BE251C51A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E1E03D2-1830-43EB-928D-467EF9AB0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69C8A7E-AA4B-4F8B-BF03-A87685119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1A4E964-F11E-4FE8-AD52-2A027896D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EB256A8-A238-49BC-BB35-CA1620C68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D767831-1185-46F8-B39B-5B0583965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691FD50-7860-456C-8552-1E7CCCF92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F2A78-E028-4925-84DF-A06F6412E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80DEEF6-6B0F-4A23-904A-391EE5D0E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125B239-2CAF-4CBC-AE62-9FDAB0DD2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AEF743A-A630-40EA-B884-D7E388B20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F4EB352-5663-4133-86CC-317314818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688B9BE-D390-43A3-A583-43D980603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60D8DAA-ECCD-4759-8D8A-A4507C96E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20209E4-E1D5-4914-A64F-1337E70A1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DB31D033-D531-41CF-AEF5-3C56A28BA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7792D825-5660-45A3-827C-EDC90B1E6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D9332882-4889-4F52-BA82-E324B3283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DDF88-519E-43F7-9040-3362C48F2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D5DAD2A6-DDD2-4E03-84E1-8E161C870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75109A97-0B66-4F47-ABFB-E648DE7B2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BFEE0632-F039-4968-AD30-9E21FFC32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B3A99E45-D39C-4E55-B49F-7EE260C58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398C16B3-EE78-4E6F-8893-F81FBAA1C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230CFABA-3FB3-4707-9EE1-825366579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0881006B-EEFE-4BAE-8BC0-F7C36759A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52852555-65F3-4C25-AFFC-AF3B764AA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3181B1DE-6EA3-43E9-BA99-CD579DB83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6006DAA-ADEB-41E2-9373-B0293AF1D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13D05-0501-45F5-8310-4FEF56363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AC8BEF2-2F92-4C4E-8D96-E3A8B4B13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1B1377B-643F-4213-9D40-C6AB90980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5CAF133-D9FE-4027-A740-7CDCD047E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6C9583B-4759-4A9F-A108-AF2277DB9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C37F2F4-7BEF-40C2-8A37-B288D1AAE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34EE04A-A2E6-426B-AF07-7E98F6D9D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F876B74-7CA9-4E8F-BE20-5B26DE0FA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AD70EB9-D121-4074-A0A7-9FFC03A79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5EBAACC-15A2-4E3C-A948-7E4ABAF4F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568D552-BB8A-40B4-8164-D7E93A23D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3B0B2-B26D-4504-980B-DD0EBD7F6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39B1253-5674-4C3F-8411-ECEBFB73C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8072462-B887-477E-BA8C-341C49F66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7631291-39F4-4A16-8A17-ECB8AEEA8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1C8AAF6-10CE-4F5E-A133-D4D465975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A8E5006-9CC4-44F4-B7A4-CFBA356A1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ECEF92C-A503-40DF-98E0-A733F1EC9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CE4F71C-A03F-4676-9240-2E796C0B7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996A690-F88F-453E-AD55-EB7771E95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F560B2C-B0AE-4004-BC8E-69A8FBA22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0D97821-6680-4D9C-8964-A29EF9622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E82A3-0318-448D-AAFB-FC9173084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18E42FD-EC2C-4756-A337-40A1E3AA8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43CEC18-8DAC-402E-882D-C3A7A6DB4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7AA0E00-9AAE-4FF6-A368-38295E049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3AD6DC2-8B1F-469E-93A6-7A8BA72CC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145325A-39F4-48B4-A3A1-1C92B9508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9AD253E-2244-497C-9FED-814C70EF2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115C6A7-1510-4FDE-B65F-C45BDEE78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D13F3FD-4916-4A13-9497-1C7E7133F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11B8408-5030-4C4C-A8E5-6559C7426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FB39B0D-70F7-43B0-AAD8-FA4D419D5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BD3E68-4963-4044-8391-631AB05BD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9456F-9DCE-4D7D-8BDE-9E07F6BAD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AA980D4-19FC-4A5E-BB88-DF5C4EB1B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3D9636A-A542-47E3-9C90-15A4348DD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F1AF2C3-6CBF-4E03-B52F-D8081B4F7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53CC0C4-8D79-4BCD-B9EF-B2D73A83B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A70F446-B801-4CD9-8CDC-2BB81ECC1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A183668-DA0A-4FC5-9F0C-07EF9CA42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78B5087-A858-49EA-907C-C5256B249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45CDA6C-A28D-450F-889B-EA95D6D70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5FAB092-178F-40C9-8123-29F8CA6DA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E666F26-B0A3-4736-A9DB-F9AC36A02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F025F-1C79-47CF-8AFD-62385C34A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9E4E1B6-1B03-4A20-9593-93EE4CF35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D0D3698-1F52-471B-9BB5-FDF219A1A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72E70A5-E7E8-4284-B3F6-875F8A0D9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12CAB92-560F-4AD0-8649-C7E7A7ED0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AE1EF9D-30B5-42EA-B020-548281104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8E0A3D8-1072-4EEC-8A26-24B19FD4C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997BD32-C868-4EAE-BF32-85B40CD30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EE396F2-2FC2-4424-9E68-B34D7CF66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7CFA259-6D07-4A72-B93D-91A1E853F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A2BE738-DB1B-429F-8DE0-EE7281D27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0DC5E-32E8-4296-ADFD-7A1A1BA2C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C7FCD49-DECC-4349-950B-59C829EF6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A5FE0DF-3F10-42B1-B4B6-4963F3199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96983D1-51E3-486C-ADD2-B988FC9BE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0A1D0F6-7FDF-4554-BB28-E477F6A04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C011521-215A-4E35-87F8-4DCEA466B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376FA8B-747F-4413-BA01-98767C72F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43D124B-CA53-4EBD-83CB-E786AB1EE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0EDDCD3-D417-4B68-A83B-D37CE4273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5C5A26C-18BF-4036-B451-FF2DDA0A6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2048DAF-21A1-4FDA-9A0B-4A1D8BE6D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0E2D0-2E8D-4368-92FC-EBF1229B6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63B96AE-2513-4139-BCBA-C93A835F8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30FF902-8DF8-41C4-A6B3-CEE05501D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F1C8E49-BBAF-46AE-A1B7-DF29623BB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46D6FFA-9906-4010-B2A0-0786D14EA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32F4E7D-3331-44B6-9C3B-3F89D15C0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04A5170-1758-49E2-ACF2-56C8A4DE9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60A9CA8-B84E-4DC9-8495-E5174CE02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C0DC417-F9CF-4DFA-AAE7-87CCF0159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82F2257-E246-41D6-AC05-ED9E51D1D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2CDBD50-0397-4664-A710-078C7B081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73FB8-7804-4829-896B-C102CE4E8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E25022B-9432-475A-A951-B16D9EBDB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A9B05EF-0E82-41BD-9EBD-678D9216E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099F69F-C807-4273-80FE-4D04D7E18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5F54BC3-FB74-4586-8102-375CDAC58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9F080BA-CCCA-4F55-BD13-F18EAE466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ED73D1C-8435-4B34-985B-22494A990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D925359-CE82-4825-9CDE-FA7CAC597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67A8F89-CF23-4373-8B8B-B43D859C4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0519BEF-5C36-432A-9244-7EEF35621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060B6AC-F488-4AAA-971C-A10E08A21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32A36B-2D51-4BEC-9F84-0C66E7C7E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5A231C4-4A50-4810-9DDD-0023C2782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E92497D-72A2-4979-AE6F-883CF559B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EA86551-26A5-443B-B90C-35F6E54DE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0002E18-3207-4E53-BDBA-793A38757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F837E4E-7B83-483E-BCA6-BC94A09D8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A10BABE-AB4F-4455-BF56-321414B54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F6D1F00-2AE3-4FDD-8A20-71B27E988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547681B-3016-42E5-BCA1-29A2AE4DC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A56E8DD-4FE0-4EB3-9A54-619457B0A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8C8F08B-59CC-44F3-ACE7-F24C3B033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74A439-3D70-400F-AEC6-740A1AF4D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4B0429A-DCB1-426B-857A-2B2C7B79E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D1E1154-46D3-4266-9206-C0E62C2B9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BF1A037-4ADF-4AF8-8A83-3042EBD24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6AB896B-F880-4345-BD9F-D25C8075C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3B0C5E5-16E8-4F61-8933-BF500140B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173784C-1433-4307-B707-4BA16C615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8B13FE3-B092-4526-B5DF-EBFA9D63B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228422A-6607-450C-A699-972F5A373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CB0B73D-3E4E-493C-817D-923E78BA9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E68EC06-7090-4AB8-AC78-B4DF8ED6C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686D56-75E4-4B67-8DB0-945460179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84328AB-7ED6-48F3-B5E3-73B236BCE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F39E09B-8CE1-421F-B8AC-527ED60C2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E60900A-4E7F-4588-8372-C78B7F307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CA8A8D6-223C-4C60-8184-23692B6E1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B96D7C4-592B-44CA-82A7-4AF61537B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320E589-6D35-41F3-9700-73829224E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83DFA63-210B-40D4-BB85-21FF3729E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F67C820-EB66-403C-949F-1623159B4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7B29DA2-1A9A-4576-AEF5-92551E00E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5BC09B2-C32D-404B-B5D3-3B0295108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905C3E-37CB-47ED-B670-F25A16F54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046406F-4724-4D85-ADF7-8D3051654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F864193-6E83-4C0B-B938-90222D704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A3C483A-B885-45EF-B8A7-770567158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FB50467-E67E-4285-AF95-1701F33EA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B042B9F-FB8C-4B10-B796-2C5B3C5C3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696C303-8531-40DF-B4DB-6C1DC9C88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0EA4729-703D-4FE2-929A-9AB10F4AD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8AE02F2-CBC6-4D7E-BDB8-C1762C6B2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A11F4E9-6A79-4538-B8B7-F457CC060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BFA318F-9226-41ED-B32F-B09393973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097CD6-EAD8-4A20-A27C-7613589C8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0FC9F46-D991-4CAE-9F58-77D92212B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CD21204-59A6-4D73-90F7-0270B6C83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63995E4-4A8E-4111-A617-52E87072C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16D7556-DA60-4220-BB82-E16272ACD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8AB8D2E-FDD6-4AB7-B178-F0C5CCAF4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265908E-735B-4DB8-BCE7-B0D0C6DCF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375906B-D1F0-4AEF-BFE2-5F04ECA0B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68ED080-A361-460B-95A8-CFDA4DE83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08209A3-790E-459F-B46C-E2BF24A67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AA47452-D24C-4902-A90D-88AF9F8D6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9C86D4-503C-49EE-BC2F-A7D62B239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9823A5-A4B2-44C6-B886-6EB4E8CDD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3CB5545-162C-4A7C-A183-F41294F03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86F41830-0D3C-406C-9935-AF6102FE8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2C5A73D4-7F5A-4C35-99C4-8087E2480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A12E5962-4DD4-49DE-934C-2786FCAF1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A64518CA-D2E1-4063-882B-E9CA475E3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5C6B46BB-2399-4373-9062-87D479C71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CCAEE3E9-9D3B-4338-AA33-286A0ECFC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BDE5EBDE-7FB3-442C-833F-3D60ACDE2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1B608CA5-6F72-46EC-AA39-144E0824F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5CF7223D-DA4D-4C91-9A5F-553094123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4D674D-17EB-400B-8E29-ED4B52D49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FA5B4E67-FF8A-42D5-8A7F-009392176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CABD4418-CE2C-4732-92F0-18759C6C3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578DFCB1-34FD-4C88-84C7-646DEA2FE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75C3436-3702-4123-9AF1-705E1A4AC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DFF45B9-A3CF-4E68-B7EB-12A46CA23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4269B09-FE27-44D6-B92C-D31986ACF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BEEA510-4C37-48D7-95B4-9E28E81F3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8C27C09-A6B8-4788-8FB1-CE7657D5F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7EEC53B-8066-40D4-9712-CB9F064C2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1F3398F-3F96-4EFC-8057-56398869B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009A33-8D1D-48DC-BC35-626602DB1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A1A40B8-7D20-4858-A388-CAE69FAF9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69DDD9D-6B7E-4196-BBA8-08B2AE05D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F7B6F1A-142B-4288-8FC4-9D326AA06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130BF41-BAD5-482F-91E3-6AC2477E3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1E2FEC9-1F37-41F3-BD00-EF5DE0E5A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DF2AD1A-379B-4428-A4D9-9FBB15F80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539ACBD-661E-4B5B-9788-2DDCBFD7D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ED38CA5-9A99-4A01-9C93-0BF7A4E6A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02C30F5-0765-44C2-AA5D-0CE8F33B3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5A2607A-0033-475B-A584-545ED2D3F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287B63-92ED-46D3-9BF4-1669384D0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E6A0BE2-2D8B-45D2-98FD-093A89470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AEA4624-008E-4D26-8FEB-13D426A51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14AD3C8-9F54-49E9-8976-F6F72E899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5F4FDE8-2FAB-4965-BCB2-6BAD442A8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763BECE-B440-4D36-9066-F6E1562D4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6E057D6-6D4B-4C4B-A757-EF5AC4915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9B86DD5-6A58-4208-95AE-E30C09327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D9E25AF-DCE0-496D-B898-48D080D81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B02542B5-BB00-4439-8E4A-F1AD9084E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CA7A4EC0-1C9F-4D84-A657-37976A4BC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BF6A2B-181F-4819-8A6D-549EC4588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0F121A83-04AE-4195-A217-45AE0A2AF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87278F3D-C813-4C31-8D96-EBF41B3D3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89EC8EE3-2C70-416A-BA89-CFACD0297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B699E3D-A3DF-43E3-B058-1ABFC541F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CDB8D7E1-B233-44BF-9E39-C9A5CE44F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14C365B3-B77F-4FDE-9D8F-BD620AF14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DA2421A6-5449-49BE-A491-44B94E357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B67F1275-385F-49F8-B608-9CB1C0440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BD2D8EDE-EFCA-4CE2-A937-761068498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B9B17DEA-17B8-432D-BF47-AD9E35264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D9BA7A-735D-42EB-817D-471262969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E8FD3D6-6EB8-4BDB-A970-CB7F0997D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5EF817AA-56BC-4203-9ABA-E2856459C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5299AA50-9920-4FA3-8D8F-D15F6F3FF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1AC1AB5-FF53-4E20-88CD-70BCAD88F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9643188-3A7D-41A6-859F-E840D4878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50F1575A-AED2-4429-9935-859CEDED1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DB6272B-E914-4EE0-9749-40DA60A12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C75CA65-6D44-4784-BA4F-3A3674A68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0C99311-BDA1-47FA-8C0B-E12B5A471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C2FAE82-39F6-4371-A1D5-9067DF05A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E51847-AF1C-4AC1-A0DD-D40D25CEC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079BD328-1D93-4A83-97E6-0D2C8A948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DC76AB0A-8B64-4D5A-B275-D905D5F2F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C541309A-B562-4B70-A19A-0DD0DB586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C094D67B-38ED-42EA-856B-6502ACEB0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13F0EB28-566A-4CAE-B1CE-6F2FCCD36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7EF97ED3-007F-4C3A-A134-48ACB83CF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024E9416-3E8A-461A-BAA6-07C067E65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973B6F26-2687-49CA-9A58-085B9D9DD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8BDE116C-1617-4425-A20E-69DDFCEFA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4F2F4563-CAAF-4466-B986-C50B59C15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E1E9FDB-7138-4886-BD56-C1B96D82A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F03C460A-4D0E-4C27-B7ED-1680739BC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4CB1CB11-ED94-4FBA-86B0-EEFF26830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293A9824-E3E9-4A50-9D64-A3C4D5F14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A0EF30C2-A45B-46E4-8852-2018ED4FF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906140B6-3DA2-4052-AD8B-B9A74F475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33FF4F11-F0B6-4F4F-9BE8-7AEF0C09A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2C13DEDC-CE27-44CC-ADBD-C960A1A09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68AD9274-DE03-40F3-A725-376D5F618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86AE9B16-179C-43FB-9A44-EBD94AFB5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23790A14-E7CC-42A3-BE48-E4553DB6C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3130547-F8BC-4262-85FE-11A9D888B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56B7B668-EEC3-4688-8F29-5EE4C6350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76BAA0B7-2311-494A-81BE-B5D20703C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A3F50D72-532A-400D-8E61-D7D9FF549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1A2CA3F2-96AD-46B4-A3FB-A979B550D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D9E51E16-ABF6-4C77-B24B-7A461F207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267585CC-BF69-4DFD-85FB-083248E13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C2558D33-E18E-4025-80F5-3F0A550A8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72E7EFC3-CA86-40E6-BF28-763C6991E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831356A1-E56D-4BAC-8EE1-B726963B3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785A0CDC-49D6-49BE-AF56-22BBDFE53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AD06EAD-3A2E-47DC-87F2-F184CBFFF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D9B9665B-41F4-43B4-8179-D01AC4595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042842A7-9D18-4DAA-A9CB-382AF40E2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5F9A9196-8532-477B-991E-7CE554AB8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A0911287-3E79-45E4-9027-8A719D0E0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1DD2D86F-E8F1-4E8B-94FE-1D4A38D96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D5AB1ACC-4EDB-40F1-AA21-8A3CAD6B1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FEB6CC28-D2AD-42C6-8C91-E6077D6A1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A2E460E0-4A52-4F01-BACA-349EE57EC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85023CAB-C7A9-4C24-BDCA-C9EE29D7C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2804E2F6-C32B-45D5-94DE-3BD491E08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C5A0FE-539C-4E07-B125-B2A155753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66927D6-CF1D-4288-B975-C7FA35B8A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D51FE58A-3C39-45E9-B9D2-563AAF6F0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2CD356C2-D8D3-46ED-8AF2-431D601E9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17F60D3F-0A33-4EA0-9A67-524C15544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E590065F-FD53-426D-BCC1-002892E6E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74FCCE08-144F-4AD9-B50E-35C906A08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CF956969-F824-4DB7-80C6-D411368E7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238679BD-1247-41C5-8529-9C6EA530F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FE0D011F-7901-4EAA-B7AF-652CD98B3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8E6B8198-DDD2-43B9-8629-BB298E547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B3B45750-51E7-4525-8223-B4211AB00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6A9A7B6-0749-4366-B5BE-751848749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0D015F8B-3626-4F53-9CC1-01308E2B0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BD9A6397-D529-4BC0-AB1C-8A3C90A27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7911A048-8CD5-4EE7-8F3E-6025EC316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5D29389F-48B5-4358-BFBD-17F0214BB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937B4510-E05A-4F13-A9A8-2673B3107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B5688168-7D25-483F-868A-B4E5C1D7F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A87D1B3D-3CBD-4BAA-AC12-FDFDFD100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DACAE323-D7E7-4219-AFC6-BAA523615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540168D6-4A47-4861-B8DA-3AC0B01F1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BC7F0518-2441-433C-9EBA-942DD7302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E524839-2374-4516-B751-9E52C45D0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18E86C74-14FA-4987-A88F-E85FB7322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997AA303-676E-4DA1-98D2-59E324F5E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0EF7D8EF-CDBC-43EC-BAEF-2BE026AC4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28A81540-43F6-4F2B-9E54-12AADF9B1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CABD0A2F-32BE-44A4-8F88-AE5E64670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445FF4D3-312B-4E19-94C0-6C9AC46C1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4B9D9AB2-616F-4BD5-AB49-D8F8021A1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14BAEBC9-2338-4BC8-A8DD-CDF3AE43A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CD3556FA-2537-489F-B092-84CC207B2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0E781897-306F-4316-8A6F-B5B479733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15CDF8E-5157-4F56-8E18-0C7D588B2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4DD9D935-3E99-4DA5-A0E4-44E568EA1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B23F2853-961A-455E-9044-3479D5411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C3786C52-04F4-4262-884D-E5936B92E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3621168D-3FD7-4A56-B4E9-1A8A1D53A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E765E4BA-2166-4BC1-9565-161F4BD02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33F7A1DA-91AB-4CE6-9A79-6AFA01F1F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681DA777-D982-4D2C-999D-7E93B7CD9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64EAF547-93F2-4059-B724-BB97B49A6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C27BE5D9-8D06-42C1-8BD3-FB807BD91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A62BB8D1-F5EB-4F2E-8D4D-7F3052CDC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F11CA09-E665-4FA6-9E90-5048A8D9D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40766A61-D085-4C75-84F5-C0E37B182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CD8DC7F0-813E-4828-89C5-A7AEC568F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2EC327BC-E9A8-4BDF-AEB4-8635FD428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CE7D1220-70C9-449C-AEEE-CB6786B3E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CE981A2B-BEE3-42E1-9603-523F73746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61EAE440-EC6D-46E0-A7DB-F36EC1553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DCDD6CB4-D9B9-4FF4-BF66-09B3D6328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14B90717-8518-4160-81AF-99C0358B1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9FF8596F-D793-4ADE-A226-4DBF7EB8A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52C951F1-46F0-4C70-BA01-701A02A33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69D06F7-9548-40FE-9DB8-FFE2849E5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031EBF6D-0443-49C3-BB4D-E3D754CFC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314D7AF5-73D4-4767-B696-200D6418A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1974A698-3F98-416F-B5AF-A1D12A3C1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703D9F5A-F43B-4F78-9695-D1B77EF7A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C436B484-2481-49E9-B35E-598FC7AF4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7E77A4E2-AFEF-445A-9DDD-6596E8B91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E9CD3313-A618-41CB-82FE-59828CCD4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9E8A1FA-68AB-47D0-AE47-21401BB93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EDE3482-769C-4DE4-A686-48C048158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7B7307D-66A8-4400-A6A3-777EEA1E8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2EC6BDC-1913-4CEF-98DF-B16965869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10301B-AE50-42BB-960C-DE08C6743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27C6F47-772A-479A-8AD1-B589E6C33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6C0BD8B-9442-4AB0-8D39-763763A5E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B0F81E2-6286-4DCE-9216-9B842BE71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E40BA28-FAB1-4BAE-8270-219F22464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294F616-3D4B-4ACC-AAD2-C4A250412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393E5D3-D5C9-401F-93F7-79CEB609F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733C476-DDD9-4BAC-80BA-57D198F45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DE19154-49FB-4CC5-BBA0-C6F3550FF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C00E88D-54D4-4F72-98CE-6B4207C8A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D67CF31-F23B-437A-B06B-040B51EB5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2B1E9C-E0CF-42E8-BBBB-8B12B3A89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651CE9C-E89D-487D-9DB9-4ED0C07EE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F864035-E1F8-42B2-BE52-B154872CA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57B013F-237E-4BA1-B1B5-93AEDAD8F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4C013CA-4088-4148-9903-000B9413E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4AFFEE0-D2FC-441E-98C5-A5F6F3ED7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0930ABF-8B5A-4EA4-88EF-6EE526E2C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563C9D7-7388-4784-A415-10C7B4452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AFBB112-4D99-4F74-B1BF-E7A0FE12B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4D364C4-6B53-40B5-8312-038B282DA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2D89C8C-B6D5-484E-A97E-A8785AF5B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BF02A1-2972-4CDD-A3DC-B1ABC167F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58DDD88-A14E-4A12-8FD4-2262E0F1D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F341D54-D0F3-405E-90CF-178531457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FF7B34B-D243-4F2B-ABB8-0D4E0EAE4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B8ADA38-FFBE-4967-9D44-F6C1A88F4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B9A27C1-44C0-4B93-BD2B-237EF6B13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E19D011-61D4-452C-8D0A-039BD9755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1E87546-0781-4E81-97AE-483AC4A36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B71C0C3-20F3-44DE-89B6-8374A9B13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7719EC5-94E2-49D7-BB06-62A837D79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B368BED-2A43-46FB-862F-704854C50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38FC70-DE64-41A8-BE3B-79749A9C8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2E26F10-32B1-450F-B58F-E7DECA4FB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548A75B-9BC7-4F9D-AB16-1966E1F3E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C0A579F-C579-4C47-A7B7-FC0FED991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CE42F56-1EFA-4EC6-83A8-1990E14EA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A6EDEAE-464E-43DC-9A92-849E009FA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12FC335-9666-4334-93DA-DFAE7337E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376251A-61EA-4209-8609-5832B602A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8066FF0-78A7-411C-801E-E5D5116C1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9F3CB92-AD38-4EA1-89E7-2670CAEB0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E01B450-C15D-49EA-ADF0-B10F8C75F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0F71AA-5BAE-4DAF-A9C2-FDC572510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8509EE6-0CE2-4E71-AB87-7B79010BD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7C8C9A8-44F6-49A4-9A8E-556AD86F3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6925776-873A-4532-882D-F053DD93F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2403DBB-143A-4AF0-AAF4-8758A8AFF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A3364DF-1D1F-4C35-A7C2-D941CA625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ED7A37E-1D7F-4BEB-8F0C-9F6C2623D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10434BF-20CD-4BCC-AD2E-CB8E54081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69C124A-305C-43D3-B8A5-6A0F7FF3C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30624F0-C060-4657-9861-ACFF48306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2EA1D40-AB41-4F30-A0D0-060408204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slideLayout" Target="../slideLayouts/slideLayout349.xml"/><Relationship Id="rId3" Type="http://schemas.openxmlformats.org/officeDocument/2006/relationships/slideLayout" Target="../slideLayouts/slideLayout350.xml"/><Relationship Id="rId4" Type="http://schemas.openxmlformats.org/officeDocument/2006/relationships/slideLayout" Target="../slideLayouts/slideLayout351.xml"/><Relationship Id="rId5" Type="http://schemas.openxmlformats.org/officeDocument/2006/relationships/slideLayout" Target="../slideLayouts/slideLayout352.xml"/><Relationship Id="rId6" Type="http://schemas.openxmlformats.org/officeDocument/2006/relationships/slideLayout" Target="../slideLayouts/slideLayout353.xml"/><Relationship Id="rId7" Type="http://schemas.openxmlformats.org/officeDocument/2006/relationships/slideLayout" Target="../slideLayouts/slideLayout354.xml"/><Relationship Id="rId8" Type="http://schemas.openxmlformats.org/officeDocument/2006/relationships/slideLayout" Target="../slideLayouts/slideLayout355.xml"/><Relationship Id="rId9" Type="http://schemas.openxmlformats.org/officeDocument/2006/relationships/slideLayout" Target="../slideLayouts/slideLayout356.xml"/><Relationship Id="rId10" Type="http://schemas.openxmlformats.org/officeDocument/2006/relationships/slideLayout" Target="../slideLayouts/slideLayout357.xml"/><Relationship Id="rId11" Type="http://schemas.openxmlformats.org/officeDocument/2006/relationships/slideLayout" Target="../slideLayouts/slideLayout358.xml"/><Relationship Id="rId12" Type="http://schemas.openxmlformats.org/officeDocument/2006/relationships/slideLayout" Target="../slideLayouts/slideLayout359.xml"/><Relationship Id="rId13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slideLayout" Target="../slideLayouts/slideLayout373.xml"/><Relationship Id="rId3" Type="http://schemas.openxmlformats.org/officeDocument/2006/relationships/slideLayout" Target="../slideLayouts/slideLayout374.xml"/><Relationship Id="rId4" Type="http://schemas.openxmlformats.org/officeDocument/2006/relationships/slideLayout" Target="../slideLayouts/slideLayout375.xml"/><Relationship Id="rId5" Type="http://schemas.openxmlformats.org/officeDocument/2006/relationships/slideLayout" Target="../slideLayouts/slideLayout376.xml"/><Relationship Id="rId6" Type="http://schemas.openxmlformats.org/officeDocument/2006/relationships/slideLayout" Target="../slideLayouts/slideLayout377.xml"/><Relationship Id="rId7" Type="http://schemas.openxmlformats.org/officeDocument/2006/relationships/slideLayout" Target="../slideLayouts/slideLayout378.xml"/><Relationship Id="rId8" Type="http://schemas.openxmlformats.org/officeDocument/2006/relationships/slideLayout" Target="../slideLayouts/slideLayout379.xml"/><Relationship Id="rId9" Type="http://schemas.openxmlformats.org/officeDocument/2006/relationships/slideLayout" Target="../slideLayouts/slideLayout380.xml"/><Relationship Id="rId10" Type="http://schemas.openxmlformats.org/officeDocument/2006/relationships/slideLayout" Target="../slideLayouts/slideLayout381.xml"/><Relationship Id="rId11" Type="http://schemas.openxmlformats.org/officeDocument/2006/relationships/slideLayout" Target="../slideLayouts/slideLayout382.xml"/><Relationship Id="rId12" Type="http://schemas.openxmlformats.org/officeDocument/2006/relationships/slideLayout" Target="../slideLayouts/slideLayout383.xml"/><Relationship Id="rId13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slideLayout" Target="../slideLayouts/slideLayout385.xml"/><Relationship Id="rId3" Type="http://schemas.openxmlformats.org/officeDocument/2006/relationships/slideLayout" Target="../slideLayouts/slideLayout386.xml"/><Relationship Id="rId4" Type="http://schemas.openxmlformats.org/officeDocument/2006/relationships/slideLayout" Target="../slideLayouts/slideLayout387.xml"/><Relationship Id="rId5" Type="http://schemas.openxmlformats.org/officeDocument/2006/relationships/slideLayout" Target="../slideLayouts/slideLayout388.xml"/><Relationship Id="rId6" Type="http://schemas.openxmlformats.org/officeDocument/2006/relationships/slideLayout" Target="../slideLayouts/slideLayout389.xml"/><Relationship Id="rId7" Type="http://schemas.openxmlformats.org/officeDocument/2006/relationships/slideLayout" Target="../slideLayouts/slideLayout390.xml"/><Relationship Id="rId8" Type="http://schemas.openxmlformats.org/officeDocument/2006/relationships/slideLayout" Target="../slideLayouts/slideLayout391.xml"/><Relationship Id="rId9" Type="http://schemas.openxmlformats.org/officeDocument/2006/relationships/slideLayout" Target="../slideLayouts/slideLayout392.xml"/><Relationship Id="rId10" Type="http://schemas.openxmlformats.org/officeDocument/2006/relationships/slideLayout" Target="../slideLayouts/slideLayout393.xml"/><Relationship Id="rId11" Type="http://schemas.openxmlformats.org/officeDocument/2006/relationships/slideLayout" Target="../slideLayouts/slideLayout394.xml"/><Relationship Id="rId12" Type="http://schemas.openxmlformats.org/officeDocument/2006/relationships/slideLayout" Target="../slideLayouts/slideLayout395.xml"/><Relationship Id="rId13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slideLayout" Target="../slideLayouts/slideLayout397.xml"/><Relationship Id="rId3" Type="http://schemas.openxmlformats.org/officeDocument/2006/relationships/slideLayout" Target="../slideLayouts/slideLayout398.xml"/><Relationship Id="rId4" Type="http://schemas.openxmlformats.org/officeDocument/2006/relationships/slideLayout" Target="../slideLayouts/slideLayout399.xml"/><Relationship Id="rId5" Type="http://schemas.openxmlformats.org/officeDocument/2006/relationships/slideLayout" Target="../slideLayouts/slideLayout400.xml"/><Relationship Id="rId6" Type="http://schemas.openxmlformats.org/officeDocument/2006/relationships/slideLayout" Target="../slideLayouts/slideLayout401.xml"/><Relationship Id="rId7" Type="http://schemas.openxmlformats.org/officeDocument/2006/relationships/slideLayout" Target="../slideLayouts/slideLayout402.xml"/><Relationship Id="rId8" Type="http://schemas.openxmlformats.org/officeDocument/2006/relationships/slideLayout" Target="../slideLayouts/slideLayout403.xml"/><Relationship Id="rId9" Type="http://schemas.openxmlformats.org/officeDocument/2006/relationships/slideLayout" Target="../slideLayouts/slideLayout404.xml"/><Relationship Id="rId10" Type="http://schemas.openxmlformats.org/officeDocument/2006/relationships/slideLayout" Target="../slideLayouts/slideLayout405.xml"/><Relationship Id="rId11" Type="http://schemas.openxmlformats.org/officeDocument/2006/relationships/slideLayout" Target="../slideLayouts/slideLayout406.xml"/><Relationship Id="rId12" Type="http://schemas.openxmlformats.org/officeDocument/2006/relationships/slideLayout" Target="../slideLayouts/slideLayout407.xml"/><Relationship Id="rId13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slideLayout" Target="../slideLayouts/slideLayout409.xml"/><Relationship Id="rId3" Type="http://schemas.openxmlformats.org/officeDocument/2006/relationships/slideLayout" Target="../slideLayouts/slideLayout410.xml"/><Relationship Id="rId4" Type="http://schemas.openxmlformats.org/officeDocument/2006/relationships/slideLayout" Target="../slideLayouts/slideLayout411.xml"/><Relationship Id="rId5" Type="http://schemas.openxmlformats.org/officeDocument/2006/relationships/slideLayout" Target="../slideLayouts/slideLayout412.xml"/><Relationship Id="rId6" Type="http://schemas.openxmlformats.org/officeDocument/2006/relationships/slideLayout" Target="../slideLayouts/slideLayout413.xml"/><Relationship Id="rId7" Type="http://schemas.openxmlformats.org/officeDocument/2006/relationships/slideLayout" Target="../slideLayouts/slideLayout414.xml"/><Relationship Id="rId8" Type="http://schemas.openxmlformats.org/officeDocument/2006/relationships/slideLayout" Target="../slideLayouts/slideLayout415.xml"/><Relationship Id="rId9" Type="http://schemas.openxmlformats.org/officeDocument/2006/relationships/slideLayout" Target="../slideLayouts/slideLayout416.xml"/><Relationship Id="rId10" Type="http://schemas.openxmlformats.org/officeDocument/2006/relationships/slideLayout" Target="../slideLayouts/slideLayout417.xml"/><Relationship Id="rId11" Type="http://schemas.openxmlformats.org/officeDocument/2006/relationships/slideLayout" Target="../slideLayouts/slideLayout418.xml"/><Relationship Id="rId12" Type="http://schemas.openxmlformats.org/officeDocument/2006/relationships/slideLayout" Target="../slideLayouts/slideLayout419.xml"/><Relationship Id="rId13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slideLayout" Target="../slideLayouts/slideLayout421.xml"/><Relationship Id="rId3" Type="http://schemas.openxmlformats.org/officeDocument/2006/relationships/slideLayout" Target="../slideLayouts/slideLayout422.xml"/><Relationship Id="rId4" Type="http://schemas.openxmlformats.org/officeDocument/2006/relationships/slideLayout" Target="../slideLayouts/slideLayout423.xml"/><Relationship Id="rId5" Type="http://schemas.openxmlformats.org/officeDocument/2006/relationships/slideLayout" Target="../slideLayouts/slideLayout424.xml"/><Relationship Id="rId6" Type="http://schemas.openxmlformats.org/officeDocument/2006/relationships/slideLayout" Target="../slideLayouts/slideLayout425.xml"/><Relationship Id="rId7" Type="http://schemas.openxmlformats.org/officeDocument/2006/relationships/slideLayout" Target="../slideLayouts/slideLayout426.xml"/><Relationship Id="rId8" Type="http://schemas.openxmlformats.org/officeDocument/2006/relationships/slideLayout" Target="../slideLayouts/slideLayout427.xml"/><Relationship Id="rId9" Type="http://schemas.openxmlformats.org/officeDocument/2006/relationships/slideLayout" Target="../slideLayouts/slideLayout428.xml"/><Relationship Id="rId10" Type="http://schemas.openxmlformats.org/officeDocument/2006/relationships/slideLayout" Target="../slideLayouts/slideLayout429.xml"/><Relationship Id="rId11" Type="http://schemas.openxmlformats.org/officeDocument/2006/relationships/slideLayout" Target="../slideLayouts/slideLayout430.xml"/><Relationship Id="rId12" Type="http://schemas.openxmlformats.org/officeDocument/2006/relationships/slideLayout" Target="../slideLayouts/slideLayout431.xml"/><Relationship Id="rId13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slideLayout" Target="../slideLayouts/slideLayout433.xml"/><Relationship Id="rId3" Type="http://schemas.openxmlformats.org/officeDocument/2006/relationships/slideLayout" Target="../slideLayouts/slideLayout434.xml"/><Relationship Id="rId4" Type="http://schemas.openxmlformats.org/officeDocument/2006/relationships/slideLayout" Target="../slideLayouts/slideLayout435.xml"/><Relationship Id="rId5" Type="http://schemas.openxmlformats.org/officeDocument/2006/relationships/slideLayout" Target="../slideLayouts/slideLayout436.xml"/><Relationship Id="rId6" Type="http://schemas.openxmlformats.org/officeDocument/2006/relationships/slideLayout" Target="../slideLayouts/slideLayout437.xml"/><Relationship Id="rId7" Type="http://schemas.openxmlformats.org/officeDocument/2006/relationships/slideLayout" Target="../slideLayouts/slideLayout438.xml"/><Relationship Id="rId8" Type="http://schemas.openxmlformats.org/officeDocument/2006/relationships/slideLayout" Target="../slideLayouts/slideLayout439.xml"/><Relationship Id="rId9" Type="http://schemas.openxmlformats.org/officeDocument/2006/relationships/slideLayout" Target="../slideLayouts/slideLayout440.xml"/><Relationship Id="rId10" Type="http://schemas.openxmlformats.org/officeDocument/2006/relationships/slideLayout" Target="../slideLayouts/slideLayout441.xml"/><Relationship Id="rId11" Type="http://schemas.openxmlformats.org/officeDocument/2006/relationships/slideLayout" Target="../slideLayouts/slideLayout442.xml"/><Relationship Id="rId12" Type="http://schemas.openxmlformats.org/officeDocument/2006/relationships/slideLayout" Target="../slideLayouts/slideLayout443.xml"/><Relationship Id="rId13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slideLayout" Target="../slideLayouts/slideLayout445.xml"/><Relationship Id="rId3" Type="http://schemas.openxmlformats.org/officeDocument/2006/relationships/slideLayout" Target="../slideLayouts/slideLayout446.xml"/><Relationship Id="rId4" Type="http://schemas.openxmlformats.org/officeDocument/2006/relationships/slideLayout" Target="../slideLayouts/slideLayout447.xml"/><Relationship Id="rId5" Type="http://schemas.openxmlformats.org/officeDocument/2006/relationships/slideLayout" Target="../slideLayouts/slideLayout448.xml"/><Relationship Id="rId6" Type="http://schemas.openxmlformats.org/officeDocument/2006/relationships/slideLayout" Target="../slideLayouts/slideLayout449.xml"/><Relationship Id="rId7" Type="http://schemas.openxmlformats.org/officeDocument/2006/relationships/slideLayout" Target="../slideLayouts/slideLayout450.xml"/><Relationship Id="rId8" Type="http://schemas.openxmlformats.org/officeDocument/2006/relationships/slideLayout" Target="../slideLayouts/slideLayout451.xml"/><Relationship Id="rId9" Type="http://schemas.openxmlformats.org/officeDocument/2006/relationships/slideLayout" Target="../slideLayouts/slideLayout452.xml"/><Relationship Id="rId10" Type="http://schemas.openxmlformats.org/officeDocument/2006/relationships/slideLayout" Target="../slideLayouts/slideLayout453.xml"/><Relationship Id="rId11" Type="http://schemas.openxmlformats.org/officeDocument/2006/relationships/slideLayout" Target="../slideLayouts/slideLayout454.xml"/><Relationship Id="rId12" Type="http://schemas.openxmlformats.org/officeDocument/2006/relationships/slideLayout" Target="../slideLayouts/slideLayout455.xml"/><Relationship Id="rId13" Type="http://schemas.openxmlformats.org/officeDocument/2006/relationships/slideLayout" Target="../slideLayouts/slideLayout45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1" name="Freeform 3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>
                <a:gd name="textAreaLeft" fmla="*/ 0 w 6132600"/>
                <a:gd name="textAreaRight" fmla="*/ 6132960 w 6132600"/>
                <a:gd name="textAreaTop" fmla="*/ 0 h 6173640"/>
                <a:gd name="textAreaBottom" fmla="*/ 6174000 h 6173640"/>
              </a:gdLst>
              <a:ahLst/>
              <a:rect l="textAreaLeft" t="textAreaTop" r="textAreaRight" b="textAreaBottom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>
                <a:gd name="textAreaLeft" fmla="*/ 0 w 5388120"/>
                <a:gd name="textAreaRight" fmla="*/ 5388480 w 5388120"/>
                <a:gd name="textAreaTop" fmla="*/ 0 h 5116680"/>
                <a:gd name="textAreaBottom" fmla="*/ 5116680 h 5116680"/>
              </a:gdLst>
              <a:ahLst/>
              <a:rect l="textAreaLeft" t="textAreaTop" r="textAreaRight" b="textAreaBottom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>
                <a:gd name="textAreaLeft" fmla="*/ 0 w 4538520"/>
                <a:gd name="textAreaRight" fmla="*/ 4538880 w 4538520"/>
                <a:gd name="textAreaTop" fmla="*/ 0 h 4057560"/>
                <a:gd name="textAreaBottom" fmla="*/ 4057920 h 4057560"/>
              </a:gdLst>
              <a:ahLst/>
              <a:rect l="textAreaLeft" t="textAreaTop" r="textAreaRight" b="textAreaBottom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>
                <a:gd name="textAreaLeft" fmla="*/ 0 w 3628800"/>
                <a:gd name="textAreaRight" fmla="*/ 3629160 w 3628800"/>
                <a:gd name="textAreaTop" fmla="*/ 0 h 3367080"/>
                <a:gd name="textAreaBottom" fmla="*/ 3367440 h 3367080"/>
              </a:gdLst>
              <a:ahLst/>
              <a:rect l="textAreaLeft" t="textAreaTop" r="textAreaRight" b="textAreaBottom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6498C-8656-4C04-A5CA-E3C5AD7D9604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2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5343B-0F10-4B87-9BE0-D26BE88B9E2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66770-367C-42BE-A24A-76D39DB85BCB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 type="sldNum" idx="29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81C28-14C4-4A83-91E5-A02CC79EF72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 type="ftr" idx="3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4A66C-5FB9-49D9-9B60-C62B780A0DAB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 type="sldNum" idx="32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68E68-110F-4202-997A-DBEBC8D77EB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 type="ftr" idx="3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7F307-2B04-4487-85FC-83E48B206822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 type="sldNum" idx="35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4F790-1478-43AC-87BD-9ACA85A9DCD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 type="ftr" idx="3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 type="dt" idx="3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566F9-A524-4FDB-A533-91B3D2760B0A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 type="sldNum" idx="38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3E167-9F51-47BD-AE1D-1E6D7A6D325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 type="ftr" idx="3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 type="dt" idx="4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1F3FA-211E-4EF0-89AE-9966B62A0B6D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 type="sldNum" idx="41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4AC2B-305D-4203-882E-78821894099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 type="ftr" idx="4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 type="dt" idx="4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8CF2E-3B3C-410C-99B8-B9469A85E1FE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C28FF-384E-4243-B88C-F7ADD8A5A01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 type="dt" idx="4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67220-7C4E-4ABB-9391-FEDF361F4662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 type="ftr" idx="4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422A1-E086-407B-B174-D884D6548F9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 type="dt" idx="4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0661F-B188-447E-8070-1F1B99A55679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 type="ftr" idx="5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85163-FA61-4DF2-9ADF-79C36302437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 type="dt" idx="5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4875D-DFE4-454F-9E3C-EF048D94CBA9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 type="ftr" idx="5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7AAF5-FAE2-49EA-92A3-B0C11F1CA87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 type="dt" idx="5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6D702-BCAB-4492-8849-5EFCD993A008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 type="ftr" idx="5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8429E-59BB-4E02-BEFA-B4634852280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42D00-782D-4BDA-89A5-609861CB07C0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FBDB0-7259-428D-9030-3449E22B3D3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 type="dt" idx="5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BD0BA-5FF2-4877-9ECC-F8E378BB4311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 type="ftr" idx="5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7047B-41DF-4BB6-A1B8-E069B7C6223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 type="dt" idx="6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23E25-3493-4653-BBFD-6DB71B97F17C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 type="ftr" idx="6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PlaceHolder 5"/>
          <p:cNvSpPr>
            <a:spLocks noGrp="1"/>
          </p:cNvSpPr>
          <p:nvPr>
            <p:ph type="sldNum" idx="6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29E45-FA75-4239-A316-02C48805AD6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 type="dt" idx="6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BF245-6D94-49C3-9934-4F5EBD2E1594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PlaceHolder 4"/>
          <p:cNvSpPr>
            <a:spLocks noGrp="1"/>
          </p:cNvSpPr>
          <p:nvPr>
            <p:ph type="ftr" idx="6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PlaceHolder 5"/>
          <p:cNvSpPr>
            <a:spLocks noGrp="1"/>
          </p:cNvSpPr>
          <p:nvPr>
            <p:ph type="sldNum" idx="6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65763-0D91-479B-ABB3-ACD17445F36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3"/>
          <p:cNvSpPr>
            <a:spLocks noGrp="1"/>
          </p:cNvSpPr>
          <p:nvPr>
            <p:ph type="dt" idx="6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EE1C6-E372-4167-86A2-39B0515F2586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PlaceHolder 4"/>
          <p:cNvSpPr>
            <a:spLocks noGrp="1"/>
          </p:cNvSpPr>
          <p:nvPr>
            <p:ph type="ftr" idx="6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5"/>
          <p:cNvSpPr>
            <a:spLocks noGrp="1"/>
          </p:cNvSpPr>
          <p:nvPr>
            <p:ph type="sldNum" idx="6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1FB68-BA5C-40CC-AB83-BAF487632B8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 type="dt" idx="7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46E4D-0030-43A5-BD90-36F822A7BCAC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PlaceHolder 4"/>
          <p:cNvSpPr>
            <a:spLocks noGrp="1"/>
          </p:cNvSpPr>
          <p:nvPr>
            <p:ph type="ftr" idx="7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PlaceHolder 5"/>
          <p:cNvSpPr>
            <a:spLocks noGrp="1"/>
          </p:cNvSpPr>
          <p:nvPr>
            <p:ph type="sldNum" idx="7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F306A-0D9A-45F9-AFF5-8F0B9A2398B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 type="dt" idx="7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018D7-41DB-43B8-9A60-F44BC72C75CF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PlaceHolder 4"/>
          <p:cNvSpPr>
            <a:spLocks noGrp="1"/>
          </p:cNvSpPr>
          <p:nvPr>
            <p:ph type="ftr" idx="7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PlaceHolder 5"/>
          <p:cNvSpPr>
            <a:spLocks noGrp="1"/>
          </p:cNvSpPr>
          <p:nvPr>
            <p:ph type="sldNum" idx="7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7DAA7-3F05-4F55-9B76-8456C63C522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PlaceHolder 3"/>
          <p:cNvSpPr>
            <a:spLocks noGrp="1"/>
          </p:cNvSpPr>
          <p:nvPr>
            <p:ph type="dt" idx="76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8C888-C2D6-4A26-8779-2DCFFE837EC1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PlaceHolder 4"/>
          <p:cNvSpPr>
            <a:spLocks noGrp="1"/>
          </p:cNvSpPr>
          <p:nvPr>
            <p:ph type="sldNum" idx="77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20395-EF54-4F7B-B01B-8E545632F70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PlaceHolder 5"/>
          <p:cNvSpPr>
            <a:spLocks noGrp="1"/>
          </p:cNvSpPr>
          <p:nvPr>
            <p:ph type="ftr" idx="78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PlaceHolder 3"/>
          <p:cNvSpPr>
            <a:spLocks noGrp="1"/>
          </p:cNvSpPr>
          <p:nvPr>
            <p:ph type="dt" idx="7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E12C9-AA4F-4439-95FB-7FC9F60966F4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PlaceHolder 4"/>
          <p:cNvSpPr>
            <a:spLocks noGrp="1"/>
          </p:cNvSpPr>
          <p:nvPr>
            <p:ph type="ftr" idx="8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PlaceHolder 5"/>
          <p:cNvSpPr>
            <a:spLocks noGrp="1"/>
          </p:cNvSpPr>
          <p:nvPr>
            <p:ph type="sldNum" idx="8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228CD-ED1A-4B6F-91C7-C4527934C2C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PlaceHolder 3"/>
          <p:cNvSpPr>
            <a:spLocks noGrp="1"/>
          </p:cNvSpPr>
          <p:nvPr>
            <p:ph type="dt" idx="8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AB60B-BED4-46B9-8877-D5A0CA95B966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PlaceHolder 4"/>
          <p:cNvSpPr>
            <a:spLocks noGrp="1"/>
          </p:cNvSpPr>
          <p:nvPr>
            <p:ph type="ftr" idx="8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PlaceHolder 5"/>
          <p:cNvSpPr>
            <a:spLocks noGrp="1"/>
          </p:cNvSpPr>
          <p:nvPr>
            <p:ph type="sldNum" idx="8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F021D-CF74-4D41-BB00-04A53001382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 type="dt" idx="8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912E7-EE59-4408-BBE5-D473FF1315DC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PlaceHolder 4"/>
          <p:cNvSpPr>
            <a:spLocks noGrp="1"/>
          </p:cNvSpPr>
          <p:nvPr>
            <p:ph type="ftr" idx="8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PlaceHolder 5"/>
          <p:cNvSpPr>
            <a:spLocks noGrp="1"/>
          </p:cNvSpPr>
          <p:nvPr>
            <p:ph type="sldNum" idx="8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BB910-0342-4723-8ED8-685123A657F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B5E5A-DFAD-4E81-8984-6C58BCF3F803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48F1B-3818-4429-943B-0853D423920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PlaceHolder 3"/>
          <p:cNvSpPr>
            <a:spLocks noGrp="1"/>
          </p:cNvSpPr>
          <p:nvPr>
            <p:ph type="dt" idx="8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F765E-299A-4444-B6F3-34195EEA7D25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PlaceHolder 4"/>
          <p:cNvSpPr>
            <a:spLocks noGrp="1"/>
          </p:cNvSpPr>
          <p:nvPr>
            <p:ph type="ftr" idx="8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PlaceHolder 5"/>
          <p:cNvSpPr>
            <a:spLocks noGrp="1"/>
          </p:cNvSpPr>
          <p:nvPr>
            <p:ph type="sldNum" idx="9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73640-E9EF-4EC8-B45A-251A453F7D6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2"/>
    <p:sldLayoutId id="2147484027" r:id="rId3"/>
    <p:sldLayoutId id="2147484028" r:id="rId4"/>
    <p:sldLayoutId id="2147484029" r:id="rId5"/>
    <p:sldLayoutId id="2147484030" r:id="rId6"/>
    <p:sldLayoutId id="2147484031" r:id="rId7"/>
    <p:sldLayoutId id="2147484032" r:id="rId8"/>
    <p:sldLayoutId id="2147484033" r:id="rId9"/>
    <p:sldLayoutId id="2147484034" r:id="rId10"/>
    <p:sldLayoutId id="2147484035" r:id="rId11"/>
    <p:sldLayoutId id="2147484036" r:id="rId12"/>
    <p:sldLayoutId id="2147484037" r:id="rId13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PlaceHolder 3"/>
          <p:cNvSpPr>
            <a:spLocks noGrp="1"/>
          </p:cNvSpPr>
          <p:nvPr>
            <p:ph type="dt" idx="9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6F1E5-B850-43FA-9A4D-45DA709D98E0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PlaceHolder 4"/>
          <p:cNvSpPr>
            <a:spLocks noGrp="1"/>
          </p:cNvSpPr>
          <p:nvPr>
            <p:ph type="ftr" idx="9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PlaceHolder 5"/>
          <p:cNvSpPr>
            <a:spLocks noGrp="1"/>
          </p:cNvSpPr>
          <p:nvPr>
            <p:ph type="sldNum" idx="9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7E578-CF88-4457-8DF9-4EADD67B936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PlaceHolder 3"/>
          <p:cNvSpPr>
            <a:spLocks noGrp="1"/>
          </p:cNvSpPr>
          <p:nvPr>
            <p:ph type="dt" idx="9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C28FE-F7A1-4115-A531-83B5AEB96430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PlaceHolder 4"/>
          <p:cNvSpPr>
            <a:spLocks noGrp="1"/>
          </p:cNvSpPr>
          <p:nvPr>
            <p:ph type="ftr" idx="9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PlaceHolder 5"/>
          <p:cNvSpPr>
            <a:spLocks noGrp="1"/>
          </p:cNvSpPr>
          <p:nvPr>
            <p:ph type="sldNum" idx="9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3ACA0-DDD4-4193-9141-D562C3C1C8F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2"/>
    <p:sldLayoutId id="2147484053" r:id="rId3"/>
    <p:sldLayoutId id="2147484054" r:id="rId4"/>
    <p:sldLayoutId id="2147484055" r:id="rId5"/>
    <p:sldLayoutId id="2147484056" r:id="rId6"/>
    <p:sldLayoutId id="2147484057" r:id="rId7"/>
    <p:sldLayoutId id="2147484058" r:id="rId8"/>
    <p:sldLayoutId id="2147484059" r:id="rId9"/>
    <p:sldLayoutId id="2147484060" r:id="rId10"/>
    <p:sldLayoutId id="2147484061" r:id="rId11"/>
    <p:sldLayoutId id="2147484062" r:id="rId12"/>
    <p:sldLayoutId id="2147484063" r:id="rId13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PlaceHolder 3"/>
          <p:cNvSpPr>
            <a:spLocks noGrp="1"/>
          </p:cNvSpPr>
          <p:nvPr>
            <p:ph type="dt" idx="9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C4FCD-ACC9-4484-9805-F44491896630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PlaceHolder 4"/>
          <p:cNvSpPr>
            <a:spLocks noGrp="1"/>
          </p:cNvSpPr>
          <p:nvPr>
            <p:ph type="ftr" idx="9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PlaceHolder 5"/>
          <p:cNvSpPr>
            <a:spLocks noGrp="1"/>
          </p:cNvSpPr>
          <p:nvPr>
            <p:ph type="sldNum" idx="9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B14B9-FBFF-41D3-BB10-14381A6E82F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2"/>
    <p:sldLayoutId id="2147484066" r:id="rId3"/>
    <p:sldLayoutId id="2147484067" r:id="rId4"/>
    <p:sldLayoutId id="2147484068" r:id="rId5"/>
    <p:sldLayoutId id="2147484069" r:id="rId6"/>
    <p:sldLayoutId id="2147484070" r:id="rId7"/>
    <p:sldLayoutId id="2147484071" r:id="rId8"/>
    <p:sldLayoutId id="2147484072" r:id="rId9"/>
    <p:sldLayoutId id="2147484073" r:id="rId10"/>
    <p:sldLayoutId id="2147484074" r:id="rId11"/>
    <p:sldLayoutId id="2147484075" r:id="rId12"/>
    <p:sldLayoutId id="2147484076" r:id="rId13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PlaceHolder 3"/>
          <p:cNvSpPr>
            <a:spLocks noGrp="1"/>
          </p:cNvSpPr>
          <p:nvPr>
            <p:ph type="dt" idx="10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2ACC6-2F46-477E-91A3-5C873DFDE7CC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PlaceHolder 4"/>
          <p:cNvSpPr>
            <a:spLocks noGrp="1"/>
          </p:cNvSpPr>
          <p:nvPr>
            <p:ph type="ftr" idx="10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PlaceHolder 5"/>
          <p:cNvSpPr>
            <a:spLocks noGrp="1"/>
          </p:cNvSpPr>
          <p:nvPr>
            <p:ph type="sldNum" idx="10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D2698-BBF9-4411-9EA3-525EE79C138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2"/>
    <p:sldLayoutId id="2147484079" r:id="rId3"/>
    <p:sldLayoutId id="2147484080" r:id="rId4"/>
    <p:sldLayoutId id="2147484081" r:id="rId5"/>
    <p:sldLayoutId id="2147484082" r:id="rId6"/>
    <p:sldLayoutId id="2147484083" r:id="rId7"/>
    <p:sldLayoutId id="2147484084" r:id="rId8"/>
    <p:sldLayoutId id="2147484085" r:id="rId9"/>
    <p:sldLayoutId id="2147484086" r:id="rId10"/>
    <p:sldLayoutId id="2147484087" r:id="rId11"/>
    <p:sldLayoutId id="2147484088" r:id="rId12"/>
    <p:sldLayoutId id="2147484089" r:id="rId13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PlaceHolder 3"/>
          <p:cNvSpPr>
            <a:spLocks noGrp="1"/>
          </p:cNvSpPr>
          <p:nvPr>
            <p:ph type="dt" idx="10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A76FF-0442-4182-9955-6BE73ADF35AB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PlaceHolder 4"/>
          <p:cNvSpPr>
            <a:spLocks noGrp="1"/>
          </p:cNvSpPr>
          <p:nvPr>
            <p:ph type="ftr" idx="10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PlaceHolder 5"/>
          <p:cNvSpPr>
            <a:spLocks noGrp="1"/>
          </p:cNvSpPr>
          <p:nvPr>
            <p:ph type="sldNum" idx="10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FF5DC-475D-48FE-A5B1-C137A0F191E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2"/>
    <p:sldLayoutId id="2147484092" r:id="rId3"/>
    <p:sldLayoutId id="2147484093" r:id="rId4"/>
    <p:sldLayoutId id="2147484094" r:id="rId5"/>
    <p:sldLayoutId id="2147484095" r:id="rId6"/>
    <p:sldLayoutId id="2147484096" r:id="rId7"/>
    <p:sldLayoutId id="2147484097" r:id="rId8"/>
    <p:sldLayoutId id="2147484098" r:id="rId9"/>
    <p:sldLayoutId id="2147484099" r:id="rId10"/>
    <p:sldLayoutId id="2147484100" r:id="rId11"/>
    <p:sldLayoutId id="2147484101" r:id="rId12"/>
    <p:sldLayoutId id="2147484102" r:id="rId13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PlaceHolder 3"/>
          <p:cNvSpPr>
            <a:spLocks noGrp="1"/>
          </p:cNvSpPr>
          <p:nvPr>
            <p:ph type="dt" idx="10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E6264-F9F4-4BC7-81A0-C875B3101763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PlaceHolder 4"/>
          <p:cNvSpPr>
            <a:spLocks noGrp="1"/>
          </p:cNvSpPr>
          <p:nvPr>
            <p:ph type="ftr" idx="10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PlaceHolder 5"/>
          <p:cNvSpPr>
            <a:spLocks noGrp="1"/>
          </p:cNvSpPr>
          <p:nvPr>
            <p:ph type="sldNum" idx="10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FAB29-FB6D-4F97-B150-8AA90CB6C0B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2"/>
    <p:sldLayoutId id="2147484105" r:id="rId3"/>
    <p:sldLayoutId id="2147484106" r:id="rId4"/>
    <p:sldLayoutId id="2147484107" r:id="rId5"/>
    <p:sldLayoutId id="2147484108" r:id="rId6"/>
    <p:sldLayoutId id="2147484109" r:id="rId7"/>
    <p:sldLayoutId id="2147484110" r:id="rId8"/>
    <p:sldLayoutId id="2147484111" r:id="rId9"/>
    <p:sldLayoutId id="2147484112" r:id="rId10"/>
    <p:sldLayoutId id="2147484113" r:id="rId11"/>
    <p:sldLayoutId id="2147484114" r:id="rId12"/>
    <p:sldLayoutId id="2147484115" r:id="rId13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PlaceHolder 3"/>
          <p:cNvSpPr>
            <a:spLocks noGrp="1"/>
          </p:cNvSpPr>
          <p:nvPr>
            <p:ph type="dt" idx="10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5724E-41E3-481A-BEF4-9BF638FFF91E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" name="PlaceHolder 4"/>
          <p:cNvSpPr>
            <a:spLocks noGrp="1"/>
          </p:cNvSpPr>
          <p:nvPr>
            <p:ph type="ftr" idx="11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PlaceHolder 5"/>
          <p:cNvSpPr>
            <a:spLocks noGrp="1"/>
          </p:cNvSpPr>
          <p:nvPr>
            <p:ph type="sldNum" idx="11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445FD-5F88-4CDA-BF02-E42CE0AE367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2"/>
    <p:sldLayoutId id="2147484118" r:id="rId3"/>
    <p:sldLayoutId id="2147484119" r:id="rId4"/>
    <p:sldLayoutId id="2147484120" r:id="rId5"/>
    <p:sldLayoutId id="2147484121" r:id="rId6"/>
    <p:sldLayoutId id="2147484122" r:id="rId7"/>
    <p:sldLayoutId id="2147484123" r:id="rId8"/>
    <p:sldLayoutId id="2147484124" r:id="rId9"/>
    <p:sldLayoutId id="2147484125" r:id="rId10"/>
    <p:sldLayoutId id="2147484126" r:id="rId11"/>
    <p:sldLayoutId id="2147484127" r:id="rId12"/>
    <p:sldLayoutId id="2147484128" r:id="rId13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4" name="PlaceHolder 3"/>
          <p:cNvSpPr>
            <a:spLocks noGrp="1"/>
          </p:cNvSpPr>
          <p:nvPr>
            <p:ph type="dt" idx="11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7DFEA-C24C-4CC5-B60A-7582A161F125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PlaceHolder 4"/>
          <p:cNvSpPr>
            <a:spLocks noGrp="1"/>
          </p:cNvSpPr>
          <p:nvPr>
            <p:ph type="ftr" idx="11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6" name="PlaceHolder 5"/>
          <p:cNvSpPr>
            <a:spLocks noGrp="1"/>
          </p:cNvSpPr>
          <p:nvPr>
            <p:ph type="sldNum" idx="11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08EE6-2018-4A95-8DCE-17A99C710AA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2"/>
    <p:sldLayoutId id="2147484131" r:id="rId3"/>
    <p:sldLayoutId id="2147484132" r:id="rId4"/>
    <p:sldLayoutId id="2147484133" r:id="rId5"/>
    <p:sldLayoutId id="2147484134" r:id="rId6"/>
    <p:sldLayoutId id="2147484135" r:id="rId7"/>
    <p:sldLayoutId id="2147484136" r:id="rId8"/>
    <p:sldLayoutId id="2147484137" r:id="rId9"/>
    <p:sldLayoutId id="2147484138" r:id="rId10"/>
    <p:sldLayoutId id="2147484139" r:id="rId11"/>
    <p:sldLayoutId id="2147484140" r:id="rId12"/>
    <p:sldLayoutId id="2147484141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D98B6-52A0-41A0-B462-97B1BC7A2888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sldNum" idx="11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4BDA6-875F-493E-9209-8A30D44B8C6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ftr" idx="1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8A2ED-A229-4828-B27C-F6A8954A37C0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14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EA139-B911-4757-B1AD-5ED3B9E8401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ftr" idx="1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AF634-8D8F-4141-8542-917220E9880C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sldNum" idx="17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9C29D-E676-4DDD-AC40-EB98C962E93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ftr" idx="1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A17C9-2E9F-4FE0-A666-C06B287B0BA4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 type="sldNum" idx="20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D6F46-E0FA-4F75-BDE7-89A367EDE34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 type="ftr" idx="2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0AD57-AA06-4076-B032-B76E3417A92C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 type="sldNum" idx="2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F45AE-1DBB-44A7-9125-1282CEC742D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 type="ftr" idx="2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EC837-4E64-45F4-BAFA-350B7DB97667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 type="sldNum" idx="2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C155C-106A-46C8-981F-B6BD08CEDFC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 type="ftr" idx="2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4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4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4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85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8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85.xml"/><Relationship Id="rId3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0" name="Прямоугольник 2"/>
          <p:cNvSpPr/>
          <p:nvPr/>
        </p:nvSpPr>
        <p:spPr>
          <a:xfrm>
            <a:off x="0" y="762120"/>
            <a:ext cx="9144000" cy="6095880"/>
          </a:xfrm>
          <a:prstGeom prst="rect">
            <a:avLst/>
          </a:prstGeom>
          <a:solidFill>
            <a:srgbClr val="ffffff">
              <a:alpha val="85000"/>
            </a:srgbClr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AutoShape 5"/>
          <p:cNvSpPr/>
          <p:nvPr/>
        </p:nvSpPr>
        <p:spPr>
          <a:xfrm>
            <a:off x="0" y="1523880"/>
            <a:ext cx="9144000" cy="3200400"/>
          </a:xfrm>
          <a:prstGeom prst="roundRect">
            <a:avLst>
              <a:gd name="adj" fmla="val 8241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Концепци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информационно-просветительского проект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«Мы - потомки героев!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2" name="Rectangle 6"/>
          <p:cNvSpPr/>
          <p:nvPr/>
        </p:nvSpPr>
        <p:spPr>
          <a:xfrm>
            <a:off x="0" y="103320"/>
            <a:ext cx="91440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Департамент образования и науки Тюменской области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3" name="Прямоугольник 24"/>
          <p:cNvSpPr/>
          <p:nvPr/>
        </p:nvSpPr>
        <p:spPr>
          <a:xfrm>
            <a:off x="0" y="0"/>
            <a:ext cx="3279600" cy="6858000"/>
          </a:xfrm>
          <a:prstGeom prst="rect">
            <a:avLst/>
          </a:prstGeom>
          <a:solidFill>
            <a:srgbClr val="f9f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4" name="Номер слайда 1"/>
          <p:cNvSpPr/>
          <p:nvPr/>
        </p:nvSpPr>
        <p:spPr>
          <a:xfrm>
            <a:off x="8763120" y="6534000"/>
            <a:ext cx="304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ABECD-6499-4106-B3BA-76ECF8F296D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5" name="Скругленный прямоугольник 16"/>
          <p:cNvSpPr/>
          <p:nvPr/>
        </p:nvSpPr>
        <p:spPr>
          <a:xfrm>
            <a:off x="-11160" y="641520"/>
            <a:ext cx="3260880" cy="1573200"/>
          </a:xfrm>
          <a:prstGeom prst="roundRect">
            <a:avLst>
              <a:gd name="adj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Концепция информационно-просветительского проект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«Мы - потомки героев!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6" name="Прямоугольник 18"/>
          <p:cNvSpPr/>
          <p:nvPr/>
        </p:nvSpPr>
        <p:spPr>
          <a:xfrm>
            <a:off x="4680" y="2225520"/>
            <a:ext cx="3238560" cy="3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00"/>
                </a:solidFill>
                <a:latin typeface="Calibri"/>
              </a:rPr>
              <a:t>апрель 2016 г. - май 2020 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7" name="Прямоугольник 2"/>
          <p:cNvSpPr/>
          <p:nvPr/>
        </p:nvSpPr>
        <p:spPr>
          <a:xfrm>
            <a:off x="3524400" y="2214720"/>
            <a:ext cx="5356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Calibri Light"/>
              <a:buChar char="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 Light"/>
              </a:rPr>
              <a:t>развитие интереса и популяризация знаний о ключевых исторических событиях и лицах Великой Отечественной войн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Calibri Light"/>
              <a:buChar char="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 Light"/>
              </a:rPr>
              <a:t>активизация просветительской работы среди обучающихся через востребованные детьми и молодёжью формы и методы работ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Calibri Light"/>
              <a:buChar char="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 Light"/>
              </a:rPr>
              <a:t>использование информационных ресурсов региональных СМИ в гражданско-патриотическом воспитании детей и молодёж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8" name="Прямоугольник 4"/>
          <p:cNvSpPr/>
          <p:nvPr/>
        </p:nvSpPr>
        <p:spPr>
          <a:xfrm>
            <a:off x="3770280" y="222120"/>
            <a:ext cx="93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Цель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9" name="Прямоугольник 5"/>
          <p:cNvSpPr/>
          <p:nvPr/>
        </p:nvSpPr>
        <p:spPr>
          <a:xfrm>
            <a:off x="3794040" y="633240"/>
            <a:ext cx="527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 Light"/>
              </a:rPr>
              <a:t>формирование у обучающихся гражданского самосознания, сохранение памяти о героическом прошлом своей страны и Тюменской обла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0" name="Прямоугольник 6"/>
          <p:cNvSpPr/>
          <p:nvPr/>
        </p:nvSpPr>
        <p:spPr>
          <a:xfrm>
            <a:off x="3795120" y="181944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Задачи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1" name="Равнобедренный треугольник 44"/>
          <p:cNvSpPr/>
          <p:nvPr/>
        </p:nvSpPr>
        <p:spPr>
          <a:xfrm rot="5400000">
            <a:off x="3540240" y="349920"/>
            <a:ext cx="216000" cy="144360"/>
          </a:xfrm>
          <a:prstGeom prst="triangle">
            <a:avLst>
              <a:gd name="adj" fmla="val 50000"/>
            </a:avLst>
          </a:prstGeom>
          <a:solidFill>
            <a:srgbClr val="4597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440" bIns="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2" name="Равнобедренный треугольник 49"/>
          <p:cNvSpPr/>
          <p:nvPr/>
        </p:nvSpPr>
        <p:spPr>
          <a:xfrm rot="5400000">
            <a:off x="3559320" y="1954800"/>
            <a:ext cx="216000" cy="144360"/>
          </a:xfrm>
          <a:prstGeom prst="triangle">
            <a:avLst>
              <a:gd name="adj" fmla="val 50000"/>
            </a:avLst>
          </a:prstGeom>
          <a:solidFill>
            <a:srgbClr val="4597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440" bIns="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3" name="Прямая соединительная линия 54"/>
          <p:cNvSpPr/>
          <p:nvPr/>
        </p:nvSpPr>
        <p:spPr>
          <a:xfrm flipH="1">
            <a:off x="3274920" y="0"/>
            <a:ext cx="28800" cy="6858000"/>
          </a:xfrm>
          <a:prstGeom prst="line">
            <a:avLst/>
          </a:prstGeom>
          <a:ln w="9360">
            <a:solidFill>
              <a:srgbClr val="ff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4" name="Прямоугольник 4"/>
          <p:cNvSpPr/>
          <p:nvPr/>
        </p:nvSpPr>
        <p:spPr>
          <a:xfrm>
            <a:off x="3887640" y="5029200"/>
            <a:ext cx="426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Участники реализации проек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5" name="Прямоугольник 5"/>
          <p:cNvSpPr/>
          <p:nvPr/>
        </p:nvSpPr>
        <p:spPr>
          <a:xfrm>
            <a:off x="3911760" y="5440320"/>
            <a:ext cx="4968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 Light"/>
              </a:rPr>
              <a:t>дети школьного возраста, студенческая и рабочая молодежь, родители, педагоги, общественные организации, государственные учреждения различных профи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6" name="Равнобедренный треугольник 43"/>
          <p:cNvSpPr/>
          <p:nvPr/>
        </p:nvSpPr>
        <p:spPr>
          <a:xfrm rot="5400000">
            <a:off x="3658320" y="5156640"/>
            <a:ext cx="215640" cy="144720"/>
          </a:xfrm>
          <a:prstGeom prst="triangle">
            <a:avLst>
              <a:gd name="adj" fmla="val 50000"/>
            </a:avLst>
          </a:prstGeom>
          <a:solidFill>
            <a:srgbClr val="4597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440" bIns="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7" name="Прямая соединительная линия 10"/>
          <p:cNvSpPr/>
          <p:nvPr/>
        </p:nvSpPr>
        <p:spPr>
          <a:xfrm>
            <a:off x="3911760" y="1676520"/>
            <a:ext cx="4622760" cy="0"/>
          </a:xfrm>
          <a:prstGeom prst="line">
            <a:avLst/>
          </a:prstGeom>
          <a:ln w="9360">
            <a:solidFill>
              <a:srgbClr val="ff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Прямая соединительная линия 51"/>
          <p:cNvSpPr/>
          <p:nvPr/>
        </p:nvSpPr>
        <p:spPr>
          <a:xfrm>
            <a:off x="3911760" y="4952880"/>
            <a:ext cx="4622760" cy="0"/>
          </a:xfrm>
          <a:prstGeom prst="line">
            <a:avLst/>
          </a:prstGeom>
          <a:ln w="9360">
            <a:solidFill>
              <a:srgbClr val="ff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Прямоугольник 3"/>
          <p:cNvSpPr/>
          <p:nvPr/>
        </p:nvSpPr>
        <p:spPr>
          <a:xfrm>
            <a:off x="246240" y="3475080"/>
            <a:ext cx="2784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Calibri Light"/>
              </a:rPr>
              <a:t>Тематические направлен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0" name="Прямоугольник 19"/>
          <p:cNvSpPr/>
          <p:nvPr/>
        </p:nvSpPr>
        <p:spPr>
          <a:xfrm>
            <a:off x="522360" y="4319640"/>
            <a:ext cx="2454120" cy="16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noAutofit/>
          </a:bodyPr>
          <a:p>
            <a:pPr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24b50"/>
                </a:solidFill>
                <a:latin typeface="Calibri Light"/>
                <a:ea typeface="Arial"/>
              </a:rPr>
              <a:t>- </a:t>
            </a:r>
            <a:r>
              <a:rPr b="0" lang="ru-RU" sz="1600" spc="-1" strike="noStrike">
                <a:solidFill>
                  <a:srgbClr val="224b50"/>
                </a:solidFill>
                <a:latin typeface="Calibri Light"/>
                <a:ea typeface="Arial"/>
              </a:rPr>
              <a:t>Великая Отечественная война: ключевые события и исторические лич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24b50"/>
                </a:solidFill>
                <a:latin typeface="Calibri Light"/>
                <a:ea typeface="Arial"/>
              </a:rPr>
              <a:t>- </a:t>
            </a:r>
            <a:r>
              <a:rPr b="0" lang="ru-RU" sz="1600" spc="-1" strike="noStrike">
                <a:solidFill>
                  <a:srgbClr val="224b50"/>
                </a:solidFill>
                <a:latin typeface="Calibri Light"/>
                <a:ea typeface="Arial"/>
              </a:rPr>
              <a:t>Тюменский край в годы Великой Отечественной войн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1" name="Прямая соединительная линия 20"/>
          <p:cNvSpPr/>
          <p:nvPr/>
        </p:nvSpPr>
        <p:spPr>
          <a:xfrm>
            <a:off x="598320" y="3048120"/>
            <a:ext cx="2378160" cy="0"/>
          </a:xfrm>
          <a:prstGeom prst="line">
            <a:avLst/>
          </a:prstGeom>
          <a:ln w="9360">
            <a:solidFill>
              <a:srgbClr val="ff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2" name="Номер слайда 2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1B490-0C46-459E-AA3F-6835750FEB6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3" name="Text Box 2"/>
          <p:cNvSpPr/>
          <p:nvPr/>
        </p:nvSpPr>
        <p:spPr>
          <a:xfrm>
            <a:off x="1440" y="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Форматы реализации проек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4" name="Прямоугольник 19"/>
          <p:cNvSpPr/>
          <p:nvPr/>
        </p:nvSpPr>
        <p:spPr>
          <a:xfrm>
            <a:off x="3525840" y="685800"/>
            <a:ext cx="254628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c6600"/>
                </a:solidFill>
                <a:latin typeface="Calibri"/>
              </a:rPr>
              <a:t>Сайты образовательных организаци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5" name="Прямоугольник 20"/>
          <p:cNvSpPr/>
          <p:nvPr/>
        </p:nvSpPr>
        <p:spPr>
          <a:xfrm>
            <a:off x="152280" y="685800"/>
            <a:ext cx="2971800" cy="5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597a0"/>
                </a:solidFill>
                <a:latin typeface="Calibri"/>
              </a:rPr>
              <a:t>Площадки популярных социальных сете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6" name="Прямоугольник 22"/>
          <p:cNvSpPr/>
          <p:nvPr/>
        </p:nvSpPr>
        <p:spPr>
          <a:xfrm>
            <a:off x="6378480" y="685800"/>
            <a:ext cx="276552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24b50"/>
                </a:solidFill>
                <a:latin typeface="Calibri"/>
              </a:rPr>
              <a:t>Образовательные и иные заинтересованные организаци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7" name="Straight Connector 28"/>
          <p:cNvSpPr/>
          <p:nvPr/>
        </p:nvSpPr>
        <p:spPr>
          <a:xfrm>
            <a:off x="727200" y="1571760"/>
            <a:ext cx="1695240" cy="0"/>
          </a:xfrm>
          <a:prstGeom prst="line">
            <a:avLst/>
          </a:prstGeom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8" name="Straight Connector 28"/>
          <p:cNvSpPr/>
          <p:nvPr/>
        </p:nvSpPr>
        <p:spPr>
          <a:xfrm>
            <a:off x="3984480" y="1566720"/>
            <a:ext cx="1695600" cy="0"/>
          </a:xfrm>
          <a:prstGeom prst="line">
            <a:avLst/>
          </a:prstGeom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9" name="Straight Connector 28"/>
          <p:cNvSpPr/>
          <p:nvPr/>
        </p:nvSpPr>
        <p:spPr>
          <a:xfrm>
            <a:off x="7004160" y="1566720"/>
            <a:ext cx="1695240" cy="0"/>
          </a:xfrm>
          <a:prstGeom prst="line">
            <a:avLst/>
          </a:prstGeom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0" name="Прямоугольник 34"/>
          <p:cNvSpPr/>
          <p:nvPr/>
        </p:nvSpPr>
        <p:spPr>
          <a:xfrm>
            <a:off x="393840" y="1758960"/>
            <a:ext cx="273024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noAutofit/>
          </a:bodyPr>
          <a:p>
            <a:pPr algn="just"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18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4597a0"/>
                </a:solidFill>
                <a:latin typeface="Calibri Light"/>
                <a:ea typeface="Arial"/>
              </a:rPr>
              <a:t>Проведение конкурсов видеороликов, плакатов, стихотворных, песенных и иных художественных произведений юных авторов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18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18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4597a0"/>
                </a:solidFill>
                <a:latin typeface="Calibri Light"/>
                <a:ea typeface="Arial"/>
              </a:rPr>
              <a:t>Презентации исследовательских работ, выполненных школьниками и студентами индивидуально, в соавторстве, совместно со взрослыми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18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18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4597a0"/>
                </a:solidFill>
                <a:latin typeface="Calibri Light"/>
                <a:ea typeface="Arial"/>
              </a:rPr>
              <a:t>Организация отчетно-новостной площадки - форума для предоставления широкой публике информации о наиболее интересных и удачных мероприятиях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1" name="Прямоугольник 35"/>
          <p:cNvSpPr/>
          <p:nvPr/>
        </p:nvSpPr>
        <p:spPr>
          <a:xfrm>
            <a:off x="3519360" y="1690560"/>
            <a:ext cx="2652840" cy="44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noAutofit/>
          </a:bodyPr>
          <a:p>
            <a:pPr algn="just"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cc6600"/>
                </a:solidFill>
                <a:latin typeface="Calibri Light"/>
                <a:ea typeface="Arial"/>
              </a:rPr>
              <a:t>Создание интерактивных «копилок» видеоматериалов, ссылок на тематические порталы, методических презентаций, документальных и иных материалов для использования в работе педагогами и детьми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cc6600"/>
                </a:solidFill>
                <a:latin typeface="Calibri Light"/>
                <a:ea typeface="Arial"/>
              </a:rPr>
              <a:t>Новостные площадки акций, проектов, отражающих специфику учреждений, территории, историю жителей родного города, сел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cc6600"/>
                </a:solidFill>
                <a:latin typeface="Calibri Light"/>
                <a:ea typeface="Arial"/>
              </a:rPr>
              <a:t>Виртуальные музейные «окна», основанные на работах детей и молодёжи совместно с родителями, общественными и иными организациями и учреждениями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2" name="Прямоугольник 36"/>
          <p:cNvSpPr/>
          <p:nvPr/>
        </p:nvSpPr>
        <p:spPr>
          <a:xfrm>
            <a:off x="6504120" y="1758960"/>
            <a:ext cx="2514600" cy="38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noAutofit/>
          </a:bodyPr>
          <a:p>
            <a:pPr algn="just"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224b50"/>
                </a:solidFill>
                <a:latin typeface="Calibri Light"/>
                <a:ea typeface="Arial"/>
              </a:rPr>
              <a:t>Обновление («перезагрузка») работы районных, городских, школьных музеев (музейных комнат), библиотек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224b50"/>
                </a:solidFill>
                <a:latin typeface="Calibri Light"/>
                <a:ea typeface="Arial"/>
              </a:rPr>
              <a:t>Работа дискуссионных взросло - детских площадок с последующим отражением материалов на сайтах, организация и проведение конкурсных мероприятий совместно со СМИ, массовых акций, открытых совместных занятий по заявленной тематике, флеш-мобов и др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3" name="Прямоугольник 3"/>
          <p:cNvSpPr/>
          <p:nvPr/>
        </p:nvSpPr>
        <p:spPr>
          <a:xfrm>
            <a:off x="0" y="0"/>
            <a:ext cx="3129120" cy="68486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4" name="Прямоугольник 3"/>
          <p:cNvSpPr/>
          <p:nvPr/>
        </p:nvSpPr>
        <p:spPr>
          <a:xfrm>
            <a:off x="71280" y="2430360"/>
            <a:ext cx="3079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Организационно-методическо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и информационное сопровожд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5" name="Номер слайда 1"/>
          <p:cNvSpPr/>
          <p:nvPr/>
        </p:nvSpPr>
        <p:spPr>
          <a:xfrm>
            <a:off x="8763120" y="6534000"/>
            <a:ext cx="304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6" name="Group 38" descr=""/>
          <p:cNvPicPr/>
          <p:nvPr/>
        </p:nvPicPr>
        <p:blipFill>
          <a:blip r:embed="rId1"/>
          <a:stretch/>
        </p:blipFill>
        <p:spPr>
          <a:xfrm>
            <a:off x="3309840" y="396720"/>
            <a:ext cx="208080" cy="206640"/>
          </a:xfrm>
          <a:prstGeom prst="rect">
            <a:avLst/>
          </a:prstGeom>
          <a:ln w="0">
            <a:noFill/>
          </a:ln>
        </p:spPr>
      </p:pic>
      <p:sp>
        <p:nvSpPr>
          <p:cNvPr id="1607" name="Прямоугольник 5"/>
          <p:cNvSpPr/>
          <p:nvPr/>
        </p:nvSpPr>
        <p:spPr>
          <a:xfrm>
            <a:off x="3625920" y="304920"/>
            <a:ext cx="5273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 Light"/>
              </a:rPr>
              <a:t>направление в общеобразовательные организации перечня ключевых событий (дат), личностей, подготовка кратких информационных материалов по содержанию заявленных в проекте направлени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8" name="Прямоугольник 34"/>
          <p:cNvSpPr/>
          <p:nvPr/>
        </p:nvSpPr>
        <p:spPr>
          <a:xfrm>
            <a:off x="5486400" y="1376280"/>
            <a:ext cx="327672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24b50"/>
                </a:solidFill>
                <a:latin typeface="Calibri"/>
              </a:rPr>
              <a:t>ДОН ТО совместно с ТОГИРР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9" name="Group 38" descr=""/>
          <p:cNvPicPr/>
          <p:nvPr/>
        </p:nvPicPr>
        <p:blipFill>
          <a:blip r:embed="rId2"/>
          <a:stretch/>
        </p:blipFill>
        <p:spPr>
          <a:xfrm>
            <a:off x="3365640" y="2163600"/>
            <a:ext cx="206280" cy="208080"/>
          </a:xfrm>
          <a:prstGeom prst="rect">
            <a:avLst/>
          </a:prstGeom>
          <a:ln w="0">
            <a:noFill/>
          </a:ln>
        </p:spPr>
      </p:pic>
      <p:sp>
        <p:nvSpPr>
          <p:cNvPr id="1610" name="Прямоугольник 5"/>
          <p:cNvSpPr/>
          <p:nvPr/>
        </p:nvSpPr>
        <p:spPr>
          <a:xfrm>
            <a:off x="3625920" y="2057400"/>
            <a:ext cx="5273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 Light"/>
              </a:rPr>
              <a:t>постоянное методическое сопровождение работы педагогов очно и дистанционно в рамках реализации мероприятий проект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1" name="Прямоугольник 39"/>
          <p:cNvSpPr/>
          <p:nvPr/>
        </p:nvSpPr>
        <p:spPr>
          <a:xfrm>
            <a:off x="6000840" y="2757600"/>
            <a:ext cx="27651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24b50"/>
                </a:solidFill>
                <a:latin typeface="Calibri"/>
              </a:rPr>
              <a:t>ТОГИРР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2" name="Group 38" descr=""/>
          <p:cNvPicPr/>
          <p:nvPr/>
        </p:nvPicPr>
        <p:blipFill>
          <a:blip r:embed="rId3"/>
          <a:stretch/>
        </p:blipFill>
        <p:spPr>
          <a:xfrm>
            <a:off x="3389400" y="3535200"/>
            <a:ext cx="207720" cy="208080"/>
          </a:xfrm>
          <a:prstGeom prst="rect">
            <a:avLst/>
          </a:prstGeom>
          <a:ln w="0">
            <a:noFill/>
          </a:ln>
        </p:spPr>
      </p:pic>
      <p:sp>
        <p:nvSpPr>
          <p:cNvPr id="1613" name="Прямоугольник 5"/>
          <p:cNvSpPr/>
          <p:nvPr/>
        </p:nvSpPr>
        <p:spPr>
          <a:xfrm>
            <a:off x="3641760" y="3429000"/>
            <a:ext cx="542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 Light"/>
              </a:rPr>
              <a:t>подготовка и реализация циклов тематических программ, видеосюжетов, радиопередач, мультимедийных и видеоуроков по тематике проект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4" name="Прямоугольник 44"/>
          <p:cNvSpPr/>
          <p:nvPr/>
        </p:nvSpPr>
        <p:spPr>
          <a:xfrm>
            <a:off x="6031080" y="4313160"/>
            <a:ext cx="276516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24b50"/>
                </a:solidFill>
                <a:latin typeface="Calibri"/>
              </a:rPr>
              <a:t>ДИП ТО совместно со СМ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5" name="Group 38" descr=""/>
          <p:cNvPicPr/>
          <p:nvPr/>
        </p:nvPicPr>
        <p:blipFill>
          <a:blip r:embed="rId4"/>
          <a:stretch/>
        </p:blipFill>
        <p:spPr>
          <a:xfrm>
            <a:off x="3389400" y="5175360"/>
            <a:ext cx="207720" cy="207720"/>
          </a:xfrm>
          <a:prstGeom prst="rect">
            <a:avLst/>
          </a:prstGeom>
          <a:ln w="0">
            <a:noFill/>
          </a:ln>
        </p:spPr>
      </p:pic>
      <p:sp>
        <p:nvSpPr>
          <p:cNvPr id="1616" name="Прямоугольник 5"/>
          <p:cNvSpPr/>
          <p:nvPr/>
        </p:nvSpPr>
        <p:spPr>
          <a:xfrm>
            <a:off x="3651120" y="5075280"/>
            <a:ext cx="5273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 Light"/>
              </a:rPr>
              <a:t>проведение конкурсных семейно-школьных и молодёжных мероприятий муниципального и регионального уровн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7" name="Прямоугольник 49"/>
          <p:cNvSpPr/>
          <p:nvPr/>
        </p:nvSpPr>
        <p:spPr>
          <a:xfrm>
            <a:off x="6031080" y="5861160"/>
            <a:ext cx="27651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24b50"/>
                </a:solidFill>
                <a:latin typeface="Calibri"/>
              </a:rPr>
              <a:t>СМИ, ДИП ТО, ДОН Т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8" name="Прямая соединительная линия 53"/>
          <p:cNvSpPr/>
          <p:nvPr/>
        </p:nvSpPr>
        <p:spPr>
          <a:xfrm flipH="1">
            <a:off x="3106800" y="0"/>
            <a:ext cx="22320" cy="6848640"/>
          </a:xfrm>
          <a:prstGeom prst="line">
            <a:avLst/>
          </a:prstGeom>
          <a:ln w="9360">
            <a:solidFill>
              <a:srgbClr val="ff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9" name="Прямоугольник 3"/>
          <p:cNvSpPr/>
          <p:nvPr/>
        </p:nvSpPr>
        <p:spPr>
          <a:xfrm>
            <a:off x="0" y="0"/>
            <a:ext cx="3129120" cy="68486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0" name="Номер слайда 1"/>
          <p:cNvSpPr/>
          <p:nvPr/>
        </p:nvSpPr>
        <p:spPr>
          <a:xfrm>
            <a:off x="8763120" y="6534000"/>
            <a:ext cx="304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1" name="Group 38" descr=""/>
          <p:cNvPicPr/>
          <p:nvPr/>
        </p:nvPicPr>
        <p:blipFill>
          <a:blip r:embed="rId1"/>
          <a:stretch/>
        </p:blipFill>
        <p:spPr>
          <a:xfrm>
            <a:off x="5425920" y="231840"/>
            <a:ext cx="212760" cy="206280"/>
          </a:xfrm>
          <a:prstGeom prst="rect">
            <a:avLst/>
          </a:prstGeom>
          <a:ln w="0">
            <a:noFill/>
          </a:ln>
        </p:spPr>
      </p:pic>
      <p:sp>
        <p:nvSpPr>
          <p:cNvPr id="1622" name="Прямоугольник 5"/>
          <p:cNvSpPr/>
          <p:nvPr/>
        </p:nvSpPr>
        <p:spPr>
          <a:xfrm>
            <a:off x="3152880" y="668160"/>
            <a:ext cx="231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Подпроект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«Киноуроки Великой Победы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3" name="Прямоугольник 34"/>
          <p:cNvSpPr/>
          <p:nvPr/>
        </p:nvSpPr>
        <p:spPr>
          <a:xfrm>
            <a:off x="5718240" y="1811160"/>
            <a:ext cx="327636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24b50"/>
                </a:solidFill>
                <a:latin typeface="Calibri"/>
              </a:rPr>
              <a:t>ЗАО «Сибинформбюро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4" name="Прямоугольник 3"/>
          <p:cNvSpPr/>
          <p:nvPr/>
        </p:nvSpPr>
        <p:spPr>
          <a:xfrm>
            <a:off x="239760" y="1862280"/>
            <a:ext cx="2784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24b50"/>
                </a:solidFill>
                <a:latin typeface="Calibri Light"/>
              </a:rPr>
              <a:t>Тематическое направл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24b50"/>
                </a:solidFill>
                <a:latin typeface="Calibri Light"/>
              </a:rPr>
              <a:t>проек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5" name="Прямая соединительная линия 51"/>
          <p:cNvSpPr/>
          <p:nvPr/>
        </p:nvSpPr>
        <p:spPr>
          <a:xfrm>
            <a:off x="473040" y="3021120"/>
            <a:ext cx="2378160" cy="0"/>
          </a:xfrm>
          <a:prstGeom prst="line">
            <a:avLst/>
          </a:prstGeom>
          <a:ln w="9360">
            <a:solidFill>
              <a:srgbClr val="ff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6" name="Прямоугольник 52"/>
          <p:cNvSpPr/>
          <p:nvPr/>
        </p:nvSpPr>
        <p:spPr>
          <a:xfrm>
            <a:off x="425520" y="3200400"/>
            <a:ext cx="2454120" cy="9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24b50"/>
                </a:solidFill>
                <a:latin typeface="Calibri Light"/>
                <a:ea typeface="Arial"/>
              </a:rPr>
              <a:t>- </a:t>
            </a:r>
            <a:r>
              <a:rPr b="0" lang="ru-RU" sz="1600" spc="-1" strike="noStrike">
                <a:solidFill>
                  <a:srgbClr val="224b50"/>
                </a:solidFill>
                <a:latin typeface="Calibri Light"/>
                <a:ea typeface="Arial"/>
              </a:rPr>
              <a:t>Великая Отечественная война: ключевые события </a:t>
            </a:r>
            <a:br>
              <a:rPr sz="1600"/>
            </a:br>
            <a:r>
              <a:rPr b="0" lang="ru-RU" sz="1600" spc="-1" strike="noStrike">
                <a:solidFill>
                  <a:srgbClr val="224b50"/>
                </a:solidFill>
                <a:latin typeface="Calibri Light"/>
                <a:ea typeface="Arial"/>
              </a:rPr>
              <a:t>и исторические лич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7" name="Прямая соединительная линия 53"/>
          <p:cNvSpPr/>
          <p:nvPr/>
        </p:nvSpPr>
        <p:spPr>
          <a:xfrm flipH="1">
            <a:off x="3106800" y="0"/>
            <a:ext cx="22320" cy="6848640"/>
          </a:xfrm>
          <a:prstGeom prst="line">
            <a:avLst/>
          </a:prstGeom>
          <a:ln w="9360">
            <a:solidFill>
              <a:srgbClr val="ff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8" name="Прямоугольник 4"/>
          <p:cNvSpPr/>
          <p:nvPr/>
        </p:nvSpPr>
        <p:spPr>
          <a:xfrm>
            <a:off x="3441600" y="136440"/>
            <a:ext cx="166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Мероприят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9" name="Равнобедренный треугольник 54"/>
          <p:cNvSpPr/>
          <p:nvPr/>
        </p:nvSpPr>
        <p:spPr>
          <a:xfrm rot="5400000">
            <a:off x="3240360" y="237240"/>
            <a:ext cx="216000" cy="144360"/>
          </a:xfrm>
          <a:prstGeom prst="triangle">
            <a:avLst>
              <a:gd name="adj" fmla="val 50000"/>
            </a:avLst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440" bIns="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0" name="Прямоугольник 4"/>
          <p:cNvSpPr/>
          <p:nvPr/>
        </p:nvSpPr>
        <p:spPr>
          <a:xfrm>
            <a:off x="5649840" y="147600"/>
            <a:ext cx="166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одерж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1" name="Прямоугольник 5"/>
          <p:cNvSpPr/>
          <p:nvPr/>
        </p:nvSpPr>
        <p:spPr>
          <a:xfrm>
            <a:off x="5381640" y="577800"/>
            <a:ext cx="345744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 Light"/>
              </a:rPr>
              <a:t>Цикл фильмов и программ, посвященных знаковым событиям Великой Отечественной войны для показов и обсуждений в образовательных организация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2" name="Прямоугольник 5"/>
          <p:cNvSpPr/>
          <p:nvPr/>
        </p:nvSpPr>
        <p:spPr>
          <a:xfrm>
            <a:off x="3274920" y="2492280"/>
            <a:ext cx="2070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Медиапроект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«Уроки Победы»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3" name="Прямоугольник 59"/>
          <p:cNvSpPr/>
          <p:nvPr/>
        </p:nvSpPr>
        <p:spPr>
          <a:xfrm>
            <a:off x="5781600" y="3149640"/>
            <a:ext cx="327672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24b50"/>
                </a:solidFill>
                <a:latin typeface="Calibri"/>
              </a:rPr>
              <a:t>ВГТРК ГТРК «Регион - Тюмень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4" name="Прямоугольник 5"/>
          <p:cNvSpPr/>
          <p:nvPr/>
        </p:nvSpPr>
        <p:spPr>
          <a:xfrm>
            <a:off x="5367240" y="2230560"/>
            <a:ext cx="34718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 Light"/>
              </a:rPr>
              <a:t>Создание совместно со школьниками видеосюжетов для уроков истории по изучению тем Великой Отечественной войн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5" name="Прямоугольник 5"/>
          <p:cNvSpPr/>
          <p:nvPr/>
        </p:nvSpPr>
        <p:spPr>
          <a:xfrm>
            <a:off x="3057480" y="3592440"/>
            <a:ext cx="25052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Подпроект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«Единые мультимедийные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уроки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Прямоугольник 62"/>
          <p:cNvSpPr/>
          <p:nvPr/>
        </p:nvSpPr>
        <p:spPr>
          <a:xfrm>
            <a:off x="5821200" y="4554360"/>
            <a:ext cx="3276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24b50"/>
                </a:solidFill>
                <a:latin typeface="Calibri"/>
              </a:rPr>
              <a:t>Департамент образования и нау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Прямоугольник 5"/>
          <p:cNvSpPr/>
          <p:nvPr/>
        </p:nvSpPr>
        <p:spPr>
          <a:xfrm>
            <a:off x="5418000" y="3568680"/>
            <a:ext cx="34974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 Light"/>
              </a:rPr>
              <a:t>Проведение единых мультимедийных уроков совместно с региональным центром Президентской библиотеки имени Б.Н. Ельци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8" name="Прямоугольник 5"/>
          <p:cNvSpPr/>
          <p:nvPr/>
        </p:nvSpPr>
        <p:spPr>
          <a:xfrm>
            <a:off x="3057480" y="5154480"/>
            <a:ext cx="25052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Радиопроект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«Наша Победа. 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Сто рассказов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о войне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9" name="Прямоугольник 65"/>
          <p:cNvSpPr/>
          <p:nvPr/>
        </p:nvSpPr>
        <p:spPr>
          <a:xfrm>
            <a:off x="5843520" y="6135840"/>
            <a:ext cx="327672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24b50"/>
                </a:solidFill>
                <a:latin typeface="Calibri"/>
              </a:rPr>
              <a:t>ВГТРК ГТРК «Регион - Тюмень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0" name="Прямоугольник 5"/>
          <p:cNvSpPr/>
          <p:nvPr/>
        </p:nvSpPr>
        <p:spPr>
          <a:xfrm>
            <a:off x="5427720" y="4952880"/>
            <a:ext cx="34876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 Light"/>
              </a:rPr>
              <a:t>Радиовещание корреспондентов - участников фестиваля детских радиопрограмм «Птенец» на радиостанциях: «Радио России - «Регион - Тюмень», Вести ФМ», «Маяк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1" name="Прямоугольник 3"/>
          <p:cNvSpPr/>
          <p:nvPr/>
        </p:nvSpPr>
        <p:spPr>
          <a:xfrm>
            <a:off x="0" y="0"/>
            <a:ext cx="2558880" cy="68486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2" name="Номер слайда 1"/>
          <p:cNvSpPr/>
          <p:nvPr/>
        </p:nvSpPr>
        <p:spPr>
          <a:xfrm>
            <a:off x="8763120" y="6534000"/>
            <a:ext cx="304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3" name="Group 38" descr=""/>
          <p:cNvPicPr/>
          <p:nvPr/>
        </p:nvPicPr>
        <p:blipFill>
          <a:blip r:embed="rId1"/>
          <a:stretch/>
        </p:blipFill>
        <p:spPr>
          <a:xfrm>
            <a:off x="4541760" y="85680"/>
            <a:ext cx="206280" cy="206280"/>
          </a:xfrm>
          <a:prstGeom prst="rect">
            <a:avLst/>
          </a:prstGeom>
          <a:ln w="0">
            <a:noFill/>
          </a:ln>
        </p:spPr>
      </p:pic>
      <p:sp>
        <p:nvSpPr>
          <p:cNvPr id="1644" name="Прямоугольник 5"/>
          <p:cNvSpPr/>
          <p:nvPr/>
        </p:nvSpPr>
        <p:spPr>
          <a:xfrm>
            <a:off x="2530440" y="652320"/>
            <a:ext cx="1925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Медиапроект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«Детям - о войне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5" name="Прямоугольник 34"/>
          <p:cNvSpPr/>
          <p:nvPr/>
        </p:nvSpPr>
        <p:spPr>
          <a:xfrm>
            <a:off x="5195880" y="692280"/>
            <a:ext cx="388764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24b50"/>
                </a:solidFill>
                <a:latin typeface="Calibri"/>
              </a:rPr>
              <a:t>АНО «Тюменская область сегодня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6" name="Прямоугольник 3"/>
          <p:cNvSpPr/>
          <p:nvPr/>
        </p:nvSpPr>
        <p:spPr>
          <a:xfrm>
            <a:off x="76320" y="1862280"/>
            <a:ext cx="2286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24b50"/>
                </a:solidFill>
                <a:latin typeface="Calibri Light"/>
              </a:rPr>
              <a:t>Тематическое направл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24b50"/>
                </a:solidFill>
                <a:latin typeface="Calibri Light"/>
              </a:rPr>
              <a:t>проек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7" name="Прямая соединительная линия 51"/>
          <p:cNvSpPr/>
          <p:nvPr/>
        </p:nvSpPr>
        <p:spPr>
          <a:xfrm>
            <a:off x="76320" y="3006720"/>
            <a:ext cx="2377800" cy="0"/>
          </a:xfrm>
          <a:prstGeom prst="line">
            <a:avLst/>
          </a:prstGeom>
          <a:ln w="9360">
            <a:solidFill>
              <a:srgbClr val="ff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8" name="Прямоугольник 52"/>
          <p:cNvSpPr/>
          <p:nvPr/>
        </p:nvSpPr>
        <p:spPr>
          <a:xfrm>
            <a:off x="25560" y="3211560"/>
            <a:ext cx="2454120" cy="9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24b50"/>
                </a:solidFill>
                <a:latin typeface="Calibri Light"/>
                <a:ea typeface="Arial"/>
              </a:rPr>
              <a:t>- </a:t>
            </a:r>
            <a:r>
              <a:rPr b="0" lang="ru-RU" sz="1600" spc="-1" strike="noStrike">
                <a:solidFill>
                  <a:srgbClr val="224b50"/>
                </a:solidFill>
                <a:latin typeface="Calibri Light"/>
                <a:ea typeface="Arial"/>
              </a:rPr>
              <a:t>Тюменский край в годы Великой Отечественной войн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9" name="Прямая соединительная линия 53"/>
          <p:cNvSpPr/>
          <p:nvPr/>
        </p:nvSpPr>
        <p:spPr>
          <a:xfrm flipH="1">
            <a:off x="2557080" y="0"/>
            <a:ext cx="11160" cy="6851520"/>
          </a:xfrm>
          <a:prstGeom prst="line">
            <a:avLst/>
          </a:prstGeom>
          <a:ln w="9360">
            <a:solidFill>
              <a:srgbClr val="ff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0" name="Прямоугольник 4"/>
          <p:cNvSpPr/>
          <p:nvPr/>
        </p:nvSpPr>
        <p:spPr>
          <a:xfrm>
            <a:off x="2793960" y="0"/>
            <a:ext cx="166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Мероприят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1" name="Равнобедренный треугольник 54"/>
          <p:cNvSpPr/>
          <p:nvPr/>
        </p:nvSpPr>
        <p:spPr>
          <a:xfrm rot="5400000">
            <a:off x="2631240" y="86040"/>
            <a:ext cx="216000" cy="144720"/>
          </a:xfrm>
          <a:prstGeom prst="triangle">
            <a:avLst>
              <a:gd name="adj" fmla="val 50000"/>
            </a:avLst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440" bIns="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2" name="Прямоугольник 4"/>
          <p:cNvSpPr/>
          <p:nvPr/>
        </p:nvSpPr>
        <p:spPr>
          <a:xfrm>
            <a:off x="4768920" y="4680"/>
            <a:ext cx="166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одерж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3" name="Прямоугольник 5"/>
          <p:cNvSpPr/>
          <p:nvPr/>
        </p:nvSpPr>
        <p:spPr>
          <a:xfrm>
            <a:off x="4433760" y="304920"/>
            <a:ext cx="46641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 Light"/>
              </a:rPr>
              <a:t>Уроки - встречи с журналистами газеты  в школах, где готовились материалы проекта «Народная память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4" name="Прямоугольник 5"/>
          <p:cNvSpPr/>
          <p:nvPr/>
        </p:nvSpPr>
        <p:spPr>
          <a:xfrm>
            <a:off x="2490840" y="1846440"/>
            <a:ext cx="2071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Сетевой подпроект «Улица героя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5" name="Прямоугольник 59"/>
          <p:cNvSpPr/>
          <p:nvPr/>
        </p:nvSpPr>
        <p:spPr>
          <a:xfrm>
            <a:off x="5821200" y="2341440"/>
            <a:ext cx="327672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24b50"/>
                </a:solidFill>
                <a:latin typeface="Calibri"/>
              </a:rPr>
              <a:t>ИА «Тюменская линия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6" name="Прямоугольник 5"/>
          <p:cNvSpPr/>
          <p:nvPr/>
        </p:nvSpPr>
        <p:spPr>
          <a:xfrm>
            <a:off x="4433760" y="1752480"/>
            <a:ext cx="46008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 Light"/>
              </a:rPr>
              <a:t>Создание инфографических материалов и видеосюжетов о героях войны, именами которых названы улицы, на интернет - ресурсах школ и в социальных сетя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7" name="Прямоугольник 5"/>
          <p:cNvSpPr/>
          <p:nvPr/>
        </p:nvSpPr>
        <p:spPr>
          <a:xfrm>
            <a:off x="2610000" y="2733840"/>
            <a:ext cx="1823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Подпроект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«В Сибири не было войны…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8" name="Прямоугольник 5"/>
          <p:cNvSpPr/>
          <p:nvPr/>
        </p:nvSpPr>
        <p:spPr>
          <a:xfrm>
            <a:off x="4433760" y="2666880"/>
            <a:ext cx="46008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 Light"/>
              </a:rPr>
              <a:t>Разработка социальных проектов о земляках – участниках войны, трудовом вкладе в Победу, учителях-фронтовиках, выпускниках 1941-1945 годов.</a:t>
            </a:r>
            <a:r>
              <a:rPr b="0" lang="en-US" sz="1400" spc="-1" strike="noStrike">
                <a:solidFill>
                  <a:srgbClr val="000000"/>
                </a:solidFill>
                <a:latin typeface="Calibri Light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alibri Light"/>
              </a:rPr>
              <a:t>Публикация лучших работ в рубрике «Уголок России» в газете «Тюменская правда»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9" name="Прямоугольник 5"/>
          <p:cNvSpPr/>
          <p:nvPr/>
        </p:nvSpPr>
        <p:spPr>
          <a:xfrm>
            <a:off x="4433760" y="944640"/>
            <a:ext cx="4600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 Light"/>
              </a:rPr>
              <a:t>Уроки - встречи тюменских байкеров со школьниками с возложением цветов к памятникам погибши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0" name="Прямоугольник 26"/>
          <p:cNvSpPr/>
          <p:nvPr/>
        </p:nvSpPr>
        <p:spPr>
          <a:xfrm>
            <a:off x="5176800" y="1300320"/>
            <a:ext cx="38880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24b50"/>
                </a:solidFill>
                <a:latin typeface="Calibri"/>
              </a:rPr>
              <a:t>Мотоклуб «Ночные волки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24b50"/>
                </a:solidFill>
                <a:latin typeface="Calibri"/>
              </a:rPr>
              <a:t>Департамент образования и нау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1" name="Прямоугольник 27"/>
          <p:cNvSpPr/>
          <p:nvPr/>
        </p:nvSpPr>
        <p:spPr>
          <a:xfrm>
            <a:off x="5821200" y="3554280"/>
            <a:ext cx="327672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24b50"/>
                </a:solidFill>
                <a:latin typeface="Calibri"/>
              </a:rPr>
              <a:t>Департамент образования и нау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24b50"/>
                </a:solidFill>
                <a:latin typeface="Calibri"/>
              </a:rPr>
              <a:t>АНО «Тюменская правда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2" name="Прямоугольник 5"/>
          <p:cNvSpPr/>
          <p:nvPr/>
        </p:nvSpPr>
        <p:spPr>
          <a:xfrm>
            <a:off x="2562120" y="3948120"/>
            <a:ext cx="20210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Акци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«Узнай Героя - земляка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3" name="Прямоугольник 5"/>
          <p:cNvSpPr/>
          <p:nvPr/>
        </p:nvSpPr>
        <p:spPr>
          <a:xfrm>
            <a:off x="4433760" y="3981600"/>
            <a:ext cx="46008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 Light"/>
              </a:rPr>
              <a:t>Проведение в рамках акции конкурса на лучший альбом, стенгазету, музейную экспозицию, урок памяти, посвященные землякам - Героям Советского Союза, полным кавалерам ордена Славы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4" name="Прямоугольник 37"/>
          <p:cNvSpPr/>
          <p:nvPr/>
        </p:nvSpPr>
        <p:spPr>
          <a:xfrm>
            <a:off x="4592520" y="4971960"/>
            <a:ext cx="450540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24b50"/>
                </a:solidFill>
                <a:latin typeface="Calibri"/>
              </a:rPr>
              <a:t>Совет ветеранов войны, труда и правоохранительных орган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24b50"/>
                </a:solidFill>
                <a:latin typeface="Calibri"/>
              </a:rPr>
              <a:t>Департамент образования и нау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5" name="Прямоугольник 5"/>
          <p:cNvSpPr/>
          <p:nvPr/>
        </p:nvSpPr>
        <p:spPr>
          <a:xfrm>
            <a:off x="2660760" y="5559480"/>
            <a:ext cx="18968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Подпроект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«Отечества достойные сыны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6" name="Прямоугольник 5"/>
          <p:cNvSpPr/>
          <p:nvPr/>
        </p:nvSpPr>
        <p:spPr>
          <a:xfrm>
            <a:off x="4502160" y="5334120"/>
            <a:ext cx="464976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 Light"/>
              </a:rPr>
              <a:t>Проведение конкурса музыкально-литературных композиций на краеведческом материале; конкурсов музеев и сочинений, посвященных 105 годовщине со дня рождения легендарного разведчика Н.И. Кузнецова; конкурсов чтецов; театрализованных постановок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Прямоугольник 40"/>
          <p:cNvSpPr/>
          <p:nvPr/>
        </p:nvSpPr>
        <p:spPr>
          <a:xfrm>
            <a:off x="4748040" y="6386400"/>
            <a:ext cx="415800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24b50"/>
                </a:solidFill>
                <a:latin typeface="Calibri"/>
              </a:rPr>
              <a:t>Департамент образования и нау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24b50"/>
                </a:solidFill>
                <a:latin typeface="Calibri"/>
              </a:rPr>
              <a:t>Ветеранские общественные организ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Кузнецова Наталья Александровна</dc:creator>
  <dc:description/>
  <dc:language>en-US</dc:language>
  <cp:lastModifiedBy>User</cp:lastModifiedBy>
  <cp:lastPrinted>2015-12-14T06:58:34Z</cp:lastPrinted>
  <dcterms:modified xsi:type="dcterms:W3CDTF">2016-03-28T04:19:41Z</dcterms:modified>
  <cp:revision>106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