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131-9B0F-4AEE-BCA2-1E784B82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0E7-E157-478F-BBF3-D87DE0B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981-BC8D-4115-8240-9196819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997-AB8D-4B58-BB62-950F874F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7AB-72D1-4C38-8C09-62562948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2BA-E257-4363-A98F-A1827FB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596-F5F7-4D9B-81D6-323B858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BD7-2BBE-4F54-A85D-884A3E5F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492-FBFE-498D-A5E5-4CEA453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294-6066-49F7-BA50-9E141EC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BD7-AECF-4DD9-ACA9-76FE5DB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2D3-7060-43E2-89FD-7FC8471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F51-2B27-46E0-981C-DFCE10870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«Мы – умные, мы – дружные, мы – внимательные, мы - старательны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ы отлично учимся, всё у нас получится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ukr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Вертикальный свиток 3" descr=""/>
          <p:cNvPicPr/>
          <p:nvPr/>
        </p:nvPicPr>
        <p:blipFill>
          <a:blip r:embed="rId2"/>
          <a:stretch/>
        </p:blipFill>
        <p:spPr>
          <a:xfrm>
            <a:off x="128520" y="274680"/>
            <a:ext cx="9028080" cy="623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:\Users\1\Desktop\kartinki24_bird_002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189027869.jpg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1256905594_029__015.jpg"/>
          <p:cNvPicPr/>
          <p:nvPr/>
        </p:nvPicPr>
        <p:blipFill>
          <a:blip r:embed="rId2"/>
          <a:srcRect l="0" t="0" r="0" b="2646"/>
          <a:stretch/>
        </p:blipFill>
        <p:spPr>
          <a:xfrm>
            <a:off x="785880" y="428760"/>
            <a:ext cx="2500200" cy="4868640"/>
          </a:xfrm>
          <a:prstGeom prst="rect">
            <a:avLst/>
          </a:prstGeom>
          <a:ln w="0">
            <a:noFill/>
          </a:ln>
        </p:spPr>
      </p:pic>
      <p:sp>
        <p:nvSpPr>
          <p:cNvPr id="71" name="7-конечная звезда 5"/>
          <p:cNvSpPr/>
          <p:nvPr/>
        </p:nvSpPr>
        <p:spPr>
          <a:xfrm>
            <a:off x="121428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-конечная звезда 6"/>
          <p:cNvSpPr/>
          <p:nvPr/>
        </p:nvSpPr>
        <p:spPr>
          <a:xfrm>
            <a:off x="5500800" y="5786280"/>
            <a:ext cx="1285920" cy="1071720"/>
          </a:xfrm>
          <a:custGeom>
            <a:avLst/>
            <a:gdLst/>
            <a:ahLst/>
            <a:rect l="l" t="t" r="r" b="b"/>
            <a:pathLst>
              <a:path w="1285875" h="1071562">
                <a:moveTo>
                  <a:pt x="-3" y="689129"/>
                </a:moveTo>
                <a:lnTo>
                  <a:pt x="198010" y="476893"/>
                </a:lnTo>
                <a:lnTo>
                  <a:pt x="127341" y="212237"/>
                </a:lnTo>
                <a:lnTo>
                  <a:pt x="444928" y="212237"/>
                </a:lnTo>
                <a:lnTo>
                  <a:pt x="642938" y="0"/>
                </a:lnTo>
                <a:lnTo>
                  <a:pt x="840947" y="212237"/>
                </a:lnTo>
                <a:lnTo>
                  <a:pt x="1158534" y="212237"/>
                </a:lnTo>
                <a:lnTo>
                  <a:pt x="1087865" y="476893"/>
                </a:lnTo>
                <a:lnTo>
                  <a:pt x="1285878" y="689129"/>
                </a:lnTo>
                <a:lnTo>
                  <a:pt x="999741" y="806911"/>
                </a:lnTo>
                <a:lnTo>
                  <a:pt x="929070" y="1071568"/>
                </a:lnTo>
                <a:lnTo>
                  <a:pt x="642938" y="953784"/>
                </a:lnTo>
                <a:lnTo>
                  <a:pt x="356805" y="1071568"/>
                </a:lnTo>
                <a:lnTo>
                  <a:pt x="286134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-конечная звезда 7"/>
          <p:cNvSpPr/>
          <p:nvPr/>
        </p:nvSpPr>
        <p:spPr>
          <a:xfrm>
            <a:off x="11592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-конечная звезда 8"/>
          <p:cNvSpPr/>
          <p:nvPr/>
        </p:nvSpPr>
        <p:spPr>
          <a:xfrm>
            <a:off x="342900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7-конечная звезда 9"/>
          <p:cNvSpPr/>
          <p:nvPr/>
        </p:nvSpPr>
        <p:spPr>
          <a:xfrm>
            <a:off x="235728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7-конечная звезда 10"/>
          <p:cNvSpPr/>
          <p:nvPr/>
        </p:nvSpPr>
        <p:spPr>
          <a:xfrm>
            <a:off x="6572160" y="5786280"/>
            <a:ext cx="1285920" cy="1071720"/>
          </a:xfrm>
          <a:custGeom>
            <a:avLst/>
            <a:gdLst/>
            <a:ahLst/>
            <a:rect l="l" t="t" r="r" b="b"/>
            <a:pathLst>
              <a:path w="1285875" h="1071562">
                <a:moveTo>
                  <a:pt x="-3" y="689129"/>
                </a:moveTo>
                <a:lnTo>
                  <a:pt x="198010" y="476893"/>
                </a:lnTo>
                <a:lnTo>
                  <a:pt x="127341" y="212237"/>
                </a:lnTo>
                <a:lnTo>
                  <a:pt x="444928" y="212237"/>
                </a:lnTo>
                <a:lnTo>
                  <a:pt x="642938" y="0"/>
                </a:lnTo>
                <a:lnTo>
                  <a:pt x="840947" y="212237"/>
                </a:lnTo>
                <a:lnTo>
                  <a:pt x="1158534" y="212237"/>
                </a:lnTo>
                <a:lnTo>
                  <a:pt x="1087865" y="476893"/>
                </a:lnTo>
                <a:lnTo>
                  <a:pt x="1285878" y="689129"/>
                </a:lnTo>
                <a:lnTo>
                  <a:pt x="999741" y="806911"/>
                </a:lnTo>
                <a:lnTo>
                  <a:pt x="929070" y="1071568"/>
                </a:lnTo>
                <a:lnTo>
                  <a:pt x="642938" y="953784"/>
                </a:lnTo>
                <a:lnTo>
                  <a:pt x="356805" y="1071568"/>
                </a:lnTo>
                <a:lnTo>
                  <a:pt x="286134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-конечная звезда 11"/>
          <p:cNvSpPr/>
          <p:nvPr/>
        </p:nvSpPr>
        <p:spPr>
          <a:xfrm>
            <a:off x="450072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-конечная звезда 12"/>
          <p:cNvSpPr/>
          <p:nvPr/>
        </p:nvSpPr>
        <p:spPr>
          <a:xfrm>
            <a:off x="778680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-конечная звезда 13"/>
          <p:cNvSpPr/>
          <p:nvPr/>
        </p:nvSpPr>
        <p:spPr>
          <a:xfrm>
            <a:off x="0" y="4572000"/>
            <a:ext cx="1214280" cy="1143000"/>
          </a:xfrm>
          <a:custGeom>
            <a:avLst/>
            <a:gdLst/>
            <a:ahLst/>
            <a:rect l="l" t="t" r="r" b="b"/>
            <a:pathLst>
              <a:path w="1214438" h="1143000">
                <a:moveTo>
                  <a:pt x="-3" y="735071"/>
                </a:moveTo>
                <a:lnTo>
                  <a:pt x="187009" y="508686"/>
                </a:lnTo>
                <a:lnTo>
                  <a:pt x="120267" y="226386"/>
                </a:lnTo>
                <a:lnTo>
                  <a:pt x="420210" y="226387"/>
                </a:lnTo>
                <a:lnTo>
                  <a:pt x="607219" y="0"/>
                </a:lnTo>
                <a:lnTo>
                  <a:pt x="794228" y="226387"/>
                </a:lnTo>
                <a:lnTo>
                  <a:pt x="1094171" y="226386"/>
                </a:lnTo>
                <a:lnTo>
                  <a:pt x="1027429" y="508686"/>
                </a:lnTo>
                <a:lnTo>
                  <a:pt x="1214441" y="735071"/>
                </a:lnTo>
                <a:lnTo>
                  <a:pt x="944200" y="860706"/>
                </a:lnTo>
                <a:lnTo>
                  <a:pt x="877455" y="1143006"/>
                </a:lnTo>
                <a:lnTo>
                  <a:pt x="607219" y="1017370"/>
                </a:lnTo>
                <a:lnTo>
                  <a:pt x="336983" y="1143006"/>
                </a:lnTo>
                <a:lnTo>
                  <a:pt x="270238" y="860706"/>
                </a:lnTo>
                <a:lnTo>
                  <a:pt x="-3" y="7350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-конечная звезда 14"/>
          <p:cNvSpPr/>
          <p:nvPr/>
        </p:nvSpPr>
        <p:spPr>
          <a:xfrm>
            <a:off x="7929720" y="4500720"/>
            <a:ext cx="1214280" cy="1214280"/>
          </a:xfrm>
          <a:custGeom>
            <a:avLst/>
            <a:gdLst/>
            <a:ahLst/>
            <a:rect l="l" t="t" r="r" b="b"/>
            <a:pathLst>
              <a:path w="1214437" h="1214437">
                <a:moveTo>
                  <a:pt x="-3" y="781013"/>
                </a:moveTo>
                <a:lnTo>
                  <a:pt x="187009" y="540478"/>
                </a:lnTo>
                <a:lnTo>
                  <a:pt x="120267" y="240535"/>
                </a:lnTo>
                <a:lnTo>
                  <a:pt x="420210" y="240536"/>
                </a:lnTo>
                <a:lnTo>
                  <a:pt x="607219" y="0"/>
                </a:lnTo>
                <a:lnTo>
                  <a:pt x="794227" y="240536"/>
                </a:lnTo>
                <a:lnTo>
                  <a:pt x="1094170" y="240535"/>
                </a:lnTo>
                <a:lnTo>
                  <a:pt x="1027428" y="540478"/>
                </a:lnTo>
                <a:lnTo>
                  <a:pt x="1214440" y="781013"/>
                </a:lnTo>
                <a:lnTo>
                  <a:pt x="944199" y="914500"/>
                </a:lnTo>
                <a:lnTo>
                  <a:pt x="877455" y="1214443"/>
                </a:lnTo>
                <a:lnTo>
                  <a:pt x="607219" y="1080955"/>
                </a:lnTo>
                <a:lnTo>
                  <a:pt x="336982" y="1214443"/>
                </a:lnTo>
                <a:lnTo>
                  <a:pt x="270238" y="914500"/>
                </a:lnTo>
                <a:lnTo>
                  <a:pt x="-3" y="78101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1" descr=""/>
          <p:cNvPicPr/>
          <p:nvPr/>
        </p:nvPicPr>
        <p:blipFill>
          <a:blip r:embed="rId3"/>
          <a:stretch/>
        </p:blipFill>
        <p:spPr>
          <a:xfrm>
            <a:off x="2610000" y="2425680"/>
            <a:ext cx="63212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0.00509 C -0.00625 -0.02822 -0.00781 -0.08698 -0.02361 -0.12168 C -0.02569 -0.13324 -0.02986 -0.14319 -0.03333 -0.15406 C -0.03941 -0.17326 -0.04253 -0.19431 -0.04878 -0.21351 C -0.05208 -0.22346 -0.05833 -0.23063 -0.06146 -0.24057 C -0.06232 -0.24335 -0.06232 -0.24682 -0.06337 -0.2496 C -0.06875 -0.26509 -0.0783 -0.27782 -0.08472 -0.29239 C -0.09045 -0.30558 -0.08455 -0.29864 -0.09253 -0.31298 C -0.09427 -0.31598 -0.09687 -0.31784 -0.09843 -0.32084 C -0.10955 -0.34259 -0.11562 -0.36595 -0.13333 -0.38029 C -0.13889 -0.39186 -0.14635 -0.39232 -0.15364 -0.39972 C -0.16319 -0.40921 -0.17378 -0.41846 -0.18385 -0.42702 C -0.18541 -0.42841 -0.18698 -0.42956 -0.18871 -0.43072 C -0.19028 -0.43165 -0.19201 -0.43211 -0.19357 -0.43326 C -0.20104 -0.43951 -0.2 -0.4409 -0.20712 -0.44367 C -0.21389 -0.44923 -0.21962 -0.45593 -0.22743 -0.45917 C -0.23524 -0.46773 -0.24583 -0.47652 -0.25573 -0.47999 C -0.2592 -0.48323 -0.26232 -0.48601 -0.26632 -0.48762 C -0.26892 -0.49133 -0.27153 -0.49364 -0.275 -0.49549 C -0.27916 -0.50058 -0.28455 -0.50359 -0.28958 -0.50706 C -0.29375 -0.51538 -0.30191 -0.51538 -0.30816 -0.52001 C -0.31389 -0.52417 -0.31649 -0.53389 -0.32257 -0.5369 C -0.32621 -0.54129 -0.33281 -0.54337 -0.33524 -0.54731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1457 C 0.01024 0.00347 0.00746 -0.01342 0.0026 -0.0229 C 0.00121 -0.03007 -0.00052 -0.03724 -0.00434 -0.04233 C -0.00747 -0.05112 -0.01719 -0.07055 -0.02275 -0.07611 C -0.03473 -0.0879 -0.05261 -0.09091 -0.0665 -0.09669 C -0.08368 -0.10386 -0.10104 -0.11497 -0.11875 -0.11867 C -0.18316 -0.11797 -0.19983 -0.11659 -0.24705 -0.11358 C -0.25903 -0.11057 -0.27084 -0.09993 -0.28299 -0.09808 C -0.29896 -0.09554 -0.34931 -0.09669 -0.35469 -0.09669 E">
                                      <p:cBhvr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0532 0.01511 -0.01504 0.01858 -0.01828 C 0.02726 -0.02661 0.03733 -0.03285 0.04566 -0.04141 C 0.04792 -0.04372 0.04931 -0.04719 0.05156 -0.04927 C 0.05643 -0.0539 0.06754 -0.06315 0.07379 -0.06732 C 0.07639 -0.07194 0.08021 -0.07449 0.08264 -0.07888 C 0.09202 -0.09623 0.08438 -0.08559 0.09236 -0.09577 C 0.09514 -0.10364 0.1 -0.11081 0.104 -0.11775 C 0.10573 -0.12839 0.11389 -0.13741 0.11858 -0.1462 C 0.12101 -0.15059 0.12726 -0.158 0.12726 -0.158 C 0.12952 -0.16771 0.12622 -0.15522 0.13021 -0.16563 C 0.13299 -0.17303 0.13281 -0.18298 0.13594 -0.19015 C 0.13646 -0.19131 0.13733 -0.192 0.13785 -0.19293 C 0.13872 -0.19454 0.13924 -0.19639 0.13993 -0.19801 C 0.14132 -0.20889 0.14167 -0.21976 0.14375 -0.2304 C 0.14202 -0.27065 0.15 -0.27342 0.13108 -0.28198 C 0.12847 -0.28314 0.12431 -0.28592 0.12136 -0.28592 E">
                                      <p:cBhvr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787 0.00139 -0.01504 -0.00191 -0.02198 C -0.00313 -0.02753 -0.00556 -0.03077 -0.00868 -0.03516 C -0.01007 -0.04604 -0.01511 -0.04442 -0.01841 -0.05552 C -0.02153 -0.06593 -0.01927 -0.06015 -0.02622 -0.07241 C -0.04254 -0.10132 -0.02639 -0.07796 -0.03386 -0.09438 C -0.03802 -0.10364 -0.04289 -0.11266 -0.04757 -0.12145 C -0.05729 -0.16123 -0.06893 -0.20079 -0.0757 -0.24173 C -0.07639 -0.25399 -0.07778 -0.26602 -0.07865 -0.27805 C -0.07813 -0.31599 -0.08368 -0.35878 -0.06893 -0.39325 C -0.06771 -0.39903 -0.06545 -0.4032 -0.06407 -0.40875 C -0.06233 -0.41569 -0.06059 -0.42263 -0.05816 -0.42934 C -0.05712 -0.43627 -0.05625 -0.44275 -0.0533 -0.44877 C -0.05191 -0.46195 -0.04427 -0.47606 -0.03785 -0.48624 C -0.03525 -0.4904 -0.03195 -0.50058 -0.03195 -0.50058 C -0.029 -0.51631 -0.02518 -0.53042 -0.01927 -0.54453 C -0.01632 -0.55147 -0.01615 -0.56073 -0.01354 -0.5679 C -0.01077 -0.5753 -0.00729 -0.58062 -0.00469 -0.58848 C -0.0033 -0.59727 0.00486 -0.62156 0.00972 -0.62873 C 0.01111 -0.63382 0.01336 -0.63845 0.01666 -0.64146 C 0.01753 -0.64331 0.01823 -0.64539 0.01944 -0.64678 C 0.02031 -0.6477 0.02152 -0.64701 0.02239 -0.64793 C 0.02326 -0.64886 0.02343 -0.65071 0.0243 -0.65187 C 0.0276 -0.65626 0.02812 -0.6558 0.03211 -0.65719 C 0.03923 -0.66598 0.04583 -0.67731 0.05451 -0.68286 C 0.05694 -0.68633 0.05989 -0.68841 0.06215 -0.69212 C 0.06475 -0.69628 0.06562 -0.69929 0.06909 -0.70229 C 0.07014 -0.70877 0.07118 -0.70946 0.07586 -0.71132 C 0.08246 -0.71802 0.08159 -0.72011 0.09045 -0.72311 C 0.09982 -0.73167 0.11024 -0.73884 0.11944 -0.74763 C 0.12066 -0.74879 0.12135 -0.75041 0.12239 -0.75157 C 0.12326 -0.75249 0.1243 -0.75318 0.12534 -0.75411 C 0.12882 -0.76359 0.12621 -0.75781 0.13507 -0.76961 C 0.1368 -0.77192 0.13732 -0.77516 0.13889 -0.77747 C 0.1408 -0.78441 0.1408 -0.78719 0.1408 -0.79552 E">
                                      <p:cBhvr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-0.01296 0.00069 -0.02591 0.00191 -0.03887 C 0.0033 -0.05298 0.01823 -0.07727 0.02812 -0.08143 C 0.0342 -0.08883 0.04184 -0.09138 0.04965 -0.09323 C 0.06597 -0.1041 0.09479 -0.11775 0.11267 -0.1189 C 0.125 -0.1196 0.13732 -0.11983 0.14965 -0.12029 C 0.15729 -0.12214 0.16441 -0.12399 0.17187 -0.12677 C 0.17812 -0.12908 0.18472 -0.13348 0.19132 -0.13463 C 0.20139 -0.13625 0.21145 -0.13625 0.22118 -0.13833 C 0.22864 -0.14227 0.23593 -0.14597 0.24375 -0.14874 C 0.2467 -0.14967 0.25243 -0.15129 0.25243 -0.15129 C 0.25364 -0.15221 0.25486 -0.15314 0.25642 -0.15383 C 0.25816 -0.15476 0.26198 -0.15661 0.26198 -0.15661 C 0.26475 -0.16355 0.26875 -0.16956 0.27187 -0.17604 C 0.27448 -0.18159 0.27395 -0.18853 0.27673 -0.19408 C 0.27795 -0.20148 0.27986 -0.20935 0.28264 -0.21606 C 0.28489 -0.22947 0.28732 -0.24266 0.28941 -0.25608 C 0.28958 -0.25862 0.29479 -0.31206 0.28836 -0.29633 E">
                                      <p:cBhvr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288440" y="150012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бобщение зн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менах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48.gifш.gif"/>
          <p:cNvPicPr/>
          <p:nvPr/>
        </p:nvPicPr>
        <p:blipFill>
          <a:blip r:embed="rId2"/>
          <a:stretch/>
        </p:blipFill>
        <p:spPr>
          <a:xfrm>
            <a:off x="571680" y="4071960"/>
            <a:ext cx="2125440" cy="2428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061960" y="507204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Толмачё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&amp;IEcy;&amp;vcy;&amp;gcy;&amp;iecy;&amp;ncy;&amp;icy;&amp;jcy; &amp;Icy;&amp;vcy;&amp;acy;&amp;ncy;&amp;ocy;&amp;vcy;&amp;icy;&amp;chcy; &amp;Bcy;&amp;rcy;&amp;icy;&amp;gcy;&amp;acy;&amp;dcy;&amp;icy;&amp;rcy;&amp;ocy;&amp;vcy;. &amp;Pcy;&amp;ocy;&amp;rcy;&amp;tcy;&amp;rcy;&amp;iecy;&amp;tcy; &amp;pcy;&amp;icy;&amp;scy;&amp;acy;&amp;tcy;&amp;iecy;&amp;lcy;&amp;yacy; &amp;Lcy;&amp;softcy;&amp;vcy;&amp;acy; &amp;Ucy;&amp;scy;&amp;pcy;&amp;iecy;&amp;ncy;&amp;scy;&amp;kcy;&amp;ocy;&amp;gcy;&amp;ocy;"/>
          <p:cNvPicPr/>
          <p:nvPr/>
        </p:nvPicPr>
        <p:blipFill>
          <a:blip r:embed="rId1"/>
          <a:stretch/>
        </p:blipFill>
        <p:spPr>
          <a:xfrm>
            <a:off x="1601640" y="189000"/>
            <a:ext cx="59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0_26c1b_c8f5d412_L.gif"/>
          <p:cNvPicPr/>
          <p:nvPr/>
        </p:nvPicPr>
        <p:blipFill>
          <a:blip r:embed="rId1"/>
          <a:stretch/>
        </p:blipFill>
        <p:spPr>
          <a:xfrm>
            <a:off x="1928880" y="888840"/>
            <a:ext cx="5072040" cy="5969160"/>
          </a:xfrm>
          <a:prstGeom prst="rect">
            <a:avLst/>
          </a:prstGeom>
          <a:ln w="0">
            <a:noFill/>
          </a:ln>
        </p:spPr>
      </p:pic>
      <p:sp>
        <p:nvSpPr>
          <p:cNvPr id="49" name="Овал 1"/>
          <p:cNvSpPr/>
          <p:nvPr/>
        </p:nvSpPr>
        <p:spPr>
          <a:xfrm>
            <a:off x="1285920" y="142884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69273e1aeba6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42920"/>
            <a:ext cx="2620800" cy="2398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69273e1aeba6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-214200" y="2714760"/>
            <a:ext cx="2698560" cy="2469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69273e1aeba6.jp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445080" y="3929040"/>
            <a:ext cx="2698920" cy="247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69273e1aeba6.jp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6715080" y="1714680"/>
            <a:ext cx="2698920" cy="2469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69273e1aeba6.jp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5143680" y="0"/>
            <a:ext cx="2698560" cy="247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5794920" y="428760"/>
            <a:ext cx="21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96280" y="3214800"/>
            <a:ext cx="254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837840" y="2357280"/>
            <a:ext cx="229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97000" y="6429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7218000" y="450072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48.gifш.gif"/>
          <p:cNvPicPr/>
          <p:nvPr/>
        </p:nvPicPr>
        <p:blipFill>
          <a:blip r:embed="rId7"/>
          <a:stretch/>
        </p:blipFill>
        <p:spPr>
          <a:xfrm>
            <a:off x="142920" y="5572080"/>
            <a:ext cx="100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66273E-006 C 0.00104 0.02336 0.00156 0.02405 0.0059 0.04279 C 0.00746 0.04949 0.00798 0.05505 0.01076 0.06083 C 0.01111 0.06268 0.01111 0.06453 0.01163 0.06615 C 0.01215 0.06754 0.01337 0.06846 0.01371 0.06985 C 0.01562 0.07679 0.01527 0.08304 0.01857 0.08928 C 0.01962 0.09576 0.02257 0.10224 0.02534 0.10756 C 0.02639 0.11218 0.02708 0.11611 0.02916 0.12028 C 0.03055 0.12722 0.0309 0.13346 0.03507 0.13855 C 0.03646 0.14457 0.03941 0.14757 0.04184 0.15266 C 0.04305 0.15822 0.04357 0.1603 0.0467 0.16446 C 0.04774 0.16909 0.04878 0.17279 0.05156 0.17603 C 0.05347 0.18459 0.06198 0.19592 0.06614 0.20448 C 0.07152 0.21558 0.07743 0.22669 0.08264 0.23802 C 0.08333 0.23964 0.08368 0.24172 0.08455 0.24334 C 0.08941 0.25121 0.09757 0.2556 0.10295 0.26277 C 0.10434 0.26462 0.10503 0.26763 0.10677 0.26925 C 0.125 0.28729 0.10816 0.26578 0.11753 0.27827 C 0.11979 0.28614 0.12517 0.28799 0.13021 0.29238 C 0.1342 0.29585 0.1375 0.29955 0.14184 0.30279 C 0.14791 0.30719 0.15277 0.31274 0.1592 0.3169 C 0.16007 0.3176 0.16041 0.31898 0.16128 0.31968 C 0.16996 0.32546 0.16076 0.31667 0.16805 0.32222 C 0.17205 0.32523 0.17604 0.32916 0.17968 0.33263 C 0.18142 0.33425 0.19635 0.33957 0.19809 0.34026 C 0.20694 0.3435 0.21527 0.34905 0.2243 0.35183 C 0.2309 0.35669 0.24496 0.3634 0.25243 0.36478 C 0.25955 0.36895 0.26597 0.37034 0.27378 0.37126 C 0.35555 0.36964 0.31093 0.37566 0.3408 0.36478 C 0.346 0.36016 0.35764 0.35623 0.36406 0.35461 C 0.36927 0.35091 0.37552 0.35044 0.38055 0.34674 C 0.38472 0.3435 0.38889 0.33818 0.39323 0.33518 C 0.39982 0.33055 0.39566 0.33587 0.39809 0.33263 E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6715E-006 C -0.00312 0.0044 -0.00364 0.00717 -0.00486 0.01295 C -0.00399 0.03562 -0.00677 0.07379 0.00782 0.09322 C 0.01025 0.10271 0.00677 0.09253 0.01181 0.09831 C 0.01302 0.0997 0.01337 0.10224 0.01459 0.10363 C 0.01563 0.10502 0.01736 0.10502 0.01858 0.10618 C 0.02917 0.11566 0.02222 0.11288 0.03021 0.1152 C 0.03368 0.11982 0.03525 0.12144 0.03993 0.12306 C 0.04827 0.13162 0.06441 0.13602 0.07483 0.13856 C 0.08125 0.14018 0.08681 0.14458 0.09323 0.14619 C 0.10209 0.15244 0.11493 0.15082 0.12431 0.15152 C 0.15191 0.14966 0.17952 0.14874 0.20695 0.14619 C 0.2158 0.1455 0.22379 0.13856 0.23212 0.13602 C 0.2415 0.12908 0.25243 0.1263 0.26216 0.12052 C 0.26736 0.11728 0.27153 0.11219 0.27674 0.10872 C 0.28629 0.09276 0.29323 0.07634 0.3 0.05829 C 0.30365 0.03585 0.31198 0.01504 0.31563 -0.00763 C 0.31632 -0.0118 0.32084 -0.04117 0.32136 -0.04256 C 0.32396 -0.04881 0.32587 -0.05505 0.32726 -0.06199 C 0.32934 -0.07287 0.33177 -0.08582 0.33594 -0.09554 C 0.33854 -0.10872 0.3408 -0.12167 0.34479 -0.1344 C 0.34636 -0.14643 0.34844 -0.16031 0.35347 -0.17071 C 0.35452 -0.17974 0.3566 -0.18876 0.35834 -0.19778 C 0.35938 -0.20287 0.3632 -0.21212 0.3632 -0.21212 C 0.36459 -0.22207 0.36754 -0.23109 0.36997 -0.24057 C 0.36771 -0.24821 0.36893 -0.24289 0.36893 -0.25723 E">
                                      <p:cBhvr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19917E-006 C 0.00191 0.01203 0.00539 0.01966 0.00868 0.031 C 0.01198 0.04256 0.00695 0.02915 0.01077 0.04395 C 0.01164 0.04765 0.01354 0.05066 0.01459 0.05436 C 0.01736 0.06408 0.01806 0.07541 0.0224 0.0842 C 0.02361 0.09114 0.02361 0.09808 0.02518 0.10479 C 0.03212 0.18413 0.04688 0.27527 0.01841 0.34814 C 0.01441 0.37775 0.00174 0.40828 -0.01267 0.43072 C -0.01527 0.43951 -0.01909 0.44761 -0.0243 0.45408 C -0.02569 0.46033 -0.02847 0.46357 -0.03107 0.46843 C -0.03628 0.47814 -0.03767 0.48577 -0.04757 0.4904 C -0.05538 0.49803 -0.06215 0.50312 -0.07187 0.5059 C -0.08507 0.51723 -0.11527 0.51631 -0.12812 0.51747 C -0.1368 0.52117 -0.14566 0.52417 -0.15434 0.52787 C -0.15885 0.52973 -0.16336 0.53088 -0.16788 0.53296 C -0.17083 0.53435 -0.17673 0.5369 -0.17673 0.5369 C -0.19913 0.53042 -0.18975 0.53412 -0.23489 0.53296 C -0.25347 0.53158 -0.2717 0.52996 -0.29027 0.52903 C -0.296 0.52741 -0.30104 0.5251 -0.30677 0.52394 C -0.31232 0.51908 -0.32239 0.51747 -0.32916 0.51631 C -0.33889 0.50937 -0.32586 0.51793 -0.33889 0.51238 C -0.33993 0.51191 -0.34062 0.51029 -0.34166 0.50983 C -0.34878 0.50613 -0.35642 0.5059 -0.36302 0.50058 C -0.36823 0.49642 -0.37343 0.49318 -0.37864 0.48901 C -0.38055 0.48739 -0.38437 0.48392 -0.38437 0.48392 C -0.38559 0.47907 -0.38489 0.48115 -0.38646 0.47745 E"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1.82743E-007 C -0.00034 0.04789 0.00018 0.09554 -0.00103 0.14342 C -0.00103 0.14597 -0.00294 0.14759 -0.00381 0.1499 C -0.00919 0.16447 -0.01336 0.17835 -0.02048 0.19131 C -0.03419 0.21629 -0.04461 0.24359 -0.05919 0.26764 C -0.06388 0.27528 -0.06562 0.28383 -0.07083 0.29101 C -0.07673 0.31113 -0.09183 0.32709 -0.10676 0.33496 C -0.11232 0.34236 -0.12048 0.34328 -0.12725 0.34791 C -0.13767 0.35508 -0.14669 0.36272 -0.15833 0.36595 C -0.16562 0.37081 -0.17378 0.37197 -0.18159 0.37382 C -0.21336 0.37336 -0.24496 0.37359 -0.27673 0.37243 C -0.27794 0.37243 -0.27864 0.37058 -0.27968 0.36989 C -0.28506 0.36665 -0.29235 0.3641 -0.29808 0.36202 C -0.31614 0.35531 -0.33246 0.34652 -0.35138 0.34398 C -0.35798 0.34097 -0.36406 0.33773 -0.37083 0.33496 C -0.41371 0.33634 -0.40051 0.32501 -0.41458 0.34259 C -0.41597 0.34768 -0.41701 0.353 -0.4184 0.35832 C -0.41909 0.36086 -0.42048 0.36595 -0.42048 0.36595 C -0.42204 0.37983 -0.42048 0.37405 -0.42239 0.36989 C -0.42256 0.36966 -0.42291 0.36989 -0.42326 0.36989 E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74231E-006 C -0.00434 0.01781 -0.01684 0.02266 -0.02916 0.02845 C -0.03628 0.03192 -0.04305 0.03585 -0.05052 0.0377 C -0.05781 0.04256 -0.06354 0.04418 -0.07187 0.04533 C -0.07795 0.04765 -0.0842 0.04973 -0.09027 0.05181 C -0.09323 0.05274 -0.09913 0.05435 -0.09913 0.05435 C -0.11961 0.07309 -0.14896 0.05736 -0.17378 0.0569 C -0.18159 0.05389 -0.1783 0.05528 -0.1835 0.0532 C -0.18611 0.05227 -0.19132 0.05042 -0.19132 0.05042 C -0.1993 0.04348 -0.21024 0.04256 -0.21857 0.03631 C -0.22291 0.03307 -0.22552 0.02914 -0.23021 0.02729 C -0.23246 0.02266 -0.23472 0.0229 -0.23698 0.01827 C -0.23802 0.01341 -0.24062 0.00809 -0.24375 0.00531 C -0.24843 -0.00417 -0.24548 -0.00116 -0.25156 -0.00509 C -0.25399 -0.00856 -0.25642 -0.01134 -0.25833 -0.0155 C -0.26007 -0.02337 -0.26284 -0.03077 -0.2651 -0.03864 C -0.26475 -0.04696 -0.26493 -0.05529 -0.26406 -0.06339 C -0.26354 -0.06848 -0.26128 -0.0731 -0.26128 -0.07889 E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900000" y="1305000"/>
            <a:ext cx="69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– это _____________________, которая обозначает _________________ и отвечает на вопросы: _______,_________. Бывают одушевленные  и ____________, собственные  и ________________.Существительные имеют ________, ____________________. Изменяется по __________ и ___________.  В предложении являются  _____________ и 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213660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– это часть речи, которая обозначает предмет и отвечает на вопросы: кто? что?  Бывают одушевленные  и неодушевлённые имена существительные, собственные и  нарицательные. Сущ-ые имеют род и склонение. Изменяется по числам и падежам.  В предложении являются подлежащим и второстепенным член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042920" y="241308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ределить падеж существительного, на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найти слово, к которому относится имя существительное, и     поставить  от него вопр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о вопросу и предлогу определить падеж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00000" y="282888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ла снегом  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ь снегов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ться по гор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сь на лыжах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4000" y="3105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я - сущ.,нариц., одуш., ед.ч., м.р., Р.п.,2 ск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6:28:57Z</dcterms:created>
  <dc:creator>РУСТЕМКА</dc:creator>
  <dc:description/>
  <dc:language>en-US</dc:language>
  <cp:lastModifiedBy>1</cp:lastModifiedBy>
  <dcterms:modified xsi:type="dcterms:W3CDTF">2015-12-05T09:30:03Z</dcterms:modified>
  <cp:revision>120</cp:revision>
  <dc:subject/>
  <dc:title>Слайд 1</dc:title>
</cp:coreProperties>
</file>