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AEB-F806-4461-9671-DE0F2A15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D14-0542-47D7-9F52-D8C09910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B3B-5D84-4E7B-B27F-E76D3936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4C0-F04D-4822-ACF0-F79FBFA5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098C-C6FE-4564-ADAF-88F9A94C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A6DD-8A6E-430C-91DC-72E550B5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33D3-3F9C-4676-9B58-D710908E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D53D-69B8-4CB9-BC6F-62BE93A0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84F1-48AE-4836-9CD0-A15A11FD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8D5A-818F-4683-B199-98DBE0ED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857A-C336-4EA3-ADF0-1DF6B27E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9CA-F181-4281-AED3-A1A6005D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DCD4-D5EB-49D5-9342-7E1A05B4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4F9A-6084-4C28-B3B3-74540A2C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1D47-ED5C-4667-90BE-0A250542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C6A8-1CA5-4618-B3FF-2EAE0F3A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2C18-2EBC-4B55-8940-D5BCA7BE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66D-66B6-4D03-8A2D-1952F99D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59D-30F1-427C-AF09-FE925C91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AA5-56F5-4106-AE1C-4C3E9699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541-6218-4494-BA29-52B05DEB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A70-1AD6-48B2-B716-1FBF10DA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7FD-1ADF-4893-8F2A-38810D51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ABE-1D75-4954-8A99-D1A23FE5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My Documents\bits\Expbanna.png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54A1-4BBA-4551-9272-83F81FB0C0E6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:\!Themes\Expedition\EXPHORSA.GIF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C:\My Documents\bits\Expbanna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D:\FRONTPAGE THEMES\EXPEDITN\EXPHORSA.PNG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P:\!Themes\Expedition\EXPHORSA.GIF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0107-7C0A-4995-BA4C-3DEDD6FFCCE0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066680" y="533520"/>
          <a:ext cx="7772400" cy="29448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294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ршенствование образовательной среды  для детей  с  ограниченны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ями здоровья в процессе интеграции образовани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127400" y="6122880"/>
          <a:ext cx="4988160" cy="735120"/>
        </p:xfrm>
        <a:graphic>
          <a:graphicData uri="http://schemas.openxmlformats.org/drawingml/2006/table">
            <a:tbl>
              <a:tblPr/>
              <a:tblGrid>
                <a:gridCol w="4988160"/>
              </a:tblGrid>
              <a:tr h="735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: Кондратьева.И.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1042920" y="260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2. Обеспечение готовности учащихся к усвоению знани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826920" y="1773360"/>
            <a:ext cx="831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 усвоения знаний также зависит и от готовности учащихся. Различают длительную готовность и временное состояние готовности. На временное состояние готовности влияет ряд факторов. Это состояние физической среды в кабинете (состав воздуха, посторонний шум), физическое состояние учащихся (утомление предыдущей деятельностью, состояние здоровья). Для этого - проветриваю кабинет, учитываю состояние здоровья учащихся, а также учитываю каким уроком стоит проводимый урок по расписанию. Для повышения уровня мотивации стараюсь вызвать интерес учащихся к содержанию объяс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042920" y="47628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. Эффективное построение объяс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826920" y="1773360"/>
            <a:ext cx="831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е место, занимает  построение сообщения учителем нового материала. Объяснение начинаю с сообщения цели теоретической части занятия. Например: «Сегодня я вам расскажу о видах зерновых культур и их свойствах». Вторую часть фразы повторяю в замедленном темпе и демонстрирую соответствующую запись темы на доске. Затем кратко указываю на необходимость усвоения таких знаний для практической работы, спрашиваю ребят: « Нужно ли нам изучать тему, пригодятся ли она вам в будущей самостоятельной жизни?» Таким образом, добиваюсь, чтобы учащиеся приняли цель, поставленную мною, т.е. совпадали цели учителя и ученика. После этого перехожу к сообщению содержания урока в форме объяснительной беседы с учащими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1476360" y="33336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4. Применение нагляд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684360" y="1628640"/>
            <a:ext cx="845964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 использования средств наглядности объясняется тем, что при чувственном восприятии образы изучаемого материала быстрее формируются и дольше сохраняются в памяти, чем создаваемые только на основе речевого сооб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боте с учащимися  использую демонстрацию объектов труда, изобразительную наглядность (плакаты, чертежи, рисунки на доске, иллюстрации учебников, фотографии, схематические изображения), а также применяю практический показ приёмов работы. Целенаправленное включение средств наглядности в структуру урока позволяет мне активизировать внимание учащихся, существенно улучшать их восприятие, понимание и запоминание учебного материа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116000" y="333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5.Применение эффективных методических приёмов концентрации внимания на учебной информ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684360" y="1844640"/>
            <a:ext cx="84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ым способом управления вниманием является и нестандартная форма подачи учебного материала. Для этого ввожу игровые ситуации в учебный процесс, нестандартную форму предъявления информации (например, тематические кроссворды, ребусы и.т.п). Форма выделения информации может быть самой разной: усиления голоса в нужном месте, запись важной составляющей на доске, подчёркивание в готовом тексте, показ наглядного объекта А также поддерживаю внимание учащихся постановкой проблемного вопроса или выдвижением проблемы перед началом изложения учебного материала, а затем вместе с учащимися делаю попытку её разрешения на занятии. Использую и приём, связанный с предложением учащимся высказать своё мн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1403280" y="260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6. Осуществление группового и дифференцированного способа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900000" y="177336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эффективного усвоения знаний в работе с учащимися осуществляю наряду с групповым дифференцированный способ обучения. В работе со слабыми учащимися многократно осуществляю показ практических приемов работы, сопровождая его подробным инструктажем; эффективно использую наглядность; при выполнении коррекционных упражнений на развитие восприятия, даю менее сложные задания, чем основной группе учащихся. В результате проводимой работы происходит развитие и коррекция восприятия и учащиеся способны  усваивать учебную информац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1763640" y="476280"/>
            <a:ext cx="509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7. Контроль за усвоением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900000" y="1916280"/>
            <a:ext cx="82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м организационным вопросом формирования знаний, является индивидуальный контроль и учёт формирования знаний. Сведения об усвоении знаний учащимися я получаю путём устных опросов при повторении материала, при анализе опросных листов, тестовых заданий.  Применение тестов в учебном процессе позволяет  определить уровень усвоения учащимися теоретического материала, выявить пробелы в их знаниях. Кроме того, процедура тестирования в некотором роде содержит элемент иг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752480" y="0"/>
          <a:ext cx="5334120" cy="51768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  работ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295280" y="633240"/>
          <a:ext cx="7010640" cy="6224760"/>
        </p:xfrm>
        <a:graphic>
          <a:graphicData uri="http://schemas.openxmlformats.org/drawingml/2006/table">
            <a:tbl>
              <a:tblPr/>
              <a:tblGrid>
                <a:gridCol w="7010640"/>
              </a:tblGrid>
              <a:tr h="62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ошлом году выпустила группу 9 кл. все сдали экзамен (на проектной основе),  все учатся в ПТУ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всех (почти),  сформирована правильная жизненная позиция, умение действовать в соответствии с обстановко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 готовы к индивидуальной трудовой деятельност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выпускников возросла ответственность, дисциплинированность, повысился самоконтроль при выполнении рабо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чив разные разделы программы \ овощеводство, растениеводство, животноводство, цветоводство\ учащиеся имеют выбор для самореализации по месту жительст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6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3"/>
          <p:cNvSpPr txBox="1"/>
          <p:nvPr/>
        </p:nvSpPr>
        <p:spPr>
          <a:xfrm>
            <a:off x="1295280" y="1676520"/>
            <a:ext cx="76201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5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Спасибо за внимани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258920" y="2565360"/>
            <a:ext cx="756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ю образовательного учебного стандарта специальной коррекционной школы является создание механизмов раскрытия способностей каждого ученика, воспитания порядочного и патриотичного человека, личности, готовой к жизни в высокотехнологичном, конкурентном мире. По окончанию обучения выпускники должны уметь решать задачи не укладывающиеся в рамки стереотипных решений, где знания служат главным регулятором самостоятельной трудовой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716040" y="0"/>
            <a:ext cx="25905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666880" y="2666880"/>
          <a:ext cx="4876920" cy="103032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навы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знеобесп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762120" y="304920"/>
          <a:ext cx="2743200" cy="190476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ческая 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ов с\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733920" y="380880"/>
          <a:ext cx="2514600" cy="182880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цио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я    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400800" y="380880"/>
          <a:ext cx="2514600" cy="160020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ендар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762120" y="4114800"/>
          <a:ext cx="3809880" cy="27432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о- ориентированный подход \ формирование устойчивой мотивации\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 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ник- 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 ученик- р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562720" y="4114800"/>
          <a:ext cx="3429000" cy="20574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ая 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тическое проведение практических рабо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 технологических кар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98" name="Line 61"/>
          <p:cNvSpPr/>
          <p:nvPr/>
        </p:nvSpPr>
        <p:spPr>
          <a:xfrm flipH="1" flipV="1">
            <a:off x="2742840" y="205704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2"/>
          <p:cNvSpPr/>
          <p:nvPr/>
        </p:nvSpPr>
        <p:spPr>
          <a:xfrm flipV="1">
            <a:off x="5029200" y="2057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63"/>
          <p:cNvSpPr/>
          <p:nvPr/>
        </p:nvSpPr>
        <p:spPr>
          <a:xfrm flipV="1">
            <a:off x="6858000" y="198072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4"/>
          <p:cNvSpPr/>
          <p:nvPr/>
        </p:nvSpPr>
        <p:spPr>
          <a:xfrm flipH="1">
            <a:off x="2895480" y="34290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6"/>
          <p:cNvSpPr/>
          <p:nvPr/>
        </p:nvSpPr>
        <p:spPr>
          <a:xfrm>
            <a:off x="6705720" y="365760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523880" y="457200"/>
          <a:ext cx="7239240" cy="1676520"/>
        </p:xfrm>
        <a:graphic>
          <a:graphicData uri="http://schemas.openxmlformats.org/drawingml/2006/table">
            <a:tbl>
              <a:tblPr/>
              <a:tblGrid>
                <a:gridCol w="723924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 и  приемы  используемые  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ах  с\х  труда для  формир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ыков  жизнеобеспеч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43000" y="2514600"/>
          <a:ext cx="2057400" cy="22096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сны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рук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ку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581280" y="2514600"/>
          <a:ext cx="2667240" cy="3309840"/>
        </p:xfrm>
        <a:graphic>
          <a:graphicData uri="http://schemas.openxmlformats.org/drawingml/2006/table">
            <a:tbl>
              <a:tblPr/>
              <a:tblGrid>
                <a:gridCol w="2667240"/>
              </a:tblGrid>
              <a:tr h="332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глядны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 технологичес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ы, сх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ка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уральные образцы семян, пл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553080" y="2514600"/>
          <a:ext cx="2590920" cy="28717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288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способа дей-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е практической работы 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07" name="Line 34"/>
          <p:cNvSpPr/>
          <p:nvPr/>
        </p:nvSpPr>
        <p:spPr>
          <a:xfrm flipH="1">
            <a:off x="2362320" y="20574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5"/>
          <p:cNvSpPr/>
          <p:nvPr/>
        </p:nvSpPr>
        <p:spPr>
          <a:xfrm>
            <a:off x="502920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7391520" y="19810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2" descr=""/>
          <p:cNvPicPr/>
          <p:nvPr/>
        </p:nvPicPr>
        <p:blipFill>
          <a:blip r:embed="rId10"/>
          <a:stretch/>
        </p:blipFill>
        <p:spPr>
          <a:xfrm>
            <a:off x="228600" y="4267080"/>
            <a:ext cx="2398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523880" y="533520"/>
          <a:ext cx="7239240" cy="1066680"/>
        </p:xfrm>
        <a:graphic>
          <a:graphicData uri="http://schemas.openxmlformats.org/drawingml/2006/table">
            <a:tbl>
              <a:tblPr/>
              <a:tblGrid>
                <a:gridCol w="7239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коррекционных задач 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ах с\х труда   \ направления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371600" y="2133720"/>
          <a:ext cx="3200400" cy="29923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0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ственно- отсталы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ик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876920" y="2133720"/>
          <a:ext cx="3504960" cy="3809880"/>
        </p:xfrm>
        <a:graphic>
          <a:graphicData uri="http://schemas.openxmlformats.org/drawingml/2006/table">
            <a:tbl>
              <a:tblPr/>
              <a:tblGrid>
                <a:gridCol w="3504960"/>
              </a:tblGrid>
              <a:tr h="382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общетрудовых навык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текстом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ова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ое выполнение зад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за своими действи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14" name="Line 23"/>
          <p:cNvSpPr/>
          <p:nvPr/>
        </p:nvSpPr>
        <p:spPr>
          <a:xfrm flipH="1">
            <a:off x="2819160" y="160020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77120" y="16002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4" descr="C:\Program Files\Common Files\Microsoft Shared\Clipart\cagcat50\NA01441_.wmf"/>
          <p:cNvPicPr/>
          <p:nvPr/>
        </p:nvPicPr>
        <p:blipFill>
          <a:blip r:embed="rId5"/>
          <a:stretch/>
        </p:blipFill>
        <p:spPr>
          <a:xfrm>
            <a:off x="0" y="4267080"/>
            <a:ext cx="209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47920" y="228600"/>
          <a:ext cx="7391160" cy="154476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15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ая  направленн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18" name="AutoShape 33"/>
          <p:cNvSpPr/>
          <p:nvPr/>
        </p:nvSpPr>
        <p:spPr>
          <a:xfrm>
            <a:off x="4140360" y="2457360"/>
            <a:ext cx="1511280" cy="1428840"/>
          </a:xfrm>
          <a:prstGeom prst="downArrowCallout">
            <a:avLst>
              <a:gd name="adj1" fmla="val 214878"/>
              <a:gd name="adj2" fmla="val 206938"/>
              <a:gd name="adj3" fmla="val 16667"/>
              <a:gd name="adj4" fmla="val 66667"/>
            </a:avLst>
          </a:prstGeom>
          <a:solidFill>
            <a:srgbClr val="d69b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00200" y="4581360"/>
          <a:ext cx="7010280" cy="158436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58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ормировать навыки  самостоятельной   работ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20" name="Line 43"/>
          <p:cNvSpPr/>
          <p:nvPr/>
        </p:nvSpPr>
        <p:spPr>
          <a:xfrm>
            <a:off x="49528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4"/>
          <p:cNvSpPr/>
          <p:nvPr/>
        </p:nvSpPr>
        <p:spPr>
          <a:xfrm>
            <a:off x="49528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900000" y="2492280"/>
            <a:ext cx="80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й из причин по которой учащиеся с ограниченными возможностями здоровья испытывают трудности при усвоении технико-технологических знаний, необходимых им в самостоятельной практической жизни в социуме, является недостаточная организация восприятия на уроке сельхоз.труд, поэтому целью своей работы  поставила совершенствование организации восприятия учебной информации на уроках трудового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900000" y="476280"/>
            <a:ext cx="59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ей работе я использую способы повышения качества восприятия учебной информации на уроках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755640" y="1844640"/>
            <a:ext cx="799308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Актуализацию опорных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Обеспечение готовности учащихся к усвоению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Эффективное построение объяс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рименение нагляд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Применение эффективных методических приёмов концентрации внимания на учебной информ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Осуществление группового и дифференцированного способа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Контроль за усвоением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534000" y="0"/>
            <a:ext cx="2590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1042920" y="2492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е знания формируются, связываясь с ранее усвоенными. Считаю важным этапом урока, этап актуализации опорных знаний и навыков, так как при отсутствии этих опорных знаний учащиеся не имеют возможности осуществить нужную связь. В результате соответствующая часть сообщения учителя не усваивается или воспринимается не правильно. На этапе актуализации я провожу не только фронтальный срез по типу Что? Где? Когда? но и краткие письменные опросы, тестирование для определения опорных знаний каждого учащего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1403280" y="33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1. Актуализацию опорных знан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12:33Z</dcterms:created>
  <dc:creator>Сергей</dc:creator>
  <dc:description/>
  <dc:language>en-US</dc:language>
  <cp:lastModifiedBy>Silver</cp:lastModifiedBy>
  <dcterms:modified xsi:type="dcterms:W3CDTF">2015-02-03T17:03:52Z</dcterms:modified>
  <cp:revision>28</cp:revision>
  <dc:subject/>
  <dc:title>Презентация PowerPoint</dc:title>
</cp:coreProperties>
</file>