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82E-74B4-4E67-B454-E8EDC111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BC4-F7A1-43DC-A880-35012CA3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50A-A977-43D8-9D4F-A0544B71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C71-5DE4-490B-B592-676F0575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86F-8B93-4637-8627-E4271DB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45C-E048-42DE-A2C2-FB10B63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B01-1DBA-4A12-B120-663E409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B60-DAE7-4BD0-8479-495F291D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B8A-80DA-44CB-847C-9528844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7FB-9BF0-48D3-847B-6312DAF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C20-52B2-4D0B-91F5-806F4E8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500-5636-436B-A1E7-E87734F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B96A-A9C2-4580-A9C1-9352C7E06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ngl2006.narod.ru/Contents/Hsitory/History-kart/OI/Pictures/021.jpg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&amp;Vcy;&amp;icy;&amp;dcy; &amp;zcy;&amp;acy;&amp;vcy;&amp;icy;&amp;scy;&amp;icy;&amp;mcy;&amp;ocy;&amp;scy;&amp;tcy;&amp;icy; - &amp;Kcy;&amp;acy;&amp;rcy;&amp;tcy;&amp;icy;&amp;ncy;&amp;kcy;&amp;acy; 15082/77"/>
          <p:cNvPicPr/>
          <p:nvPr/>
        </p:nvPicPr>
        <p:blipFill>
          <a:blip r:embed="rId1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1" descr="&amp;Rcy;&amp;Ucy;&amp;Scy;&amp;SOFTcy; &amp;Icy; &amp;Mcy;&amp;Ocy;&amp;Ncy;&amp;Gcy;&amp;Ocy;&amp;Lcy;&amp;Ocy;-&amp;Tcy;&amp;Acy;&amp;Tcy;&amp;Acy;&amp;Rcy;&amp;Ycy; &amp;Vcy; &amp;Bcy;&amp;Icy;&amp;Tcy;&amp;Vcy;&amp;IEcy; &amp;Zcy;&amp;Acy; &amp;IEcy;&amp;Vcy;&amp;Rcy;&amp;Acy;&amp;Zcy;&amp;Icy;&amp;YUcy; &amp;Vcy;&amp;IEcy;&amp;Lcy;&amp;Icy;&amp;Kcy;&amp;Icy;&amp;IEcy; &amp;Vcy;&amp;Ocy;&amp;Icy;&amp;Tcy;&amp;IEcy;&amp;Lcy;&amp;Icy; &amp;Ecy;&amp;Pcy;&amp;Ocy;&amp;KHcy;&amp;Icy; - &amp;CHcy;&amp;Icy;&amp;Ncy;&amp;Gcy;&amp;Icy;&amp;Scy;&amp;KHcy;&amp;Acy;&amp;Ncy;, &amp;Bcy;&amp;Acy;&amp;Tcy;&amp;Ycy;&amp;Jcy;, &amp;Tcy;&amp;Acy;&amp;Mcy;&amp;IEcy;&amp;Rcy;&amp;Lcy;&amp;Acy;&amp;Ncy;, &amp;Dcy;&amp;Mcy;&amp;Icy;&amp;Tcy;&amp;Rcy;&amp;Icy;&amp;Jcy; &amp;Dcy;&amp;Ocy;&amp;Ncy;&amp;Scy;&amp;Kcy;&amp;Ocy;&amp;Jcy; / &amp;Rcy;&amp;ucy;&amp;scy;&amp;softcy; &amp;mcy;&amp;iecy;&amp;zhcy;&amp;dcy;&amp;ucy; &amp;YUcy;&amp;gcy;&amp;ocy;&amp;mcy;,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765000"/>
          <a:ext cx="8137440" cy="5545440"/>
        </p:xfrm>
        <a:graphic>
          <a:graphicData uri="http://schemas.openxmlformats.org/drawingml/2006/table">
            <a:tbl>
              <a:tblPr/>
              <a:tblGrid>
                <a:gridCol w="3468600"/>
                <a:gridCol w="4668840"/>
              </a:tblGrid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ус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нголо-тат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ное за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мледел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отоводство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и, ка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23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умы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3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3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а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н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71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голо - тат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4" descr="&amp;IEcy;&amp;dcy;&amp;icy;&amp;ncy;&amp;acy;&amp;yacy; &amp;Rcy;&amp;ucy;&amp;scy;&amp;softcy; &amp;ncy;&amp;acy; &amp;mcy;&amp;ocy;&amp;mcy;&amp;iecy;&amp;ncy;&amp;tcy; &amp;ncy;&amp;acy;&amp;shcy;&amp;iecy;&amp;scy;&amp;tcy;&amp;vcy;&amp;icy;&amp;yacy; &amp;mcy;&amp;ocy;&amp;ncy;&amp;gcy;&amp;ocy;&amp;lcy; Politiko"/>
          <p:cNvPicPr/>
          <p:nvPr/>
        </p:nvPicPr>
        <p:blipFill>
          <a:blip r:embed="rId1"/>
          <a:stretch/>
        </p:blipFill>
        <p:spPr>
          <a:xfrm>
            <a:off x="826920" y="1125360"/>
            <a:ext cx="79218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5" descr="&amp;Icy;&amp;scy;&amp;tcy;&amp;ocy;&amp;rcy;&amp;icy;&amp;yacy; &amp;mcy;&amp;ocy;&amp;ncy;&amp;gcy;&amp;ocy;&amp;lcy;&amp;ocy;-&amp;tcy;&amp;acy;&amp;tcy;&amp;acy;&amp;rcy; - &amp;Pcy;&amp;rcy;&amp;iecy;&amp;zcy;&amp;iecy;&amp;ncy;&amp;tcy;&amp;acy;&amp;tscy;&amp;icy;&amp;yacy; 1085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9" descr="&amp;Mcy;&amp;ocy;&amp;ncy;&amp;gcy;&amp;ocy;&amp;lcy;&amp;ocy;-&amp;tcy;&amp;acy;&amp;tcy;&amp;acy;&amp;rcy;&amp;scy;&amp;kcy;&amp;ocy;&amp;iecy; &amp;ncy;&amp;acy;&amp;shcy;&amp;iecy;&amp;scy;&amp;tcy;&amp;vcy;&amp;icy;&amp;iecy; &amp;ncy;&amp;acy; &amp;Rcy;&amp;ucy;&amp;scy;&amp;softcy;. &amp;Vcy; &amp;ocy;&amp;chcy;&amp;iecy;&amp;rcy;&amp;iecy;&amp;dcy;&amp;ncy;&amp;ocy;&amp;mcy; &amp;vcy;&amp;ycy;&amp;pcy;&amp;ucy;&amp;scy;&amp;kcy;&amp;iecy; &amp;pcy;&amp;rcy;&amp;ocy;…"/>
          <p:cNvPicPr/>
          <p:nvPr/>
        </p:nvPicPr>
        <p:blipFill>
          <a:blip r:embed="rId1"/>
          <a:stretch/>
        </p:blipFill>
        <p:spPr>
          <a:xfrm>
            <a:off x="1763640" y="2060640"/>
            <a:ext cx="5937480" cy="3565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н Чингисх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&amp;Vcy;&amp;ocy;&amp;icy;&amp;ncy;&amp;ycy; &amp;CHcy;&amp;icy;&amp;ncy;&amp;gcy;&amp;icy;&amp;scy;&amp;khcy;&amp;acy;&amp;ncy;&amp;acy; - &amp;Kcy;&amp;acy;&amp;rcy;&amp;tcy;&amp;icy;&amp;ncy;&amp;kcy;&amp;acy; 15085/17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&amp;Kcy;&amp;acy;&amp;kcy; &amp;Bcy;&amp;acy;&amp;tcy;&amp;ycy;&amp;jcy; &amp;zcy;&amp;acy;&amp;khcy;&amp;vcy;&amp;acy;&amp;tcy;&amp;icy;&amp;lcy; &amp;Kcy;&amp;icy;&amp;iecy;&amp;vcy;: &amp;mcy;&amp;icy;&amp;fcy;&amp;ycy; &amp;ocy; &amp;mcy;&amp;ocy;&amp;ncy;&amp;gcy;&amp;ocy;&amp;lcy;&amp;ocy;-&amp;tcy;&amp;acy;&amp;tcy;&amp;acy;&amp;rcy;&amp;acy;&amp;khcy;. &amp;Mcy;&amp;ocy;&amp;bcy;&amp;icy;&amp;lcy;&amp;softcy;&amp;ncy;&amp;acy;&amp;yacy; &amp;vcy;&amp;iecy;&amp;rcy;&amp;scy;&amp;icy;&amp;yacy; - m.tochka.net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6" descr="&amp;Ncy;&amp;acy;&amp;shcy;&amp;iecy;&amp;scy;&amp;tcy;&amp;vcy;&amp;icy;&amp;iecy; &amp;mcy;&amp;ocy;&amp;ncy;&amp;gcy;&amp;ocy;&amp;lcy;&amp;ocy;-&amp;tcy;&amp;acy;&amp;tcy;&amp;acy;&amp;rcy; &amp;ncy;&amp;acy; &amp;Rcy;&amp;ucy;&amp;scy;&amp;softcy; - &amp;Kcy;&amp;acy;&amp;rcy;&amp;tcy;&amp;icy;&amp;ncy;&amp;kcy;&amp;acy; 15082/2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9569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2" descr="&amp;Vcy;&amp;lcy;&amp;icy;&amp;yacy;&amp;ncy;&amp;icy;&amp;iecy; &amp;mcy;&amp;ocy;&amp;ncy;&amp;gcy;&amp;ocy;&amp;lcy;&amp;ocy; &amp;tcy;&amp;acy;&amp;tcy;&amp;acy;&amp;rcy; &amp;ncy;&amp;acy; &amp;rcy;&amp;ucy;&amp;scy;&amp;softcy; &quot; &amp;Dcy;&amp;iecy;&amp;tcy;&amp;scy;&amp;kcy;&amp;icy;&amp;jcy; &amp;Ecy;&amp;kcy;&amp;ocy;&amp;lcy;&amp;ocy;&amp;gcy;&amp;icy;&amp;chcy;&amp;iecy;&amp;scy;&amp;kcy;&amp;icy;&amp;jcy; &amp;TScy;&amp;iecy;&amp;ncy;&amp;tcy;&amp;rcy; &amp;Mcy;&amp;ocy;&amp;ncy;&amp;chcy;&amp;iecy;&amp;gcy;&amp;ocy;&amp;rcy;&amp;scy;&amp;k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3" descr="&amp;Mcy;&amp;Ocy;&amp;Ncy;&amp;Gcy;&amp;Ocy;&amp;Lcy;&amp;Ocy;-&amp;Tcy;&amp;Acy;&amp;Tcy;&amp;Acy;&amp;Rcy;&amp;Scy;&amp;Kcy;&amp;Ocy;&amp;IEcy; &amp;Icy;&amp;Gcy;&amp;Ocy; &amp;Vcy; &amp;TScy;&amp;Icy;&amp;Fcy;&amp;Rcy;&amp;Acy;&amp;KHcy; - &amp;Kcy;&amp;ocy;&amp;ncy;&amp;scy;&amp;pcy;&amp;icy;&amp;rcy;&amp;ocy;&amp;lcy;&amp;ocy;&amp;gcy;&amp;icy;&amp;chcy;&amp;iecy;&amp;scy;&amp;kcy;&amp;icy;&amp;jcy; &amp;Dcy;&amp;acy;&amp;jcy;&amp;dcy;&amp;zhcy;&amp;iecy;&amp;scy;&amp;t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4:31:30Z</dcterms:created>
  <dc:creator>User</dc:creator>
  <dc:description/>
  <dc:language>en-US</dc:language>
  <cp:lastModifiedBy>User</cp:lastModifiedBy>
  <dcterms:modified xsi:type="dcterms:W3CDTF">2015-03-01T12:37:55Z</dcterms:modified>
  <cp:revision>26</cp:revision>
  <dc:subject/>
  <dc:title>Слайд 1</dc:title>
</cp:coreProperties>
</file>