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11.png" ContentType="image/png"/>
  <Override PartName="/ppt/media/image19.jpeg" ContentType="image/jpeg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9.jpeg" ContentType="image/jpeg"/>
  <Override PartName="/ppt/media/image26.gif" ContentType="image/gif"/>
  <Override PartName="/ppt/media/image24.gif" ContentType="image/gif"/>
  <Override PartName="/ppt/media/image16.jpeg" ContentType="image/jpeg"/>
  <Override PartName="/ppt/media/image23.jpeg" ContentType="image/jpeg"/>
  <Override PartName="/ppt/media/image15.gif" ContentType="image/gif"/>
  <Override PartName="/ppt/media/image14.gif" ContentType="image/gif"/>
  <Override PartName="/ppt/media/image17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B37-43FF-4581-BCE9-2166A4E7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FA6-6AA7-48BC-B73D-DB24FDB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D41-6EAD-49B8-AEB6-6614DE89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A90-4934-46A3-B395-D975E2DC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DE3-EAD7-42FC-9AC8-6C2D0BDF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6A8-FBC0-48BA-AE7D-259CA82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6AB-CECC-4D2C-A4C0-982ACA48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3857-021B-4DBE-8D2D-2E72E8C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286-A25E-4F04-979A-B890C085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482F-9E22-4421-AF8C-ABD1688A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EC33-2585-4410-8033-C938C23B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B1F-176D-4590-84A0-D225F4A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1F1-FE43-4628-BFCD-22FADE2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3748-A405-4D67-8044-DB0E615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F13B-8FA4-49D4-BB4D-9938D92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8FA-EAA3-489C-A522-1CDDCC93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DEF4-52FE-4883-B370-5580D0EE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B30F-FFB0-4281-869E-F06DF620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4221-18DD-40BA-B110-218F11A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56F1-C225-4D7A-AC00-0CDC675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482D-807C-4D0A-8013-1DCF26A8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FF10-D573-486A-BF28-C23D489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A52-A495-4332-8BCD-C7CA5A2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33F6-5900-4C38-98D1-E5C4AEE6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6BCF-8E19-421F-AE05-7CCD463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DE50-18CB-4B23-A415-B7153AE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6589-A9BF-46EC-8857-B08B7A6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29D8-DA6C-4EE1-BEDB-82C7EC41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2034-836C-4C2F-9D23-3A3265B9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F295-1301-404B-AB2E-6E8D8E80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B2DD-2957-4D08-B1A9-1395C6E1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B56EE-A3EF-4EA8-BB5B-6AB6E3A4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1F77-FD6B-4D9E-8271-09D4B94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2DB-FA25-468B-8CB5-9EDE67BC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629F-B4BA-4FDF-8B0A-0E18409D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526E-7294-4805-A73E-C0D5DD8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2735-2635-4A13-AC6B-948EEE69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B121-A554-4F0A-BC98-1B8008F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FDF5-8340-417C-9FBB-F1E2728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B06E-2633-441C-9D30-80F57DE0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726F-26D9-40CF-849E-54F4527F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8654-6F9B-4CC1-88CF-B45F8037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2DEA-003D-4F96-9847-8A0908B8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9C2AD-5DAC-4B49-89A0-64161BE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DA6-5ADB-41BE-B47F-04A40E62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9274-1180-4EF2-A1B9-8243AEA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1426-0F8D-42AF-8B03-638D213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53F3-A14E-45FF-B1D0-FD844D2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BD9E-5FEA-4110-8F11-E00A458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EBDF-F1C7-43C5-948D-595F760B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CCAF-31D7-41F3-9AA4-02ED56FB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088E-66ED-46B0-B32C-67BB71FD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CAF8-B09F-4402-9CC3-33E40727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DE35-9F16-41F7-AAF4-4ED14C0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4FD0-CA3A-405E-9D0A-87E04D38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181-599E-4951-B8F9-40641FF1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DC14-EEB7-45A4-90FC-78C85871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2CE1-8A81-4C2B-BA43-49B6FF52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EBDE-14EE-45FA-B310-143A680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F507-DE7B-4FBD-9F3C-2CC289F7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18E9-AB6F-4957-A79F-62A7B5A4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F9C2-1985-47CE-BF37-5033678C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FA2D-997B-4AA9-BCDB-7BFFA95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1A70A-8E0E-4244-948C-0DFFCBA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B1FA-AFDB-46E3-8B60-0343990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BA9D3-A760-46C4-83CC-B4C81593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F78-7E67-45C6-8267-8E20841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6D0F-BDEF-40F7-89F9-9BB29E5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5F9F-DE86-4E68-BD69-27180D49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B2C4-7963-4192-A953-3610592C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655-ABA6-41B0-A595-F04CC31D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802-9AA5-406B-9CE8-CCF56EE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C9C2-699A-412E-B25A-A00BBD6586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C121-36A9-483F-BE12-741991F0D6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A8FF-089D-421D-9105-CEDC1DF0B1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AF9-43A9-4C08-AD35-8049C92CA7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DCD2-C1FC-459C-B7FE-94902BDEA7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1116-21ED-4CE9-A20A-D5EEF550CD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2;&#1080;&#1088;%20&#1080;&#1085;&#1092;&#1086;&#1088;&#1084;&#1072;&#1090;&#1080;&#1082;&#1080;.ppt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34.xm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837720"/>
            <a:ext cx="7848720" cy="238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lvl="1" marL="4572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игр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итаемый остров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10" descr="kr2.gif"/>
          <p:cNvPicPr/>
          <p:nvPr/>
        </p:nvPicPr>
        <p:blipFill>
          <a:blip r:embed="rId1"/>
          <a:stretch/>
        </p:blipFill>
        <p:spPr>
          <a:xfrm>
            <a:off x="3486240" y="3290760"/>
            <a:ext cx="2209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485640"/>
            <a:ext cx="8096400" cy="61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590400" y="1333440"/>
            <a:ext cx="79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Булавка, ножницы, утю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0" descr="j0283740"/>
          <p:cNvPicPr/>
          <p:nvPr/>
        </p:nvPicPr>
        <p:blipFill>
          <a:blip r:embed="rId2"/>
          <a:stretch/>
        </p:blipFill>
        <p:spPr>
          <a:xfrm flipH="1">
            <a:off x="577800" y="628560"/>
            <a:ext cx="11923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33520" y="571320"/>
            <a:ext cx="8115120" cy="780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0000"/>
          </a:bodyPr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безопасности при работе с нож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0040" indent="-320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7696080" y="59436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571680" y="1836720"/>
            <a:ext cx="788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2120" y="71388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22000"/>
          </a:bodyPr>
          <a:p>
            <a:pPr marL="57960" indent="-57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 передают ручкой вперё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столе лежит с правой стороны остриём ввер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ранят в сухом, опредёленном мес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960" indent="-57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09120" y="549000"/>
            <a:ext cx="8077320" cy="487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ь плодовые овощные раст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753320" y="600084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:\06493.gif"/>
          <p:cNvPicPr/>
          <p:nvPr/>
        </p:nvPicPr>
        <p:blipFill>
          <a:blip r:embed="rId2"/>
          <a:stretch/>
        </p:blipFill>
        <p:spPr>
          <a:xfrm>
            <a:off x="5924520" y="3581280"/>
            <a:ext cx="19335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33520" y="404640"/>
            <a:ext cx="8153280" cy="4205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Помидор, огурец, кабачок, тыква, перец, баклажан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33520" y="704520"/>
            <a:ext cx="8324640" cy="45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ь луковичные овощные раст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7791480" y="59245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52240" y="259920"/>
            <a:ext cx="8134200" cy="3606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Чеснок, лу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E:\an5.gif"/>
          <p:cNvPicPr/>
          <p:nvPr/>
        </p:nvPicPr>
        <p:blipFill>
          <a:blip r:embed="rId2"/>
          <a:stretch/>
        </p:blipFill>
        <p:spPr>
          <a:xfrm>
            <a:off x="833400" y="3822840"/>
            <a:ext cx="175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6480" y="41112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3560" y="2131920"/>
            <a:ext cx="8226720" cy="3640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 этот овощ говорят, что он витамин  рост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39200" y="5924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E:\s25491.jpg"/>
          <p:cNvPicPr/>
          <p:nvPr/>
        </p:nvPicPr>
        <p:blipFill>
          <a:blip r:embed="rId2"/>
          <a:stretch/>
        </p:blipFill>
        <p:spPr>
          <a:xfrm>
            <a:off x="652320" y="609480"/>
            <a:ext cx="10051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2360" y="620280"/>
            <a:ext cx="818352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5400" y="2170080"/>
            <a:ext cx="8226360" cy="147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0d0"/>
                </a:solidFill>
                <a:latin typeface="Verdana"/>
              </a:rPr>
              <a:t>Морковь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E:\Photo 274.gif"/>
          <p:cNvPicPr/>
          <p:nvPr/>
        </p:nvPicPr>
        <p:blipFill>
          <a:blip r:embed="rId2"/>
          <a:stretch/>
        </p:blipFill>
        <p:spPr>
          <a:xfrm>
            <a:off x="2228760" y="3828960"/>
            <a:ext cx="1805040" cy="1776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E:\Photo 274.gif"/>
          <p:cNvPicPr/>
          <p:nvPr/>
        </p:nvPicPr>
        <p:blipFill>
          <a:blip r:embed="rId3"/>
          <a:stretch/>
        </p:blipFill>
        <p:spPr>
          <a:xfrm>
            <a:off x="5010120" y="3798720"/>
            <a:ext cx="17146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14080" y="933120"/>
            <a:ext cx="817236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числите продукты переработки моло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715160" y="59817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320" y="533160"/>
            <a:ext cx="8226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атегори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47640" y="1403280"/>
          <a:ext cx="7888320" cy="3619440"/>
        </p:xfrm>
        <a:graphic>
          <a:graphicData uri="http://schemas.openxmlformats.org/drawingml/2006/table">
            <a:tbl>
              <a:tblPr/>
              <a:tblGrid>
                <a:gridCol w="4076640"/>
                <a:gridCol w="762120"/>
                <a:gridCol w="781200"/>
                <a:gridCol w="799920"/>
                <a:gridCol w="704880"/>
                <a:gridCol w="763560"/>
              </a:tblGrid>
              <a:tr h="6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авил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доровое пи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b9f2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0d0"/>
                          </a:solidFill>
                          <a:latin typeface="Times New Roman"/>
                          <a:ea typeface="Times New Roman"/>
                        </a:rPr>
                        <a:t>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Жили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761760"/>
            <a:ext cx="8153280" cy="536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Сметана, творог, сыворотка, йогурт, ряженка, снеж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52240" y="533520"/>
            <a:ext cx="8134200" cy="506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Выберите полезные продукт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ока-кола, чупа-чупс, молоко, яблоко, чипсы, морковь, кириешки, творог, мяс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58280" y="59626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14080" y="723600"/>
            <a:ext cx="8172360" cy="476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Молоко, яблоко, морковь, творог, мясо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571680" y="304920"/>
            <a:ext cx="811512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е растение может служить зонтик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77000" y="59817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думай"/>
          <p:cNvPicPr/>
          <p:nvPr/>
        </p:nvPicPr>
        <p:blipFill>
          <a:blip r:embed="rId2"/>
          <a:stretch/>
        </p:blipFill>
        <p:spPr>
          <a:xfrm>
            <a:off x="3989520" y="3154320"/>
            <a:ext cx="180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75920" y="404280"/>
            <a:ext cx="821052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Лопу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E:\1.jpg"/>
          <p:cNvPicPr/>
          <p:nvPr/>
        </p:nvPicPr>
        <p:blipFill>
          <a:blip r:embed="rId2"/>
          <a:stretch/>
        </p:blipFill>
        <p:spPr>
          <a:xfrm>
            <a:off x="4095720" y="4210200"/>
            <a:ext cx="13874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95360" y="333360"/>
            <a:ext cx="8191440" cy="4486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ль одежды, которую мы одеваем для работы в огороде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620120" y="600084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28560" y="666720"/>
            <a:ext cx="8096400" cy="78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48000"/>
          </a:bodyPr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боч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27080" indent="-127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95360" y="404280"/>
            <a:ext cx="819144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цветок овоща корнеплода, служил украшением придворных дам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620120" y="59817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deti2"/>
          <p:cNvPicPr/>
          <p:nvPr/>
        </p:nvPicPr>
        <p:blipFill>
          <a:blip r:embed="rId2"/>
          <a:stretch/>
        </p:blipFill>
        <p:spPr>
          <a:xfrm>
            <a:off x="3340080" y="3475080"/>
            <a:ext cx="270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75920" y="692280"/>
            <a:ext cx="8210520" cy="38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артоф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E:\Лариса\Мои документы\Анимашки\Анимация\an1_stopkaknig.gif"/>
          <p:cNvPicPr/>
          <p:nvPr/>
        </p:nvPicPr>
        <p:blipFill>
          <a:blip r:embed="rId2"/>
          <a:stretch/>
        </p:blipFill>
        <p:spPr>
          <a:xfrm>
            <a:off x="3867120" y="4765680"/>
            <a:ext cx="19875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0"/>
          <p:cNvSpPr/>
          <p:nvPr/>
        </p:nvSpPr>
        <p:spPr>
          <a:xfrm>
            <a:off x="2747880" y="6444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438120" y="1773360"/>
            <a:ext cx="8267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какого растения изготавливают «тряпичные» ме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7658280" y="603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сказать правила Т/Б при работе с граблями</a:t>
            </a:r>
            <a:r>
              <a:rPr b="1" lang="ru-RU" sz="44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4">
            <a:hlinkClick r:id="rId1"/>
          </p:cNvPr>
          <p:cNvSpPr/>
          <p:nvPr/>
        </p:nvSpPr>
        <p:spPr>
          <a:xfrm>
            <a:off x="7689960" y="5954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10" descr="c01eff3bfb733180fd4e039cb7d1fddb.gif"/>
          <p:cNvPicPr/>
          <p:nvPr/>
        </p:nvPicPr>
        <p:blipFill>
          <a:blip r:embed="rId3"/>
          <a:stretch/>
        </p:blipFill>
        <p:spPr>
          <a:xfrm>
            <a:off x="4148280" y="3803760"/>
            <a:ext cx="9000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99600" y="259920"/>
            <a:ext cx="8286840" cy="5870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577880" y="197820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Arial"/>
              </a:rPr>
              <a:t>Лё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14080" y="620640"/>
            <a:ext cx="8172360" cy="5510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824040" y="148428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ется одежда, которую одеваем для работы в  мастерс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7620120" y="60199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52240" y="549000"/>
            <a:ext cx="8134200" cy="425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647640" y="1619280"/>
            <a:ext cx="78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Спецодеж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>
            <a:hlinkClick r:id="rId1"/>
          </p:cNvPr>
          <p:cNvSpPr/>
          <p:nvPr/>
        </p:nvSpPr>
        <p:spPr>
          <a:xfrm>
            <a:off x="785880" y="2293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 называется  помещение, где живут, порося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>
            <a:hlinkClick r:id="rId2"/>
          </p:cNvPr>
          <p:cNvSpPr/>
          <p:nvPr/>
        </p:nvSpPr>
        <p:spPr>
          <a:xfrm>
            <a:off x="2819520" y="628560"/>
            <a:ext cx="41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-</a:t>
            </a: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 АУКЦ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7734240" y="603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E:\142548_1.jpg"/>
          <p:cNvPicPr/>
          <p:nvPr/>
        </p:nvPicPr>
        <p:blipFill>
          <a:blip r:embed="rId4"/>
          <a:stretch/>
        </p:blipFill>
        <p:spPr>
          <a:xfrm>
            <a:off x="3689280" y="3613320"/>
            <a:ext cx="20448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733400"/>
            <a:ext cx="8039160" cy="390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06e9"/>
                </a:solidFill>
                <a:latin typeface="Times New Roman"/>
                <a:ea typeface="Times New Roman"/>
              </a:rPr>
              <a:t>Свиноферм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9600" y="563040"/>
            <a:ext cx="8183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190240"/>
            <a:ext cx="8139240" cy="375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 помещение, где находится  много коров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7597800" y="59626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E:\buk_o.gif"/>
          <p:cNvPicPr/>
          <p:nvPr/>
        </p:nvPicPr>
        <p:blipFill>
          <a:blip r:embed="rId2"/>
          <a:stretch/>
        </p:blipFill>
        <p:spPr>
          <a:xfrm>
            <a:off x="709560" y="700200"/>
            <a:ext cx="987480" cy="957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E:\buk_a.gif"/>
          <p:cNvPicPr/>
          <p:nvPr/>
        </p:nvPicPr>
        <p:blipFill>
          <a:blip r:embed="rId3"/>
          <a:stretch/>
        </p:blipFill>
        <p:spPr>
          <a:xfrm>
            <a:off x="7429680" y="627120"/>
            <a:ext cx="1028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1440" y="71568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34760" y="1790280"/>
            <a:ext cx="7769160" cy="131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Коровник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9f4c7997cd1195b82c39bba72c7e0bbd"/>
          <p:cNvPicPr/>
          <p:nvPr/>
        </p:nvPicPr>
        <p:blipFill>
          <a:blip r:embed="rId2"/>
          <a:stretch/>
        </p:blipFill>
        <p:spPr>
          <a:xfrm>
            <a:off x="3633840" y="2685960"/>
            <a:ext cx="22446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72600"/>
            <a:ext cx="843912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5360" y="1981080"/>
            <a:ext cx="8191440" cy="372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помещение, где хранятся овощ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7658280" y="603900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E:\risunok.jpg"/>
          <p:cNvPicPr/>
          <p:nvPr/>
        </p:nvPicPr>
        <p:blipFill>
          <a:blip r:embed="rId2"/>
          <a:stretch/>
        </p:blipFill>
        <p:spPr>
          <a:xfrm>
            <a:off x="6343560" y="684360"/>
            <a:ext cx="211464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84200" y="54468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53760" y="1665360"/>
            <a:ext cx="7770600" cy="3954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Овощехранилищ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4" descr="603.gif"/>
          <p:cNvPicPr/>
          <p:nvPr/>
        </p:nvPicPr>
        <p:blipFill>
          <a:blip r:embed="rId2"/>
          <a:stretch/>
        </p:blipFill>
        <p:spPr>
          <a:xfrm>
            <a:off x="6305400" y="905040"/>
            <a:ext cx="196704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7960" y="677520"/>
            <a:ext cx="81838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18680" y="2066400"/>
            <a:ext cx="8139240" cy="303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называется помещение, где хранят зерно зимой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658280" y="598176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61440" y="333000"/>
            <a:ext cx="8534520" cy="579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b050"/>
                </a:solidFill>
                <a:latin typeface="Verdana"/>
              </a:rPr>
              <a:t>ОТВЕ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Проверяем исправность инструмента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Переносим зубьями  вниз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3. После окончания работы храним в определённом мест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60520" y="639720"/>
            <a:ext cx="81835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ВЕТ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28240" y="1599840"/>
            <a:ext cx="8420040" cy="438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Зерносклад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ОПРОС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7709040" y="60390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7760" y="2021040"/>
            <a:ext cx="817236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ледовательность уборки кварти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Рисунок 7" descr="cdolls118.gif"/>
          <p:cNvPicPr/>
          <p:nvPr/>
        </p:nvPicPr>
        <p:blipFill>
          <a:blip r:embed="rId2"/>
          <a:stretch/>
        </p:blipFill>
        <p:spPr>
          <a:xfrm>
            <a:off x="2629080" y="3987720"/>
            <a:ext cx="3714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Удаление пыли с  мебе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Мытье комнатных раст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Влажная уборка (мытье пол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тур. «Собери рюкзак в похо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6"/>
          <p:cNvSpPr/>
          <p:nvPr/>
        </p:nvSpPr>
        <p:spPr>
          <a:xfrm>
            <a:off x="457200" y="723960"/>
            <a:ext cx="82868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Игра закончен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дравляем победителей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5" descr="0_195db_6e22cfec_XS.gif"/>
          <p:cNvPicPr/>
          <p:nvPr/>
        </p:nvPicPr>
        <p:blipFill>
          <a:blip r:embed="rId1"/>
          <a:stretch/>
        </p:blipFill>
        <p:spPr>
          <a:xfrm>
            <a:off x="3638520" y="4476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640"/>
            <a:ext cx="8229600" cy="5405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Техника безопасности при работе ножниц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658280" y="60199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" descr="E:\Photo 658.gif"/>
          <p:cNvPicPr/>
          <p:nvPr/>
        </p:nvPicPr>
        <p:blipFill>
          <a:blip r:embed="rId2"/>
          <a:stretch/>
        </p:blipFill>
        <p:spPr>
          <a:xfrm>
            <a:off x="1057320" y="4505400"/>
            <a:ext cx="140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33520" y="33336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ницы передают  кольцами вперёд, в закрытом вид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столе лежат справой стороны остриём ввер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ранят в сухом, опредёленном мес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3" descr="E:\59dfc10c2b12.gif"/>
          <p:cNvPicPr/>
          <p:nvPr/>
        </p:nvPicPr>
        <p:blipFill>
          <a:blip r:embed="rId2"/>
          <a:stretch/>
        </p:blipFill>
        <p:spPr>
          <a:xfrm>
            <a:off x="5972040" y="331488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00280" y="533520"/>
            <a:ext cx="7772400" cy="5192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ёрсток применяется дл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крас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доб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защи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укра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658280" y="596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47640" y="5144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95360" y="219060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8" descr="смс"/>
          <p:cNvPicPr/>
          <p:nvPr/>
        </p:nvPicPr>
        <p:blipFill>
          <a:blip r:embed="rId2"/>
          <a:stretch/>
        </p:blipFill>
        <p:spPr>
          <a:xfrm>
            <a:off x="434880" y="517680"/>
            <a:ext cx="195912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28560" y="404640"/>
            <a:ext cx="8058240" cy="27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8000"/>
          </a:bodyPr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йдите лишне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чими органами швейной машины являются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гл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лно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улав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жниц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жимн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п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тюг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ховое колес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E:\school.jpg"/>
          <p:cNvPicPr/>
          <p:nvPr/>
        </p:nvPicPr>
        <p:blipFill>
          <a:blip r:embed="rId2"/>
          <a:stretch/>
        </p:blipFill>
        <p:spPr>
          <a:xfrm>
            <a:off x="7153200" y="3543480"/>
            <a:ext cx="12096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9:57Z</dcterms:created>
  <dc:creator>Стефанова</dc:creator>
  <dc:description/>
  <dc:language>en-US</dc:language>
  <cp:lastModifiedBy>Окороков А В</cp:lastModifiedBy>
  <dcterms:modified xsi:type="dcterms:W3CDTF">2013-11-08T08:18:32Z</dcterms:modified>
  <cp:revision>223</cp:revision>
  <dc:subject/>
  <dc:title> Мир информатики</dc:title>
</cp:coreProperties>
</file>