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7FB-1F8A-4570-B48C-AEE62B66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A0E-3E5B-4506-98A4-E6C1FF9C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27B-97F4-4246-8BD7-A7D94B5C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F6F-51AC-440F-A8EA-A9307A7F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5186-6131-473E-805F-F5370A5F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DCA2-98F1-4DD4-BDF5-3B8A5EC7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18D3-69E1-404C-898E-59B4290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73A4-CDC8-4C34-AB73-EE6D9411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48C0-E67F-43CF-8ACF-8056A130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7011-D79C-4851-AEB8-0D2FD236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E06F-8EDD-4F14-870C-F0658C3C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1E0-FF86-49D4-B5D3-E86C7F87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CC09-70B6-447F-A095-830021E7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C522-8517-4ED1-BB95-B309717C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7A78-F392-48E8-A0CD-707604BA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8809-E123-46B2-88B6-CBA3625E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914A-A960-4312-B0E1-B6B8F7C7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51B-0D53-4DDD-9DAB-2AC00E4C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09D-F74D-453F-9BD8-E452C22A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910-9CC5-4E86-A720-79CEA061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A5D-4C6C-4091-8C6E-9739DC0E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6C1-ABA9-487F-9DEF-CA2176DD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808-2F2D-4374-B471-8C6F1953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A6F-3DAC-4F35-B90A-29A41A15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AA4A-2E44-4E65-8FF9-9CC11D8F4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CEEE-A6BF-42F7-A341-B9CFEE245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62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Как не погибнуть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 лесу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Практические сове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ель СБО  Логинова Л.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зведение кост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Используйте в качестве топлива высохшие деревья и ве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В мокрую погоду сухое топливо можно найти под стволами поваленных деревьев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качестве топлива можно использовать сухие травы, а иногда даже уголь, или торф, которые могут находиться на поверхности поч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Также могут быть использованы и некоторые растения, но, ни в коем случае не ядовиты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ля разведения огня можн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спользоваться тем, что быстро зажигается, к примеру, маленькие бруски сухого дерева, еловые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шишки, кора деревьев, хворостинки, засохшие еловые иглы, трав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же в дождь смола еловых шишек или сухие пни быстро загорятся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ухая кора березы также содержит смолистые вещества, которые быстро загораются. Для разжигания огня пользуются сухими веточками, которые обстругивают так, чтобы стружка оставалась на них в виде«воротничка». Поверх укладывают тонкие щепочки, расщепленную сухую кору (лучше березовую), высохший мо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авильно поддерживайте огонь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опливо в костер добавляют понемногу. По мере увеличения пламен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жно класть более крупные ветви. Укладывать их надо по одно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плотно, чтобы обеспечить хороший доступ воздуха. Если забыть об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том, даже жарко горящий костер может «задохнуться». Защитите огонь от ветра при помощи щита (ветролома) или отражателя, который направит тепло в необходимом направлении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Используйте свежесрубленные бревна или торец толстого гнилого бревна, чтобы огонь горел медленно. Защищайте красные огоньки от ветра. Покрывайте их пеплом и сверху слоем почвы. Таким образом, вам легче будет поддерживать огонь, чем разводить его заново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ленький огонь легче разводить и контролировать, чем большо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сколько маленьких костров, разведенных в холодную погоду вокруг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ас, дадут больше тепла, чем большой костер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костров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приготовления пищи и просушивания одежды наиболее удобен костер «шалаш», дающий большое, ровное пламя, или «звездный» из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–8 расположенных звездообразно сухих стволов. Их поджигают 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тре и сдвигают по мере сгорания. Для обогрева во время ночлег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в холодную погоду на толстый ствол веером укладываю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–4 стволика потоньше. Такой костер называется таежны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Для обогрева в течение продолжительного времени пользуются костром нодьей. Два сухих ствола укладывают один на другой и закрепляют п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цам с обеих сторон кольями. Между стволами вставляют клинья и 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свет закладывают растопку. По мере обгорания древесины пепел 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олу время от времени очищаю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*Уходя с места стоянки, тлеющие угли необходимо тщательно загасит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лив их водой или забросав земле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зведение огня без спичек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жде чем попробовать зажечь огонь без спичек, приготовьте несколько сухих легковоспламеняющихся материалов. Затем укройте их от ветра и влаги. Хорошими веществами могут быть гниль, лоскутики одежды, веревка или бечевка, деревянные стружки и опилки, птичьи перья, шерстистые ворсинки растений и другие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ъектив фотоаппарата, выпуклая линза от бинокля или телескопа, наконец, зеркало могут быть использованы для фокусирования солнечных лучей на легковоспламеняющиеся вещест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дообеспечение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сутствие воды в течение суток отрицательно сказывается на моральном состоянии человека, снижает его боеспособность, волевые качества, вызывает быструю утомляемость. При ограниченных запасах воды, организм теряет с потом много жидкости и обезвоживается, очень важно снизить потоотделение. Этого можно достигнуть, защитив себя от прямой солнечной радиации с помощью простейшего солнцезащитного тента, ограничив физическую нагрузку в жаркое время суток, увлажняя одежду и т.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ждевая вода,роса,источник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Чтобы собрать дождевую воду выкопайте ямку 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ложите ее большими листьями, чтобы собранная вода не впиталась в землю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са. Когда идет дождь, обвяжите тканью дерево. Вода, стекающая вдоль ствола, будет задерживаться, и капать в емкость, поставленную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низу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а из природных источников. Перед употреблением воды из реки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учья и т.д. ее необходимо (по возможности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скипятить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дообеспечение.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растения постоянно испаряют хотя бы небольшое количество воды, ее можно уловить с помощью обыкновенного мешочка из полиэтилена. Мешочек надевается на куст, ветку дерева 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язывается у основания. Вода, испаряемая растением, оседает в виде капель на внутренней поверхности полиэтилена, которыескапливаются в нижней части паке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 час в зависимости отвеличины растения можно собрать до 50–80 мл воды. Важно, что этот способ практически не требует никаких физических усил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утешественник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блюдайте  правила безопасности и  путешествие всегда будет прият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актические сове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ед выходом в лес предупредите родных, куда идет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 в сумке, а в кармане всегда имейте нож, спички в сухой коробочке и часы — они помогут и не паниковать, и ориентироваться, как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 компасу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девайтесь ярко — рыжие, красные, желтые, белые куртки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хорошо наклеить светоотражающие полоски или рисунки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3168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1120" y="1298520"/>
            <a:ext cx="788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*Старайтесь не уходить далеко от знакомого маршрута, не «срезай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гол» по незнакомой местности, особенно по болот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*Если потерялся ваш родственник, сразу же вызывайте спасател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едко самостоятельные поиски приводят только к затаптыванию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ов, по которым можно было отыскать человек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*Если вы пытаетесь, например, докричаться или догудеться (сигнало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томашины) до потерявшегося, ждите его на одном месте достаточно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го. Иногда найденные люди рассказывают, что шли на сигнал, но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йдя, обнаруживали, что машина только что уехала, не прождав их 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тнадцати минут. А ведь выбежать из леса быстро довольно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трудните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851840"/>
            <a:ext cx="934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льзя забывать и о том, что поход в лес — это сильные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изические нагрузки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Если у вас есть еще какие-то хронические заболевания, то они могут обостряться, поэтому без необходимых медикаментов в лес идти нельзя. И, конечно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ужно иметь при себе хотя бы минимальный запас воды, чтобы в случае необходимости можно было запить лекарств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Что делать, если вы заблудились в лесу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Для того чтобы, будучи в одиночестве в лесу, остаться в живых, прежд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го, крепко обнять дерево и успокоитьс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Если есть возможность, немедленно свяжитесь со специалистами Едино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ужбы спасения по телефону: 112 или 01 (звонок бесплатный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сли точно знаете, что вас будут искать — оставайтесь н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есте, разведите костер, пойте песни — по дыму и голосу найт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еловека легко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381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лезные сове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Собираясь ночевать, сделайте постель из лапника, костер желательн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держивать всю ночь — для этого киньте туда пару толстых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еток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Если ищете дорогу сами — старайтесь не петлять, ориентируйтесь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солнцу, хорошо, если удалось выйти на линию электропередач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железную дорогу, газопровод, реку — идя вдоль этих объектов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гда выйдете к людям, пусть и не там, где предполагали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Подавать звуковые сигналы можно ударами палки о деревья, звук о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их далеко расходится по лесу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При необходимости движения можно ориентироваться по сторонам свет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аже без компаса. Так, кора березы и сосны на северной сторон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емнее, чем на южной, а стволы деревьев, камни, выступы скал гущ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ыты мхом и лишайниками. Смоляные капли на стволах хвойных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ревьев выделяются с северной стороны менее обильно, чем с южно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се эти признаки бывают отчетливо выражены у отдельно стоящего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рева на поляне или опушк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Если необходимо организовать временную стоянку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тоянку  нужно сделат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 сухом мест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строить убежище из подручных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материало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развест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стер, пополнить запасы пищи из кладовой природы и ожидать прихода помощ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сположиться лучше всего поблизости от ручья или речушки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 открытом месте, чтобы всегда иметь под рукой запас воды. Кром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го, прохладный ветерок, постоянно дующий в ночные часы, буде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учшей защитой от нападения полчищ гнуса, чем дымокурные костры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ременным укрытием может служить навес, шалаш, землянка. В тепло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ремя года можно ограничиться постройкой простейшего навес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http://www.telpics.ru/cache/landscape/telpics_ru_873300170_64x64.jpg"/>
          <p:cNvPicPr/>
          <p:nvPr/>
        </p:nvPicPr>
        <p:blipFill>
          <a:blip r:embed="rId1"/>
          <a:stretch/>
        </p:blipFill>
        <p:spPr>
          <a:xfrm>
            <a:off x="684360" y="2205000"/>
            <a:ext cx="3743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делайте себя видимым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Прежде всего, необходимо найти открыто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есто, лучше на возвышении, соорудить на ближайшей же полянк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ри высоких (метра три) креста из еловых сучьев. Если есть спички, можно разжечь три костра, или пяткой проделать в земле три глубокие бороздки,  или сложить три каменные кучки вблизи тропы, поскольку спасатели, как правило, идут по н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дним словом, устанавливать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акие знаки, каких в обычной природе не существует, и, которы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гут быть видны с вертолета. Можно, к примеру, повесить на елку украшения из мусора (бутылки, банки, пакетики от чипсов 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.п.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зведение огн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жде чем разводить огонь, следует принять все меры дл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дупреждения лесного пожара. Это особенно важно в сухое, жарко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ремя года. Место для костра выбирают в стороне от хвойных, и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собенно высохших деревьев. Тщательно очищают пространство н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метр-полтора вокруг от сухой травы, мха и кустарника. Если почв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орфяниста, то, чтобы огонь не проник сквозь травяной покров и н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ызвал возгорания торфа, насыпают «подушку» из песка или земли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Зимой при высоком снежном покрове снег тщательно утаптывают, 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затем сооружают помост из нескольких стволов деревьев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спользуйте в качестве топлива высохшие деревья и ветки. В мокрую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огоду сухое топливо можно найти под стволами поваленных деревьев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 качестве топлива можно использовать сухие травы, а иногда даж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уголь, или торф, которые могут находиться на поверхности почвы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акже могут быть использованы и некоторые растения, но, ни в коем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лучае не ядовиты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5:06:31Z</dcterms:created>
  <dc:creator>Admin</dc:creator>
  <dc:description/>
  <dc:language>en-US</dc:language>
  <cp:lastModifiedBy>Окороков А В</cp:lastModifiedBy>
  <dcterms:modified xsi:type="dcterms:W3CDTF">2013-11-08T03:55:12Z</dcterms:modified>
  <cp:revision>6</cp:revision>
  <dc:subject/>
  <dc:title>Как не погибнуть в лесу ?</dc:title>
</cp:coreProperties>
</file>