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DDC-9D9F-4B78-83E6-73DCDFC5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6A7-D280-4481-9662-C10B412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B9F-5A1D-487B-A93F-EF05BDDB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E09-19AB-49B0-B97A-73F92FFC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DFDE-6BE7-4C57-B261-6357120B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D8F2-0970-4545-8F42-D108C5D3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910C-A50E-4286-B9B3-353E5703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4C06-3509-4AF3-A6F7-8D5023D3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5442-899D-4326-990C-68C72483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3D06-01A9-484F-A5F5-55B8AD33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44B0-34F6-4295-8504-40A32559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9A5-DFDF-4FDE-AFEF-809B2E5A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138A-A22B-4515-9DD1-DBCF6298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0769-195A-4B24-A539-964A16D8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8092-CA7B-4C1B-B3CD-242C81F6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F9A-148F-4A2C-85EB-71FFEBA4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3D6C-7B9E-48BB-8EA1-4EEA925E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C35-28A8-4F1B-BA40-20988A9F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1E6-5FFB-44A1-9B28-17E4CEA0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35D-F7EC-413C-8884-EDD6DBA2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209-E347-4D83-BA23-68A2BA3C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982-C2F8-48CA-A87D-E7B37B4D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683-E889-448B-B6CE-57A875F7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F6F-7DC5-4EE5-8ACF-825B367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0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f0f5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F6D3-46D7-441C-B779-0C8C8958C6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0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f0f5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bdf0f5"/>
                </a:gs>
                <a:gs pos="5000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df0f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EB2A-990D-428F-BF44-CA1ECA06D7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то в имени тебе моё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русского языка в 6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учителя русского языка и литературы Жамбулгановой Галины Павл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а, появившиеся в 20 в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волюция, Диктатура, Закон, Октябрь, Октябрина, Май, Майя,  Декабрина, сын – Рево, дочь – Люция (от слова Революция), Спутник, Ракета, Иде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том, Неон, Прот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3840" y="100008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ясни, что означает твое имя, из какого языка оно пришло в русский язык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проси у родителей, почему они выбрали для тебя именно такое имя (имя понравилось своим звучанием, назвали в честь кого-либо из родственников или известных людей, назвали по святцам в честь какого-то святого, другие причины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собери сведения о людях, которые носят или носили такое же имя, как у тебя, и какие черты их характера тебе нрав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распространённые имена в школ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052640"/>
          <a:ext cx="8640720" cy="5676840"/>
        </p:xfrm>
        <a:graphic>
          <a:graphicData uri="http://schemas.openxmlformats.org/drawingml/2006/table">
            <a:tbl>
              <a:tblPr/>
              <a:tblGrid>
                <a:gridCol w="2853000"/>
                <a:gridCol w="1468440"/>
                <a:gridCol w="2846160"/>
                <a:gridCol w="1473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ские 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ские им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ате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сл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ф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ж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м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е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а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21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ужские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ей,Александ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дрей,Анатолий,Антон,Валентин,Владими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ислав,Витал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ргий,Данил,Дмитрий,Денис,Егор,Захар, Илья, Иван, Кирилл, Константин, Максим, Михаил, Никита, Николай, Павел, Роман, Сергей, Станислав, Юрий, Хам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4720" y="98100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нские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на, Ангелина, Алина, Алёна, Айтан, Анжелика, Александра, Анастасия, Валерия, Валентина, Виктория, Вера, Диана, Зоя, Ирина, Инна Кристина Злата, Елена, Дарья, Елизавета, Лидия, Людмила, Любовь, Лилия, Мария, Марина, Наталья, Надежда, Нина, Ольга, Рита, Раиса, Светлана, Тамара, Оксана, Эльвира, Яна, Екате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мил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милия – наследственное имя семьи. Семейное имя, передаваемое по наслед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е привычное для нас слово “фамилия” попало в наш язык из латыни и в переводе означает 7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явление фам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милии в современном понимании слова на Руси появились довольно поздно, лишь в 16 веке. Распространение фамилий началось с людей знатного происхождения. Значительная часть городского и сельского населения еще 200 лет назад не имела фами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мя и фамилия у тебя одно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всегда тебе оно дано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знь длинна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отт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побереги е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помни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и отца своего и свою мать – так учит древняя мудрость. Знай свой род, своих дедов, предков, родственников и цени свой дом, свою деревню, город, свои род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й старину! Помни: ты не сам по себе, ты – член семьи, дорожи памятью свое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8556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тник Г.В. По имени называют, по отчеству величают //Русская речь. 1994. № 4. С. 125–126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аль В. Толковый словарь живого великорусского языка. Т.2. М.: «Русский язык», 19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икова Л.И. Что в имени тебе моём// «Русский язык» №03 : Первое сентября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рь имен. М.: «Научная книга»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перанская А.В. Словарь русских личных имен. М.: Изд-во АСТ, 1998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знавательн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представление о происхождении имени и фамилии людей, вызвать интерес к собственному имени и фамилии. Показать связь имен с историей определенной эпо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вивающ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формиров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через лексико-грамматический анализ слова – имени; выявлять связь имен с историей государства, професс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спитательн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еловеческое достоинство, уважение к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71424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Что значит имя? Роза пахнет розой,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Хоть розой назови ее, хоть нет».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.Шекспи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Нет меж живущих людей, да не может и быть безымянных: В первый же миг по рождении каждый, убогий и знатный, имя, как сладостный дар, от родимых своих получае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 Гомер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ом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рмин этот связан с греческим словом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но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Эта наука выделяет ряд разделов, среди которых существует и раздел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тропонuми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(от греческого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нтропос – челове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нтроп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наука о человеке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онимы: это рекло, назвище, прозвище, название, прозвание, проимен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овицы о им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як человек свое имя зна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ын не родился, а уже имя ему дал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гатого по отчеству, а убогого по прозвищ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него доброе им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позорь моего и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а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к Харитонов сын Григорьев, Нефёдко сын Кура, Григорий сын Филина, Нежданко,Зубко, Величко, Дробыш. Например, в «деревне Псовце над озером Псовцом» жили «Игнатко Матфеев да дети его Величко да Нежданко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мер, первого новосёла в новой деревне около Кочевиц звали Тупи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ена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ч, Ворон, Смычок, Жила, Бритик, Пузырь, Бисер, Кривуля, Кочадык, М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ель, Матушка (мужское имя), Цыпуля, Голован, Кощей, Продалмышонка, Таракан, Шоболда, Рогоза, Жировой, Капуста, Ждан, Пьяный, Морщило, Мороз, Мизгирь, Щелкун, Бурнаш, Курица, Ноговица и 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37:41Z</dcterms:created>
  <dc:creator>1</dc:creator>
  <dc:description/>
  <dc:language>en-US</dc:language>
  <cp:lastModifiedBy>Admin</cp:lastModifiedBy>
  <dcterms:modified xsi:type="dcterms:W3CDTF">2014-12-08T14:17:49Z</dcterms:modified>
  <cp:revision>11</cp:revision>
  <dc:subject/>
  <dc:title>Что в имени тебе моём?</dc:title>
</cp:coreProperties>
</file>