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8D34-2BC9-47B4-B826-741CBA171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2668-14AD-424D-837B-ED72C5E82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3E62-D2EA-48DB-BB9B-7ED5F8694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473B-2197-4310-9AFB-FAFCC446B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CCEC-C3ED-4D8E-822E-86C1A6F33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14B7-CEF4-4F04-8AAD-A52F1E55B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F70D-C2F3-48DF-AB00-C9CFE7BBE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EE11-1E97-4E83-80AC-A4C03B97D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2AF8-D54E-48E7-8FD8-88951394B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5B1E-A90D-4260-AE01-9432126C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4EEB-B8B0-4D54-BCE9-507E4412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C71C-AD80-4976-AD42-6EABD45C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B87AD-E516-4F72-A72C-7865B5B17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ado5.ru/materials/novoe-v-yege-po-matematike" TargetMode="External"/><Relationship Id="rId3" Type="http://schemas.openxmlformats.org/officeDocument/2006/relationships/hyperlink" Target="http://www.nado5.ru/materials/novoe-v-yege-po-matematike" TargetMode="External"/><Relationship Id="rId4" Type="http://schemas.openxmlformats.org/officeDocument/2006/relationships/hyperlink" Target="http://www.nado5.ru/materials/novoe-v-yege-po-matematike" TargetMode="External"/><Relationship Id="rId5" Type="http://schemas.openxmlformats.org/officeDocument/2006/relationships/hyperlink" Target="http://www.nado5.ru/materials/novoe-v-yege-po-matematike" TargetMode="External"/><Relationship Id="rId6" Type="http://schemas.openxmlformats.org/officeDocument/2006/relationships/hyperlink" Target="http://www.nado5.ru/materials/novoe-v-yege-po-matematike" TargetMode="Externa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7.xml"/><Relationship Id="rId6" Type="http://schemas.openxmlformats.org/officeDocument/2006/relationships/slide" Target="slide11.xm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4"/>
          <p:cNvSpPr/>
          <p:nvPr/>
        </p:nvSpPr>
        <p:spPr>
          <a:xfrm>
            <a:off x="971640" y="2565360"/>
            <a:ext cx="7345440" cy="1513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Times New Roman"/>
              </a:rPr>
              <a:t>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990000"/>
                </a:solidFill>
                <a:latin typeface="Times New Roman"/>
              </a:rPr>
              <a:t>НА СМЕСИ И СПЛАВ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5">
            <a:hlinkClick r:id="" action="ppaction://hlinkshowjump?jump=nextslide"/>
          </p:cNvPr>
          <p:cNvSpPr/>
          <p:nvPr/>
        </p:nvSpPr>
        <p:spPr>
          <a:xfrm>
            <a:off x="8459640" y="6165720"/>
            <a:ext cx="505080" cy="5382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760 h 538200"/>
              <a:gd name="textAreaBottom" fmla="*/ 505800 h 538200"/>
            </a:gdLst>
            <a:ahLst/>
            <a:rect l="textAreaLeft" t="textAreaTop" r="textAreaRight" b="textAreaBottom"/>
            <a:pathLst>
              <a:path w="21600" h="23015">
                <a:moveTo>
                  <a:pt x="0" y="0"/>
                </a:moveTo>
                <a:lnTo>
                  <a:pt x="21600" y="0"/>
                </a:lnTo>
                <a:lnTo>
                  <a:pt x="21600" y="23015"/>
                </a:lnTo>
                <a:lnTo>
                  <a:pt x="0" y="23015"/>
                </a:lnTo>
                <a:close/>
              </a:path>
              <a:path fill="lightenLess" w="21600" h="230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15">
                <a:moveTo>
                  <a:pt x="21600" y="0"/>
                </a:moveTo>
                <a:lnTo>
                  <a:pt x="21600" y="23015"/>
                </a:lnTo>
                <a:lnTo>
                  <a:pt x="20200" y="21615"/>
                </a:lnTo>
                <a:lnTo>
                  <a:pt x="20200" y="1400"/>
                </a:lnTo>
                <a:close/>
              </a:path>
              <a:path fill="darkenLess" w="21600" h="23015">
                <a:moveTo>
                  <a:pt x="21600" y="23015"/>
                </a:moveTo>
                <a:lnTo>
                  <a:pt x="0" y="23015"/>
                </a:lnTo>
                <a:lnTo>
                  <a:pt x="1400" y="21615"/>
                </a:lnTo>
                <a:lnTo>
                  <a:pt x="20200" y="21615"/>
                </a:lnTo>
                <a:close/>
              </a:path>
              <a:path fill="lighten" w="21600" h="23015">
                <a:moveTo>
                  <a:pt x="0" y="230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15"/>
                </a:lnTo>
                <a:close/>
              </a:path>
              <a:path fill="darken" w="21600" h="23015">
                <a:moveTo>
                  <a:pt x="3794" y="4501"/>
                </a:moveTo>
                <a:lnTo>
                  <a:pt x="17806" y="11508"/>
                </a:lnTo>
                <a:lnTo>
                  <a:pt x="3794" y="18514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66"/>
          <p:cNvGrpSpPr/>
          <p:nvPr/>
        </p:nvGrpSpPr>
        <p:grpSpPr>
          <a:xfrm>
            <a:off x="6877080" y="5084640"/>
            <a:ext cx="1008000" cy="1438200"/>
            <a:chOff x="6877080" y="5084640"/>
            <a:chExt cx="1008000" cy="1438200"/>
          </a:xfrm>
        </p:grpSpPr>
        <p:sp>
          <p:nvSpPr>
            <p:cNvPr id="44" name="Freeform 45"/>
            <p:cNvSpPr/>
            <p:nvPr/>
          </p:nvSpPr>
          <p:spPr>
            <a:xfrm>
              <a:off x="6877080" y="5091480"/>
              <a:ext cx="1008000" cy="1431360"/>
            </a:xfrm>
            <a:prstGeom prst="pie">
              <a:avLst/>
            </a:prstGeom>
            <a:gradFill rotWithShape="0">
              <a:gsLst>
                <a:gs pos="0">
                  <a:srgbClr val="09ffff"/>
                </a:gs>
                <a:gs pos="100000">
                  <a:srgbClr val="0000da"/>
                </a:gs>
              </a:gsLst>
              <a:lin ang="5400000"/>
            </a:gradFill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6"/>
            <p:cNvSpPr/>
            <p:nvPr/>
          </p:nvSpPr>
          <p:spPr>
            <a:xfrm>
              <a:off x="6887880" y="6291000"/>
              <a:ext cx="986760" cy="108720"/>
            </a:xfrm>
            <a:prstGeom prst="pie">
              <a:avLst/>
            </a:prstGeom>
            <a:noFill/>
            <a:ln w="19080">
              <a:solidFill>
                <a:srgbClr val="0000d2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50"/>
            <p:cNvSpPr/>
            <p:nvPr/>
          </p:nvSpPr>
          <p:spPr>
            <a:xfrm>
              <a:off x="7033680" y="5084640"/>
              <a:ext cx="664560" cy="141840"/>
            </a:xfrm>
            <a:prstGeom prst="pie">
              <a:avLst/>
            </a:prstGeom>
            <a:solidFill>
              <a:srgbClr val="00ffff"/>
            </a:solidFill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Group 52"/>
            <p:cNvGrpSpPr/>
            <p:nvPr/>
          </p:nvGrpSpPr>
          <p:grpSpPr>
            <a:xfrm>
              <a:off x="6877080" y="5773320"/>
              <a:ext cx="1008000" cy="249480"/>
              <a:chOff x="6877080" y="5773320"/>
              <a:chExt cx="1008000" cy="249480"/>
            </a:xfrm>
          </p:grpSpPr>
          <p:sp>
            <p:nvSpPr>
              <p:cNvPr id="48" name="Freeform 53"/>
              <p:cNvSpPr/>
              <p:nvPr/>
            </p:nvSpPr>
            <p:spPr>
              <a:xfrm>
                <a:off x="6877080" y="5773320"/>
                <a:ext cx="1008000" cy="249480"/>
              </a:xfrm>
              <a:prstGeom prst="pi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54"/>
              <p:cNvSpPr/>
              <p:nvPr/>
            </p:nvSpPr>
            <p:spPr>
              <a:xfrm>
                <a:off x="6878160" y="5882040"/>
                <a:ext cx="988200" cy="1350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55"/>
              <p:cNvSpPr/>
              <p:nvPr/>
            </p:nvSpPr>
            <p:spPr>
              <a:xfrm>
                <a:off x="6878160" y="5774400"/>
                <a:ext cx="988200" cy="1238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" name="Freeform 61"/>
            <p:cNvSpPr/>
            <p:nvPr/>
          </p:nvSpPr>
          <p:spPr>
            <a:xfrm>
              <a:off x="6877080" y="5461200"/>
              <a:ext cx="991080" cy="249840"/>
            </a:xfrm>
            <a:prstGeom prst="pi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62"/>
            <p:cNvSpPr/>
            <p:nvPr/>
          </p:nvSpPr>
          <p:spPr>
            <a:xfrm>
              <a:off x="6878160" y="5567400"/>
              <a:ext cx="977040" cy="137880"/>
            </a:xfrm>
            <a:prstGeom prst="pie">
              <a:avLst/>
            </a:pr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63"/>
            <p:cNvSpPr/>
            <p:nvPr/>
          </p:nvSpPr>
          <p:spPr>
            <a:xfrm>
              <a:off x="6878160" y="5462640"/>
              <a:ext cx="974160" cy="124200"/>
            </a:xfrm>
            <a:prstGeom prst="pie">
              <a:avLst/>
            </a:prstGeom>
            <a:noFill/>
            <a:ln w="1908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163"/>
          <p:cNvGrpSpPr/>
          <p:nvPr/>
        </p:nvGrpSpPr>
        <p:grpSpPr>
          <a:xfrm>
            <a:off x="7452000" y="4550760"/>
            <a:ext cx="1311480" cy="1067760"/>
            <a:chOff x="7452000" y="4550760"/>
            <a:chExt cx="1311480" cy="1067760"/>
          </a:xfrm>
        </p:grpSpPr>
        <p:grpSp>
          <p:nvGrpSpPr>
            <p:cNvPr id="55" name="Group 162"/>
            <p:cNvGrpSpPr/>
            <p:nvPr/>
          </p:nvGrpSpPr>
          <p:grpSpPr>
            <a:xfrm>
              <a:off x="7452000" y="4550760"/>
              <a:ext cx="1311480" cy="1067760"/>
              <a:chOff x="7452000" y="4550760"/>
              <a:chExt cx="1311480" cy="1067760"/>
            </a:xfrm>
          </p:grpSpPr>
          <p:sp>
            <p:nvSpPr>
              <p:cNvPr id="56" name="Freeform 135"/>
              <p:cNvSpPr/>
              <p:nvPr/>
            </p:nvSpPr>
            <p:spPr>
              <a:xfrm rot="17366400">
                <a:off x="7741080" y="4518360"/>
                <a:ext cx="732960" cy="1132200"/>
              </a:xfrm>
              <a:prstGeom prst="pie">
                <a:avLst/>
              </a:prstGeom>
              <a:gradFill rotWithShape="0">
                <a:gsLst>
                  <a:gs pos="0">
                    <a:srgbClr val="0000da"/>
                  </a:gs>
                  <a:gs pos="100000">
                    <a:srgbClr val="09ffff"/>
                  </a:gs>
                </a:gsLst>
                <a:lin ang="4236000"/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140"/>
              <p:cNvSpPr/>
              <p:nvPr/>
            </p:nvSpPr>
            <p:spPr>
              <a:xfrm>
                <a:off x="7524720" y="4653000"/>
                <a:ext cx="209880" cy="480600"/>
              </a:xfrm>
              <a:prstGeom prst="pie">
                <a:avLst/>
              </a:prstGeom>
              <a:solidFill>
                <a:srgbClr val="00ffff"/>
              </a:soli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119"/>
              <p:cNvSpPr/>
              <p:nvPr/>
            </p:nvSpPr>
            <p:spPr>
              <a:xfrm>
                <a:off x="7728120" y="5142600"/>
                <a:ext cx="940680" cy="1036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120"/>
              <p:cNvSpPr/>
              <p:nvPr/>
            </p:nvSpPr>
            <p:spPr>
              <a:xfrm>
                <a:off x="7722720" y="5060880"/>
                <a:ext cx="943560" cy="903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118"/>
              <p:cNvSpPr/>
              <p:nvPr/>
            </p:nvSpPr>
            <p:spPr>
              <a:xfrm>
                <a:off x="7719840" y="5062320"/>
                <a:ext cx="955440" cy="183960"/>
              </a:xfrm>
              <a:prstGeom prst="pi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Freeform 136"/>
            <p:cNvSpPr/>
            <p:nvPr/>
          </p:nvSpPr>
          <p:spPr>
            <a:xfrm>
              <a:off x="8422920" y="4921920"/>
              <a:ext cx="225720" cy="667800"/>
            </a:xfrm>
            <a:prstGeom prst="pie">
              <a:avLst/>
            </a:prstGeom>
            <a:noFill/>
            <a:ln w="19080">
              <a:solidFill>
                <a:srgbClr val="0000d2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Text Box 164"/>
          <p:cNvSpPr/>
          <p:nvPr/>
        </p:nvSpPr>
        <p:spPr>
          <a:xfrm>
            <a:off x="3995640" y="4365720"/>
            <a:ext cx="14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0000"/>
                </a:solidFill>
                <a:latin typeface="Times New Roman"/>
              </a:rPr>
              <a:t>В 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84"/>
          <p:cNvSpPr/>
          <p:nvPr/>
        </p:nvSpPr>
        <p:spPr>
          <a:xfrm>
            <a:off x="1547640" y="404640"/>
            <a:ext cx="6247080" cy="115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МКОУ «Зыряновская СОШ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Заринский район Алтайский кр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87"/>
          <p:cNvSpPr/>
          <p:nvPr/>
        </p:nvSpPr>
        <p:spPr>
          <a:xfrm>
            <a:off x="2700360" y="5589720"/>
            <a:ext cx="3808440" cy="912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Учитель мате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Степина Татьяна Серге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189"/>
          <p:cNvGrpSpPr/>
          <p:nvPr/>
        </p:nvGrpSpPr>
        <p:grpSpPr>
          <a:xfrm>
            <a:off x="324000" y="4508640"/>
            <a:ext cx="3023640" cy="1095480"/>
            <a:chOff x="324000" y="4508640"/>
            <a:chExt cx="3023640" cy="1095480"/>
          </a:xfrm>
        </p:grpSpPr>
        <p:grpSp>
          <p:nvGrpSpPr>
            <p:cNvPr id="66" name="Group 190"/>
            <p:cNvGrpSpPr/>
            <p:nvPr/>
          </p:nvGrpSpPr>
          <p:grpSpPr>
            <a:xfrm>
              <a:off x="324000" y="4508640"/>
              <a:ext cx="3023640" cy="1059840"/>
              <a:chOff x="324000" y="4508640"/>
              <a:chExt cx="3023640" cy="1059840"/>
            </a:xfrm>
          </p:grpSpPr>
          <p:sp>
            <p:nvSpPr>
              <p:cNvPr id="67" name="Freeform 191"/>
              <p:cNvSpPr/>
              <p:nvPr/>
            </p:nvSpPr>
            <p:spPr>
              <a:xfrm>
                <a:off x="324000" y="4508640"/>
                <a:ext cx="2994120" cy="646200"/>
              </a:xfrm>
              <a:prstGeom prst="pie">
                <a:avLst/>
              </a:pr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192"/>
              <p:cNvSpPr/>
              <p:nvPr/>
            </p:nvSpPr>
            <p:spPr>
              <a:xfrm>
                <a:off x="1058760" y="4743360"/>
                <a:ext cx="2288880" cy="825120"/>
              </a:xfrm>
              <a:prstGeom prst="pie">
                <a:avLst/>
              </a:pr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193"/>
              <p:cNvSpPr/>
              <p:nvPr/>
            </p:nvSpPr>
            <p:spPr>
              <a:xfrm>
                <a:off x="351360" y="4892400"/>
                <a:ext cx="792360" cy="667440"/>
              </a:xfrm>
              <a:prstGeom prst="pie">
                <a:avLst/>
              </a:pr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194"/>
              <p:cNvSpPr/>
              <p:nvPr/>
            </p:nvSpPr>
            <p:spPr>
              <a:xfrm>
                <a:off x="1296000" y="4699440"/>
                <a:ext cx="788400" cy="695160"/>
              </a:xfrm>
              <a:prstGeom prst="pie">
                <a:avLst/>
              </a:prstGeom>
              <a:noFill/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" name="Text Box 195"/>
            <p:cNvSpPr/>
            <p:nvPr/>
          </p:nvSpPr>
          <p:spPr>
            <a:xfrm>
              <a:off x="632880" y="4707000"/>
              <a:ext cx="131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золот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196"/>
            <p:cNvSpPr/>
            <p:nvPr/>
          </p:nvSpPr>
          <p:spPr>
            <a:xfrm>
              <a:off x="1743480" y="4508640"/>
              <a:ext cx="128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серебр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97"/>
            <p:cNvSpPr/>
            <p:nvPr/>
          </p:nvSpPr>
          <p:spPr>
            <a:xfrm rot="20954400">
              <a:off x="1395360" y="51098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198"/>
            <p:cNvSpPr/>
            <p:nvPr/>
          </p:nvSpPr>
          <p:spPr>
            <a:xfrm rot="21024600">
              <a:off x="2606040" y="4838400"/>
              <a:ext cx="67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Text Box 164"/>
          <p:cNvSpPr/>
          <p:nvPr/>
        </p:nvSpPr>
        <p:spPr>
          <a:xfrm>
            <a:off x="3995640" y="1628640"/>
            <a:ext cx="14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0000"/>
                </a:solidFill>
                <a:latin typeface="Times New Roman"/>
              </a:rPr>
              <a:t>ЕГ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250920" y="260280"/>
            <a:ext cx="8642160" cy="1873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Имеется два сплава золота и серебра: в одном массы эт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металлов находятся в отношении 2:3, а в другом –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отношении 3:7. Сколько килограммов нужно взять о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каждого сплава, чтобы получить 8 кг нового сплава,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котором золото и серебро находились бы в отношении 5:11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79280" y="6165720"/>
            <a:ext cx="1873440" cy="476280"/>
          </a:xfrm>
          <a:custGeom>
            <a:avLst/>
            <a:gdLst>
              <a:gd name="textAreaLeft" fmla="*/ 30600 w 1873440"/>
              <a:gd name="textAreaRight" fmla="*/ 1842840 w 18734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84915" h="21600">
                <a:moveTo>
                  <a:pt x="0" y="0"/>
                </a:moveTo>
                <a:lnTo>
                  <a:pt x="84915" y="0"/>
                </a:lnTo>
                <a:lnTo>
                  <a:pt x="84915" y="21600"/>
                </a:lnTo>
                <a:lnTo>
                  <a:pt x="0" y="21600"/>
                </a:lnTo>
                <a:close/>
              </a:path>
              <a:path fill="lightenLess" w="84915" h="21600">
                <a:moveTo>
                  <a:pt x="0" y="0"/>
                </a:moveTo>
                <a:lnTo>
                  <a:pt x="84915" y="0"/>
                </a:lnTo>
                <a:lnTo>
                  <a:pt x="83515" y="1400"/>
                </a:lnTo>
                <a:lnTo>
                  <a:pt x="1400" y="1400"/>
                </a:lnTo>
                <a:close/>
              </a:path>
              <a:path fill="darken" w="84915" h="21600">
                <a:moveTo>
                  <a:pt x="84915" y="0"/>
                </a:moveTo>
                <a:lnTo>
                  <a:pt x="84915" y="21600"/>
                </a:lnTo>
                <a:lnTo>
                  <a:pt x="83515" y="20200"/>
                </a:lnTo>
                <a:lnTo>
                  <a:pt x="83515" y="1400"/>
                </a:lnTo>
                <a:close/>
              </a:path>
              <a:path fill="darkenLess" w="84915" h="21600">
                <a:moveTo>
                  <a:pt x="849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3515" y="20200"/>
                </a:lnTo>
                <a:close/>
              </a:path>
              <a:path fill="lighten" w="849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lackadder ITC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50920" y="2205000"/>
            <a:ext cx="8569080" cy="388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2987640" y="3933720"/>
            <a:ext cx="2890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2c5"/>
                </a:solidFill>
                <a:latin typeface="Arial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e2c5"/>
              </a:solidFill>
              <a:latin typeface="Arial"/>
              <a:ea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5724360" y="4005360"/>
            <a:ext cx="287640" cy="144360"/>
            <a:chOff x="5724360" y="4005360"/>
            <a:chExt cx="287640" cy="144360"/>
          </a:xfrm>
        </p:grpSpPr>
        <p:sp>
          <p:nvSpPr>
            <p:cNvPr id="493" name=""/>
            <p:cNvSpPr txBox="1"/>
            <p:nvPr/>
          </p:nvSpPr>
          <p:spPr>
            <a:xfrm>
              <a:off x="5724360" y="4005360"/>
              <a:ext cx="287640" cy="47520"/>
            </a:xfrm>
            <a:prstGeom prst="rect">
              <a:avLst/>
            </a:prstGeom>
          </p:spPr>
          <p:txBody>
            <a:bodyPr wrap="none" lIns="90000" rIns="90000" tIns="1080" bIns="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"/>
                </a:rPr>
                <a:t>_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494" name=""/>
            <p:cNvSpPr txBox="1"/>
            <p:nvPr/>
          </p:nvSpPr>
          <p:spPr>
            <a:xfrm>
              <a:off x="5724360" y="4101840"/>
              <a:ext cx="287640" cy="47880"/>
            </a:xfrm>
            <a:prstGeom prst="rect">
              <a:avLst/>
            </a:prstGeom>
          </p:spPr>
          <p:txBody>
            <a:bodyPr wrap="none" lIns="90000" rIns="90000" tIns="1440" bIns="14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e2c5"/>
                  </a:solidFill>
                  <a:latin typeface="Arial"/>
                </a:rPr>
                <a:t>_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2c5"/>
                </a:solidFill>
                <a:latin typeface="Arial"/>
                <a:ea typeface="Arial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3995640" y="4221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8 – х)к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308720" y="4221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8к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403280" y="422100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х к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843280" y="6165720"/>
            <a:ext cx="3672000" cy="50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твет:1 кг. и 7 к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6012000" y="3284640"/>
            <a:ext cx="2592360" cy="991800"/>
            <a:chOff x="6012000" y="3284640"/>
            <a:chExt cx="2592360" cy="991800"/>
          </a:xfrm>
        </p:grpSpPr>
        <p:grpSp>
          <p:nvGrpSpPr>
            <p:cNvPr id="500" name=""/>
            <p:cNvGrpSpPr/>
            <p:nvPr/>
          </p:nvGrpSpPr>
          <p:grpSpPr>
            <a:xfrm>
              <a:off x="6012000" y="3284640"/>
              <a:ext cx="2592360" cy="960480"/>
              <a:chOff x="6012000" y="3284640"/>
              <a:chExt cx="2592360" cy="960480"/>
            </a:xfrm>
          </p:grpSpPr>
          <p:sp>
            <p:nvSpPr>
              <p:cNvPr id="501" name=""/>
              <p:cNvSpPr/>
              <p:nvPr/>
            </p:nvSpPr>
            <p:spPr>
              <a:xfrm>
                <a:off x="6012000" y="3284640"/>
                <a:ext cx="2566800" cy="585720"/>
              </a:xfrm>
              <a:custGeom>
                <a:avLst/>
                <a:gdLst/>
                <a:ahLst/>
                <a:rect l="l" t="t" r="r" b="b"/>
                <a:pathLst>
                  <a:path w="1617" h="369">
                    <a:moveTo>
                      <a:pt x="1207" y="4"/>
                    </a:moveTo>
                    <a:cubicBezTo>
                      <a:pt x="1266" y="8"/>
                      <a:pt x="1327" y="33"/>
                      <a:pt x="1376" y="47"/>
                    </a:cubicBezTo>
                    <a:cubicBezTo>
                      <a:pt x="1425" y="60"/>
                      <a:pt x="1466" y="71"/>
                      <a:pt x="1504" y="86"/>
                    </a:cubicBezTo>
                    <a:cubicBezTo>
                      <a:pt x="1543" y="102"/>
                      <a:pt x="1617" y="126"/>
                      <a:pt x="1606" y="140"/>
                    </a:cubicBezTo>
                    <a:cubicBezTo>
                      <a:pt x="1594" y="154"/>
                      <a:pt x="1496" y="160"/>
                      <a:pt x="1434" y="172"/>
                    </a:cubicBezTo>
                    <a:cubicBezTo>
                      <a:pt x="1373" y="184"/>
                      <a:pt x="1302" y="197"/>
                      <a:pt x="1238" y="210"/>
                    </a:cubicBezTo>
                    <a:cubicBezTo>
                      <a:pt x="1174" y="222"/>
                      <a:pt x="1126" y="232"/>
                      <a:pt x="1054" y="246"/>
                    </a:cubicBezTo>
                    <a:cubicBezTo>
                      <a:pt x="982" y="260"/>
                      <a:pt x="879" y="280"/>
                      <a:pt x="803" y="295"/>
                    </a:cubicBezTo>
                    <a:cubicBezTo>
                      <a:pt x="728" y="309"/>
                      <a:pt x="663" y="322"/>
                      <a:pt x="603" y="333"/>
                    </a:cubicBezTo>
                    <a:cubicBezTo>
                      <a:pt x="542" y="343"/>
                      <a:pt x="474" y="353"/>
                      <a:pt x="440" y="359"/>
                    </a:cubicBezTo>
                    <a:cubicBezTo>
                      <a:pt x="405" y="365"/>
                      <a:pt x="408" y="368"/>
                      <a:pt x="398" y="369"/>
                    </a:cubicBezTo>
                    <a:cubicBezTo>
                      <a:pt x="389" y="369"/>
                      <a:pt x="404" y="369"/>
                      <a:pt x="381" y="361"/>
                    </a:cubicBezTo>
                    <a:cubicBezTo>
                      <a:pt x="358" y="353"/>
                      <a:pt x="309" y="338"/>
                      <a:pt x="260" y="321"/>
                    </a:cubicBezTo>
                    <a:cubicBezTo>
                      <a:pt x="211" y="305"/>
                      <a:pt x="129" y="280"/>
                      <a:pt x="89" y="263"/>
                    </a:cubicBezTo>
                    <a:cubicBezTo>
                      <a:pt x="49" y="246"/>
                      <a:pt x="0" y="234"/>
                      <a:pt x="21" y="218"/>
                    </a:cubicBezTo>
                    <a:cubicBezTo>
                      <a:pt x="42" y="202"/>
                      <a:pt x="152" y="181"/>
                      <a:pt x="218" y="166"/>
                    </a:cubicBezTo>
                    <a:cubicBezTo>
                      <a:pt x="284" y="151"/>
                      <a:pt x="333" y="144"/>
                      <a:pt x="419" y="129"/>
                    </a:cubicBezTo>
                    <a:cubicBezTo>
                      <a:pt x="505" y="113"/>
                      <a:pt x="632" y="91"/>
                      <a:pt x="732" y="74"/>
                    </a:cubicBezTo>
                    <a:cubicBezTo>
                      <a:pt x="833" y="57"/>
                      <a:pt x="939" y="38"/>
                      <a:pt x="1019" y="27"/>
                    </a:cubicBezTo>
                    <a:cubicBezTo>
                      <a:pt x="1098" y="16"/>
                      <a:pt x="1148" y="0"/>
                      <a:pt x="1207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642000" y="3497400"/>
                <a:ext cx="1962360" cy="747720"/>
              </a:xfrm>
              <a:custGeom>
                <a:avLst/>
                <a:gdLst/>
                <a:ahLst/>
                <a:rect l="l" t="t" r="r" b="b"/>
                <a:pathLst>
                  <a:path w="1236" h="471">
                    <a:moveTo>
                      <a:pt x="988" y="47"/>
                    </a:moveTo>
                    <a:cubicBezTo>
                      <a:pt x="1069" y="35"/>
                      <a:pt x="1122" y="23"/>
                      <a:pt x="1160" y="17"/>
                    </a:cubicBezTo>
                    <a:cubicBezTo>
                      <a:pt x="1198" y="11"/>
                      <a:pt x="1204" y="0"/>
                      <a:pt x="1214" y="9"/>
                    </a:cubicBezTo>
                    <a:cubicBezTo>
                      <a:pt x="1224" y="18"/>
                      <a:pt x="1221" y="45"/>
                      <a:pt x="1223" y="69"/>
                    </a:cubicBezTo>
                    <a:cubicBezTo>
                      <a:pt x="1225" y="93"/>
                      <a:pt x="1228" y="132"/>
                      <a:pt x="1229" y="156"/>
                    </a:cubicBezTo>
                    <a:cubicBezTo>
                      <a:pt x="1230" y="180"/>
                      <a:pt x="1236" y="203"/>
                      <a:pt x="1232" y="216"/>
                    </a:cubicBezTo>
                    <a:cubicBezTo>
                      <a:pt x="1228" y="229"/>
                      <a:pt x="1222" y="225"/>
                      <a:pt x="1205" y="231"/>
                    </a:cubicBezTo>
                    <a:cubicBezTo>
                      <a:pt x="1188" y="237"/>
                      <a:pt x="1171" y="245"/>
                      <a:pt x="1130" y="255"/>
                    </a:cubicBezTo>
                    <a:cubicBezTo>
                      <a:pt x="1089" y="265"/>
                      <a:pt x="1014" y="280"/>
                      <a:pt x="959" y="291"/>
                    </a:cubicBezTo>
                    <a:cubicBezTo>
                      <a:pt x="903" y="303"/>
                      <a:pt x="849" y="317"/>
                      <a:pt x="800" y="327"/>
                    </a:cubicBezTo>
                    <a:cubicBezTo>
                      <a:pt x="751" y="338"/>
                      <a:pt x="710" y="344"/>
                      <a:pt x="662" y="354"/>
                    </a:cubicBezTo>
                    <a:cubicBezTo>
                      <a:pt x="614" y="364"/>
                      <a:pt x="568" y="375"/>
                      <a:pt x="512" y="386"/>
                    </a:cubicBezTo>
                    <a:cubicBezTo>
                      <a:pt x="455" y="397"/>
                      <a:pt x="376" y="412"/>
                      <a:pt x="324" y="422"/>
                    </a:cubicBezTo>
                    <a:cubicBezTo>
                      <a:pt x="271" y="432"/>
                      <a:pt x="230" y="439"/>
                      <a:pt x="198" y="445"/>
                    </a:cubicBezTo>
                    <a:cubicBezTo>
                      <a:pt x="167" y="450"/>
                      <a:pt x="163" y="452"/>
                      <a:pt x="133" y="455"/>
                    </a:cubicBezTo>
                    <a:cubicBezTo>
                      <a:pt x="102" y="458"/>
                      <a:pt x="38" y="471"/>
                      <a:pt x="19" y="465"/>
                    </a:cubicBezTo>
                    <a:cubicBezTo>
                      <a:pt x="0" y="460"/>
                      <a:pt x="20" y="438"/>
                      <a:pt x="19" y="422"/>
                    </a:cubicBezTo>
                    <a:cubicBezTo>
                      <a:pt x="18" y="405"/>
                      <a:pt x="16" y="384"/>
                      <a:pt x="15" y="367"/>
                    </a:cubicBezTo>
                    <a:cubicBezTo>
                      <a:pt x="14" y="350"/>
                      <a:pt x="11" y="335"/>
                      <a:pt x="10" y="318"/>
                    </a:cubicBezTo>
                    <a:cubicBezTo>
                      <a:pt x="9" y="301"/>
                      <a:pt x="9" y="280"/>
                      <a:pt x="10" y="265"/>
                    </a:cubicBezTo>
                    <a:cubicBezTo>
                      <a:pt x="11" y="250"/>
                      <a:pt x="3" y="238"/>
                      <a:pt x="15" y="231"/>
                    </a:cubicBezTo>
                    <a:cubicBezTo>
                      <a:pt x="26" y="223"/>
                      <a:pt x="41" y="227"/>
                      <a:pt x="81" y="220"/>
                    </a:cubicBezTo>
                    <a:cubicBezTo>
                      <a:pt x="122" y="212"/>
                      <a:pt x="188" y="202"/>
                      <a:pt x="257" y="189"/>
                    </a:cubicBezTo>
                    <a:cubicBezTo>
                      <a:pt x="326" y="177"/>
                      <a:pt x="419" y="159"/>
                      <a:pt x="495" y="144"/>
                    </a:cubicBezTo>
                    <a:cubicBezTo>
                      <a:pt x="571" y="129"/>
                      <a:pt x="634" y="116"/>
                      <a:pt x="716" y="100"/>
                    </a:cubicBezTo>
                    <a:cubicBezTo>
                      <a:pt x="799" y="84"/>
                      <a:pt x="931" y="58"/>
                      <a:pt x="988" y="4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035760" y="3632400"/>
                <a:ext cx="679320" cy="604800"/>
              </a:xfrm>
              <a:custGeom>
                <a:avLst/>
                <a:gdLst/>
                <a:ahLst/>
                <a:rect l="l" t="t" r="r" b="b"/>
                <a:pathLst>
                  <a:path w="428" h="381">
                    <a:moveTo>
                      <a:pt x="10" y="80"/>
                    </a:moveTo>
                    <a:cubicBezTo>
                      <a:pt x="10" y="96"/>
                      <a:pt x="10" y="120"/>
                      <a:pt x="10" y="136"/>
                    </a:cubicBezTo>
                    <a:cubicBezTo>
                      <a:pt x="10" y="153"/>
                      <a:pt x="10" y="163"/>
                      <a:pt x="10" y="178"/>
                    </a:cubicBezTo>
                    <a:cubicBezTo>
                      <a:pt x="10" y="193"/>
                      <a:pt x="10" y="216"/>
                      <a:pt x="13" y="227"/>
                    </a:cubicBezTo>
                    <a:cubicBezTo>
                      <a:pt x="17" y="238"/>
                      <a:pt x="21" y="236"/>
                      <a:pt x="33" y="242"/>
                    </a:cubicBezTo>
                    <a:cubicBezTo>
                      <a:pt x="45" y="248"/>
                      <a:pt x="65" y="256"/>
                      <a:pt x="87" y="265"/>
                    </a:cubicBezTo>
                    <a:cubicBezTo>
                      <a:pt x="109" y="273"/>
                      <a:pt x="142" y="286"/>
                      <a:pt x="164" y="295"/>
                    </a:cubicBezTo>
                    <a:cubicBezTo>
                      <a:pt x="188" y="304"/>
                      <a:pt x="198" y="308"/>
                      <a:pt x="223" y="318"/>
                    </a:cubicBezTo>
                    <a:cubicBezTo>
                      <a:pt x="249" y="327"/>
                      <a:pt x="288" y="342"/>
                      <a:pt x="319" y="352"/>
                    </a:cubicBezTo>
                    <a:cubicBezTo>
                      <a:pt x="350" y="362"/>
                      <a:pt x="394" y="381"/>
                      <a:pt x="411" y="380"/>
                    </a:cubicBezTo>
                    <a:cubicBezTo>
                      <a:pt x="428" y="379"/>
                      <a:pt x="421" y="357"/>
                      <a:pt x="422" y="343"/>
                    </a:cubicBezTo>
                    <a:cubicBezTo>
                      <a:pt x="423" y="329"/>
                      <a:pt x="420" y="312"/>
                      <a:pt x="419" y="296"/>
                    </a:cubicBezTo>
                    <a:cubicBezTo>
                      <a:pt x="418" y="280"/>
                      <a:pt x="417" y="261"/>
                      <a:pt x="417" y="245"/>
                    </a:cubicBezTo>
                    <a:cubicBezTo>
                      <a:pt x="417" y="229"/>
                      <a:pt x="418" y="213"/>
                      <a:pt x="417" y="197"/>
                    </a:cubicBezTo>
                    <a:cubicBezTo>
                      <a:pt x="416" y="181"/>
                      <a:pt x="421" y="160"/>
                      <a:pt x="409" y="147"/>
                    </a:cubicBezTo>
                    <a:cubicBezTo>
                      <a:pt x="397" y="134"/>
                      <a:pt x="368" y="128"/>
                      <a:pt x="344" y="119"/>
                    </a:cubicBezTo>
                    <a:cubicBezTo>
                      <a:pt x="318" y="109"/>
                      <a:pt x="290" y="102"/>
                      <a:pt x="255" y="90"/>
                    </a:cubicBezTo>
                    <a:cubicBezTo>
                      <a:pt x="222" y="79"/>
                      <a:pt x="173" y="61"/>
                      <a:pt x="140" y="49"/>
                    </a:cubicBezTo>
                    <a:cubicBezTo>
                      <a:pt x="107" y="37"/>
                      <a:pt x="82" y="28"/>
                      <a:pt x="60" y="20"/>
                    </a:cubicBezTo>
                    <a:cubicBezTo>
                      <a:pt x="38" y="12"/>
                      <a:pt x="18" y="0"/>
                      <a:pt x="9" y="2"/>
                    </a:cubicBezTo>
                    <a:cubicBezTo>
                      <a:pt x="0" y="4"/>
                      <a:pt x="6" y="20"/>
                      <a:pt x="6" y="33"/>
                    </a:cubicBezTo>
                    <a:cubicBezTo>
                      <a:pt x="6" y="46"/>
                      <a:pt x="10" y="63"/>
                      <a:pt x="10" y="8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845400" y="3457800"/>
                <a:ext cx="676080" cy="630000"/>
              </a:xfrm>
              <a:custGeom>
                <a:avLst/>
                <a:gdLst/>
                <a:ahLst/>
                <a:rect l="l" t="t" r="r" b="b"/>
                <a:pathLst>
                  <a:path w="426" h="397">
                    <a:moveTo>
                      <a:pt x="0" y="0"/>
                    </a:moveTo>
                    <a:cubicBezTo>
                      <a:pt x="25" y="8"/>
                      <a:pt x="99" y="36"/>
                      <a:pt x="145" y="53"/>
                    </a:cubicBezTo>
                    <a:cubicBezTo>
                      <a:pt x="190" y="69"/>
                      <a:pt x="238" y="87"/>
                      <a:pt x="273" y="100"/>
                    </a:cubicBezTo>
                    <a:cubicBezTo>
                      <a:pt x="307" y="113"/>
                      <a:pt x="331" y="122"/>
                      <a:pt x="354" y="131"/>
                    </a:cubicBezTo>
                    <a:cubicBezTo>
                      <a:pt x="376" y="140"/>
                      <a:pt x="399" y="144"/>
                      <a:pt x="409" y="157"/>
                    </a:cubicBezTo>
                    <a:cubicBezTo>
                      <a:pt x="419" y="170"/>
                      <a:pt x="413" y="191"/>
                      <a:pt x="414" y="208"/>
                    </a:cubicBezTo>
                    <a:cubicBezTo>
                      <a:pt x="415" y="225"/>
                      <a:pt x="416" y="247"/>
                      <a:pt x="417" y="262"/>
                    </a:cubicBezTo>
                    <a:cubicBezTo>
                      <a:pt x="418" y="277"/>
                      <a:pt x="419" y="286"/>
                      <a:pt x="420" y="301"/>
                    </a:cubicBezTo>
                    <a:cubicBezTo>
                      <a:pt x="421" y="316"/>
                      <a:pt x="422" y="336"/>
                      <a:pt x="423" y="352"/>
                    </a:cubicBezTo>
                    <a:cubicBezTo>
                      <a:pt x="424" y="368"/>
                      <a:pt x="425" y="388"/>
                      <a:pt x="426" y="397"/>
                    </a:cubicBezTo>
                  </a:path>
                </a:pathLst>
              </a:custGeom>
              <a:noFill/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5" name=""/>
            <p:cNvSpPr/>
            <p:nvPr/>
          </p:nvSpPr>
          <p:spPr>
            <a:xfrm>
              <a:off x="6228000" y="3427560"/>
              <a:ext cx="113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золот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236000" y="3284640"/>
              <a:ext cx="110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серебр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rot="20954400">
              <a:off x="6948720" y="3787560"/>
              <a:ext cx="35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rot="21024600">
              <a:off x="7740720" y="357156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1042920" y="2421000"/>
            <a:ext cx="2592360" cy="991800"/>
            <a:chOff x="1042920" y="2421000"/>
            <a:chExt cx="2592360" cy="991800"/>
          </a:xfrm>
        </p:grpSpPr>
        <p:grpSp>
          <p:nvGrpSpPr>
            <p:cNvPr id="510" name=""/>
            <p:cNvGrpSpPr/>
            <p:nvPr/>
          </p:nvGrpSpPr>
          <p:grpSpPr>
            <a:xfrm>
              <a:off x="1042920" y="2421000"/>
              <a:ext cx="2592360" cy="960480"/>
              <a:chOff x="1042920" y="2421000"/>
              <a:chExt cx="2592360" cy="960480"/>
            </a:xfrm>
          </p:grpSpPr>
          <p:sp>
            <p:nvSpPr>
              <p:cNvPr id="511" name=""/>
              <p:cNvSpPr/>
              <p:nvPr/>
            </p:nvSpPr>
            <p:spPr>
              <a:xfrm>
                <a:off x="1042920" y="2421000"/>
                <a:ext cx="2566800" cy="585720"/>
              </a:xfrm>
              <a:custGeom>
                <a:avLst/>
                <a:gdLst/>
                <a:ahLst/>
                <a:rect l="l" t="t" r="r" b="b"/>
                <a:pathLst>
                  <a:path w="1617" h="369">
                    <a:moveTo>
                      <a:pt x="1207" y="4"/>
                    </a:moveTo>
                    <a:cubicBezTo>
                      <a:pt x="1266" y="8"/>
                      <a:pt x="1327" y="33"/>
                      <a:pt x="1376" y="47"/>
                    </a:cubicBezTo>
                    <a:cubicBezTo>
                      <a:pt x="1425" y="60"/>
                      <a:pt x="1466" y="71"/>
                      <a:pt x="1504" y="86"/>
                    </a:cubicBezTo>
                    <a:cubicBezTo>
                      <a:pt x="1543" y="102"/>
                      <a:pt x="1617" y="126"/>
                      <a:pt x="1606" y="140"/>
                    </a:cubicBezTo>
                    <a:cubicBezTo>
                      <a:pt x="1594" y="154"/>
                      <a:pt x="1496" y="160"/>
                      <a:pt x="1434" y="172"/>
                    </a:cubicBezTo>
                    <a:cubicBezTo>
                      <a:pt x="1373" y="184"/>
                      <a:pt x="1302" y="197"/>
                      <a:pt x="1238" y="210"/>
                    </a:cubicBezTo>
                    <a:cubicBezTo>
                      <a:pt x="1174" y="222"/>
                      <a:pt x="1126" y="232"/>
                      <a:pt x="1054" y="246"/>
                    </a:cubicBezTo>
                    <a:cubicBezTo>
                      <a:pt x="982" y="260"/>
                      <a:pt x="879" y="280"/>
                      <a:pt x="803" y="295"/>
                    </a:cubicBezTo>
                    <a:cubicBezTo>
                      <a:pt x="728" y="309"/>
                      <a:pt x="663" y="322"/>
                      <a:pt x="603" y="333"/>
                    </a:cubicBezTo>
                    <a:cubicBezTo>
                      <a:pt x="542" y="343"/>
                      <a:pt x="474" y="353"/>
                      <a:pt x="440" y="359"/>
                    </a:cubicBezTo>
                    <a:cubicBezTo>
                      <a:pt x="405" y="365"/>
                      <a:pt x="408" y="368"/>
                      <a:pt x="398" y="369"/>
                    </a:cubicBezTo>
                    <a:cubicBezTo>
                      <a:pt x="389" y="369"/>
                      <a:pt x="404" y="369"/>
                      <a:pt x="381" y="361"/>
                    </a:cubicBezTo>
                    <a:cubicBezTo>
                      <a:pt x="358" y="353"/>
                      <a:pt x="309" y="338"/>
                      <a:pt x="260" y="321"/>
                    </a:cubicBezTo>
                    <a:cubicBezTo>
                      <a:pt x="211" y="305"/>
                      <a:pt x="129" y="280"/>
                      <a:pt x="89" y="263"/>
                    </a:cubicBezTo>
                    <a:cubicBezTo>
                      <a:pt x="49" y="246"/>
                      <a:pt x="0" y="234"/>
                      <a:pt x="21" y="218"/>
                    </a:cubicBezTo>
                    <a:cubicBezTo>
                      <a:pt x="42" y="202"/>
                      <a:pt x="152" y="181"/>
                      <a:pt x="218" y="166"/>
                    </a:cubicBezTo>
                    <a:cubicBezTo>
                      <a:pt x="284" y="151"/>
                      <a:pt x="333" y="144"/>
                      <a:pt x="419" y="129"/>
                    </a:cubicBezTo>
                    <a:cubicBezTo>
                      <a:pt x="505" y="113"/>
                      <a:pt x="632" y="91"/>
                      <a:pt x="732" y="74"/>
                    </a:cubicBezTo>
                    <a:cubicBezTo>
                      <a:pt x="833" y="57"/>
                      <a:pt x="939" y="38"/>
                      <a:pt x="1019" y="27"/>
                    </a:cubicBezTo>
                    <a:cubicBezTo>
                      <a:pt x="1098" y="16"/>
                      <a:pt x="1148" y="0"/>
                      <a:pt x="1207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672920" y="2633760"/>
                <a:ext cx="1962360" cy="747720"/>
              </a:xfrm>
              <a:custGeom>
                <a:avLst/>
                <a:gdLst/>
                <a:ahLst/>
                <a:rect l="l" t="t" r="r" b="b"/>
                <a:pathLst>
                  <a:path w="1236" h="471">
                    <a:moveTo>
                      <a:pt x="988" y="47"/>
                    </a:moveTo>
                    <a:cubicBezTo>
                      <a:pt x="1069" y="35"/>
                      <a:pt x="1122" y="23"/>
                      <a:pt x="1160" y="17"/>
                    </a:cubicBezTo>
                    <a:cubicBezTo>
                      <a:pt x="1198" y="11"/>
                      <a:pt x="1204" y="0"/>
                      <a:pt x="1214" y="9"/>
                    </a:cubicBezTo>
                    <a:cubicBezTo>
                      <a:pt x="1224" y="18"/>
                      <a:pt x="1221" y="45"/>
                      <a:pt x="1223" y="69"/>
                    </a:cubicBezTo>
                    <a:cubicBezTo>
                      <a:pt x="1225" y="93"/>
                      <a:pt x="1228" y="132"/>
                      <a:pt x="1229" y="156"/>
                    </a:cubicBezTo>
                    <a:cubicBezTo>
                      <a:pt x="1230" y="180"/>
                      <a:pt x="1236" y="203"/>
                      <a:pt x="1232" y="216"/>
                    </a:cubicBezTo>
                    <a:cubicBezTo>
                      <a:pt x="1228" y="229"/>
                      <a:pt x="1222" y="225"/>
                      <a:pt x="1205" y="231"/>
                    </a:cubicBezTo>
                    <a:cubicBezTo>
                      <a:pt x="1188" y="237"/>
                      <a:pt x="1171" y="245"/>
                      <a:pt x="1130" y="255"/>
                    </a:cubicBezTo>
                    <a:cubicBezTo>
                      <a:pt x="1089" y="265"/>
                      <a:pt x="1014" y="280"/>
                      <a:pt x="959" y="291"/>
                    </a:cubicBezTo>
                    <a:cubicBezTo>
                      <a:pt x="903" y="303"/>
                      <a:pt x="849" y="317"/>
                      <a:pt x="800" y="327"/>
                    </a:cubicBezTo>
                    <a:cubicBezTo>
                      <a:pt x="751" y="338"/>
                      <a:pt x="710" y="344"/>
                      <a:pt x="662" y="354"/>
                    </a:cubicBezTo>
                    <a:cubicBezTo>
                      <a:pt x="614" y="364"/>
                      <a:pt x="568" y="375"/>
                      <a:pt x="512" y="386"/>
                    </a:cubicBezTo>
                    <a:cubicBezTo>
                      <a:pt x="455" y="397"/>
                      <a:pt x="376" y="412"/>
                      <a:pt x="324" y="422"/>
                    </a:cubicBezTo>
                    <a:cubicBezTo>
                      <a:pt x="271" y="432"/>
                      <a:pt x="230" y="439"/>
                      <a:pt x="198" y="445"/>
                    </a:cubicBezTo>
                    <a:cubicBezTo>
                      <a:pt x="167" y="450"/>
                      <a:pt x="163" y="452"/>
                      <a:pt x="133" y="455"/>
                    </a:cubicBezTo>
                    <a:cubicBezTo>
                      <a:pt x="102" y="458"/>
                      <a:pt x="38" y="471"/>
                      <a:pt x="19" y="465"/>
                    </a:cubicBezTo>
                    <a:cubicBezTo>
                      <a:pt x="0" y="460"/>
                      <a:pt x="20" y="438"/>
                      <a:pt x="19" y="422"/>
                    </a:cubicBezTo>
                    <a:cubicBezTo>
                      <a:pt x="18" y="405"/>
                      <a:pt x="16" y="384"/>
                      <a:pt x="15" y="367"/>
                    </a:cubicBezTo>
                    <a:cubicBezTo>
                      <a:pt x="14" y="350"/>
                      <a:pt x="11" y="335"/>
                      <a:pt x="10" y="318"/>
                    </a:cubicBezTo>
                    <a:cubicBezTo>
                      <a:pt x="9" y="301"/>
                      <a:pt x="9" y="280"/>
                      <a:pt x="10" y="265"/>
                    </a:cubicBezTo>
                    <a:cubicBezTo>
                      <a:pt x="11" y="250"/>
                      <a:pt x="3" y="238"/>
                      <a:pt x="15" y="231"/>
                    </a:cubicBezTo>
                    <a:cubicBezTo>
                      <a:pt x="26" y="223"/>
                      <a:pt x="41" y="227"/>
                      <a:pt x="81" y="220"/>
                    </a:cubicBezTo>
                    <a:cubicBezTo>
                      <a:pt x="122" y="212"/>
                      <a:pt x="188" y="202"/>
                      <a:pt x="257" y="189"/>
                    </a:cubicBezTo>
                    <a:cubicBezTo>
                      <a:pt x="326" y="177"/>
                      <a:pt x="419" y="159"/>
                      <a:pt x="495" y="144"/>
                    </a:cubicBezTo>
                    <a:cubicBezTo>
                      <a:pt x="571" y="129"/>
                      <a:pt x="634" y="116"/>
                      <a:pt x="716" y="100"/>
                    </a:cubicBezTo>
                    <a:cubicBezTo>
                      <a:pt x="799" y="84"/>
                      <a:pt x="931" y="58"/>
                      <a:pt x="988" y="4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066680" y="2768760"/>
                <a:ext cx="679320" cy="604800"/>
              </a:xfrm>
              <a:custGeom>
                <a:avLst/>
                <a:gdLst/>
                <a:ahLst/>
                <a:rect l="l" t="t" r="r" b="b"/>
                <a:pathLst>
                  <a:path w="428" h="381">
                    <a:moveTo>
                      <a:pt x="10" y="80"/>
                    </a:moveTo>
                    <a:cubicBezTo>
                      <a:pt x="10" y="96"/>
                      <a:pt x="10" y="120"/>
                      <a:pt x="10" y="136"/>
                    </a:cubicBezTo>
                    <a:cubicBezTo>
                      <a:pt x="10" y="153"/>
                      <a:pt x="10" y="163"/>
                      <a:pt x="10" y="178"/>
                    </a:cubicBezTo>
                    <a:cubicBezTo>
                      <a:pt x="10" y="193"/>
                      <a:pt x="10" y="216"/>
                      <a:pt x="13" y="227"/>
                    </a:cubicBezTo>
                    <a:cubicBezTo>
                      <a:pt x="17" y="238"/>
                      <a:pt x="21" y="236"/>
                      <a:pt x="33" y="242"/>
                    </a:cubicBezTo>
                    <a:cubicBezTo>
                      <a:pt x="45" y="248"/>
                      <a:pt x="65" y="256"/>
                      <a:pt x="87" y="265"/>
                    </a:cubicBezTo>
                    <a:cubicBezTo>
                      <a:pt x="109" y="273"/>
                      <a:pt x="142" y="286"/>
                      <a:pt x="164" y="295"/>
                    </a:cubicBezTo>
                    <a:cubicBezTo>
                      <a:pt x="188" y="304"/>
                      <a:pt x="198" y="308"/>
                      <a:pt x="223" y="318"/>
                    </a:cubicBezTo>
                    <a:cubicBezTo>
                      <a:pt x="249" y="327"/>
                      <a:pt x="288" y="342"/>
                      <a:pt x="319" y="352"/>
                    </a:cubicBezTo>
                    <a:cubicBezTo>
                      <a:pt x="350" y="362"/>
                      <a:pt x="394" y="381"/>
                      <a:pt x="411" y="380"/>
                    </a:cubicBezTo>
                    <a:cubicBezTo>
                      <a:pt x="428" y="379"/>
                      <a:pt x="421" y="357"/>
                      <a:pt x="422" y="343"/>
                    </a:cubicBezTo>
                    <a:cubicBezTo>
                      <a:pt x="423" y="329"/>
                      <a:pt x="420" y="312"/>
                      <a:pt x="419" y="296"/>
                    </a:cubicBezTo>
                    <a:cubicBezTo>
                      <a:pt x="418" y="280"/>
                      <a:pt x="417" y="261"/>
                      <a:pt x="417" y="245"/>
                    </a:cubicBezTo>
                    <a:cubicBezTo>
                      <a:pt x="417" y="229"/>
                      <a:pt x="418" y="213"/>
                      <a:pt x="417" y="197"/>
                    </a:cubicBezTo>
                    <a:cubicBezTo>
                      <a:pt x="416" y="181"/>
                      <a:pt x="421" y="160"/>
                      <a:pt x="409" y="147"/>
                    </a:cubicBezTo>
                    <a:cubicBezTo>
                      <a:pt x="397" y="134"/>
                      <a:pt x="368" y="128"/>
                      <a:pt x="344" y="119"/>
                    </a:cubicBezTo>
                    <a:cubicBezTo>
                      <a:pt x="318" y="109"/>
                      <a:pt x="290" y="102"/>
                      <a:pt x="255" y="90"/>
                    </a:cubicBezTo>
                    <a:cubicBezTo>
                      <a:pt x="222" y="79"/>
                      <a:pt x="173" y="61"/>
                      <a:pt x="140" y="49"/>
                    </a:cubicBezTo>
                    <a:cubicBezTo>
                      <a:pt x="107" y="37"/>
                      <a:pt x="82" y="28"/>
                      <a:pt x="60" y="20"/>
                    </a:cubicBezTo>
                    <a:cubicBezTo>
                      <a:pt x="38" y="12"/>
                      <a:pt x="18" y="0"/>
                      <a:pt x="9" y="2"/>
                    </a:cubicBezTo>
                    <a:cubicBezTo>
                      <a:pt x="0" y="4"/>
                      <a:pt x="6" y="20"/>
                      <a:pt x="6" y="33"/>
                    </a:cubicBezTo>
                    <a:cubicBezTo>
                      <a:pt x="6" y="46"/>
                      <a:pt x="10" y="63"/>
                      <a:pt x="10" y="8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876320" y="2594160"/>
                <a:ext cx="676080" cy="630000"/>
              </a:xfrm>
              <a:custGeom>
                <a:avLst/>
                <a:gdLst/>
                <a:ahLst/>
                <a:rect l="l" t="t" r="r" b="b"/>
                <a:pathLst>
                  <a:path w="426" h="397">
                    <a:moveTo>
                      <a:pt x="0" y="0"/>
                    </a:moveTo>
                    <a:cubicBezTo>
                      <a:pt x="25" y="8"/>
                      <a:pt x="99" y="36"/>
                      <a:pt x="145" y="53"/>
                    </a:cubicBezTo>
                    <a:cubicBezTo>
                      <a:pt x="190" y="69"/>
                      <a:pt x="238" y="87"/>
                      <a:pt x="273" y="100"/>
                    </a:cubicBezTo>
                    <a:cubicBezTo>
                      <a:pt x="307" y="113"/>
                      <a:pt x="331" y="122"/>
                      <a:pt x="354" y="131"/>
                    </a:cubicBezTo>
                    <a:cubicBezTo>
                      <a:pt x="376" y="140"/>
                      <a:pt x="399" y="144"/>
                      <a:pt x="409" y="157"/>
                    </a:cubicBezTo>
                    <a:cubicBezTo>
                      <a:pt x="419" y="170"/>
                      <a:pt x="413" y="191"/>
                      <a:pt x="414" y="208"/>
                    </a:cubicBezTo>
                    <a:cubicBezTo>
                      <a:pt x="415" y="225"/>
                      <a:pt x="416" y="247"/>
                      <a:pt x="417" y="262"/>
                    </a:cubicBezTo>
                    <a:cubicBezTo>
                      <a:pt x="418" y="277"/>
                      <a:pt x="419" y="286"/>
                      <a:pt x="420" y="301"/>
                    </a:cubicBezTo>
                    <a:cubicBezTo>
                      <a:pt x="421" y="316"/>
                      <a:pt x="422" y="336"/>
                      <a:pt x="423" y="352"/>
                    </a:cubicBezTo>
                    <a:cubicBezTo>
                      <a:pt x="424" y="368"/>
                      <a:pt x="425" y="388"/>
                      <a:pt x="426" y="397"/>
                    </a:cubicBezTo>
                  </a:path>
                </a:pathLst>
              </a:custGeom>
              <a:noFill/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>
              <a:off x="1258920" y="2563920"/>
              <a:ext cx="113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золот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266920" y="2421000"/>
              <a:ext cx="110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серебр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20954400">
              <a:off x="1979640" y="2923920"/>
              <a:ext cx="35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rot="21024600">
              <a:off x="2916360" y="270792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5364000" y="2421000"/>
            <a:ext cx="2592360" cy="991800"/>
            <a:chOff x="5364000" y="2421000"/>
            <a:chExt cx="2592360" cy="991800"/>
          </a:xfrm>
        </p:grpSpPr>
        <p:grpSp>
          <p:nvGrpSpPr>
            <p:cNvPr id="520" name=""/>
            <p:cNvGrpSpPr/>
            <p:nvPr/>
          </p:nvGrpSpPr>
          <p:grpSpPr>
            <a:xfrm>
              <a:off x="5364000" y="2421000"/>
              <a:ext cx="2592360" cy="960480"/>
              <a:chOff x="5364000" y="2421000"/>
              <a:chExt cx="2592360" cy="960480"/>
            </a:xfrm>
          </p:grpSpPr>
          <p:sp>
            <p:nvSpPr>
              <p:cNvPr id="521" name=""/>
              <p:cNvSpPr/>
              <p:nvPr/>
            </p:nvSpPr>
            <p:spPr>
              <a:xfrm>
                <a:off x="5364000" y="2421000"/>
                <a:ext cx="2566800" cy="585720"/>
              </a:xfrm>
              <a:custGeom>
                <a:avLst/>
                <a:gdLst/>
                <a:ahLst/>
                <a:rect l="l" t="t" r="r" b="b"/>
                <a:pathLst>
                  <a:path w="1617" h="369">
                    <a:moveTo>
                      <a:pt x="1207" y="4"/>
                    </a:moveTo>
                    <a:cubicBezTo>
                      <a:pt x="1266" y="8"/>
                      <a:pt x="1327" y="33"/>
                      <a:pt x="1376" y="47"/>
                    </a:cubicBezTo>
                    <a:cubicBezTo>
                      <a:pt x="1425" y="60"/>
                      <a:pt x="1466" y="71"/>
                      <a:pt x="1504" y="86"/>
                    </a:cubicBezTo>
                    <a:cubicBezTo>
                      <a:pt x="1543" y="102"/>
                      <a:pt x="1617" y="126"/>
                      <a:pt x="1606" y="140"/>
                    </a:cubicBezTo>
                    <a:cubicBezTo>
                      <a:pt x="1594" y="154"/>
                      <a:pt x="1496" y="160"/>
                      <a:pt x="1434" y="172"/>
                    </a:cubicBezTo>
                    <a:cubicBezTo>
                      <a:pt x="1373" y="184"/>
                      <a:pt x="1302" y="197"/>
                      <a:pt x="1238" y="210"/>
                    </a:cubicBezTo>
                    <a:cubicBezTo>
                      <a:pt x="1174" y="222"/>
                      <a:pt x="1126" y="232"/>
                      <a:pt x="1054" y="246"/>
                    </a:cubicBezTo>
                    <a:cubicBezTo>
                      <a:pt x="982" y="260"/>
                      <a:pt x="879" y="280"/>
                      <a:pt x="803" y="295"/>
                    </a:cubicBezTo>
                    <a:cubicBezTo>
                      <a:pt x="728" y="309"/>
                      <a:pt x="663" y="322"/>
                      <a:pt x="603" y="333"/>
                    </a:cubicBezTo>
                    <a:cubicBezTo>
                      <a:pt x="542" y="343"/>
                      <a:pt x="474" y="353"/>
                      <a:pt x="440" y="359"/>
                    </a:cubicBezTo>
                    <a:cubicBezTo>
                      <a:pt x="405" y="365"/>
                      <a:pt x="408" y="368"/>
                      <a:pt x="398" y="369"/>
                    </a:cubicBezTo>
                    <a:cubicBezTo>
                      <a:pt x="389" y="369"/>
                      <a:pt x="404" y="369"/>
                      <a:pt x="381" y="361"/>
                    </a:cubicBezTo>
                    <a:cubicBezTo>
                      <a:pt x="358" y="353"/>
                      <a:pt x="309" y="338"/>
                      <a:pt x="260" y="321"/>
                    </a:cubicBezTo>
                    <a:cubicBezTo>
                      <a:pt x="211" y="305"/>
                      <a:pt x="129" y="280"/>
                      <a:pt x="89" y="263"/>
                    </a:cubicBezTo>
                    <a:cubicBezTo>
                      <a:pt x="49" y="246"/>
                      <a:pt x="0" y="234"/>
                      <a:pt x="21" y="218"/>
                    </a:cubicBezTo>
                    <a:cubicBezTo>
                      <a:pt x="42" y="202"/>
                      <a:pt x="152" y="181"/>
                      <a:pt x="218" y="166"/>
                    </a:cubicBezTo>
                    <a:cubicBezTo>
                      <a:pt x="284" y="151"/>
                      <a:pt x="333" y="144"/>
                      <a:pt x="419" y="129"/>
                    </a:cubicBezTo>
                    <a:cubicBezTo>
                      <a:pt x="505" y="113"/>
                      <a:pt x="632" y="91"/>
                      <a:pt x="732" y="74"/>
                    </a:cubicBezTo>
                    <a:cubicBezTo>
                      <a:pt x="833" y="57"/>
                      <a:pt x="939" y="38"/>
                      <a:pt x="1019" y="27"/>
                    </a:cubicBezTo>
                    <a:cubicBezTo>
                      <a:pt x="1098" y="16"/>
                      <a:pt x="1148" y="0"/>
                      <a:pt x="1207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5994000" y="2633760"/>
                <a:ext cx="1962360" cy="747720"/>
              </a:xfrm>
              <a:custGeom>
                <a:avLst/>
                <a:gdLst/>
                <a:ahLst/>
                <a:rect l="l" t="t" r="r" b="b"/>
                <a:pathLst>
                  <a:path w="1236" h="471">
                    <a:moveTo>
                      <a:pt x="988" y="47"/>
                    </a:moveTo>
                    <a:cubicBezTo>
                      <a:pt x="1069" y="35"/>
                      <a:pt x="1122" y="23"/>
                      <a:pt x="1160" y="17"/>
                    </a:cubicBezTo>
                    <a:cubicBezTo>
                      <a:pt x="1198" y="11"/>
                      <a:pt x="1204" y="0"/>
                      <a:pt x="1214" y="9"/>
                    </a:cubicBezTo>
                    <a:cubicBezTo>
                      <a:pt x="1224" y="18"/>
                      <a:pt x="1221" y="45"/>
                      <a:pt x="1223" y="69"/>
                    </a:cubicBezTo>
                    <a:cubicBezTo>
                      <a:pt x="1225" y="93"/>
                      <a:pt x="1228" y="132"/>
                      <a:pt x="1229" y="156"/>
                    </a:cubicBezTo>
                    <a:cubicBezTo>
                      <a:pt x="1230" y="180"/>
                      <a:pt x="1236" y="203"/>
                      <a:pt x="1232" y="216"/>
                    </a:cubicBezTo>
                    <a:cubicBezTo>
                      <a:pt x="1228" y="229"/>
                      <a:pt x="1222" y="225"/>
                      <a:pt x="1205" y="231"/>
                    </a:cubicBezTo>
                    <a:cubicBezTo>
                      <a:pt x="1188" y="237"/>
                      <a:pt x="1171" y="245"/>
                      <a:pt x="1130" y="255"/>
                    </a:cubicBezTo>
                    <a:cubicBezTo>
                      <a:pt x="1089" y="265"/>
                      <a:pt x="1014" y="280"/>
                      <a:pt x="959" y="291"/>
                    </a:cubicBezTo>
                    <a:cubicBezTo>
                      <a:pt x="903" y="303"/>
                      <a:pt x="849" y="317"/>
                      <a:pt x="800" y="327"/>
                    </a:cubicBezTo>
                    <a:cubicBezTo>
                      <a:pt x="751" y="338"/>
                      <a:pt x="710" y="344"/>
                      <a:pt x="662" y="354"/>
                    </a:cubicBezTo>
                    <a:cubicBezTo>
                      <a:pt x="614" y="364"/>
                      <a:pt x="568" y="375"/>
                      <a:pt x="512" y="386"/>
                    </a:cubicBezTo>
                    <a:cubicBezTo>
                      <a:pt x="455" y="397"/>
                      <a:pt x="376" y="412"/>
                      <a:pt x="324" y="422"/>
                    </a:cubicBezTo>
                    <a:cubicBezTo>
                      <a:pt x="271" y="432"/>
                      <a:pt x="230" y="439"/>
                      <a:pt x="198" y="445"/>
                    </a:cubicBezTo>
                    <a:cubicBezTo>
                      <a:pt x="167" y="450"/>
                      <a:pt x="163" y="452"/>
                      <a:pt x="133" y="455"/>
                    </a:cubicBezTo>
                    <a:cubicBezTo>
                      <a:pt x="102" y="458"/>
                      <a:pt x="38" y="471"/>
                      <a:pt x="19" y="465"/>
                    </a:cubicBezTo>
                    <a:cubicBezTo>
                      <a:pt x="0" y="460"/>
                      <a:pt x="20" y="438"/>
                      <a:pt x="19" y="422"/>
                    </a:cubicBezTo>
                    <a:cubicBezTo>
                      <a:pt x="18" y="405"/>
                      <a:pt x="16" y="384"/>
                      <a:pt x="15" y="367"/>
                    </a:cubicBezTo>
                    <a:cubicBezTo>
                      <a:pt x="14" y="350"/>
                      <a:pt x="11" y="335"/>
                      <a:pt x="10" y="318"/>
                    </a:cubicBezTo>
                    <a:cubicBezTo>
                      <a:pt x="9" y="301"/>
                      <a:pt x="9" y="280"/>
                      <a:pt x="10" y="265"/>
                    </a:cubicBezTo>
                    <a:cubicBezTo>
                      <a:pt x="11" y="250"/>
                      <a:pt x="3" y="238"/>
                      <a:pt x="15" y="231"/>
                    </a:cubicBezTo>
                    <a:cubicBezTo>
                      <a:pt x="26" y="223"/>
                      <a:pt x="41" y="227"/>
                      <a:pt x="81" y="220"/>
                    </a:cubicBezTo>
                    <a:cubicBezTo>
                      <a:pt x="122" y="212"/>
                      <a:pt x="188" y="202"/>
                      <a:pt x="257" y="189"/>
                    </a:cubicBezTo>
                    <a:cubicBezTo>
                      <a:pt x="326" y="177"/>
                      <a:pt x="419" y="159"/>
                      <a:pt x="495" y="144"/>
                    </a:cubicBezTo>
                    <a:cubicBezTo>
                      <a:pt x="571" y="129"/>
                      <a:pt x="634" y="116"/>
                      <a:pt x="716" y="100"/>
                    </a:cubicBezTo>
                    <a:cubicBezTo>
                      <a:pt x="799" y="84"/>
                      <a:pt x="931" y="58"/>
                      <a:pt x="988" y="4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387760" y="2768760"/>
                <a:ext cx="679320" cy="604800"/>
              </a:xfrm>
              <a:custGeom>
                <a:avLst/>
                <a:gdLst/>
                <a:ahLst/>
                <a:rect l="l" t="t" r="r" b="b"/>
                <a:pathLst>
                  <a:path w="428" h="381">
                    <a:moveTo>
                      <a:pt x="10" y="80"/>
                    </a:moveTo>
                    <a:cubicBezTo>
                      <a:pt x="10" y="96"/>
                      <a:pt x="10" y="120"/>
                      <a:pt x="10" y="136"/>
                    </a:cubicBezTo>
                    <a:cubicBezTo>
                      <a:pt x="10" y="153"/>
                      <a:pt x="10" y="163"/>
                      <a:pt x="10" y="178"/>
                    </a:cubicBezTo>
                    <a:cubicBezTo>
                      <a:pt x="10" y="193"/>
                      <a:pt x="10" y="216"/>
                      <a:pt x="13" y="227"/>
                    </a:cubicBezTo>
                    <a:cubicBezTo>
                      <a:pt x="17" y="238"/>
                      <a:pt x="21" y="236"/>
                      <a:pt x="33" y="242"/>
                    </a:cubicBezTo>
                    <a:cubicBezTo>
                      <a:pt x="45" y="248"/>
                      <a:pt x="65" y="256"/>
                      <a:pt x="87" y="265"/>
                    </a:cubicBezTo>
                    <a:cubicBezTo>
                      <a:pt x="109" y="273"/>
                      <a:pt x="142" y="286"/>
                      <a:pt x="164" y="295"/>
                    </a:cubicBezTo>
                    <a:cubicBezTo>
                      <a:pt x="188" y="304"/>
                      <a:pt x="198" y="308"/>
                      <a:pt x="223" y="318"/>
                    </a:cubicBezTo>
                    <a:cubicBezTo>
                      <a:pt x="249" y="327"/>
                      <a:pt x="288" y="342"/>
                      <a:pt x="319" y="352"/>
                    </a:cubicBezTo>
                    <a:cubicBezTo>
                      <a:pt x="350" y="362"/>
                      <a:pt x="394" y="381"/>
                      <a:pt x="411" y="380"/>
                    </a:cubicBezTo>
                    <a:cubicBezTo>
                      <a:pt x="428" y="379"/>
                      <a:pt x="421" y="357"/>
                      <a:pt x="422" y="343"/>
                    </a:cubicBezTo>
                    <a:cubicBezTo>
                      <a:pt x="423" y="329"/>
                      <a:pt x="420" y="312"/>
                      <a:pt x="419" y="296"/>
                    </a:cubicBezTo>
                    <a:cubicBezTo>
                      <a:pt x="418" y="280"/>
                      <a:pt x="417" y="261"/>
                      <a:pt x="417" y="245"/>
                    </a:cubicBezTo>
                    <a:cubicBezTo>
                      <a:pt x="417" y="229"/>
                      <a:pt x="418" y="213"/>
                      <a:pt x="417" y="197"/>
                    </a:cubicBezTo>
                    <a:cubicBezTo>
                      <a:pt x="416" y="181"/>
                      <a:pt x="421" y="160"/>
                      <a:pt x="409" y="147"/>
                    </a:cubicBezTo>
                    <a:cubicBezTo>
                      <a:pt x="397" y="134"/>
                      <a:pt x="368" y="128"/>
                      <a:pt x="344" y="119"/>
                    </a:cubicBezTo>
                    <a:cubicBezTo>
                      <a:pt x="318" y="109"/>
                      <a:pt x="290" y="102"/>
                      <a:pt x="255" y="90"/>
                    </a:cubicBezTo>
                    <a:cubicBezTo>
                      <a:pt x="222" y="79"/>
                      <a:pt x="173" y="61"/>
                      <a:pt x="140" y="49"/>
                    </a:cubicBezTo>
                    <a:cubicBezTo>
                      <a:pt x="107" y="37"/>
                      <a:pt x="82" y="28"/>
                      <a:pt x="60" y="20"/>
                    </a:cubicBezTo>
                    <a:cubicBezTo>
                      <a:pt x="38" y="12"/>
                      <a:pt x="18" y="0"/>
                      <a:pt x="9" y="2"/>
                    </a:cubicBezTo>
                    <a:cubicBezTo>
                      <a:pt x="0" y="4"/>
                      <a:pt x="6" y="20"/>
                      <a:pt x="6" y="33"/>
                    </a:cubicBezTo>
                    <a:cubicBezTo>
                      <a:pt x="6" y="46"/>
                      <a:pt x="10" y="63"/>
                      <a:pt x="10" y="8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197400" y="2594160"/>
                <a:ext cx="676080" cy="630000"/>
              </a:xfrm>
              <a:custGeom>
                <a:avLst/>
                <a:gdLst/>
                <a:ahLst/>
                <a:rect l="l" t="t" r="r" b="b"/>
                <a:pathLst>
                  <a:path w="426" h="397">
                    <a:moveTo>
                      <a:pt x="0" y="0"/>
                    </a:moveTo>
                    <a:cubicBezTo>
                      <a:pt x="25" y="8"/>
                      <a:pt x="99" y="36"/>
                      <a:pt x="145" y="53"/>
                    </a:cubicBezTo>
                    <a:cubicBezTo>
                      <a:pt x="190" y="69"/>
                      <a:pt x="238" y="87"/>
                      <a:pt x="273" y="100"/>
                    </a:cubicBezTo>
                    <a:cubicBezTo>
                      <a:pt x="307" y="113"/>
                      <a:pt x="331" y="122"/>
                      <a:pt x="354" y="131"/>
                    </a:cubicBezTo>
                    <a:cubicBezTo>
                      <a:pt x="376" y="140"/>
                      <a:pt x="399" y="144"/>
                      <a:pt x="409" y="157"/>
                    </a:cubicBezTo>
                    <a:cubicBezTo>
                      <a:pt x="419" y="170"/>
                      <a:pt x="413" y="191"/>
                      <a:pt x="414" y="208"/>
                    </a:cubicBezTo>
                    <a:cubicBezTo>
                      <a:pt x="415" y="225"/>
                      <a:pt x="416" y="247"/>
                      <a:pt x="417" y="262"/>
                    </a:cubicBezTo>
                    <a:cubicBezTo>
                      <a:pt x="418" y="277"/>
                      <a:pt x="419" y="286"/>
                      <a:pt x="420" y="301"/>
                    </a:cubicBezTo>
                    <a:cubicBezTo>
                      <a:pt x="421" y="316"/>
                      <a:pt x="422" y="336"/>
                      <a:pt x="423" y="352"/>
                    </a:cubicBezTo>
                    <a:cubicBezTo>
                      <a:pt x="424" y="368"/>
                      <a:pt x="425" y="388"/>
                      <a:pt x="426" y="397"/>
                    </a:cubicBezTo>
                  </a:path>
                </a:pathLst>
              </a:custGeom>
              <a:noFill/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5" name=""/>
            <p:cNvSpPr/>
            <p:nvPr/>
          </p:nvSpPr>
          <p:spPr>
            <a:xfrm>
              <a:off x="5580000" y="2563920"/>
              <a:ext cx="113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золот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588000" y="2421000"/>
              <a:ext cx="110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серебр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 rot="20954400">
              <a:off x="6300720" y="2923920"/>
              <a:ext cx="35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 rot="21024600">
              <a:off x="7308720" y="270972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826920" y="2276640"/>
            <a:ext cx="3527280" cy="1157400"/>
            <a:chOff x="826920" y="2276640"/>
            <a:chExt cx="3527280" cy="1157400"/>
          </a:xfrm>
        </p:grpSpPr>
        <p:grpSp>
          <p:nvGrpSpPr>
            <p:cNvPr id="530" name=""/>
            <p:cNvGrpSpPr/>
            <p:nvPr/>
          </p:nvGrpSpPr>
          <p:grpSpPr>
            <a:xfrm>
              <a:off x="826920" y="2276640"/>
              <a:ext cx="3527280" cy="1152000"/>
              <a:chOff x="826920" y="2276640"/>
              <a:chExt cx="3527280" cy="1152000"/>
            </a:xfrm>
          </p:grpSpPr>
          <p:sp>
            <p:nvSpPr>
              <p:cNvPr id="531" name=""/>
              <p:cNvSpPr/>
              <p:nvPr/>
            </p:nvSpPr>
            <p:spPr>
              <a:xfrm>
                <a:off x="826920" y="2276640"/>
                <a:ext cx="3492720" cy="702360"/>
              </a:xfrm>
              <a:custGeom>
                <a:avLst/>
                <a:gdLst/>
                <a:ahLst/>
                <a:rect l="l" t="t" r="r" b="b"/>
                <a:pathLst>
                  <a:path w="1617" h="369">
                    <a:moveTo>
                      <a:pt x="1207" y="4"/>
                    </a:moveTo>
                    <a:cubicBezTo>
                      <a:pt x="1266" y="8"/>
                      <a:pt x="1327" y="33"/>
                      <a:pt x="1376" y="47"/>
                    </a:cubicBezTo>
                    <a:cubicBezTo>
                      <a:pt x="1425" y="60"/>
                      <a:pt x="1466" y="71"/>
                      <a:pt x="1504" y="86"/>
                    </a:cubicBezTo>
                    <a:cubicBezTo>
                      <a:pt x="1543" y="102"/>
                      <a:pt x="1617" y="126"/>
                      <a:pt x="1606" y="140"/>
                    </a:cubicBezTo>
                    <a:cubicBezTo>
                      <a:pt x="1594" y="154"/>
                      <a:pt x="1496" y="160"/>
                      <a:pt x="1434" y="172"/>
                    </a:cubicBezTo>
                    <a:cubicBezTo>
                      <a:pt x="1373" y="184"/>
                      <a:pt x="1302" y="197"/>
                      <a:pt x="1238" y="210"/>
                    </a:cubicBezTo>
                    <a:cubicBezTo>
                      <a:pt x="1174" y="222"/>
                      <a:pt x="1126" y="232"/>
                      <a:pt x="1054" y="246"/>
                    </a:cubicBezTo>
                    <a:cubicBezTo>
                      <a:pt x="982" y="260"/>
                      <a:pt x="879" y="280"/>
                      <a:pt x="803" y="295"/>
                    </a:cubicBezTo>
                    <a:cubicBezTo>
                      <a:pt x="728" y="309"/>
                      <a:pt x="663" y="322"/>
                      <a:pt x="603" y="333"/>
                    </a:cubicBezTo>
                    <a:cubicBezTo>
                      <a:pt x="542" y="343"/>
                      <a:pt x="474" y="353"/>
                      <a:pt x="440" y="359"/>
                    </a:cubicBezTo>
                    <a:cubicBezTo>
                      <a:pt x="405" y="365"/>
                      <a:pt x="408" y="368"/>
                      <a:pt x="398" y="369"/>
                    </a:cubicBezTo>
                    <a:cubicBezTo>
                      <a:pt x="389" y="369"/>
                      <a:pt x="404" y="369"/>
                      <a:pt x="381" y="361"/>
                    </a:cubicBezTo>
                    <a:cubicBezTo>
                      <a:pt x="358" y="353"/>
                      <a:pt x="309" y="338"/>
                      <a:pt x="260" y="321"/>
                    </a:cubicBezTo>
                    <a:cubicBezTo>
                      <a:pt x="211" y="305"/>
                      <a:pt x="129" y="280"/>
                      <a:pt x="89" y="263"/>
                    </a:cubicBezTo>
                    <a:cubicBezTo>
                      <a:pt x="49" y="246"/>
                      <a:pt x="0" y="234"/>
                      <a:pt x="21" y="218"/>
                    </a:cubicBezTo>
                    <a:cubicBezTo>
                      <a:pt x="42" y="202"/>
                      <a:pt x="152" y="181"/>
                      <a:pt x="218" y="166"/>
                    </a:cubicBezTo>
                    <a:cubicBezTo>
                      <a:pt x="284" y="151"/>
                      <a:pt x="333" y="144"/>
                      <a:pt x="419" y="129"/>
                    </a:cubicBezTo>
                    <a:cubicBezTo>
                      <a:pt x="505" y="113"/>
                      <a:pt x="632" y="91"/>
                      <a:pt x="732" y="74"/>
                    </a:cubicBezTo>
                    <a:cubicBezTo>
                      <a:pt x="833" y="57"/>
                      <a:pt x="939" y="38"/>
                      <a:pt x="1019" y="27"/>
                    </a:cubicBezTo>
                    <a:cubicBezTo>
                      <a:pt x="1098" y="16"/>
                      <a:pt x="1148" y="0"/>
                      <a:pt x="1207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684080" y="2531880"/>
                <a:ext cx="2670120" cy="896760"/>
              </a:xfrm>
              <a:custGeom>
                <a:avLst/>
                <a:gdLst/>
                <a:ahLst/>
                <a:rect l="l" t="t" r="r" b="b"/>
                <a:pathLst>
                  <a:path w="1236" h="471">
                    <a:moveTo>
                      <a:pt x="988" y="47"/>
                    </a:moveTo>
                    <a:cubicBezTo>
                      <a:pt x="1069" y="35"/>
                      <a:pt x="1122" y="23"/>
                      <a:pt x="1160" y="17"/>
                    </a:cubicBezTo>
                    <a:cubicBezTo>
                      <a:pt x="1198" y="11"/>
                      <a:pt x="1204" y="0"/>
                      <a:pt x="1214" y="9"/>
                    </a:cubicBezTo>
                    <a:cubicBezTo>
                      <a:pt x="1224" y="18"/>
                      <a:pt x="1221" y="45"/>
                      <a:pt x="1223" y="69"/>
                    </a:cubicBezTo>
                    <a:cubicBezTo>
                      <a:pt x="1225" y="93"/>
                      <a:pt x="1228" y="132"/>
                      <a:pt x="1229" y="156"/>
                    </a:cubicBezTo>
                    <a:cubicBezTo>
                      <a:pt x="1230" y="180"/>
                      <a:pt x="1236" y="203"/>
                      <a:pt x="1232" y="216"/>
                    </a:cubicBezTo>
                    <a:cubicBezTo>
                      <a:pt x="1228" y="229"/>
                      <a:pt x="1222" y="225"/>
                      <a:pt x="1205" y="231"/>
                    </a:cubicBezTo>
                    <a:cubicBezTo>
                      <a:pt x="1188" y="237"/>
                      <a:pt x="1171" y="245"/>
                      <a:pt x="1130" y="255"/>
                    </a:cubicBezTo>
                    <a:cubicBezTo>
                      <a:pt x="1089" y="265"/>
                      <a:pt x="1014" y="280"/>
                      <a:pt x="959" y="291"/>
                    </a:cubicBezTo>
                    <a:cubicBezTo>
                      <a:pt x="903" y="303"/>
                      <a:pt x="849" y="317"/>
                      <a:pt x="800" y="327"/>
                    </a:cubicBezTo>
                    <a:cubicBezTo>
                      <a:pt x="751" y="338"/>
                      <a:pt x="710" y="344"/>
                      <a:pt x="662" y="354"/>
                    </a:cubicBezTo>
                    <a:cubicBezTo>
                      <a:pt x="614" y="364"/>
                      <a:pt x="568" y="375"/>
                      <a:pt x="512" y="386"/>
                    </a:cubicBezTo>
                    <a:cubicBezTo>
                      <a:pt x="455" y="397"/>
                      <a:pt x="376" y="412"/>
                      <a:pt x="324" y="422"/>
                    </a:cubicBezTo>
                    <a:cubicBezTo>
                      <a:pt x="271" y="432"/>
                      <a:pt x="230" y="439"/>
                      <a:pt x="198" y="445"/>
                    </a:cubicBezTo>
                    <a:cubicBezTo>
                      <a:pt x="167" y="450"/>
                      <a:pt x="163" y="452"/>
                      <a:pt x="133" y="455"/>
                    </a:cubicBezTo>
                    <a:cubicBezTo>
                      <a:pt x="102" y="458"/>
                      <a:pt x="38" y="471"/>
                      <a:pt x="19" y="465"/>
                    </a:cubicBezTo>
                    <a:cubicBezTo>
                      <a:pt x="0" y="460"/>
                      <a:pt x="20" y="438"/>
                      <a:pt x="19" y="422"/>
                    </a:cubicBezTo>
                    <a:cubicBezTo>
                      <a:pt x="18" y="405"/>
                      <a:pt x="16" y="384"/>
                      <a:pt x="15" y="367"/>
                    </a:cubicBezTo>
                    <a:cubicBezTo>
                      <a:pt x="14" y="350"/>
                      <a:pt x="11" y="335"/>
                      <a:pt x="10" y="318"/>
                    </a:cubicBezTo>
                    <a:cubicBezTo>
                      <a:pt x="9" y="301"/>
                      <a:pt x="9" y="280"/>
                      <a:pt x="10" y="265"/>
                    </a:cubicBezTo>
                    <a:cubicBezTo>
                      <a:pt x="11" y="250"/>
                      <a:pt x="3" y="238"/>
                      <a:pt x="15" y="231"/>
                    </a:cubicBezTo>
                    <a:cubicBezTo>
                      <a:pt x="26" y="223"/>
                      <a:pt x="41" y="227"/>
                      <a:pt x="81" y="220"/>
                    </a:cubicBezTo>
                    <a:cubicBezTo>
                      <a:pt x="122" y="212"/>
                      <a:pt x="188" y="202"/>
                      <a:pt x="257" y="189"/>
                    </a:cubicBezTo>
                    <a:cubicBezTo>
                      <a:pt x="326" y="177"/>
                      <a:pt x="419" y="159"/>
                      <a:pt x="495" y="144"/>
                    </a:cubicBezTo>
                    <a:cubicBezTo>
                      <a:pt x="571" y="129"/>
                      <a:pt x="634" y="116"/>
                      <a:pt x="716" y="100"/>
                    </a:cubicBezTo>
                    <a:cubicBezTo>
                      <a:pt x="799" y="84"/>
                      <a:pt x="931" y="58"/>
                      <a:pt x="988" y="4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58960" y="2693520"/>
                <a:ext cx="924120" cy="725400"/>
              </a:xfrm>
              <a:custGeom>
                <a:avLst/>
                <a:gdLst/>
                <a:ahLst/>
                <a:rect l="l" t="t" r="r" b="b"/>
                <a:pathLst>
                  <a:path w="428" h="381">
                    <a:moveTo>
                      <a:pt x="10" y="80"/>
                    </a:moveTo>
                    <a:cubicBezTo>
                      <a:pt x="10" y="96"/>
                      <a:pt x="10" y="120"/>
                      <a:pt x="10" y="136"/>
                    </a:cubicBezTo>
                    <a:cubicBezTo>
                      <a:pt x="10" y="153"/>
                      <a:pt x="10" y="163"/>
                      <a:pt x="10" y="178"/>
                    </a:cubicBezTo>
                    <a:cubicBezTo>
                      <a:pt x="10" y="193"/>
                      <a:pt x="10" y="216"/>
                      <a:pt x="13" y="227"/>
                    </a:cubicBezTo>
                    <a:cubicBezTo>
                      <a:pt x="17" y="238"/>
                      <a:pt x="21" y="236"/>
                      <a:pt x="33" y="242"/>
                    </a:cubicBezTo>
                    <a:cubicBezTo>
                      <a:pt x="45" y="248"/>
                      <a:pt x="65" y="256"/>
                      <a:pt x="87" y="265"/>
                    </a:cubicBezTo>
                    <a:cubicBezTo>
                      <a:pt x="109" y="273"/>
                      <a:pt x="142" y="286"/>
                      <a:pt x="164" y="295"/>
                    </a:cubicBezTo>
                    <a:cubicBezTo>
                      <a:pt x="188" y="304"/>
                      <a:pt x="198" y="308"/>
                      <a:pt x="223" y="318"/>
                    </a:cubicBezTo>
                    <a:cubicBezTo>
                      <a:pt x="249" y="327"/>
                      <a:pt x="288" y="342"/>
                      <a:pt x="319" y="352"/>
                    </a:cubicBezTo>
                    <a:cubicBezTo>
                      <a:pt x="350" y="362"/>
                      <a:pt x="394" y="381"/>
                      <a:pt x="411" y="380"/>
                    </a:cubicBezTo>
                    <a:cubicBezTo>
                      <a:pt x="428" y="379"/>
                      <a:pt x="421" y="357"/>
                      <a:pt x="422" y="343"/>
                    </a:cubicBezTo>
                    <a:cubicBezTo>
                      <a:pt x="423" y="329"/>
                      <a:pt x="420" y="312"/>
                      <a:pt x="419" y="296"/>
                    </a:cubicBezTo>
                    <a:cubicBezTo>
                      <a:pt x="418" y="280"/>
                      <a:pt x="417" y="261"/>
                      <a:pt x="417" y="245"/>
                    </a:cubicBezTo>
                    <a:cubicBezTo>
                      <a:pt x="417" y="229"/>
                      <a:pt x="418" y="213"/>
                      <a:pt x="417" y="197"/>
                    </a:cubicBezTo>
                    <a:cubicBezTo>
                      <a:pt x="416" y="181"/>
                      <a:pt x="421" y="160"/>
                      <a:pt x="409" y="147"/>
                    </a:cubicBezTo>
                    <a:cubicBezTo>
                      <a:pt x="397" y="134"/>
                      <a:pt x="368" y="128"/>
                      <a:pt x="344" y="119"/>
                    </a:cubicBezTo>
                    <a:cubicBezTo>
                      <a:pt x="318" y="109"/>
                      <a:pt x="290" y="102"/>
                      <a:pt x="255" y="90"/>
                    </a:cubicBezTo>
                    <a:cubicBezTo>
                      <a:pt x="222" y="79"/>
                      <a:pt x="173" y="61"/>
                      <a:pt x="140" y="49"/>
                    </a:cubicBezTo>
                    <a:cubicBezTo>
                      <a:pt x="107" y="37"/>
                      <a:pt x="82" y="28"/>
                      <a:pt x="60" y="20"/>
                    </a:cubicBezTo>
                    <a:cubicBezTo>
                      <a:pt x="38" y="12"/>
                      <a:pt x="18" y="0"/>
                      <a:pt x="9" y="2"/>
                    </a:cubicBezTo>
                    <a:cubicBezTo>
                      <a:pt x="0" y="4"/>
                      <a:pt x="6" y="20"/>
                      <a:pt x="6" y="33"/>
                    </a:cubicBezTo>
                    <a:cubicBezTo>
                      <a:pt x="6" y="46"/>
                      <a:pt x="10" y="63"/>
                      <a:pt x="10" y="8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960920" y="2484360"/>
                <a:ext cx="919800" cy="755640"/>
              </a:xfrm>
              <a:custGeom>
                <a:avLst/>
                <a:gdLst/>
                <a:ahLst/>
                <a:rect l="l" t="t" r="r" b="b"/>
                <a:pathLst>
                  <a:path w="426" h="397">
                    <a:moveTo>
                      <a:pt x="0" y="0"/>
                    </a:moveTo>
                    <a:cubicBezTo>
                      <a:pt x="25" y="8"/>
                      <a:pt x="99" y="36"/>
                      <a:pt x="145" y="53"/>
                    </a:cubicBezTo>
                    <a:cubicBezTo>
                      <a:pt x="190" y="69"/>
                      <a:pt x="238" y="87"/>
                      <a:pt x="273" y="100"/>
                    </a:cubicBezTo>
                    <a:cubicBezTo>
                      <a:pt x="307" y="113"/>
                      <a:pt x="331" y="122"/>
                      <a:pt x="354" y="131"/>
                    </a:cubicBezTo>
                    <a:cubicBezTo>
                      <a:pt x="376" y="140"/>
                      <a:pt x="399" y="144"/>
                      <a:pt x="409" y="157"/>
                    </a:cubicBezTo>
                    <a:cubicBezTo>
                      <a:pt x="419" y="170"/>
                      <a:pt x="413" y="191"/>
                      <a:pt x="414" y="208"/>
                    </a:cubicBezTo>
                    <a:cubicBezTo>
                      <a:pt x="415" y="225"/>
                      <a:pt x="416" y="247"/>
                      <a:pt x="417" y="262"/>
                    </a:cubicBezTo>
                    <a:cubicBezTo>
                      <a:pt x="418" y="277"/>
                      <a:pt x="419" y="286"/>
                      <a:pt x="420" y="301"/>
                    </a:cubicBezTo>
                    <a:cubicBezTo>
                      <a:pt x="421" y="316"/>
                      <a:pt x="422" y="336"/>
                      <a:pt x="423" y="352"/>
                    </a:cubicBezTo>
                    <a:cubicBezTo>
                      <a:pt x="424" y="368"/>
                      <a:pt x="425" y="388"/>
                      <a:pt x="426" y="397"/>
                    </a:cubicBezTo>
                  </a:path>
                </a:pathLst>
              </a:custGeom>
              <a:noFill/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5" name=""/>
            <p:cNvSpPr/>
            <p:nvPr/>
          </p:nvSpPr>
          <p:spPr>
            <a:xfrm>
              <a:off x="1187280" y="2492280"/>
              <a:ext cx="15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золот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482920" y="2276640"/>
              <a:ext cx="14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серебр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rot="20954400">
              <a:off x="2078280" y="2933280"/>
              <a:ext cx="47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rot="21024600">
              <a:off x="3491280" y="2636280"/>
              <a:ext cx="7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5148360" y="2276640"/>
            <a:ext cx="3526920" cy="1157400"/>
            <a:chOff x="5148360" y="2276640"/>
            <a:chExt cx="3526920" cy="1157400"/>
          </a:xfrm>
        </p:grpSpPr>
        <p:grpSp>
          <p:nvGrpSpPr>
            <p:cNvPr id="540" name=""/>
            <p:cNvGrpSpPr/>
            <p:nvPr/>
          </p:nvGrpSpPr>
          <p:grpSpPr>
            <a:xfrm>
              <a:off x="5148360" y="2276640"/>
              <a:ext cx="3526920" cy="1152000"/>
              <a:chOff x="5148360" y="2276640"/>
              <a:chExt cx="3526920" cy="1152000"/>
            </a:xfrm>
          </p:grpSpPr>
          <p:sp>
            <p:nvSpPr>
              <p:cNvPr id="541" name=""/>
              <p:cNvSpPr/>
              <p:nvPr/>
            </p:nvSpPr>
            <p:spPr>
              <a:xfrm>
                <a:off x="5148360" y="2276640"/>
                <a:ext cx="3492360" cy="702360"/>
              </a:xfrm>
              <a:custGeom>
                <a:avLst/>
                <a:gdLst/>
                <a:ahLst/>
                <a:rect l="l" t="t" r="r" b="b"/>
                <a:pathLst>
                  <a:path w="1617" h="369">
                    <a:moveTo>
                      <a:pt x="1207" y="4"/>
                    </a:moveTo>
                    <a:cubicBezTo>
                      <a:pt x="1266" y="8"/>
                      <a:pt x="1327" y="33"/>
                      <a:pt x="1376" y="47"/>
                    </a:cubicBezTo>
                    <a:cubicBezTo>
                      <a:pt x="1425" y="60"/>
                      <a:pt x="1466" y="71"/>
                      <a:pt x="1504" y="86"/>
                    </a:cubicBezTo>
                    <a:cubicBezTo>
                      <a:pt x="1543" y="102"/>
                      <a:pt x="1617" y="126"/>
                      <a:pt x="1606" y="140"/>
                    </a:cubicBezTo>
                    <a:cubicBezTo>
                      <a:pt x="1594" y="154"/>
                      <a:pt x="1496" y="160"/>
                      <a:pt x="1434" y="172"/>
                    </a:cubicBezTo>
                    <a:cubicBezTo>
                      <a:pt x="1373" y="184"/>
                      <a:pt x="1302" y="197"/>
                      <a:pt x="1238" y="210"/>
                    </a:cubicBezTo>
                    <a:cubicBezTo>
                      <a:pt x="1174" y="222"/>
                      <a:pt x="1126" y="232"/>
                      <a:pt x="1054" y="246"/>
                    </a:cubicBezTo>
                    <a:cubicBezTo>
                      <a:pt x="982" y="260"/>
                      <a:pt x="879" y="280"/>
                      <a:pt x="803" y="295"/>
                    </a:cubicBezTo>
                    <a:cubicBezTo>
                      <a:pt x="728" y="309"/>
                      <a:pt x="663" y="322"/>
                      <a:pt x="603" y="333"/>
                    </a:cubicBezTo>
                    <a:cubicBezTo>
                      <a:pt x="542" y="343"/>
                      <a:pt x="474" y="353"/>
                      <a:pt x="440" y="359"/>
                    </a:cubicBezTo>
                    <a:cubicBezTo>
                      <a:pt x="405" y="365"/>
                      <a:pt x="408" y="368"/>
                      <a:pt x="398" y="369"/>
                    </a:cubicBezTo>
                    <a:cubicBezTo>
                      <a:pt x="389" y="369"/>
                      <a:pt x="404" y="369"/>
                      <a:pt x="381" y="361"/>
                    </a:cubicBezTo>
                    <a:cubicBezTo>
                      <a:pt x="358" y="353"/>
                      <a:pt x="309" y="338"/>
                      <a:pt x="260" y="321"/>
                    </a:cubicBezTo>
                    <a:cubicBezTo>
                      <a:pt x="211" y="305"/>
                      <a:pt x="129" y="280"/>
                      <a:pt x="89" y="263"/>
                    </a:cubicBezTo>
                    <a:cubicBezTo>
                      <a:pt x="49" y="246"/>
                      <a:pt x="0" y="234"/>
                      <a:pt x="21" y="218"/>
                    </a:cubicBezTo>
                    <a:cubicBezTo>
                      <a:pt x="42" y="202"/>
                      <a:pt x="152" y="181"/>
                      <a:pt x="218" y="166"/>
                    </a:cubicBezTo>
                    <a:cubicBezTo>
                      <a:pt x="284" y="151"/>
                      <a:pt x="333" y="144"/>
                      <a:pt x="419" y="129"/>
                    </a:cubicBezTo>
                    <a:cubicBezTo>
                      <a:pt x="505" y="113"/>
                      <a:pt x="632" y="91"/>
                      <a:pt x="732" y="74"/>
                    </a:cubicBezTo>
                    <a:cubicBezTo>
                      <a:pt x="833" y="57"/>
                      <a:pt x="939" y="38"/>
                      <a:pt x="1019" y="27"/>
                    </a:cubicBezTo>
                    <a:cubicBezTo>
                      <a:pt x="1098" y="16"/>
                      <a:pt x="1148" y="0"/>
                      <a:pt x="1207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005520" y="2531880"/>
                <a:ext cx="2669760" cy="896760"/>
              </a:xfrm>
              <a:custGeom>
                <a:avLst/>
                <a:gdLst/>
                <a:ahLst/>
                <a:rect l="l" t="t" r="r" b="b"/>
                <a:pathLst>
                  <a:path w="1236" h="471">
                    <a:moveTo>
                      <a:pt x="988" y="47"/>
                    </a:moveTo>
                    <a:cubicBezTo>
                      <a:pt x="1069" y="35"/>
                      <a:pt x="1122" y="23"/>
                      <a:pt x="1160" y="17"/>
                    </a:cubicBezTo>
                    <a:cubicBezTo>
                      <a:pt x="1198" y="11"/>
                      <a:pt x="1204" y="0"/>
                      <a:pt x="1214" y="9"/>
                    </a:cubicBezTo>
                    <a:cubicBezTo>
                      <a:pt x="1224" y="18"/>
                      <a:pt x="1221" y="45"/>
                      <a:pt x="1223" y="69"/>
                    </a:cubicBezTo>
                    <a:cubicBezTo>
                      <a:pt x="1225" y="93"/>
                      <a:pt x="1228" y="132"/>
                      <a:pt x="1229" y="156"/>
                    </a:cubicBezTo>
                    <a:cubicBezTo>
                      <a:pt x="1230" y="180"/>
                      <a:pt x="1236" y="203"/>
                      <a:pt x="1232" y="216"/>
                    </a:cubicBezTo>
                    <a:cubicBezTo>
                      <a:pt x="1228" y="229"/>
                      <a:pt x="1222" y="225"/>
                      <a:pt x="1205" y="231"/>
                    </a:cubicBezTo>
                    <a:cubicBezTo>
                      <a:pt x="1188" y="237"/>
                      <a:pt x="1171" y="245"/>
                      <a:pt x="1130" y="255"/>
                    </a:cubicBezTo>
                    <a:cubicBezTo>
                      <a:pt x="1089" y="265"/>
                      <a:pt x="1014" y="280"/>
                      <a:pt x="959" y="291"/>
                    </a:cubicBezTo>
                    <a:cubicBezTo>
                      <a:pt x="903" y="303"/>
                      <a:pt x="849" y="317"/>
                      <a:pt x="800" y="327"/>
                    </a:cubicBezTo>
                    <a:cubicBezTo>
                      <a:pt x="751" y="338"/>
                      <a:pt x="710" y="344"/>
                      <a:pt x="662" y="354"/>
                    </a:cubicBezTo>
                    <a:cubicBezTo>
                      <a:pt x="614" y="364"/>
                      <a:pt x="568" y="375"/>
                      <a:pt x="512" y="386"/>
                    </a:cubicBezTo>
                    <a:cubicBezTo>
                      <a:pt x="455" y="397"/>
                      <a:pt x="376" y="412"/>
                      <a:pt x="324" y="422"/>
                    </a:cubicBezTo>
                    <a:cubicBezTo>
                      <a:pt x="271" y="432"/>
                      <a:pt x="230" y="439"/>
                      <a:pt x="198" y="445"/>
                    </a:cubicBezTo>
                    <a:cubicBezTo>
                      <a:pt x="167" y="450"/>
                      <a:pt x="163" y="452"/>
                      <a:pt x="133" y="455"/>
                    </a:cubicBezTo>
                    <a:cubicBezTo>
                      <a:pt x="102" y="458"/>
                      <a:pt x="38" y="471"/>
                      <a:pt x="19" y="465"/>
                    </a:cubicBezTo>
                    <a:cubicBezTo>
                      <a:pt x="0" y="460"/>
                      <a:pt x="20" y="438"/>
                      <a:pt x="19" y="422"/>
                    </a:cubicBezTo>
                    <a:cubicBezTo>
                      <a:pt x="18" y="405"/>
                      <a:pt x="16" y="384"/>
                      <a:pt x="15" y="367"/>
                    </a:cubicBezTo>
                    <a:cubicBezTo>
                      <a:pt x="14" y="350"/>
                      <a:pt x="11" y="335"/>
                      <a:pt x="10" y="318"/>
                    </a:cubicBezTo>
                    <a:cubicBezTo>
                      <a:pt x="9" y="301"/>
                      <a:pt x="9" y="280"/>
                      <a:pt x="10" y="265"/>
                    </a:cubicBezTo>
                    <a:cubicBezTo>
                      <a:pt x="11" y="250"/>
                      <a:pt x="3" y="238"/>
                      <a:pt x="15" y="231"/>
                    </a:cubicBezTo>
                    <a:cubicBezTo>
                      <a:pt x="26" y="223"/>
                      <a:pt x="41" y="227"/>
                      <a:pt x="81" y="220"/>
                    </a:cubicBezTo>
                    <a:cubicBezTo>
                      <a:pt x="122" y="212"/>
                      <a:pt x="188" y="202"/>
                      <a:pt x="257" y="189"/>
                    </a:cubicBezTo>
                    <a:cubicBezTo>
                      <a:pt x="326" y="177"/>
                      <a:pt x="419" y="159"/>
                      <a:pt x="495" y="144"/>
                    </a:cubicBezTo>
                    <a:cubicBezTo>
                      <a:pt x="571" y="129"/>
                      <a:pt x="634" y="116"/>
                      <a:pt x="716" y="100"/>
                    </a:cubicBezTo>
                    <a:cubicBezTo>
                      <a:pt x="799" y="84"/>
                      <a:pt x="931" y="58"/>
                      <a:pt x="988" y="4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180400" y="2693520"/>
                <a:ext cx="924120" cy="725400"/>
              </a:xfrm>
              <a:custGeom>
                <a:avLst/>
                <a:gdLst/>
                <a:ahLst/>
                <a:rect l="l" t="t" r="r" b="b"/>
                <a:pathLst>
                  <a:path w="428" h="381">
                    <a:moveTo>
                      <a:pt x="10" y="80"/>
                    </a:moveTo>
                    <a:cubicBezTo>
                      <a:pt x="10" y="96"/>
                      <a:pt x="10" y="120"/>
                      <a:pt x="10" y="136"/>
                    </a:cubicBezTo>
                    <a:cubicBezTo>
                      <a:pt x="10" y="153"/>
                      <a:pt x="10" y="163"/>
                      <a:pt x="10" y="178"/>
                    </a:cubicBezTo>
                    <a:cubicBezTo>
                      <a:pt x="10" y="193"/>
                      <a:pt x="10" y="216"/>
                      <a:pt x="13" y="227"/>
                    </a:cubicBezTo>
                    <a:cubicBezTo>
                      <a:pt x="17" y="238"/>
                      <a:pt x="21" y="236"/>
                      <a:pt x="33" y="242"/>
                    </a:cubicBezTo>
                    <a:cubicBezTo>
                      <a:pt x="45" y="248"/>
                      <a:pt x="65" y="256"/>
                      <a:pt x="87" y="265"/>
                    </a:cubicBezTo>
                    <a:cubicBezTo>
                      <a:pt x="109" y="273"/>
                      <a:pt x="142" y="286"/>
                      <a:pt x="164" y="295"/>
                    </a:cubicBezTo>
                    <a:cubicBezTo>
                      <a:pt x="188" y="304"/>
                      <a:pt x="198" y="308"/>
                      <a:pt x="223" y="318"/>
                    </a:cubicBezTo>
                    <a:cubicBezTo>
                      <a:pt x="249" y="327"/>
                      <a:pt x="288" y="342"/>
                      <a:pt x="319" y="352"/>
                    </a:cubicBezTo>
                    <a:cubicBezTo>
                      <a:pt x="350" y="362"/>
                      <a:pt x="394" y="381"/>
                      <a:pt x="411" y="380"/>
                    </a:cubicBezTo>
                    <a:cubicBezTo>
                      <a:pt x="428" y="379"/>
                      <a:pt x="421" y="357"/>
                      <a:pt x="422" y="343"/>
                    </a:cubicBezTo>
                    <a:cubicBezTo>
                      <a:pt x="423" y="329"/>
                      <a:pt x="420" y="312"/>
                      <a:pt x="419" y="296"/>
                    </a:cubicBezTo>
                    <a:cubicBezTo>
                      <a:pt x="418" y="280"/>
                      <a:pt x="417" y="261"/>
                      <a:pt x="417" y="245"/>
                    </a:cubicBezTo>
                    <a:cubicBezTo>
                      <a:pt x="417" y="229"/>
                      <a:pt x="418" y="213"/>
                      <a:pt x="417" y="197"/>
                    </a:cubicBezTo>
                    <a:cubicBezTo>
                      <a:pt x="416" y="181"/>
                      <a:pt x="421" y="160"/>
                      <a:pt x="409" y="147"/>
                    </a:cubicBezTo>
                    <a:cubicBezTo>
                      <a:pt x="397" y="134"/>
                      <a:pt x="368" y="128"/>
                      <a:pt x="344" y="119"/>
                    </a:cubicBezTo>
                    <a:cubicBezTo>
                      <a:pt x="318" y="109"/>
                      <a:pt x="290" y="102"/>
                      <a:pt x="255" y="90"/>
                    </a:cubicBezTo>
                    <a:cubicBezTo>
                      <a:pt x="222" y="79"/>
                      <a:pt x="173" y="61"/>
                      <a:pt x="140" y="49"/>
                    </a:cubicBezTo>
                    <a:cubicBezTo>
                      <a:pt x="107" y="37"/>
                      <a:pt x="82" y="28"/>
                      <a:pt x="60" y="20"/>
                    </a:cubicBezTo>
                    <a:cubicBezTo>
                      <a:pt x="38" y="12"/>
                      <a:pt x="18" y="0"/>
                      <a:pt x="9" y="2"/>
                    </a:cubicBezTo>
                    <a:cubicBezTo>
                      <a:pt x="0" y="4"/>
                      <a:pt x="6" y="20"/>
                      <a:pt x="6" y="33"/>
                    </a:cubicBezTo>
                    <a:cubicBezTo>
                      <a:pt x="6" y="46"/>
                      <a:pt x="10" y="63"/>
                      <a:pt x="10" y="8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282000" y="2484360"/>
                <a:ext cx="919800" cy="755640"/>
              </a:xfrm>
              <a:custGeom>
                <a:avLst/>
                <a:gdLst/>
                <a:ahLst/>
                <a:rect l="l" t="t" r="r" b="b"/>
                <a:pathLst>
                  <a:path w="426" h="397">
                    <a:moveTo>
                      <a:pt x="0" y="0"/>
                    </a:moveTo>
                    <a:cubicBezTo>
                      <a:pt x="25" y="8"/>
                      <a:pt x="99" y="36"/>
                      <a:pt x="145" y="53"/>
                    </a:cubicBezTo>
                    <a:cubicBezTo>
                      <a:pt x="190" y="69"/>
                      <a:pt x="238" y="87"/>
                      <a:pt x="273" y="100"/>
                    </a:cubicBezTo>
                    <a:cubicBezTo>
                      <a:pt x="307" y="113"/>
                      <a:pt x="331" y="122"/>
                      <a:pt x="354" y="131"/>
                    </a:cubicBezTo>
                    <a:cubicBezTo>
                      <a:pt x="376" y="140"/>
                      <a:pt x="399" y="144"/>
                      <a:pt x="409" y="157"/>
                    </a:cubicBezTo>
                    <a:cubicBezTo>
                      <a:pt x="419" y="170"/>
                      <a:pt x="413" y="191"/>
                      <a:pt x="414" y="208"/>
                    </a:cubicBezTo>
                    <a:cubicBezTo>
                      <a:pt x="415" y="225"/>
                      <a:pt x="416" y="247"/>
                      <a:pt x="417" y="262"/>
                    </a:cubicBezTo>
                    <a:cubicBezTo>
                      <a:pt x="418" y="277"/>
                      <a:pt x="419" y="286"/>
                      <a:pt x="420" y="301"/>
                    </a:cubicBezTo>
                    <a:cubicBezTo>
                      <a:pt x="421" y="316"/>
                      <a:pt x="422" y="336"/>
                      <a:pt x="423" y="352"/>
                    </a:cubicBezTo>
                    <a:cubicBezTo>
                      <a:pt x="424" y="368"/>
                      <a:pt x="425" y="388"/>
                      <a:pt x="426" y="397"/>
                    </a:cubicBezTo>
                  </a:path>
                </a:pathLst>
              </a:custGeom>
              <a:noFill/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5" name=""/>
            <p:cNvSpPr/>
            <p:nvPr/>
          </p:nvSpPr>
          <p:spPr>
            <a:xfrm>
              <a:off x="5508360" y="2492280"/>
              <a:ext cx="15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золот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804000" y="2276640"/>
              <a:ext cx="149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серебр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rot="20954400">
              <a:off x="6399360" y="2933280"/>
              <a:ext cx="47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rot="21024600">
              <a:off x="7812360" y="2636640"/>
              <a:ext cx="78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">
            <a:hlinkClick r:id="rId2" action="ppaction://hlinksldjump"/>
          </p:cNvPr>
          <p:cNvSpPr/>
          <p:nvPr/>
        </p:nvSpPr>
        <p:spPr>
          <a:xfrm>
            <a:off x="8388360" y="6093000"/>
            <a:ext cx="574560" cy="576000"/>
          </a:xfrm>
          <a:custGeom>
            <a:avLst/>
            <a:gdLst>
              <a:gd name="textAreaLeft" fmla="*/ 37080 w 574560"/>
              <a:gd name="textAreaRight" fmla="*/ 537480 w 5745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00" h="21654">
                <a:moveTo>
                  <a:pt x="0" y="0"/>
                </a:moveTo>
                <a:lnTo>
                  <a:pt x="21600" y="0"/>
                </a:lnTo>
                <a:lnTo>
                  <a:pt x="21600" y="21654"/>
                </a:lnTo>
                <a:lnTo>
                  <a:pt x="0" y="21654"/>
                </a:lnTo>
                <a:close/>
              </a:path>
              <a:path fill="lightenLess" w="21600" h="216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54">
                <a:moveTo>
                  <a:pt x="21600" y="0"/>
                </a:moveTo>
                <a:lnTo>
                  <a:pt x="21600" y="21654"/>
                </a:lnTo>
                <a:lnTo>
                  <a:pt x="20200" y="20254"/>
                </a:lnTo>
                <a:lnTo>
                  <a:pt x="20200" y="1400"/>
                </a:lnTo>
                <a:close/>
              </a:path>
              <a:path fill="darkenLess" w="21600" h="21654">
                <a:moveTo>
                  <a:pt x="21600" y="21654"/>
                </a:moveTo>
                <a:lnTo>
                  <a:pt x="0" y="21654"/>
                </a:lnTo>
                <a:lnTo>
                  <a:pt x="1400" y="20254"/>
                </a:lnTo>
                <a:lnTo>
                  <a:pt x="20200" y="20254"/>
                </a:lnTo>
                <a:close/>
              </a:path>
              <a:path fill="lighten" w="21600" h="21654">
                <a:moveTo>
                  <a:pt x="0" y="216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54"/>
                </a:lnTo>
                <a:close/>
              </a:path>
              <a:path fill="darken" w="21600" h="21654">
                <a:moveTo>
                  <a:pt x="3794" y="10827"/>
                </a:moveTo>
                <a:lnTo>
                  <a:pt x="17806" y="3821"/>
                </a:lnTo>
                <a:lnTo>
                  <a:pt x="17806" y="1783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5076720" y="5516640"/>
            <a:ext cx="3311280" cy="459720"/>
            <a:chOff x="5076720" y="5516640"/>
            <a:chExt cx="3311280" cy="459720"/>
          </a:xfrm>
        </p:grpSpPr>
        <mc:AlternateContent>
          <mc:Choice xmlns:a14="http://schemas.microsoft.com/office/drawing/2010/main" Requires="a14">
            <p:sp>
              <p:nvSpPr>
                <p:cNvPr id="551" name=""/>
                <p:cNvSpPr txBox="1"/>
                <p:nvPr/>
              </p:nvSpPr>
              <p:spPr>
                <a:xfrm>
                  <a:off x="5076720" y="5567400"/>
                  <a:ext cx="1554840" cy="36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8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=</m:t>
                      </m:r>
                      <m:r>
                        <m:t xml:space="preserve">7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кг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52" name=""/>
            <p:cNvSpPr/>
            <p:nvPr/>
          </p:nvSpPr>
          <p:spPr>
            <a:xfrm>
              <a:off x="6365520" y="5516640"/>
              <a:ext cx="202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-от 2 сплав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6084720" y="5157720"/>
            <a:ext cx="2360520" cy="459720"/>
            <a:chOff x="6084720" y="5157720"/>
            <a:chExt cx="2360520" cy="459720"/>
          </a:xfrm>
        </p:grpSpPr>
        <mc:AlternateContent>
          <mc:Choice xmlns:a14="http://schemas.microsoft.com/office/drawing/2010/main" Requires="a14">
            <p:sp>
              <p:nvSpPr>
                <p:cNvPr id="554" name=""/>
                <p:cNvSpPr txBox="1"/>
                <p:nvPr/>
              </p:nvSpPr>
              <p:spPr>
                <a:xfrm>
                  <a:off x="6084720" y="5229000"/>
                  <a:ext cx="546120" cy="37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кг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55" name=""/>
            <p:cNvSpPr/>
            <p:nvPr/>
          </p:nvSpPr>
          <p:spPr>
            <a:xfrm>
              <a:off x="6502320" y="5157720"/>
              <a:ext cx="194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-от 1 сплав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2124000" y="5229360"/>
                <a:ext cx="18115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1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2,4</m:t>
                    </m:r>
                    <m:r>
                      <m:t xml:space="preserve">=</m:t>
                    </m:r>
                    <m:r>
                      <m:t xml:space="preserve">2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2627280" y="5589720"/>
                <a:ext cx="63648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58" name=""/>
          <p:cNvGrpSpPr/>
          <p:nvPr/>
        </p:nvGrpSpPr>
        <p:grpSpPr>
          <a:xfrm>
            <a:off x="1763640" y="4508640"/>
            <a:ext cx="5543640" cy="769680"/>
            <a:chOff x="1763640" y="4508640"/>
            <a:chExt cx="5543640" cy="769680"/>
          </a:xfrm>
        </p:grpSpPr>
        <p:sp>
          <p:nvSpPr>
            <p:cNvPr id="559" name=""/>
            <p:cNvSpPr/>
            <p:nvPr/>
          </p:nvSpPr>
          <p:spPr>
            <a:xfrm>
              <a:off x="1763640" y="4652640"/>
              <a:ext cx="309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Получим уравнени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0" name=""/>
                <p:cNvSpPr txBox="1"/>
                <p:nvPr/>
              </p:nvSpPr>
              <p:spPr>
                <a:xfrm>
                  <a:off x="4643640" y="4508640"/>
                  <a:ext cx="2663640" cy="76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х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8</m:t>
                          </m:r>
                          <m:r>
                            <m:t xml:space="preserve">−</m:t>
                          </m:r>
                          <m:r>
                            <m:t xml:space="preserve">х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2,5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61" name=""/>
          <p:cNvSpPr/>
          <p:nvPr/>
        </p:nvSpPr>
        <p:spPr>
          <a:xfrm rot="1243200">
            <a:off x="2926800" y="3571200"/>
            <a:ext cx="1562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i="1" lang="ru-RU" sz="2400" spc="-1" strike="noStrike" baseline="-25000">
                <a:solidFill>
                  <a:srgbClr val="ff0000"/>
                </a:solidFill>
                <a:latin typeface="Times New Roman"/>
              </a:rPr>
              <a:t>10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(8-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х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 к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rot="1173600">
            <a:off x="478080" y="3608640"/>
            <a:ext cx="101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 х к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1979640" y="5013360"/>
            <a:ext cx="5675400" cy="698400"/>
            <a:chOff x="1979640" y="5013360"/>
            <a:chExt cx="5675400" cy="698400"/>
          </a:xfrm>
        </p:grpSpPr>
        <p:sp>
          <p:nvSpPr>
            <p:cNvPr id="564" name=""/>
            <p:cNvSpPr/>
            <p:nvPr/>
          </p:nvSpPr>
          <p:spPr>
            <a:xfrm>
              <a:off x="1979640" y="5086440"/>
              <a:ext cx="460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Масса золота в новом сплав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5" name=""/>
                <p:cNvSpPr txBox="1"/>
                <p:nvPr/>
              </p:nvSpPr>
              <p:spPr>
                <a:xfrm>
                  <a:off x="6083640" y="5013360"/>
                  <a:ext cx="1571400" cy="69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8</m:t>
                      </m:r>
                      <m:r>
                        <m:t xml:space="preserve">⋅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2,5</m:t>
                      </m:r>
                      <m:r>
                        <m:rPr>
                          <m:lit/>
                          <m:nor/>
                        </m:rPr>
                        <m:t xml:space="preserve">кг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66" name=""/>
          <p:cNvGrpSpPr/>
          <p:nvPr/>
        </p:nvGrpSpPr>
        <p:grpSpPr>
          <a:xfrm>
            <a:off x="1979640" y="5013360"/>
            <a:ext cx="5167080" cy="765000"/>
            <a:chOff x="1979640" y="5013360"/>
            <a:chExt cx="5167080" cy="765000"/>
          </a:xfrm>
        </p:grpSpPr>
        <p:sp>
          <p:nvSpPr>
            <p:cNvPr id="567" name=""/>
            <p:cNvSpPr/>
            <p:nvPr/>
          </p:nvSpPr>
          <p:spPr>
            <a:xfrm>
              <a:off x="1979640" y="5086080"/>
              <a:ext cx="424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Масса золота в первом куск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8" name=""/>
                <p:cNvSpPr txBox="1"/>
                <p:nvPr/>
              </p:nvSpPr>
              <p:spPr>
                <a:xfrm>
                  <a:off x="6083280" y="5013360"/>
                  <a:ext cx="1063440" cy="76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2</m:t>
                              </m:r>
                            </m:num>
                            <m:den>
                              <m:r>
                                <m:t xml:space="preserve">5</m:t>
                              </m:r>
                            </m:den>
                          </m:f>
                          <m:r>
                            <m:t xml:space="preserve">х</m:t>
                          </m:r>
                        </m:e>
                      </m:d>
                      <m:r>
                        <m:rPr>
                          <m:lit/>
                          <m:nor/>
                        </m:rPr>
                        <m:t xml:space="preserve">кг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69" name=""/>
          <p:cNvSpPr/>
          <p:nvPr/>
        </p:nvSpPr>
        <p:spPr>
          <a:xfrm rot="1241400">
            <a:off x="5941800" y="3715920"/>
            <a:ext cx="90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2,5 к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1547640" y="5013360"/>
            <a:ext cx="6035760" cy="765000"/>
            <a:chOff x="1547640" y="5013360"/>
            <a:chExt cx="6035760" cy="765000"/>
          </a:xfrm>
        </p:grpSpPr>
        <p:sp>
          <p:nvSpPr>
            <p:cNvPr id="571" name=""/>
            <p:cNvSpPr/>
            <p:nvPr/>
          </p:nvSpPr>
          <p:spPr>
            <a:xfrm>
              <a:off x="1547640" y="5086440"/>
              <a:ext cx="446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Масса золота во втором куск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2" name=""/>
                <p:cNvSpPr txBox="1"/>
                <p:nvPr/>
              </p:nvSpPr>
              <p:spPr>
                <a:xfrm>
                  <a:off x="5795640" y="5013360"/>
                  <a:ext cx="1787760" cy="76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3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den>
                          </m:f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8</m:t>
                              </m:r>
                              <m:r>
                                <m:t xml:space="preserve">−</m:t>
                              </m:r>
                              <m:r>
                                <m:t xml:space="preserve">х</m:t>
                              </m:r>
                            </m:e>
                          </m:d>
                        </m:e>
                      </m:d>
                      <m:r>
                        <m:rPr>
                          <m:lit/>
                          <m:nor/>
                        </m:rPr>
                        <m:t xml:space="preserve">кг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iming>
    <p:tnLst>
      <p:par>
        <p:cTn id="758" dur="indefinite" restart="never" nodeType="tmRoot">
          <p:childTnLst>
            <p:seq>
              <p:cTn id="759" restart="whenNotActive" nodeType="interactiveSeq" fill="hold">
                <p:stCondLst>
                  <p:cond evt="onClick">
                    <p:tgtEl>
                      <p:spTgt spid="489"/>
                    </p:tgtEl>
                  </p:cond>
                </p:stCondLst>
                <p:childTnLst>
                  <p:par>
                    <p:cTn id="760" fill="hold">
                      <p:stCondLst>
                        <p:cond evt="onClick">
                          <p:tgtEl>
                            <p:spTgt spid="489"/>
                          </p:tgtEl>
                        </p:cond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4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7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0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evt="onClick">
                          <p:tgtEl>
                            <p:spTgt spid="489"/>
                          </p:tgtEl>
                        </p:cond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347 L -0.03924 0.11884 E">
                                      <p:cBhvr>
                                        <p:cTn id="776" dur="1000" fill="hold"/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1500"/>
                            </p:stCondLst>
                            <p:childTnLst>
                              <p:par>
                                <p:cTn id="7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25434E-006 L -0.22049 0.10844 E">
                                      <p:cBhvr>
                                        <p:cTn id="785" dur="1000" fill="hold"/>
                                        <p:tgtEl>
                                          <p:spTgt spid="5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2500"/>
                            </p:stCondLst>
                            <p:childTnLst>
                              <p:par>
                                <p:cTn id="7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3000"/>
                            </p:stCondLst>
                            <p:childTnLst>
                              <p:par>
                                <p:cTn id="7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3000"/>
                            </p:stCondLst>
                            <p:childTnLst>
                              <p:par>
                                <p:cTn id="7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6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evt="onClick">
                          <p:tgtEl>
                            <p:spTgt spid="489"/>
                          </p:tgtEl>
                        </p:cond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500"/>
                            </p:stCondLst>
                            <p:childTnLst>
                              <p:par>
                                <p:cTn id="8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5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evt="onClick">
                          <p:tgtEl>
                            <p:spTgt spid="489"/>
                          </p:tgtEl>
                        </p:cond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0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1000"/>
                            </p:stCondLst>
                            <p:childTnLst>
                              <p:par>
                                <p:cTn id="8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evt="onClick">
                          <p:tgtEl>
                            <p:spTgt spid="489"/>
                          </p:tgtEl>
                        </p:cond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18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000"/>
                            </p:stCondLst>
                            <p:childTnLst>
                              <p:par>
                                <p:cTn id="8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3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2000"/>
                            </p:stCondLst>
                            <p:childTnLst>
                              <p:par>
                                <p:cTn id="8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7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evt="onClick">
                          <p:tgtEl>
                            <p:spTgt spid="489"/>
                          </p:tgtEl>
                        </p:cond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31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1000"/>
                            </p:stCondLst>
                            <p:childTnLst>
                              <p:par>
                                <p:cTn id="8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6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2000"/>
                            </p:stCondLst>
                            <p:childTnLst>
                              <p:par>
                                <p:cTn id="8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evt="onClick">
                          <p:tgtEl>
                            <p:spTgt spid="489"/>
                          </p:tgtEl>
                        </p:cond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44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evt="onClick">
                          <p:tgtEl>
                            <p:spTgt spid="489"/>
                          </p:tgtEl>
                        </p:cond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9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2000"/>
                            </p:stCondLst>
                            <p:childTnLst>
                              <p:par>
                                <p:cTn id="851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2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4000"/>
                            </p:stCondLst>
                            <p:childTnLst>
                              <p:par>
                                <p:cTn id="854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5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6000"/>
                            </p:stCondLst>
                            <p:childTnLst>
                              <p:par>
                                <p:cTn id="85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9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evt="onClick">
                          <p:tgtEl>
                            <p:spTgt spid="489"/>
                          </p:tgtEl>
                        </p:cond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4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1500"/>
                            </p:stCondLst>
                            <p:childTnLst>
                              <p:par>
                                <p:cTn id="8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2000"/>
                            </p:stCondLst>
                            <p:childTnLst>
                              <p:par>
                                <p:cTn id="8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6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2500"/>
                            </p:stCondLst>
                            <p:childTnLst>
                              <p:par>
                                <p:cTn id="8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3000"/>
                            </p:stCondLst>
                            <p:childTnLst>
                              <p:par>
                                <p:cTn id="8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4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250920" y="260280"/>
            <a:ext cx="8642160" cy="1513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Имеется два сплава. Первый содержит 10% никеля, второй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30% никеля. Из этих двух сплавов получили третий спла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массой 200 кг, содержащий 25% никеля. На скольк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килограммов масса первого сплава меньше массы второг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79280" y="6165720"/>
            <a:ext cx="1873440" cy="476280"/>
          </a:xfrm>
          <a:custGeom>
            <a:avLst/>
            <a:gdLst>
              <a:gd name="textAreaLeft" fmla="*/ 30600 w 1873440"/>
              <a:gd name="textAreaRight" fmla="*/ 1842840 w 18734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84915" h="21600">
                <a:moveTo>
                  <a:pt x="0" y="0"/>
                </a:moveTo>
                <a:lnTo>
                  <a:pt x="84915" y="0"/>
                </a:lnTo>
                <a:lnTo>
                  <a:pt x="84915" y="21600"/>
                </a:lnTo>
                <a:lnTo>
                  <a:pt x="0" y="21600"/>
                </a:lnTo>
                <a:close/>
              </a:path>
              <a:path fill="lightenLess" w="84915" h="21600">
                <a:moveTo>
                  <a:pt x="0" y="0"/>
                </a:moveTo>
                <a:lnTo>
                  <a:pt x="84915" y="0"/>
                </a:lnTo>
                <a:lnTo>
                  <a:pt x="83515" y="1400"/>
                </a:lnTo>
                <a:lnTo>
                  <a:pt x="1400" y="1400"/>
                </a:lnTo>
                <a:close/>
              </a:path>
              <a:path fill="darken" w="84915" h="21600">
                <a:moveTo>
                  <a:pt x="84915" y="0"/>
                </a:moveTo>
                <a:lnTo>
                  <a:pt x="84915" y="21600"/>
                </a:lnTo>
                <a:lnTo>
                  <a:pt x="83515" y="20200"/>
                </a:lnTo>
                <a:lnTo>
                  <a:pt x="83515" y="1400"/>
                </a:lnTo>
                <a:close/>
              </a:path>
              <a:path fill="darkenLess" w="84915" h="21600">
                <a:moveTo>
                  <a:pt x="849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3515" y="20200"/>
                </a:lnTo>
                <a:close/>
              </a:path>
              <a:path fill="lighten" w="849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lackadder ITC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>
            <a:hlinkClick r:id="" action="ppaction://hlinkshowjump?jump=nextslide"/>
          </p:cNvPr>
          <p:cNvSpPr/>
          <p:nvPr/>
        </p:nvSpPr>
        <p:spPr>
          <a:xfrm>
            <a:off x="8459640" y="6165720"/>
            <a:ext cx="505080" cy="5382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760 h 538200"/>
              <a:gd name="textAreaBottom" fmla="*/ 505800 h 538200"/>
            </a:gdLst>
            <a:ahLst/>
            <a:rect l="textAreaLeft" t="textAreaTop" r="textAreaRight" b="textAreaBottom"/>
            <a:pathLst>
              <a:path w="21600" h="23015">
                <a:moveTo>
                  <a:pt x="0" y="0"/>
                </a:moveTo>
                <a:lnTo>
                  <a:pt x="21600" y="0"/>
                </a:lnTo>
                <a:lnTo>
                  <a:pt x="21600" y="23015"/>
                </a:lnTo>
                <a:lnTo>
                  <a:pt x="0" y="23015"/>
                </a:lnTo>
                <a:close/>
              </a:path>
              <a:path fill="lightenLess" w="21600" h="230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15">
                <a:moveTo>
                  <a:pt x="21600" y="0"/>
                </a:moveTo>
                <a:lnTo>
                  <a:pt x="21600" y="23015"/>
                </a:lnTo>
                <a:lnTo>
                  <a:pt x="20200" y="21615"/>
                </a:lnTo>
                <a:lnTo>
                  <a:pt x="20200" y="1400"/>
                </a:lnTo>
                <a:close/>
              </a:path>
              <a:path fill="darkenLess" w="21600" h="23015">
                <a:moveTo>
                  <a:pt x="21600" y="23015"/>
                </a:moveTo>
                <a:lnTo>
                  <a:pt x="0" y="23015"/>
                </a:lnTo>
                <a:lnTo>
                  <a:pt x="1400" y="21615"/>
                </a:lnTo>
                <a:lnTo>
                  <a:pt x="20200" y="21615"/>
                </a:lnTo>
                <a:close/>
              </a:path>
              <a:path fill="lighten" w="21600" h="23015">
                <a:moveTo>
                  <a:pt x="0" y="230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15"/>
                </a:lnTo>
                <a:close/>
              </a:path>
              <a:path fill="darken" w="21600" h="23015">
                <a:moveTo>
                  <a:pt x="3794" y="4501"/>
                </a:moveTo>
                <a:lnTo>
                  <a:pt x="17806" y="11508"/>
                </a:lnTo>
                <a:lnTo>
                  <a:pt x="3794" y="1851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24000" y="1916280"/>
            <a:ext cx="8569080" cy="41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2987640" y="3068640"/>
            <a:ext cx="2890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2c5"/>
                </a:solidFill>
                <a:latin typeface="Arial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e2c5"/>
              </a:solidFill>
              <a:latin typeface="Arial"/>
              <a:ea typeface="Arial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5867280" y="3141720"/>
            <a:ext cx="287280" cy="144360"/>
            <a:chOff x="5867280" y="3141720"/>
            <a:chExt cx="287280" cy="144360"/>
          </a:xfrm>
        </p:grpSpPr>
        <p:sp>
          <p:nvSpPr>
            <p:cNvPr id="579" name=""/>
            <p:cNvSpPr txBox="1"/>
            <p:nvPr/>
          </p:nvSpPr>
          <p:spPr>
            <a:xfrm>
              <a:off x="5867280" y="3141720"/>
              <a:ext cx="287280" cy="47520"/>
            </a:xfrm>
            <a:prstGeom prst="rect">
              <a:avLst/>
            </a:prstGeom>
          </p:spPr>
          <p:txBody>
            <a:bodyPr wrap="none" lIns="90000" rIns="90000" tIns="1080" bIns="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"/>
                </a:rPr>
                <a:t>_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580" name=""/>
            <p:cNvSpPr txBox="1"/>
            <p:nvPr/>
          </p:nvSpPr>
          <p:spPr>
            <a:xfrm>
              <a:off x="5867280" y="3238200"/>
              <a:ext cx="287280" cy="47880"/>
            </a:xfrm>
            <a:prstGeom prst="rect">
              <a:avLst/>
            </a:prstGeom>
          </p:spPr>
          <p:txBody>
            <a:bodyPr wrap="none" lIns="90000" rIns="90000" tIns="1440" bIns="14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e2c5"/>
                  </a:solidFill>
                  <a:latin typeface="Arial"/>
                </a:rPr>
                <a:t>_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2c5"/>
                </a:solidFill>
                <a:latin typeface="Arial"/>
                <a:ea typeface="Arial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6659640" y="335772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00 к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042920" y="335772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х к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116000" y="472428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Масса никеля в первом сплаве 0,1х к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042920" y="5084640"/>
            <a:ext cx="58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Масса никеля во втором сплаве 0,3у к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843280" y="6165720"/>
            <a:ext cx="2665440" cy="50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твет: на 100 к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6" name=""/>
              <p:cNvSpPr txBox="1"/>
              <p:nvPr/>
            </p:nvSpPr>
            <p:spPr>
              <a:xfrm>
                <a:off x="611280" y="3933720"/>
                <a:ext cx="19382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у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7" name=""/>
          <p:cNvSpPr/>
          <p:nvPr/>
        </p:nvSpPr>
        <p:spPr>
          <a:xfrm>
            <a:off x="3924360" y="3357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у к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3277080" y="2276640"/>
            <a:ext cx="2518920" cy="1296000"/>
            <a:chOff x="3277080" y="2276640"/>
            <a:chExt cx="2518920" cy="1296000"/>
          </a:xfrm>
        </p:grpSpPr>
        <p:grpSp>
          <p:nvGrpSpPr>
            <p:cNvPr id="589" name=""/>
            <p:cNvGrpSpPr/>
            <p:nvPr/>
          </p:nvGrpSpPr>
          <p:grpSpPr>
            <a:xfrm>
              <a:off x="3277080" y="2276640"/>
              <a:ext cx="2518920" cy="1296000"/>
              <a:chOff x="3277080" y="2276640"/>
              <a:chExt cx="2518920" cy="1296000"/>
            </a:xfrm>
          </p:grpSpPr>
          <p:sp>
            <p:nvSpPr>
              <p:cNvPr id="590" name=""/>
              <p:cNvSpPr/>
              <p:nvPr/>
            </p:nvSpPr>
            <p:spPr>
              <a:xfrm flipH="1">
                <a:off x="3301200" y="2276640"/>
                <a:ext cx="2494440" cy="790560"/>
              </a:xfrm>
              <a:custGeom>
                <a:avLst/>
                <a:gdLst/>
                <a:ahLst/>
                <a:rect l="l" t="t" r="r" b="b"/>
                <a:pathLst>
                  <a:path w="1617" h="369">
                    <a:moveTo>
                      <a:pt x="1207" y="4"/>
                    </a:moveTo>
                    <a:cubicBezTo>
                      <a:pt x="1266" y="8"/>
                      <a:pt x="1327" y="33"/>
                      <a:pt x="1376" y="47"/>
                    </a:cubicBezTo>
                    <a:cubicBezTo>
                      <a:pt x="1425" y="60"/>
                      <a:pt x="1466" y="71"/>
                      <a:pt x="1504" y="86"/>
                    </a:cubicBezTo>
                    <a:cubicBezTo>
                      <a:pt x="1543" y="102"/>
                      <a:pt x="1617" y="126"/>
                      <a:pt x="1606" y="140"/>
                    </a:cubicBezTo>
                    <a:cubicBezTo>
                      <a:pt x="1594" y="154"/>
                      <a:pt x="1496" y="160"/>
                      <a:pt x="1434" y="172"/>
                    </a:cubicBezTo>
                    <a:cubicBezTo>
                      <a:pt x="1373" y="184"/>
                      <a:pt x="1302" y="197"/>
                      <a:pt x="1238" y="210"/>
                    </a:cubicBezTo>
                    <a:cubicBezTo>
                      <a:pt x="1174" y="222"/>
                      <a:pt x="1126" y="232"/>
                      <a:pt x="1054" y="246"/>
                    </a:cubicBezTo>
                    <a:cubicBezTo>
                      <a:pt x="982" y="260"/>
                      <a:pt x="879" y="280"/>
                      <a:pt x="803" y="295"/>
                    </a:cubicBezTo>
                    <a:cubicBezTo>
                      <a:pt x="728" y="309"/>
                      <a:pt x="663" y="322"/>
                      <a:pt x="603" y="333"/>
                    </a:cubicBezTo>
                    <a:cubicBezTo>
                      <a:pt x="542" y="343"/>
                      <a:pt x="474" y="353"/>
                      <a:pt x="440" y="359"/>
                    </a:cubicBezTo>
                    <a:cubicBezTo>
                      <a:pt x="405" y="365"/>
                      <a:pt x="408" y="368"/>
                      <a:pt x="398" y="369"/>
                    </a:cubicBezTo>
                    <a:cubicBezTo>
                      <a:pt x="389" y="369"/>
                      <a:pt x="404" y="369"/>
                      <a:pt x="381" y="361"/>
                    </a:cubicBezTo>
                    <a:cubicBezTo>
                      <a:pt x="358" y="353"/>
                      <a:pt x="309" y="338"/>
                      <a:pt x="260" y="321"/>
                    </a:cubicBezTo>
                    <a:cubicBezTo>
                      <a:pt x="211" y="305"/>
                      <a:pt x="129" y="280"/>
                      <a:pt x="89" y="263"/>
                    </a:cubicBezTo>
                    <a:cubicBezTo>
                      <a:pt x="49" y="246"/>
                      <a:pt x="0" y="234"/>
                      <a:pt x="21" y="218"/>
                    </a:cubicBezTo>
                    <a:cubicBezTo>
                      <a:pt x="42" y="202"/>
                      <a:pt x="152" y="181"/>
                      <a:pt x="218" y="166"/>
                    </a:cubicBezTo>
                    <a:cubicBezTo>
                      <a:pt x="284" y="151"/>
                      <a:pt x="333" y="144"/>
                      <a:pt x="419" y="129"/>
                    </a:cubicBezTo>
                    <a:cubicBezTo>
                      <a:pt x="505" y="113"/>
                      <a:pt x="632" y="91"/>
                      <a:pt x="732" y="74"/>
                    </a:cubicBezTo>
                    <a:cubicBezTo>
                      <a:pt x="833" y="57"/>
                      <a:pt x="939" y="38"/>
                      <a:pt x="1019" y="27"/>
                    </a:cubicBezTo>
                    <a:cubicBezTo>
                      <a:pt x="1098" y="16"/>
                      <a:pt x="1148" y="0"/>
                      <a:pt x="1207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3276720" y="2563560"/>
                <a:ext cx="1906920" cy="1009080"/>
              </a:xfrm>
              <a:custGeom>
                <a:avLst/>
                <a:gdLst/>
                <a:ahLst/>
                <a:rect l="l" t="t" r="r" b="b"/>
                <a:pathLst>
                  <a:path w="1236" h="471">
                    <a:moveTo>
                      <a:pt x="988" y="47"/>
                    </a:moveTo>
                    <a:cubicBezTo>
                      <a:pt x="1069" y="35"/>
                      <a:pt x="1122" y="23"/>
                      <a:pt x="1160" y="17"/>
                    </a:cubicBezTo>
                    <a:cubicBezTo>
                      <a:pt x="1198" y="11"/>
                      <a:pt x="1204" y="0"/>
                      <a:pt x="1214" y="9"/>
                    </a:cubicBezTo>
                    <a:cubicBezTo>
                      <a:pt x="1224" y="18"/>
                      <a:pt x="1221" y="45"/>
                      <a:pt x="1223" y="69"/>
                    </a:cubicBezTo>
                    <a:cubicBezTo>
                      <a:pt x="1225" y="93"/>
                      <a:pt x="1228" y="132"/>
                      <a:pt x="1229" y="156"/>
                    </a:cubicBezTo>
                    <a:cubicBezTo>
                      <a:pt x="1230" y="180"/>
                      <a:pt x="1236" y="203"/>
                      <a:pt x="1232" y="216"/>
                    </a:cubicBezTo>
                    <a:cubicBezTo>
                      <a:pt x="1228" y="229"/>
                      <a:pt x="1222" y="225"/>
                      <a:pt x="1205" y="231"/>
                    </a:cubicBezTo>
                    <a:cubicBezTo>
                      <a:pt x="1188" y="237"/>
                      <a:pt x="1171" y="245"/>
                      <a:pt x="1130" y="255"/>
                    </a:cubicBezTo>
                    <a:cubicBezTo>
                      <a:pt x="1089" y="265"/>
                      <a:pt x="1014" y="280"/>
                      <a:pt x="959" y="291"/>
                    </a:cubicBezTo>
                    <a:cubicBezTo>
                      <a:pt x="903" y="303"/>
                      <a:pt x="849" y="317"/>
                      <a:pt x="800" y="327"/>
                    </a:cubicBezTo>
                    <a:cubicBezTo>
                      <a:pt x="751" y="338"/>
                      <a:pt x="710" y="344"/>
                      <a:pt x="662" y="354"/>
                    </a:cubicBezTo>
                    <a:cubicBezTo>
                      <a:pt x="614" y="364"/>
                      <a:pt x="568" y="375"/>
                      <a:pt x="512" y="386"/>
                    </a:cubicBezTo>
                    <a:cubicBezTo>
                      <a:pt x="455" y="397"/>
                      <a:pt x="376" y="412"/>
                      <a:pt x="324" y="422"/>
                    </a:cubicBezTo>
                    <a:cubicBezTo>
                      <a:pt x="271" y="432"/>
                      <a:pt x="230" y="439"/>
                      <a:pt x="198" y="445"/>
                    </a:cubicBezTo>
                    <a:cubicBezTo>
                      <a:pt x="167" y="450"/>
                      <a:pt x="163" y="452"/>
                      <a:pt x="133" y="455"/>
                    </a:cubicBezTo>
                    <a:cubicBezTo>
                      <a:pt x="102" y="458"/>
                      <a:pt x="38" y="471"/>
                      <a:pt x="19" y="465"/>
                    </a:cubicBezTo>
                    <a:cubicBezTo>
                      <a:pt x="0" y="460"/>
                      <a:pt x="20" y="438"/>
                      <a:pt x="19" y="422"/>
                    </a:cubicBezTo>
                    <a:cubicBezTo>
                      <a:pt x="18" y="405"/>
                      <a:pt x="16" y="384"/>
                      <a:pt x="15" y="367"/>
                    </a:cubicBezTo>
                    <a:cubicBezTo>
                      <a:pt x="14" y="350"/>
                      <a:pt x="11" y="335"/>
                      <a:pt x="10" y="318"/>
                    </a:cubicBezTo>
                    <a:cubicBezTo>
                      <a:pt x="9" y="301"/>
                      <a:pt x="9" y="280"/>
                      <a:pt x="10" y="265"/>
                    </a:cubicBezTo>
                    <a:cubicBezTo>
                      <a:pt x="11" y="250"/>
                      <a:pt x="3" y="238"/>
                      <a:pt x="15" y="231"/>
                    </a:cubicBezTo>
                    <a:cubicBezTo>
                      <a:pt x="26" y="223"/>
                      <a:pt x="41" y="227"/>
                      <a:pt x="81" y="220"/>
                    </a:cubicBezTo>
                    <a:cubicBezTo>
                      <a:pt x="122" y="212"/>
                      <a:pt x="188" y="202"/>
                      <a:pt x="257" y="189"/>
                    </a:cubicBezTo>
                    <a:cubicBezTo>
                      <a:pt x="326" y="177"/>
                      <a:pt x="419" y="159"/>
                      <a:pt x="495" y="144"/>
                    </a:cubicBezTo>
                    <a:cubicBezTo>
                      <a:pt x="571" y="129"/>
                      <a:pt x="634" y="116"/>
                      <a:pt x="716" y="100"/>
                    </a:cubicBezTo>
                    <a:cubicBezTo>
                      <a:pt x="799" y="84"/>
                      <a:pt x="931" y="58"/>
                      <a:pt x="988" y="4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H="1">
                <a:off x="5112720" y="2746080"/>
                <a:ext cx="659880" cy="816120"/>
              </a:xfrm>
              <a:custGeom>
                <a:avLst/>
                <a:gdLst/>
                <a:ahLst/>
                <a:rect l="l" t="t" r="r" b="b"/>
                <a:pathLst>
                  <a:path w="428" h="381">
                    <a:moveTo>
                      <a:pt x="10" y="80"/>
                    </a:moveTo>
                    <a:cubicBezTo>
                      <a:pt x="10" y="96"/>
                      <a:pt x="10" y="120"/>
                      <a:pt x="10" y="136"/>
                    </a:cubicBezTo>
                    <a:cubicBezTo>
                      <a:pt x="10" y="153"/>
                      <a:pt x="10" y="163"/>
                      <a:pt x="10" y="178"/>
                    </a:cubicBezTo>
                    <a:cubicBezTo>
                      <a:pt x="10" y="193"/>
                      <a:pt x="10" y="216"/>
                      <a:pt x="13" y="227"/>
                    </a:cubicBezTo>
                    <a:cubicBezTo>
                      <a:pt x="17" y="238"/>
                      <a:pt x="21" y="236"/>
                      <a:pt x="33" y="242"/>
                    </a:cubicBezTo>
                    <a:cubicBezTo>
                      <a:pt x="45" y="248"/>
                      <a:pt x="65" y="256"/>
                      <a:pt x="87" y="265"/>
                    </a:cubicBezTo>
                    <a:cubicBezTo>
                      <a:pt x="109" y="273"/>
                      <a:pt x="142" y="286"/>
                      <a:pt x="164" y="295"/>
                    </a:cubicBezTo>
                    <a:cubicBezTo>
                      <a:pt x="188" y="304"/>
                      <a:pt x="198" y="308"/>
                      <a:pt x="223" y="318"/>
                    </a:cubicBezTo>
                    <a:cubicBezTo>
                      <a:pt x="249" y="327"/>
                      <a:pt x="288" y="342"/>
                      <a:pt x="319" y="352"/>
                    </a:cubicBezTo>
                    <a:cubicBezTo>
                      <a:pt x="350" y="362"/>
                      <a:pt x="394" y="381"/>
                      <a:pt x="411" y="380"/>
                    </a:cubicBezTo>
                    <a:cubicBezTo>
                      <a:pt x="428" y="379"/>
                      <a:pt x="421" y="357"/>
                      <a:pt x="422" y="343"/>
                    </a:cubicBezTo>
                    <a:cubicBezTo>
                      <a:pt x="423" y="329"/>
                      <a:pt x="420" y="312"/>
                      <a:pt x="419" y="296"/>
                    </a:cubicBezTo>
                    <a:cubicBezTo>
                      <a:pt x="418" y="280"/>
                      <a:pt x="417" y="261"/>
                      <a:pt x="417" y="245"/>
                    </a:cubicBezTo>
                    <a:cubicBezTo>
                      <a:pt x="417" y="229"/>
                      <a:pt x="418" y="213"/>
                      <a:pt x="417" y="197"/>
                    </a:cubicBezTo>
                    <a:cubicBezTo>
                      <a:pt x="416" y="181"/>
                      <a:pt x="421" y="160"/>
                      <a:pt x="409" y="147"/>
                    </a:cubicBezTo>
                    <a:cubicBezTo>
                      <a:pt x="397" y="134"/>
                      <a:pt x="368" y="128"/>
                      <a:pt x="344" y="119"/>
                    </a:cubicBezTo>
                    <a:cubicBezTo>
                      <a:pt x="318" y="109"/>
                      <a:pt x="290" y="102"/>
                      <a:pt x="255" y="90"/>
                    </a:cubicBezTo>
                    <a:cubicBezTo>
                      <a:pt x="222" y="79"/>
                      <a:pt x="173" y="61"/>
                      <a:pt x="140" y="49"/>
                    </a:cubicBezTo>
                    <a:cubicBezTo>
                      <a:pt x="107" y="37"/>
                      <a:pt x="82" y="28"/>
                      <a:pt x="60" y="20"/>
                    </a:cubicBezTo>
                    <a:cubicBezTo>
                      <a:pt x="38" y="12"/>
                      <a:pt x="18" y="0"/>
                      <a:pt x="9" y="2"/>
                    </a:cubicBezTo>
                    <a:cubicBezTo>
                      <a:pt x="0" y="4"/>
                      <a:pt x="6" y="20"/>
                      <a:pt x="6" y="33"/>
                    </a:cubicBezTo>
                    <a:cubicBezTo>
                      <a:pt x="6" y="46"/>
                      <a:pt x="10" y="63"/>
                      <a:pt x="10" y="8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H="1">
                <a:off x="4329000" y="2510280"/>
                <a:ext cx="657000" cy="850320"/>
              </a:xfrm>
              <a:custGeom>
                <a:avLst/>
                <a:gdLst/>
                <a:ahLst/>
                <a:rect l="l" t="t" r="r" b="b"/>
                <a:pathLst>
                  <a:path w="426" h="397">
                    <a:moveTo>
                      <a:pt x="0" y="0"/>
                    </a:moveTo>
                    <a:cubicBezTo>
                      <a:pt x="25" y="8"/>
                      <a:pt x="99" y="36"/>
                      <a:pt x="145" y="53"/>
                    </a:cubicBezTo>
                    <a:cubicBezTo>
                      <a:pt x="190" y="69"/>
                      <a:pt x="238" y="87"/>
                      <a:pt x="273" y="100"/>
                    </a:cubicBezTo>
                    <a:cubicBezTo>
                      <a:pt x="307" y="113"/>
                      <a:pt x="331" y="122"/>
                      <a:pt x="354" y="131"/>
                    </a:cubicBezTo>
                    <a:cubicBezTo>
                      <a:pt x="376" y="140"/>
                      <a:pt x="399" y="144"/>
                      <a:pt x="409" y="157"/>
                    </a:cubicBezTo>
                    <a:cubicBezTo>
                      <a:pt x="419" y="170"/>
                      <a:pt x="413" y="191"/>
                      <a:pt x="414" y="208"/>
                    </a:cubicBezTo>
                    <a:cubicBezTo>
                      <a:pt x="415" y="225"/>
                      <a:pt x="416" y="247"/>
                      <a:pt x="417" y="262"/>
                    </a:cubicBezTo>
                    <a:cubicBezTo>
                      <a:pt x="418" y="277"/>
                      <a:pt x="419" y="286"/>
                      <a:pt x="420" y="301"/>
                    </a:cubicBezTo>
                    <a:cubicBezTo>
                      <a:pt x="421" y="316"/>
                      <a:pt x="422" y="336"/>
                      <a:pt x="423" y="352"/>
                    </a:cubicBezTo>
                    <a:cubicBezTo>
                      <a:pt x="424" y="368"/>
                      <a:pt x="425" y="388"/>
                      <a:pt x="426" y="397"/>
                    </a:cubicBezTo>
                  </a:path>
                </a:pathLst>
              </a:custGeom>
              <a:noFill/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4" name=""/>
            <p:cNvSpPr/>
            <p:nvPr/>
          </p:nvSpPr>
          <p:spPr>
            <a:xfrm rot="971400">
              <a:off x="4284000" y="299736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3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rot="21195600">
              <a:off x="4500720" y="2492280"/>
              <a:ext cx="116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никел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6085080" y="1989000"/>
            <a:ext cx="2592360" cy="1656720"/>
            <a:chOff x="6085080" y="1989000"/>
            <a:chExt cx="2592360" cy="1656720"/>
          </a:xfrm>
        </p:grpSpPr>
        <p:grpSp>
          <p:nvGrpSpPr>
            <p:cNvPr id="597" name=""/>
            <p:cNvGrpSpPr/>
            <p:nvPr/>
          </p:nvGrpSpPr>
          <p:grpSpPr>
            <a:xfrm>
              <a:off x="6085080" y="1989000"/>
              <a:ext cx="2592360" cy="1656720"/>
              <a:chOff x="6085080" y="1989000"/>
              <a:chExt cx="2592360" cy="1656720"/>
            </a:xfrm>
          </p:grpSpPr>
          <p:sp>
            <p:nvSpPr>
              <p:cNvPr id="598" name=""/>
              <p:cNvSpPr/>
              <p:nvPr/>
            </p:nvSpPr>
            <p:spPr>
              <a:xfrm flipH="1">
                <a:off x="6110640" y="1989000"/>
                <a:ext cx="2566800" cy="1010520"/>
              </a:xfrm>
              <a:custGeom>
                <a:avLst/>
                <a:gdLst/>
                <a:ahLst/>
                <a:rect l="l" t="t" r="r" b="b"/>
                <a:pathLst>
                  <a:path w="1617" h="369">
                    <a:moveTo>
                      <a:pt x="1207" y="4"/>
                    </a:moveTo>
                    <a:cubicBezTo>
                      <a:pt x="1266" y="8"/>
                      <a:pt x="1327" y="33"/>
                      <a:pt x="1376" y="47"/>
                    </a:cubicBezTo>
                    <a:cubicBezTo>
                      <a:pt x="1425" y="60"/>
                      <a:pt x="1466" y="71"/>
                      <a:pt x="1504" y="86"/>
                    </a:cubicBezTo>
                    <a:cubicBezTo>
                      <a:pt x="1543" y="102"/>
                      <a:pt x="1617" y="126"/>
                      <a:pt x="1606" y="140"/>
                    </a:cubicBezTo>
                    <a:cubicBezTo>
                      <a:pt x="1594" y="154"/>
                      <a:pt x="1496" y="160"/>
                      <a:pt x="1434" y="172"/>
                    </a:cubicBezTo>
                    <a:cubicBezTo>
                      <a:pt x="1373" y="184"/>
                      <a:pt x="1302" y="197"/>
                      <a:pt x="1238" y="210"/>
                    </a:cubicBezTo>
                    <a:cubicBezTo>
                      <a:pt x="1174" y="222"/>
                      <a:pt x="1126" y="232"/>
                      <a:pt x="1054" y="246"/>
                    </a:cubicBezTo>
                    <a:cubicBezTo>
                      <a:pt x="982" y="260"/>
                      <a:pt x="879" y="280"/>
                      <a:pt x="803" y="295"/>
                    </a:cubicBezTo>
                    <a:cubicBezTo>
                      <a:pt x="728" y="309"/>
                      <a:pt x="663" y="322"/>
                      <a:pt x="603" y="333"/>
                    </a:cubicBezTo>
                    <a:cubicBezTo>
                      <a:pt x="542" y="343"/>
                      <a:pt x="474" y="353"/>
                      <a:pt x="440" y="359"/>
                    </a:cubicBezTo>
                    <a:cubicBezTo>
                      <a:pt x="405" y="365"/>
                      <a:pt x="408" y="368"/>
                      <a:pt x="398" y="369"/>
                    </a:cubicBezTo>
                    <a:cubicBezTo>
                      <a:pt x="389" y="369"/>
                      <a:pt x="404" y="369"/>
                      <a:pt x="381" y="361"/>
                    </a:cubicBezTo>
                    <a:cubicBezTo>
                      <a:pt x="358" y="353"/>
                      <a:pt x="309" y="338"/>
                      <a:pt x="260" y="321"/>
                    </a:cubicBezTo>
                    <a:cubicBezTo>
                      <a:pt x="211" y="305"/>
                      <a:pt x="129" y="280"/>
                      <a:pt x="89" y="263"/>
                    </a:cubicBezTo>
                    <a:cubicBezTo>
                      <a:pt x="49" y="246"/>
                      <a:pt x="0" y="234"/>
                      <a:pt x="21" y="218"/>
                    </a:cubicBezTo>
                    <a:cubicBezTo>
                      <a:pt x="42" y="202"/>
                      <a:pt x="152" y="181"/>
                      <a:pt x="218" y="166"/>
                    </a:cubicBezTo>
                    <a:cubicBezTo>
                      <a:pt x="284" y="151"/>
                      <a:pt x="333" y="144"/>
                      <a:pt x="419" y="129"/>
                    </a:cubicBezTo>
                    <a:cubicBezTo>
                      <a:pt x="505" y="113"/>
                      <a:pt x="632" y="91"/>
                      <a:pt x="732" y="74"/>
                    </a:cubicBezTo>
                    <a:cubicBezTo>
                      <a:pt x="833" y="57"/>
                      <a:pt x="939" y="38"/>
                      <a:pt x="1019" y="27"/>
                    </a:cubicBezTo>
                    <a:cubicBezTo>
                      <a:pt x="1098" y="16"/>
                      <a:pt x="1148" y="0"/>
                      <a:pt x="1207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H="1">
                <a:off x="6084720" y="2355840"/>
                <a:ext cx="1962360" cy="1289880"/>
              </a:xfrm>
              <a:custGeom>
                <a:avLst/>
                <a:gdLst/>
                <a:ahLst/>
                <a:rect l="l" t="t" r="r" b="b"/>
                <a:pathLst>
                  <a:path w="1236" h="471">
                    <a:moveTo>
                      <a:pt x="988" y="47"/>
                    </a:moveTo>
                    <a:cubicBezTo>
                      <a:pt x="1069" y="35"/>
                      <a:pt x="1122" y="23"/>
                      <a:pt x="1160" y="17"/>
                    </a:cubicBezTo>
                    <a:cubicBezTo>
                      <a:pt x="1198" y="11"/>
                      <a:pt x="1204" y="0"/>
                      <a:pt x="1214" y="9"/>
                    </a:cubicBezTo>
                    <a:cubicBezTo>
                      <a:pt x="1224" y="18"/>
                      <a:pt x="1221" y="45"/>
                      <a:pt x="1223" y="69"/>
                    </a:cubicBezTo>
                    <a:cubicBezTo>
                      <a:pt x="1225" y="93"/>
                      <a:pt x="1228" y="132"/>
                      <a:pt x="1229" y="156"/>
                    </a:cubicBezTo>
                    <a:cubicBezTo>
                      <a:pt x="1230" y="180"/>
                      <a:pt x="1236" y="203"/>
                      <a:pt x="1232" y="216"/>
                    </a:cubicBezTo>
                    <a:cubicBezTo>
                      <a:pt x="1228" y="229"/>
                      <a:pt x="1222" y="225"/>
                      <a:pt x="1205" y="231"/>
                    </a:cubicBezTo>
                    <a:cubicBezTo>
                      <a:pt x="1188" y="237"/>
                      <a:pt x="1171" y="245"/>
                      <a:pt x="1130" y="255"/>
                    </a:cubicBezTo>
                    <a:cubicBezTo>
                      <a:pt x="1089" y="265"/>
                      <a:pt x="1014" y="280"/>
                      <a:pt x="959" y="291"/>
                    </a:cubicBezTo>
                    <a:cubicBezTo>
                      <a:pt x="903" y="303"/>
                      <a:pt x="849" y="317"/>
                      <a:pt x="800" y="327"/>
                    </a:cubicBezTo>
                    <a:cubicBezTo>
                      <a:pt x="751" y="338"/>
                      <a:pt x="710" y="344"/>
                      <a:pt x="662" y="354"/>
                    </a:cubicBezTo>
                    <a:cubicBezTo>
                      <a:pt x="614" y="364"/>
                      <a:pt x="568" y="375"/>
                      <a:pt x="512" y="386"/>
                    </a:cubicBezTo>
                    <a:cubicBezTo>
                      <a:pt x="455" y="397"/>
                      <a:pt x="376" y="412"/>
                      <a:pt x="324" y="422"/>
                    </a:cubicBezTo>
                    <a:cubicBezTo>
                      <a:pt x="271" y="432"/>
                      <a:pt x="230" y="439"/>
                      <a:pt x="198" y="445"/>
                    </a:cubicBezTo>
                    <a:cubicBezTo>
                      <a:pt x="167" y="450"/>
                      <a:pt x="163" y="452"/>
                      <a:pt x="133" y="455"/>
                    </a:cubicBezTo>
                    <a:cubicBezTo>
                      <a:pt x="102" y="458"/>
                      <a:pt x="38" y="471"/>
                      <a:pt x="19" y="465"/>
                    </a:cubicBezTo>
                    <a:cubicBezTo>
                      <a:pt x="0" y="460"/>
                      <a:pt x="20" y="438"/>
                      <a:pt x="19" y="422"/>
                    </a:cubicBezTo>
                    <a:cubicBezTo>
                      <a:pt x="18" y="405"/>
                      <a:pt x="16" y="384"/>
                      <a:pt x="15" y="367"/>
                    </a:cubicBezTo>
                    <a:cubicBezTo>
                      <a:pt x="14" y="350"/>
                      <a:pt x="11" y="335"/>
                      <a:pt x="10" y="318"/>
                    </a:cubicBezTo>
                    <a:cubicBezTo>
                      <a:pt x="9" y="301"/>
                      <a:pt x="9" y="280"/>
                      <a:pt x="10" y="265"/>
                    </a:cubicBezTo>
                    <a:cubicBezTo>
                      <a:pt x="11" y="250"/>
                      <a:pt x="3" y="238"/>
                      <a:pt x="15" y="231"/>
                    </a:cubicBezTo>
                    <a:cubicBezTo>
                      <a:pt x="26" y="223"/>
                      <a:pt x="41" y="227"/>
                      <a:pt x="81" y="220"/>
                    </a:cubicBezTo>
                    <a:cubicBezTo>
                      <a:pt x="122" y="212"/>
                      <a:pt x="188" y="202"/>
                      <a:pt x="257" y="189"/>
                    </a:cubicBezTo>
                    <a:cubicBezTo>
                      <a:pt x="326" y="177"/>
                      <a:pt x="419" y="159"/>
                      <a:pt x="495" y="144"/>
                    </a:cubicBezTo>
                    <a:cubicBezTo>
                      <a:pt x="571" y="129"/>
                      <a:pt x="634" y="116"/>
                      <a:pt x="716" y="100"/>
                    </a:cubicBezTo>
                    <a:cubicBezTo>
                      <a:pt x="799" y="84"/>
                      <a:pt x="931" y="58"/>
                      <a:pt x="988" y="4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>
                <a:off x="7974000" y="2588760"/>
                <a:ext cx="679320" cy="1043280"/>
              </a:xfrm>
              <a:custGeom>
                <a:avLst/>
                <a:gdLst/>
                <a:ahLst/>
                <a:rect l="l" t="t" r="r" b="b"/>
                <a:pathLst>
                  <a:path w="428" h="381">
                    <a:moveTo>
                      <a:pt x="10" y="80"/>
                    </a:moveTo>
                    <a:cubicBezTo>
                      <a:pt x="10" y="96"/>
                      <a:pt x="10" y="120"/>
                      <a:pt x="10" y="136"/>
                    </a:cubicBezTo>
                    <a:cubicBezTo>
                      <a:pt x="10" y="153"/>
                      <a:pt x="10" y="163"/>
                      <a:pt x="10" y="178"/>
                    </a:cubicBezTo>
                    <a:cubicBezTo>
                      <a:pt x="10" y="193"/>
                      <a:pt x="10" y="216"/>
                      <a:pt x="13" y="227"/>
                    </a:cubicBezTo>
                    <a:cubicBezTo>
                      <a:pt x="17" y="238"/>
                      <a:pt x="21" y="236"/>
                      <a:pt x="33" y="242"/>
                    </a:cubicBezTo>
                    <a:cubicBezTo>
                      <a:pt x="45" y="248"/>
                      <a:pt x="65" y="256"/>
                      <a:pt x="87" y="265"/>
                    </a:cubicBezTo>
                    <a:cubicBezTo>
                      <a:pt x="109" y="273"/>
                      <a:pt x="142" y="286"/>
                      <a:pt x="164" y="295"/>
                    </a:cubicBezTo>
                    <a:cubicBezTo>
                      <a:pt x="188" y="304"/>
                      <a:pt x="198" y="308"/>
                      <a:pt x="223" y="318"/>
                    </a:cubicBezTo>
                    <a:cubicBezTo>
                      <a:pt x="249" y="327"/>
                      <a:pt x="288" y="342"/>
                      <a:pt x="319" y="352"/>
                    </a:cubicBezTo>
                    <a:cubicBezTo>
                      <a:pt x="350" y="362"/>
                      <a:pt x="394" y="381"/>
                      <a:pt x="411" y="380"/>
                    </a:cubicBezTo>
                    <a:cubicBezTo>
                      <a:pt x="428" y="379"/>
                      <a:pt x="421" y="357"/>
                      <a:pt x="422" y="343"/>
                    </a:cubicBezTo>
                    <a:cubicBezTo>
                      <a:pt x="423" y="329"/>
                      <a:pt x="420" y="312"/>
                      <a:pt x="419" y="296"/>
                    </a:cubicBezTo>
                    <a:cubicBezTo>
                      <a:pt x="418" y="280"/>
                      <a:pt x="417" y="261"/>
                      <a:pt x="417" y="245"/>
                    </a:cubicBezTo>
                    <a:cubicBezTo>
                      <a:pt x="417" y="229"/>
                      <a:pt x="418" y="213"/>
                      <a:pt x="417" y="197"/>
                    </a:cubicBezTo>
                    <a:cubicBezTo>
                      <a:pt x="416" y="181"/>
                      <a:pt x="421" y="160"/>
                      <a:pt x="409" y="147"/>
                    </a:cubicBezTo>
                    <a:cubicBezTo>
                      <a:pt x="397" y="134"/>
                      <a:pt x="368" y="128"/>
                      <a:pt x="344" y="119"/>
                    </a:cubicBezTo>
                    <a:cubicBezTo>
                      <a:pt x="318" y="109"/>
                      <a:pt x="290" y="102"/>
                      <a:pt x="255" y="90"/>
                    </a:cubicBezTo>
                    <a:cubicBezTo>
                      <a:pt x="222" y="79"/>
                      <a:pt x="173" y="61"/>
                      <a:pt x="140" y="49"/>
                    </a:cubicBezTo>
                    <a:cubicBezTo>
                      <a:pt x="107" y="37"/>
                      <a:pt x="82" y="28"/>
                      <a:pt x="60" y="20"/>
                    </a:cubicBezTo>
                    <a:cubicBezTo>
                      <a:pt x="38" y="12"/>
                      <a:pt x="18" y="0"/>
                      <a:pt x="9" y="2"/>
                    </a:cubicBezTo>
                    <a:cubicBezTo>
                      <a:pt x="0" y="4"/>
                      <a:pt x="6" y="20"/>
                      <a:pt x="6" y="33"/>
                    </a:cubicBezTo>
                    <a:cubicBezTo>
                      <a:pt x="6" y="46"/>
                      <a:pt x="10" y="63"/>
                      <a:pt x="10" y="8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7167960" y="2287440"/>
                <a:ext cx="676080" cy="1086840"/>
              </a:xfrm>
              <a:custGeom>
                <a:avLst/>
                <a:gdLst/>
                <a:ahLst/>
                <a:rect l="l" t="t" r="r" b="b"/>
                <a:pathLst>
                  <a:path w="426" h="397">
                    <a:moveTo>
                      <a:pt x="0" y="0"/>
                    </a:moveTo>
                    <a:cubicBezTo>
                      <a:pt x="25" y="8"/>
                      <a:pt x="99" y="36"/>
                      <a:pt x="145" y="53"/>
                    </a:cubicBezTo>
                    <a:cubicBezTo>
                      <a:pt x="190" y="69"/>
                      <a:pt x="238" y="87"/>
                      <a:pt x="273" y="100"/>
                    </a:cubicBezTo>
                    <a:cubicBezTo>
                      <a:pt x="307" y="113"/>
                      <a:pt x="331" y="122"/>
                      <a:pt x="354" y="131"/>
                    </a:cubicBezTo>
                    <a:cubicBezTo>
                      <a:pt x="376" y="140"/>
                      <a:pt x="399" y="144"/>
                      <a:pt x="409" y="157"/>
                    </a:cubicBezTo>
                    <a:cubicBezTo>
                      <a:pt x="419" y="170"/>
                      <a:pt x="413" y="191"/>
                      <a:pt x="414" y="208"/>
                    </a:cubicBezTo>
                    <a:cubicBezTo>
                      <a:pt x="415" y="225"/>
                      <a:pt x="416" y="247"/>
                      <a:pt x="417" y="262"/>
                    </a:cubicBezTo>
                    <a:cubicBezTo>
                      <a:pt x="418" y="277"/>
                      <a:pt x="419" y="286"/>
                      <a:pt x="420" y="301"/>
                    </a:cubicBezTo>
                    <a:cubicBezTo>
                      <a:pt x="421" y="316"/>
                      <a:pt x="422" y="336"/>
                      <a:pt x="423" y="352"/>
                    </a:cubicBezTo>
                    <a:cubicBezTo>
                      <a:pt x="424" y="368"/>
                      <a:pt x="425" y="388"/>
                      <a:pt x="426" y="397"/>
                    </a:cubicBezTo>
                  </a:path>
                </a:pathLst>
              </a:custGeom>
              <a:noFill/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 rot="971400">
              <a:off x="7163640" y="29242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25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rot="21195600">
              <a:off x="7308720" y="234936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никел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4" name=""/>
          <p:cNvSpPr/>
          <p:nvPr/>
        </p:nvSpPr>
        <p:spPr>
          <a:xfrm rot="20301000">
            <a:off x="5004000" y="2923920"/>
            <a:ext cx="107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0,3у к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042920" y="551664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асса никеля в новом сплаве 200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25=50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(кг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68360" y="393372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rot="19774200">
            <a:off x="7885440" y="2851920"/>
            <a:ext cx="83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50к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395640" y="2276640"/>
            <a:ext cx="2518920" cy="1296000"/>
            <a:chOff x="395640" y="2276640"/>
            <a:chExt cx="2518920" cy="1296000"/>
          </a:xfrm>
        </p:grpSpPr>
        <p:grpSp>
          <p:nvGrpSpPr>
            <p:cNvPr id="609" name=""/>
            <p:cNvGrpSpPr/>
            <p:nvPr/>
          </p:nvGrpSpPr>
          <p:grpSpPr>
            <a:xfrm>
              <a:off x="395640" y="2276640"/>
              <a:ext cx="2518920" cy="1296000"/>
              <a:chOff x="395640" y="2276640"/>
              <a:chExt cx="2518920" cy="1296000"/>
            </a:xfrm>
          </p:grpSpPr>
          <p:sp>
            <p:nvSpPr>
              <p:cNvPr id="610" name=""/>
              <p:cNvSpPr/>
              <p:nvPr/>
            </p:nvSpPr>
            <p:spPr>
              <a:xfrm flipH="1">
                <a:off x="419760" y="2276640"/>
                <a:ext cx="2494440" cy="790560"/>
              </a:xfrm>
              <a:custGeom>
                <a:avLst/>
                <a:gdLst/>
                <a:ahLst/>
                <a:rect l="l" t="t" r="r" b="b"/>
                <a:pathLst>
                  <a:path w="1617" h="369">
                    <a:moveTo>
                      <a:pt x="1207" y="4"/>
                    </a:moveTo>
                    <a:cubicBezTo>
                      <a:pt x="1266" y="8"/>
                      <a:pt x="1327" y="33"/>
                      <a:pt x="1376" y="47"/>
                    </a:cubicBezTo>
                    <a:cubicBezTo>
                      <a:pt x="1425" y="60"/>
                      <a:pt x="1466" y="71"/>
                      <a:pt x="1504" y="86"/>
                    </a:cubicBezTo>
                    <a:cubicBezTo>
                      <a:pt x="1543" y="102"/>
                      <a:pt x="1617" y="126"/>
                      <a:pt x="1606" y="140"/>
                    </a:cubicBezTo>
                    <a:cubicBezTo>
                      <a:pt x="1594" y="154"/>
                      <a:pt x="1496" y="160"/>
                      <a:pt x="1434" y="172"/>
                    </a:cubicBezTo>
                    <a:cubicBezTo>
                      <a:pt x="1373" y="184"/>
                      <a:pt x="1302" y="197"/>
                      <a:pt x="1238" y="210"/>
                    </a:cubicBezTo>
                    <a:cubicBezTo>
                      <a:pt x="1174" y="222"/>
                      <a:pt x="1126" y="232"/>
                      <a:pt x="1054" y="246"/>
                    </a:cubicBezTo>
                    <a:cubicBezTo>
                      <a:pt x="982" y="260"/>
                      <a:pt x="879" y="280"/>
                      <a:pt x="803" y="295"/>
                    </a:cubicBezTo>
                    <a:cubicBezTo>
                      <a:pt x="728" y="309"/>
                      <a:pt x="663" y="322"/>
                      <a:pt x="603" y="333"/>
                    </a:cubicBezTo>
                    <a:cubicBezTo>
                      <a:pt x="542" y="343"/>
                      <a:pt x="474" y="353"/>
                      <a:pt x="440" y="359"/>
                    </a:cubicBezTo>
                    <a:cubicBezTo>
                      <a:pt x="405" y="365"/>
                      <a:pt x="408" y="368"/>
                      <a:pt x="398" y="369"/>
                    </a:cubicBezTo>
                    <a:cubicBezTo>
                      <a:pt x="389" y="369"/>
                      <a:pt x="404" y="369"/>
                      <a:pt x="381" y="361"/>
                    </a:cubicBezTo>
                    <a:cubicBezTo>
                      <a:pt x="358" y="353"/>
                      <a:pt x="309" y="338"/>
                      <a:pt x="260" y="321"/>
                    </a:cubicBezTo>
                    <a:cubicBezTo>
                      <a:pt x="211" y="305"/>
                      <a:pt x="129" y="280"/>
                      <a:pt x="89" y="263"/>
                    </a:cubicBezTo>
                    <a:cubicBezTo>
                      <a:pt x="49" y="246"/>
                      <a:pt x="0" y="234"/>
                      <a:pt x="21" y="218"/>
                    </a:cubicBezTo>
                    <a:cubicBezTo>
                      <a:pt x="42" y="202"/>
                      <a:pt x="152" y="181"/>
                      <a:pt x="218" y="166"/>
                    </a:cubicBezTo>
                    <a:cubicBezTo>
                      <a:pt x="284" y="151"/>
                      <a:pt x="333" y="144"/>
                      <a:pt x="419" y="129"/>
                    </a:cubicBezTo>
                    <a:cubicBezTo>
                      <a:pt x="505" y="113"/>
                      <a:pt x="632" y="91"/>
                      <a:pt x="732" y="74"/>
                    </a:cubicBezTo>
                    <a:cubicBezTo>
                      <a:pt x="833" y="57"/>
                      <a:pt x="939" y="38"/>
                      <a:pt x="1019" y="27"/>
                    </a:cubicBezTo>
                    <a:cubicBezTo>
                      <a:pt x="1098" y="16"/>
                      <a:pt x="1148" y="0"/>
                      <a:pt x="1207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H="1">
                <a:off x="395280" y="2563560"/>
                <a:ext cx="1906920" cy="1009080"/>
              </a:xfrm>
              <a:custGeom>
                <a:avLst/>
                <a:gdLst/>
                <a:ahLst/>
                <a:rect l="l" t="t" r="r" b="b"/>
                <a:pathLst>
                  <a:path w="1236" h="471">
                    <a:moveTo>
                      <a:pt x="988" y="47"/>
                    </a:moveTo>
                    <a:cubicBezTo>
                      <a:pt x="1069" y="35"/>
                      <a:pt x="1122" y="23"/>
                      <a:pt x="1160" y="17"/>
                    </a:cubicBezTo>
                    <a:cubicBezTo>
                      <a:pt x="1198" y="11"/>
                      <a:pt x="1204" y="0"/>
                      <a:pt x="1214" y="9"/>
                    </a:cubicBezTo>
                    <a:cubicBezTo>
                      <a:pt x="1224" y="18"/>
                      <a:pt x="1221" y="45"/>
                      <a:pt x="1223" y="69"/>
                    </a:cubicBezTo>
                    <a:cubicBezTo>
                      <a:pt x="1225" y="93"/>
                      <a:pt x="1228" y="132"/>
                      <a:pt x="1229" y="156"/>
                    </a:cubicBezTo>
                    <a:cubicBezTo>
                      <a:pt x="1230" y="180"/>
                      <a:pt x="1236" y="203"/>
                      <a:pt x="1232" y="216"/>
                    </a:cubicBezTo>
                    <a:cubicBezTo>
                      <a:pt x="1228" y="229"/>
                      <a:pt x="1222" y="225"/>
                      <a:pt x="1205" y="231"/>
                    </a:cubicBezTo>
                    <a:cubicBezTo>
                      <a:pt x="1188" y="237"/>
                      <a:pt x="1171" y="245"/>
                      <a:pt x="1130" y="255"/>
                    </a:cubicBezTo>
                    <a:cubicBezTo>
                      <a:pt x="1089" y="265"/>
                      <a:pt x="1014" y="280"/>
                      <a:pt x="959" y="291"/>
                    </a:cubicBezTo>
                    <a:cubicBezTo>
                      <a:pt x="903" y="303"/>
                      <a:pt x="849" y="317"/>
                      <a:pt x="800" y="327"/>
                    </a:cubicBezTo>
                    <a:cubicBezTo>
                      <a:pt x="751" y="338"/>
                      <a:pt x="710" y="344"/>
                      <a:pt x="662" y="354"/>
                    </a:cubicBezTo>
                    <a:cubicBezTo>
                      <a:pt x="614" y="364"/>
                      <a:pt x="568" y="375"/>
                      <a:pt x="512" y="386"/>
                    </a:cubicBezTo>
                    <a:cubicBezTo>
                      <a:pt x="455" y="397"/>
                      <a:pt x="376" y="412"/>
                      <a:pt x="324" y="422"/>
                    </a:cubicBezTo>
                    <a:cubicBezTo>
                      <a:pt x="271" y="432"/>
                      <a:pt x="230" y="439"/>
                      <a:pt x="198" y="445"/>
                    </a:cubicBezTo>
                    <a:cubicBezTo>
                      <a:pt x="167" y="450"/>
                      <a:pt x="163" y="452"/>
                      <a:pt x="133" y="455"/>
                    </a:cubicBezTo>
                    <a:cubicBezTo>
                      <a:pt x="102" y="458"/>
                      <a:pt x="38" y="471"/>
                      <a:pt x="19" y="465"/>
                    </a:cubicBezTo>
                    <a:cubicBezTo>
                      <a:pt x="0" y="460"/>
                      <a:pt x="20" y="438"/>
                      <a:pt x="19" y="422"/>
                    </a:cubicBezTo>
                    <a:cubicBezTo>
                      <a:pt x="18" y="405"/>
                      <a:pt x="16" y="384"/>
                      <a:pt x="15" y="367"/>
                    </a:cubicBezTo>
                    <a:cubicBezTo>
                      <a:pt x="14" y="350"/>
                      <a:pt x="11" y="335"/>
                      <a:pt x="10" y="318"/>
                    </a:cubicBezTo>
                    <a:cubicBezTo>
                      <a:pt x="9" y="301"/>
                      <a:pt x="9" y="280"/>
                      <a:pt x="10" y="265"/>
                    </a:cubicBezTo>
                    <a:cubicBezTo>
                      <a:pt x="11" y="250"/>
                      <a:pt x="3" y="238"/>
                      <a:pt x="15" y="231"/>
                    </a:cubicBezTo>
                    <a:cubicBezTo>
                      <a:pt x="26" y="223"/>
                      <a:pt x="41" y="227"/>
                      <a:pt x="81" y="220"/>
                    </a:cubicBezTo>
                    <a:cubicBezTo>
                      <a:pt x="122" y="212"/>
                      <a:pt x="188" y="202"/>
                      <a:pt x="257" y="189"/>
                    </a:cubicBezTo>
                    <a:cubicBezTo>
                      <a:pt x="326" y="177"/>
                      <a:pt x="419" y="159"/>
                      <a:pt x="495" y="144"/>
                    </a:cubicBezTo>
                    <a:cubicBezTo>
                      <a:pt x="571" y="129"/>
                      <a:pt x="634" y="116"/>
                      <a:pt x="716" y="100"/>
                    </a:cubicBezTo>
                    <a:cubicBezTo>
                      <a:pt x="799" y="84"/>
                      <a:pt x="931" y="58"/>
                      <a:pt x="988" y="4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>
                <a:off x="2231280" y="2746080"/>
                <a:ext cx="659880" cy="816120"/>
              </a:xfrm>
              <a:custGeom>
                <a:avLst/>
                <a:gdLst/>
                <a:ahLst/>
                <a:rect l="l" t="t" r="r" b="b"/>
                <a:pathLst>
                  <a:path w="428" h="381">
                    <a:moveTo>
                      <a:pt x="10" y="80"/>
                    </a:moveTo>
                    <a:cubicBezTo>
                      <a:pt x="10" y="96"/>
                      <a:pt x="10" y="120"/>
                      <a:pt x="10" y="136"/>
                    </a:cubicBezTo>
                    <a:cubicBezTo>
                      <a:pt x="10" y="153"/>
                      <a:pt x="10" y="163"/>
                      <a:pt x="10" y="178"/>
                    </a:cubicBezTo>
                    <a:cubicBezTo>
                      <a:pt x="10" y="193"/>
                      <a:pt x="10" y="216"/>
                      <a:pt x="13" y="227"/>
                    </a:cubicBezTo>
                    <a:cubicBezTo>
                      <a:pt x="17" y="238"/>
                      <a:pt x="21" y="236"/>
                      <a:pt x="33" y="242"/>
                    </a:cubicBezTo>
                    <a:cubicBezTo>
                      <a:pt x="45" y="248"/>
                      <a:pt x="65" y="256"/>
                      <a:pt x="87" y="265"/>
                    </a:cubicBezTo>
                    <a:cubicBezTo>
                      <a:pt x="109" y="273"/>
                      <a:pt x="142" y="286"/>
                      <a:pt x="164" y="295"/>
                    </a:cubicBezTo>
                    <a:cubicBezTo>
                      <a:pt x="188" y="304"/>
                      <a:pt x="198" y="308"/>
                      <a:pt x="223" y="318"/>
                    </a:cubicBezTo>
                    <a:cubicBezTo>
                      <a:pt x="249" y="327"/>
                      <a:pt x="288" y="342"/>
                      <a:pt x="319" y="352"/>
                    </a:cubicBezTo>
                    <a:cubicBezTo>
                      <a:pt x="350" y="362"/>
                      <a:pt x="394" y="381"/>
                      <a:pt x="411" y="380"/>
                    </a:cubicBezTo>
                    <a:cubicBezTo>
                      <a:pt x="428" y="379"/>
                      <a:pt x="421" y="357"/>
                      <a:pt x="422" y="343"/>
                    </a:cubicBezTo>
                    <a:cubicBezTo>
                      <a:pt x="423" y="329"/>
                      <a:pt x="420" y="312"/>
                      <a:pt x="419" y="296"/>
                    </a:cubicBezTo>
                    <a:cubicBezTo>
                      <a:pt x="418" y="280"/>
                      <a:pt x="417" y="261"/>
                      <a:pt x="417" y="245"/>
                    </a:cubicBezTo>
                    <a:cubicBezTo>
                      <a:pt x="417" y="229"/>
                      <a:pt x="418" y="213"/>
                      <a:pt x="417" y="197"/>
                    </a:cubicBezTo>
                    <a:cubicBezTo>
                      <a:pt x="416" y="181"/>
                      <a:pt x="421" y="160"/>
                      <a:pt x="409" y="147"/>
                    </a:cubicBezTo>
                    <a:cubicBezTo>
                      <a:pt x="397" y="134"/>
                      <a:pt x="368" y="128"/>
                      <a:pt x="344" y="119"/>
                    </a:cubicBezTo>
                    <a:cubicBezTo>
                      <a:pt x="318" y="109"/>
                      <a:pt x="290" y="102"/>
                      <a:pt x="255" y="90"/>
                    </a:cubicBezTo>
                    <a:cubicBezTo>
                      <a:pt x="222" y="79"/>
                      <a:pt x="173" y="61"/>
                      <a:pt x="140" y="49"/>
                    </a:cubicBezTo>
                    <a:cubicBezTo>
                      <a:pt x="107" y="37"/>
                      <a:pt x="82" y="28"/>
                      <a:pt x="60" y="20"/>
                    </a:cubicBezTo>
                    <a:cubicBezTo>
                      <a:pt x="38" y="12"/>
                      <a:pt x="18" y="0"/>
                      <a:pt x="9" y="2"/>
                    </a:cubicBezTo>
                    <a:cubicBezTo>
                      <a:pt x="0" y="4"/>
                      <a:pt x="6" y="20"/>
                      <a:pt x="6" y="33"/>
                    </a:cubicBezTo>
                    <a:cubicBezTo>
                      <a:pt x="6" y="46"/>
                      <a:pt x="10" y="63"/>
                      <a:pt x="10" y="8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>
                <a:off x="1447560" y="2510280"/>
                <a:ext cx="657000" cy="850320"/>
              </a:xfrm>
              <a:custGeom>
                <a:avLst/>
                <a:gdLst/>
                <a:ahLst/>
                <a:rect l="l" t="t" r="r" b="b"/>
                <a:pathLst>
                  <a:path w="426" h="397">
                    <a:moveTo>
                      <a:pt x="0" y="0"/>
                    </a:moveTo>
                    <a:cubicBezTo>
                      <a:pt x="25" y="8"/>
                      <a:pt x="99" y="36"/>
                      <a:pt x="145" y="53"/>
                    </a:cubicBezTo>
                    <a:cubicBezTo>
                      <a:pt x="190" y="69"/>
                      <a:pt x="238" y="87"/>
                      <a:pt x="273" y="100"/>
                    </a:cubicBezTo>
                    <a:cubicBezTo>
                      <a:pt x="307" y="113"/>
                      <a:pt x="331" y="122"/>
                      <a:pt x="354" y="131"/>
                    </a:cubicBezTo>
                    <a:cubicBezTo>
                      <a:pt x="376" y="140"/>
                      <a:pt x="399" y="144"/>
                      <a:pt x="409" y="157"/>
                    </a:cubicBezTo>
                    <a:cubicBezTo>
                      <a:pt x="419" y="170"/>
                      <a:pt x="413" y="191"/>
                      <a:pt x="414" y="208"/>
                    </a:cubicBezTo>
                    <a:cubicBezTo>
                      <a:pt x="415" y="225"/>
                      <a:pt x="416" y="247"/>
                      <a:pt x="417" y="262"/>
                    </a:cubicBezTo>
                    <a:cubicBezTo>
                      <a:pt x="418" y="277"/>
                      <a:pt x="419" y="286"/>
                      <a:pt x="420" y="301"/>
                    </a:cubicBezTo>
                    <a:cubicBezTo>
                      <a:pt x="421" y="316"/>
                      <a:pt x="422" y="336"/>
                      <a:pt x="423" y="352"/>
                    </a:cubicBezTo>
                    <a:cubicBezTo>
                      <a:pt x="424" y="368"/>
                      <a:pt x="425" y="388"/>
                      <a:pt x="426" y="397"/>
                    </a:cubicBezTo>
                  </a:path>
                </a:pathLst>
              </a:custGeom>
              <a:noFill/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4" name=""/>
            <p:cNvSpPr/>
            <p:nvPr/>
          </p:nvSpPr>
          <p:spPr>
            <a:xfrm rot="971400">
              <a:off x="1402560" y="299736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1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 rot="21195600">
              <a:off x="1619280" y="2492280"/>
              <a:ext cx="116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никел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6" name=""/>
          <p:cNvSpPr/>
          <p:nvPr/>
        </p:nvSpPr>
        <p:spPr>
          <a:xfrm rot="20301000">
            <a:off x="2124360" y="2923920"/>
            <a:ext cx="107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0,1х к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7" name=""/>
              <p:cNvSpPr txBox="1"/>
              <p:nvPr/>
            </p:nvSpPr>
            <p:spPr>
              <a:xfrm>
                <a:off x="539640" y="4437000"/>
                <a:ext cx="26164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1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0,3</m:t>
                    </m:r>
                    <m:r>
                      <m:t xml:space="preserve">у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8" name=""/>
              <p:cNvSpPr txBox="1"/>
              <p:nvPr/>
            </p:nvSpPr>
            <p:spPr>
              <a:xfrm>
                <a:off x="2771640" y="3860640"/>
                <a:ext cx="2735280" cy="105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  <m:r>
                              <m:t xml:space="preserve">−</m:t>
                            </m:r>
                            <m:r>
                              <m:t xml:space="preserve">у</m:t>
                            </m:r>
                            <m:r>
                              <m:t xml:space="preserve">;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5219640" y="3860640"/>
                <a:ext cx="3646440" cy="105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  <m:r>
                              <m:t xml:space="preserve">−</m:t>
                            </m:r>
                            <m:r>
                              <m:t xml:space="preserve">у</m:t>
                            </m:r>
                            <m:r>
                              <m:t xml:space="preserve">;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8386920" y="4076640"/>
                <a:ext cx="5648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466560" y="4797360"/>
                <a:ext cx="198144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  <m:r>
                              <m:t xml:space="preserve">;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22" name=""/>
          <p:cNvSpPr/>
          <p:nvPr/>
        </p:nvSpPr>
        <p:spPr>
          <a:xfrm>
            <a:off x="3276720" y="479736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50 кг - масса первого спла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203640" y="515772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50 кг - масса второго спла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203640" y="551664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50 – 50 = 100 (к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5" dur="indefinite" restart="never" nodeType="tmRoot">
          <p:childTnLst>
            <p:seq>
              <p:cTn id="886" restart="whenNotActive" nodeType="interactiveSeq" fill="hold">
                <p:stCondLst>
                  <p:cond evt="onClick">
                    <p:tgtEl>
                      <p:spTgt spid="574"/>
                    </p:tgtEl>
                  </p:cond>
                </p:stCondLst>
                <p:childTnLst>
                  <p:par>
                    <p:cTn id="887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1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4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7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2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500"/>
                            </p:stCondLst>
                            <p:childTnLst>
                              <p:par>
                                <p:cTn id="9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6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1000"/>
                            </p:stCondLst>
                            <p:childTnLst>
                              <p:par>
                                <p:cTn id="9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0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1500"/>
                            </p:stCondLst>
                            <p:childTnLst>
                              <p:par>
                                <p:cTn id="9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4" dur="50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9" dur="10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1000"/>
                            </p:stCondLst>
                            <p:childTnLst>
                              <p:par>
                                <p:cTn id="9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3" dur="10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27" dur="1000" fill="hold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2000"/>
                            </p:stCondLst>
                            <p:childTnLst>
                              <p:par>
                                <p:cTn id="929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30" dur="10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4000"/>
                            </p:stCondLst>
                            <p:childTnLst>
                              <p:par>
                                <p:cTn id="932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33" dur="10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6000"/>
                            </p:stCondLst>
                            <p:childTnLst>
                              <p:par>
                                <p:cTn id="9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7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2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6" dur="5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1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1000"/>
                            </p:stCondLst>
                            <p:childTnLst>
                              <p:par>
                                <p:cTn id="9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5" dur="500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0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1000"/>
                            </p:stCondLst>
                            <p:childTnLst>
                              <p:par>
                                <p:cTn id="9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4" dur="500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68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71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3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74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79" dur="10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2000"/>
                            </p:stCondLst>
                            <p:childTnLst>
                              <p:par>
                                <p:cTn id="981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82" dur="10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4000"/>
                            </p:stCondLst>
                            <p:childTnLst>
                              <p:par>
                                <p:cTn id="984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85" dur="10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6000"/>
                            </p:stCondLst>
                            <p:childTnLst>
                              <p:par>
                                <p:cTn id="98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9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6500"/>
                            </p:stCondLst>
                            <p:childTnLst>
                              <p:par>
                                <p:cTn id="9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3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8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2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6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0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5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9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3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7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1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250920" y="260280"/>
            <a:ext cx="8642160" cy="1513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При смешивании 30 процентного раствора серной кислоты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10 процентным раствором серной кислоты получилось 400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15 процентного раствора. Сколько граммов 30 процент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раствора было взят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24000" y="1916280"/>
            <a:ext cx="8496000" cy="41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765080" y="314172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493800" y="314172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755640" y="4076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х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851280" y="1989000"/>
            <a:ext cx="1512360" cy="2222280"/>
            <a:chOff x="3851280" y="1989000"/>
            <a:chExt cx="1512360" cy="2222280"/>
          </a:xfrm>
        </p:grpSpPr>
        <p:grpSp>
          <p:nvGrpSpPr>
            <p:cNvPr id="631" name=""/>
            <p:cNvGrpSpPr/>
            <p:nvPr/>
          </p:nvGrpSpPr>
          <p:grpSpPr>
            <a:xfrm>
              <a:off x="3924360" y="1989000"/>
              <a:ext cx="1439280" cy="2222280"/>
              <a:chOff x="3924360" y="1989000"/>
              <a:chExt cx="1439280" cy="2222280"/>
            </a:xfrm>
          </p:grpSpPr>
          <p:sp>
            <p:nvSpPr>
              <p:cNvPr id="632" name=""/>
              <p:cNvSpPr/>
              <p:nvPr/>
            </p:nvSpPr>
            <p:spPr>
              <a:xfrm>
                <a:off x="3924360" y="1989000"/>
                <a:ext cx="1433520" cy="2222280"/>
              </a:xfrm>
              <a:custGeom>
                <a:avLst/>
                <a:gdLst/>
                <a:ahLst/>
                <a:rect l="l" t="t" r="r" b="b"/>
                <a:pathLst>
                  <a:path w="756" h="1173">
                    <a:moveTo>
                      <a:pt x="97" y="266"/>
                    </a:moveTo>
                    <a:cubicBezTo>
                      <a:pt x="85" y="268"/>
                      <a:pt x="78" y="268"/>
                      <a:pt x="66" y="276"/>
                    </a:cubicBezTo>
                    <a:cubicBezTo>
                      <a:pt x="55" y="283"/>
                      <a:pt x="35" y="292"/>
                      <a:pt x="26" y="309"/>
                    </a:cubicBezTo>
                    <a:cubicBezTo>
                      <a:pt x="15" y="326"/>
                      <a:pt x="10" y="327"/>
                      <a:pt x="5" y="379"/>
                    </a:cubicBezTo>
                    <a:cubicBezTo>
                      <a:pt x="1" y="432"/>
                      <a:pt x="2" y="549"/>
                      <a:pt x="1" y="624"/>
                    </a:cubicBezTo>
                    <a:cubicBezTo>
                      <a:pt x="1" y="699"/>
                      <a:pt x="0" y="759"/>
                      <a:pt x="1" y="831"/>
                    </a:cubicBezTo>
                    <a:cubicBezTo>
                      <a:pt x="3" y="903"/>
                      <a:pt x="0" y="1007"/>
                      <a:pt x="10" y="1055"/>
                    </a:cubicBezTo>
                    <a:cubicBezTo>
                      <a:pt x="19" y="1104"/>
                      <a:pt x="24" y="1104"/>
                      <a:pt x="58" y="1122"/>
                    </a:cubicBezTo>
                    <a:cubicBezTo>
                      <a:pt x="92" y="1140"/>
                      <a:pt x="157" y="1155"/>
                      <a:pt x="219" y="1163"/>
                    </a:cubicBezTo>
                    <a:cubicBezTo>
                      <a:pt x="281" y="1171"/>
                      <a:pt x="365" y="1173"/>
                      <a:pt x="434" y="1170"/>
                    </a:cubicBezTo>
                    <a:cubicBezTo>
                      <a:pt x="504" y="1166"/>
                      <a:pt x="589" y="1156"/>
                      <a:pt x="637" y="1146"/>
                    </a:cubicBezTo>
                    <a:cubicBezTo>
                      <a:pt x="685" y="1136"/>
                      <a:pt x="708" y="1121"/>
                      <a:pt x="727" y="1105"/>
                    </a:cubicBezTo>
                    <a:cubicBezTo>
                      <a:pt x="746" y="1089"/>
                      <a:pt x="747" y="1095"/>
                      <a:pt x="751" y="1051"/>
                    </a:cubicBezTo>
                    <a:cubicBezTo>
                      <a:pt x="755" y="1007"/>
                      <a:pt x="754" y="936"/>
                      <a:pt x="754" y="841"/>
                    </a:cubicBezTo>
                    <a:cubicBezTo>
                      <a:pt x="754" y="746"/>
                      <a:pt x="756" y="562"/>
                      <a:pt x="754" y="478"/>
                    </a:cubicBezTo>
                    <a:cubicBezTo>
                      <a:pt x="752" y="394"/>
                      <a:pt x="747" y="364"/>
                      <a:pt x="741" y="334"/>
                    </a:cubicBezTo>
                    <a:cubicBezTo>
                      <a:pt x="736" y="303"/>
                      <a:pt x="725" y="307"/>
                      <a:pt x="717" y="296"/>
                    </a:cubicBezTo>
                    <a:cubicBezTo>
                      <a:pt x="709" y="286"/>
                      <a:pt x="708" y="282"/>
                      <a:pt x="693" y="276"/>
                    </a:cubicBezTo>
                    <a:cubicBezTo>
                      <a:pt x="679" y="269"/>
                      <a:pt x="645" y="264"/>
                      <a:pt x="629" y="259"/>
                    </a:cubicBezTo>
                    <a:cubicBezTo>
                      <a:pt x="614" y="255"/>
                      <a:pt x="608" y="255"/>
                      <a:pt x="597" y="251"/>
                    </a:cubicBezTo>
                    <a:cubicBezTo>
                      <a:pt x="588" y="247"/>
                      <a:pt x="577" y="241"/>
                      <a:pt x="569" y="234"/>
                    </a:cubicBezTo>
                    <a:cubicBezTo>
                      <a:pt x="562" y="227"/>
                      <a:pt x="554" y="221"/>
                      <a:pt x="551" y="212"/>
                    </a:cubicBezTo>
                    <a:cubicBezTo>
                      <a:pt x="548" y="201"/>
                      <a:pt x="545" y="189"/>
                      <a:pt x="549" y="176"/>
                    </a:cubicBezTo>
                    <a:cubicBezTo>
                      <a:pt x="553" y="164"/>
                      <a:pt x="567" y="146"/>
                      <a:pt x="577" y="133"/>
                    </a:cubicBezTo>
                    <a:cubicBezTo>
                      <a:pt x="587" y="121"/>
                      <a:pt x="602" y="115"/>
                      <a:pt x="610" y="104"/>
                    </a:cubicBezTo>
                    <a:cubicBezTo>
                      <a:pt x="619" y="93"/>
                      <a:pt x="628" y="77"/>
                      <a:pt x="628" y="66"/>
                    </a:cubicBezTo>
                    <a:cubicBezTo>
                      <a:pt x="628" y="54"/>
                      <a:pt x="635" y="43"/>
                      <a:pt x="613" y="34"/>
                    </a:cubicBezTo>
                    <a:cubicBezTo>
                      <a:pt x="592" y="25"/>
                      <a:pt x="543" y="17"/>
                      <a:pt x="501" y="11"/>
                    </a:cubicBezTo>
                    <a:cubicBezTo>
                      <a:pt x="459" y="6"/>
                      <a:pt x="411" y="0"/>
                      <a:pt x="361" y="0"/>
                    </a:cubicBezTo>
                    <a:cubicBezTo>
                      <a:pt x="312" y="0"/>
                      <a:pt x="242" y="6"/>
                      <a:pt x="203" y="14"/>
                    </a:cubicBezTo>
                    <a:cubicBezTo>
                      <a:pt x="163" y="21"/>
                      <a:pt x="136" y="33"/>
                      <a:pt x="125" y="48"/>
                    </a:cubicBezTo>
                    <a:cubicBezTo>
                      <a:pt x="115" y="62"/>
                      <a:pt x="131" y="90"/>
                      <a:pt x="137" y="105"/>
                    </a:cubicBezTo>
                    <a:cubicBezTo>
                      <a:pt x="143" y="121"/>
                      <a:pt x="153" y="129"/>
                      <a:pt x="161" y="139"/>
                    </a:cubicBezTo>
                    <a:cubicBezTo>
                      <a:pt x="169" y="149"/>
                      <a:pt x="181" y="158"/>
                      <a:pt x="188" y="166"/>
                    </a:cubicBezTo>
                    <a:cubicBezTo>
                      <a:pt x="193" y="173"/>
                      <a:pt x="196" y="174"/>
                      <a:pt x="197" y="182"/>
                    </a:cubicBezTo>
                    <a:cubicBezTo>
                      <a:pt x="198" y="190"/>
                      <a:pt x="199" y="202"/>
                      <a:pt x="195" y="212"/>
                    </a:cubicBezTo>
                    <a:cubicBezTo>
                      <a:pt x="192" y="221"/>
                      <a:pt x="185" y="228"/>
                      <a:pt x="175" y="236"/>
                    </a:cubicBezTo>
                    <a:cubicBezTo>
                      <a:pt x="165" y="244"/>
                      <a:pt x="150" y="252"/>
                      <a:pt x="137" y="257"/>
                    </a:cubicBezTo>
                    <a:cubicBezTo>
                      <a:pt x="124" y="261"/>
                      <a:pt x="108" y="262"/>
                      <a:pt x="97" y="26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1ffff"/>
                  </a:gs>
                  <a:gs pos="100000">
                    <a:srgbClr val="00f4ee"/>
                  </a:gs>
                </a:gsLst>
                <a:lin ang="5400000"/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3954240" y="3862800"/>
                <a:ext cx="1388160" cy="156960"/>
              </a:xfrm>
              <a:custGeom>
                <a:avLst/>
                <a:gdLst/>
                <a:ahLst/>
                <a:rect l="l" t="t" r="r" b="b"/>
                <a:pathLst>
                  <a:path w="732" h="83">
                    <a:moveTo>
                      <a:pt x="732" y="80"/>
                    </a:moveTo>
                    <a:cubicBezTo>
                      <a:pt x="713" y="70"/>
                      <a:pt x="675" y="33"/>
                      <a:pt x="615" y="20"/>
                    </a:cubicBezTo>
                    <a:cubicBezTo>
                      <a:pt x="555" y="7"/>
                      <a:pt x="454" y="0"/>
                      <a:pt x="372" y="1"/>
                    </a:cubicBezTo>
                    <a:cubicBezTo>
                      <a:pt x="290" y="2"/>
                      <a:pt x="184" y="14"/>
                      <a:pt x="122" y="28"/>
                    </a:cubicBezTo>
                    <a:cubicBezTo>
                      <a:pt x="60" y="42"/>
                      <a:pt x="25" y="72"/>
                      <a:pt x="0" y="83"/>
                    </a:cubicBezTo>
                  </a:path>
                </a:pathLst>
              </a:custGeom>
              <a:noFill/>
              <a:ln w="19080">
                <a:solidFill>
                  <a:srgbClr val="0000d2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4151880" y="1989000"/>
                <a:ext cx="965160" cy="221040"/>
              </a:xfrm>
              <a:custGeom>
                <a:avLst/>
                <a:gdLst/>
                <a:ahLst/>
                <a:rect l="l" t="t" r="r" b="b"/>
                <a:pathLst>
                  <a:path w="475" h="103">
                    <a:moveTo>
                      <a:pt x="5" y="57"/>
                    </a:moveTo>
                    <a:cubicBezTo>
                      <a:pt x="0" y="49"/>
                      <a:pt x="8" y="37"/>
                      <a:pt x="25" y="29"/>
                    </a:cubicBezTo>
                    <a:cubicBezTo>
                      <a:pt x="42" y="21"/>
                      <a:pt x="76" y="16"/>
                      <a:pt x="107" y="11"/>
                    </a:cubicBezTo>
                    <a:cubicBezTo>
                      <a:pt x="138" y="6"/>
                      <a:pt x="180" y="2"/>
                      <a:pt x="213" y="1"/>
                    </a:cubicBezTo>
                    <a:cubicBezTo>
                      <a:pt x="246" y="0"/>
                      <a:pt x="279" y="1"/>
                      <a:pt x="307" y="3"/>
                    </a:cubicBezTo>
                    <a:cubicBezTo>
                      <a:pt x="335" y="5"/>
                      <a:pt x="357" y="9"/>
                      <a:pt x="379" y="13"/>
                    </a:cubicBezTo>
                    <a:cubicBezTo>
                      <a:pt x="401" y="17"/>
                      <a:pt x="422" y="19"/>
                      <a:pt x="437" y="25"/>
                    </a:cubicBezTo>
                    <a:cubicBezTo>
                      <a:pt x="452" y="31"/>
                      <a:pt x="471" y="42"/>
                      <a:pt x="473" y="49"/>
                    </a:cubicBezTo>
                    <a:cubicBezTo>
                      <a:pt x="475" y="56"/>
                      <a:pt x="464" y="60"/>
                      <a:pt x="449" y="67"/>
                    </a:cubicBezTo>
                    <a:cubicBezTo>
                      <a:pt x="434" y="74"/>
                      <a:pt x="410" y="83"/>
                      <a:pt x="381" y="89"/>
                    </a:cubicBezTo>
                    <a:cubicBezTo>
                      <a:pt x="352" y="95"/>
                      <a:pt x="316" y="99"/>
                      <a:pt x="277" y="101"/>
                    </a:cubicBezTo>
                    <a:cubicBezTo>
                      <a:pt x="238" y="103"/>
                      <a:pt x="186" y="102"/>
                      <a:pt x="149" y="99"/>
                    </a:cubicBezTo>
                    <a:cubicBezTo>
                      <a:pt x="112" y="96"/>
                      <a:pt x="79" y="87"/>
                      <a:pt x="55" y="80"/>
                    </a:cubicBezTo>
                    <a:cubicBezTo>
                      <a:pt x="31" y="73"/>
                      <a:pt x="11" y="66"/>
                      <a:pt x="5" y="5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1ffff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3924360" y="3057480"/>
                <a:ext cx="1437120" cy="388440"/>
              </a:xfrm>
              <a:custGeom>
                <a:avLst/>
                <a:gdLst/>
                <a:ahLst/>
                <a:rect l="l" t="t" r="r" b="b"/>
                <a:pathLst>
                  <a:path w="758" h="205">
                    <a:moveTo>
                      <a:pt x="9" y="99"/>
                    </a:moveTo>
                    <a:cubicBezTo>
                      <a:pt x="0" y="112"/>
                      <a:pt x="16" y="121"/>
                      <a:pt x="35" y="133"/>
                    </a:cubicBezTo>
                    <a:cubicBezTo>
                      <a:pt x="54" y="144"/>
                      <a:pt x="75" y="155"/>
                      <a:pt x="121" y="166"/>
                    </a:cubicBezTo>
                    <a:cubicBezTo>
                      <a:pt x="167" y="178"/>
                      <a:pt x="240" y="196"/>
                      <a:pt x="311" y="200"/>
                    </a:cubicBezTo>
                    <a:cubicBezTo>
                      <a:pt x="382" y="205"/>
                      <a:pt x="492" y="198"/>
                      <a:pt x="547" y="194"/>
                    </a:cubicBezTo>
                    <a:cubicBezTo>
                      <a:pt x="602" y="189"/>
                      <a:pt x="611" y="183"/>
                      <a:pt x="637" y="176"/>
                    </a:cubicBezTo>
                    <a:cubicBezTo>
                      <a:pt x="663" y="168"/>
                      <a:pt x="686" y="161"/>
                      <a:pt x="703" y="148"/>
                    </a:cubicBezTo>
                    <a:cubicBezTo>
                      <a:pt x="720" y="135"/>
                      <a:pt x="735" y="109"/>
                      <a:pt x="742" y="97"/>
                    </a:cubicBezTo>
                    <a:cubicBezTo>
                      <a:pt x="749" y="85"/>
                      <a:pt x="758" y="90"/>
                      <a:pt x="748" y="79"/>
                    </a:cubicBezTo>
                    <a:cubicBezTo>
                      <a:pt x="738" y="68"/>
                      <a:pt x="718" y="40"/>
                      <a:pt x="678" y="27"/>
                    </a:cubicBezTo>
                    <a:cubicBezTo>
                      <a:pt x="638" y="14"/>
                      <a:pt x="568" y="7"/>
                      <a:pt x="507" y="3"/>
                    </a:cubicBezTo>
                    <a:cubicBezTo>
                      <a:pt x="446" y="0"/>
                      <a:pt x="360" y="1"/>
                      <a:pt x="308" y="3"/>
                    </a:cubicBezTo>
                    <a:cubicBezTo>
                      <a:pt x="255" y="6"/>
                      <a:pt x="231" y="10"/>
                      <a:pt x="193" y="17"/>
                    </a:cubicBezTo>
                    <a:cubicBezTo>
                      <a:pt x="157" y="24"/>
                      <a:pt x="116" y="34"/>
                      <a:pt x="85" y="48"/>
                    </a:cubicBezTo>
                    <a:cubicBezTo>
                      <a:pt x="55" y="61"/>
                      <a:pt x="17" y="85"/>
                      <a:pt x="9" y="99"/>
                    </a:cubicBezTo>
                    <a:close/>
                  </a:path>
                </a:pathLst>
              </a:custGeom>
              <a:solidFill>
                <a:srgbClr val="8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3925800" y="3228120"/>
                <a:ext cx="1435680" cy="209880"/>
              </a:xfrm>
              <a:custGeom>
                <a:avLst/>
                <a:gdLst/>
                <a:ahLst/>
                <a:rect l="l" t="t" r="r" b="b"/>
                <a:pathLst>
                  <a:path w="706" h="98">
                    <a:moveTo>
                      <a:pt x="0" y="18"/>
                    </a:moveTo>
                    <a:cubicBezTo>
                      <a:pt x="6" y="22"/>
                      <a:pt x="17" y="35"/>
                      <a:pt x="36" y="44"/>
                    </a:cubicBezTo>
                    <a:cubicBezTo>
                      <a:pt x="55" y="53"/>
                      <a:pt x="83" y="64"/>
                      <a:pt x="115" y="72"/>
                    </a:cubicBezTo>
                    <a:cubicBezTo>
                      <a:pt x="147" y="80"/>
                      <a:pt x="189" y="86"/>
                      <a:pt x="230" y="90"/>
                    </a:cubicBezTo>
                    <a:cubicBezTo>
                      <a:pt x="271" y="94"/>
                      <a:pt x="318" y="98"/>
                      <a:pt x="364" y="98"/>
                    </a:cubicBezTo>
                    <a:cubicBezTo>
                      <a:pt x="410" y="98"/>
                      <a:pt x="467" y="96"/>
                      <a:pt x="508" y="90"/>
                    </a:cubicBezTo>
                    <a:cubicBezTo>
                      <a:pt x="549" y="84"/>
                      <a:pt x="582" y="73"/>
                      <a:pt x="610" y="64"/>
                    </a:cubicBezTo>
                    <a:cubicBezTo>
                      <a:pt x="638" y="55"/>
                      <a:pt x="660" y="45"/>
                      <a:pt x="676" y="34"/>
                    </a:cubicBezTo>
                    <a:cubicBezTo>
                      <a:pt x="692" y="23"/>
                      <a:pt x="700" y="7"/>
                      <a:pt x="706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3925800" y="3061080"/>
                <a:ext cx="1435680" cy="191520"/>
              </a:xfrm>
              <a:custGeom>
                <a:avLst/>
                <a:gdLst/>
                <a:ahLst/>
                <a:rect l="l" t="t" r="r" b="b"/>
                <a:pathLst>
                  <a:path w="706" h="90">
                    <a:moveTo>
                      <a:pt x="706" y="70"/>
                    </a:moveTo>
                    <a:cubicBezTo>
                      <a:pt x="699" y="65"/>
                      <a:pt x="685" y="49"/>
                      <a:pt x="664" y="40"/>
                    </a:cubicBezTo>
                    <a:cubicBezTo>
                      <a:pt x="643" y="31"/>
                      <a:pt x="611" y="22"/>
                      <a:pt x="580" y="16"/>
                    </a:cubicBezTo>
                    <a:cubicBezTo>
                      <a:pt x="549" y="10"/>
                      <a:pt x="514" y="4"/>
                      <a:pt x="478" y="2"/>
                    </a:cubicBezTo>
                    <a:cubicBezTo>
                      <a:pt x="442" y="0"/>
                      <a:pt x="399" y="1"/>
                      <a:pt x="361" y="1"/>
                    </a:cubicBezTo>
                    <a:cubicBezTo>
                      <a:pt x="323" y="1"/>
                      <a:pt x="286" y="1"/>
                      <a:pt x="252" y="4"/>
                    </a:cubicBezTo>
                    <a:cubicBezTo>
                      <a:pt x="218" y="7"/>
                      <a:pt x="183" y="14"/>
                      <a:pt x="154" y="20"/>
                    </a:cubicBezTo>
                    <a:cubicBezTo>
                      <a:pt x="125" y="26"/>
                      <a:pt x="97" y="34"/>
                      <a:pt x="76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3924360" y="2574000"/>
                <a:ext cx="1439280" cy="388440"/>
              </a:xfrm>
              <a:custGeom>
                <a:avLst/>
                <a:gdLst/>
                <a:ahLst/>
                <a:rect l="l" t="t" r="r" b="b"/>
                <a:pathLst>
                  <a:path w="708" h="181">
                    <a:moveTo>
                      <a:pt x="8" y="87"/>
                    </a:moveTo>
                    <a:cubicBezTo>
                      <a:pt x="0" y="99"/>
                      <a:pt x="15" y="107"/>
                      <a:pt x="33" y="117"/>
                    </a:cubicBezTo>
                    <a:cubicBezTo>
                      <a:pt x="50" y="127"/>
                      <a:pt x="71" y="137"/>
                      <a:pt x="114" y="147"/>
                    </a:cubicBezTo>
                    <a:cubicBezTo>
                      <a:pt x="157" y="157"/>
                      <a:pt x="226" y="173"/>
                      <a:pt x="292" y="177"/>
                    </a:cubicBezTo>
                    <a:cubicBezTo>
                      <a:pt x="359" y="181"/>
                      <a:pt x="463" y="175"/>
                      <a:pt x="514" y="171"/>
                    </a:cubicBezTo>
                    <a:cubicBezTo>
                      <a:pt x="566" y="167"/>
                      <a:pt x="575" y="162"/>
                      <a:pt x="599" y="155"/>
                    </a:cubicBezTo>
                    <a:cubicBezTo>
                      <a:pt x="623" y="148"/>
                      <a:pt x="644" y="142"/>
                      <a:pt x="661" y="131"/>
                    </a:cubicBezTo>
                    <a:cubicBezTo>
                      <a:pt x="678" y="120"/>
                      <a:pt x="695" y="99"/>
                      <a:pt x="701" y="89"/>
                    </a:cubicBezTo>
                    <a:cubicBezTo>
                      <a:pt x="707" y="79"/>
                      <a:pt x="708" y="80"/>
                      <a:pt x="697" y="69"/>
                    </a:cubicBezTo>
                    <a:cubicBezTo>
                      <a:pt x="686" y="58"/>
                      <a:pt x="674" y="35"/>
                      <a:pt x="637" y="24"/>
                    </a:cubicBezTo>
                    <a:cubicBezTo>
                      <a:pt x="600" y="13"/>
                      <a:pt x="534" y="6"/>
                      <a:pt x="477" y="3"/>
                    </a:cubicBezTo>
                    <a:cubicBezTo>
                      <a:pt x="419" y="0"/>
                      <a:pt x="339" y="1"/>
                      <a:pt x="289" y="3"/>
                    </a:cubicBezTo>
                    <a:cubicBezTo>
                      <a:pt x="240" y="5"/>
                      <a:pt x="217" y="9"/>
                      <a:pt x="182" y="15"/>
                    </a:cubicBezTo>
                    <a:cubicBezTo>
                      <a:pt x="147" y="21"/>
                      <a:pt x="109" y="30"/>
                      <a:pt x="80" y="42"/>
                    </a:cubicBezTo>
                    <a:cubicBezTo>
                      <a:pt x="51" y="54"/>
                      <a:pt x="16" y="75"/>
                      <a:pt x="8" y="8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1ffff"/>
                  </a:gs>
                  <a:gs pos="100000">
                    <a:srgbClr val="8b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925800" y="2739240"/>
                <a:ext cx="1418760" cy="213840"/>
              </a:xfrm>
              <a:custGeom>
                <a:avLst/>
                <a:gdLst/>
                <a:ahLst/>
                <a:rect l="l" t="t" r="r" b="b"/>
                <a:pathLst>
                  <a:path w="698" h="100">
                    <a:moveTo>
                      <a:pt x="0" y="20"/>
                    </a:moveTo>
                    <a:cubicBezTo>
                      <a:pt x="6" y="24"/>
                      <a:pt x="17" y="37"/>
                      <a:pt x="36" y="46"/>
                    </a:cubicBezTo>
                    <a:cubicBezTo>
                      <a:pt x="55" y="55"/>
                      <a:pt x="84" y="66"/>
                      <a:pt x="116" y="74"/>
                    </a:cubicBezTo>
                    <a:cubicBezTo>
                      <a:pt x="148" y="82"/>
                      <a:pt x="191" y="88"/>
                      <a:pt x="232" y="92"/>
                    </a:cubicBezTo>
                    <a:cubicBezTo>
                      <a:pt x="273" y="96"/>
                      <a:pt x="321" y="100"/>
                      <a:pt x="367" y="100"/>
                    </a:cubicBezTo>
                    <a:cubicBezTo>
                      <a:pt x="413" y="100"/>
                      <a:pt x="471" y="98"/>
                      <a:pt x="512" y="92"/>
                    </a:cubicBezTo>
                    <a:cubicBezTo>
                      <a:pt x="554" y="86"/>
                      <a:pt x="587" y="75"/>
                      <a:pt x="615" y="66"/>
                    </a:cubicBezTo>
                    <a:cubicBezTo>
                      <a:pt x="643" y="57"/>
                      <a:pt x="668" y="47"/>
                      <a:pt x="682" y="36"/>
                    </a:cubicBezTo>
                    <a:cubicBezTo>
                      <a:pt x="696" y="25"/>
                      <a:pt x="695" y="7"/>
                      <a:pt x="698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3925800" y="2576160"/>
                <a:ext cx="1414800" cy="192600"/>
              </a:xfrm>
              <a:custGeom>
                <a:avLst/>
                <a:gdLst/>
                <a:ahLst/>
                <a:rect l="l" t="t" r="r" b="b"/>
                <a:pathLst>
                  <a:path w="696" h="90">
                    <a:moveTo>
                      <a:pt x="696" y="68"/>
                    </a:moveTo>
                    <a:cubicBezTo>
                      <a:pt x="691" y="63"/>
                      <a:pt x="688" y="49"/>
                      <a:pt x="670" y="40"/>
                    </a:cubicBezTo>
                    <a:cubicBezTo>
                      <a:pt x="652" y="31"/>
                      <a:pt x="616" y="22"/>
                      <a:pt x="585" y="16"/>
                    </a:cubicBezTo>
                    <a:cubicBezTo>
                      <a:pt x="554" y="10"/>
                      <a:pt x="518" y="4"/>
                      <a:pt x="482" y="2"/>
                    </a:cubicBezTo>
                    <a:cubicBezTo>
                      <a:pt x="446" y="0"/>
                      <a:pt x="402" y="1"/>
                      <a:pt x="364" y="1"/>
                    </a:cubicBezTo>
                    <a:cubicBezTo>
                      <a:pt x="326" y="1"/>
                      <a:pt x="288" y="1"/>
                      <a:pt x="254" y="4"/>
                    </a:cubicBezTo>
                    <a:cubicBezTo>
                      <a:pt x="220" y="7"/>
                      <a:pt x="185" y="14"/>
                      <a:pt x="155" y="20"/>
                    </a:cubicBezTo>
                    <a:cubicBezTo>
                      <a:pt x="126" y="26"/>
                      <a:pt x="98" y="34"/>
                      <a:pt x="77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1" name=""/>
            <p:cNvSpPr/>
            <p:nvPr/>
          </p:nvSpPr>
          <p:spPr>
            <a:xfrm>
              <a:off x="3851280" y="2781360"/>
              <a:ext cx="84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15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395280" y="2349360"/>
            <a:ext cx="1369800" cy="1863360"/>
            <a:chOff x="395280" y="2349360"/>
            <a:chExt cx="1369800" cy="1863360"/>
          </a:xfrm>
        </p:grpSpPr>
        <p:grpSp>
          <p:nvGrpSpPr>
            <p:cNvPr id="643" name=""/>
            <p:cNvGrpSpPr/>
            <p:nvPr/>
          </p:nvGrpSpPr>
          <p:grpSpPr>
            <a:xfrm>
              <a:off x="468360" y="2349360"/>
              <a:ext cx="1296720" cy="1863360"/>
              <a:chOff x="468360" y="2349360"/>
              <a:chExt cx="1296720" cy="1863360"/>
            </a:xfrm>
          </p:grpSpPr>
          <p:sp>
            <p:nvSpPr>
              <p:cNvPr id="644" name=""/>
              <p:cNvSpPr/>
              <p:nvPr/>
            </p:nvSpPr>
            <p:spPr>
              <a:xfrm>
                <a:off x="468360" y="2349360"/>
                <a:ext cx="1291320" cy="1863360"/>
              </a:xfrm>
              <a:custGeom>
                <a:avLst/>
                <a:gdLst/>
                <a:ahLst/>
                <a:rect l="l" t="t" r="r" b="b"/>
                <a:pathLst>
                  <a:path w="756" h="1173">
                    <a:moveTo>
                      <a:pt x="97" y="266"/>
                    </a:moveTo>
                    <a:cubicBezTo>
                      <a:pt x="85" y="268"/>
                      <a:pt x="78" y="268"/>
                      <a:pt x="66" y="276"/>
                    </a:cubicBezTo>
                    <a:cubicBezTo>
                      <a:pt x="55" y="283"/>
                      <a:pt x="35" y="292"/>
                      <a:pt x="26" y="309"/>
                    </a:cubicBezTo>
                    <a:cubicBezTo>
                      <a:pt x="15" y="326"/>
                      <a:pt x="10" y="327"/>
                      <a:pt x="5" y="379"/>
                    </a:cubicBezTo>
                    <a:cubicBezTo>
                      <a:pt x="1" y="432"/>
                      <a:pt x="2" y="549"/>
                      <a:pt x="1" y="624"/>
                    </a:cubicBezTo>
                    <a:cubicBezTo>
                      <a:pt x="1" y="699"/>
                      <a:pt x="0" y="759"/>
                      <a:pt x="1" y="831"/>
                    </a:cubicBezTo>
                    <a:cubicBezTo>
                      <a:pt x="3" y="903"/>
                      <a:pt x="0" y="1007"/>
                      <a:pt x="10" y="1055"/>
                    </a:cubicBezTo>
                    <a:cubicBezTo>
                      <a:pt x="19" y="1104"/>
                      <a:pt x="24" y="1104"/>
                      <a:pt x="58" y="1122"/>
                    </a:cubicBezTo>
                    <a:cubicBezTo>
                      <a:pt x="92" y="1140"/>
                      <a:pt x="157" y="1155"/>
                      <a:pt x="219" y="1163"/>
                    </a:cubicBezTo>
                    <a:cubicBezTo>
                      <a:pt x="281" y="1171"/>
                      <a:pt x="365" y="1173"/>
                      <a:pt x="434" y="1170"/>
                    </a:cubicBezTo>
                    <a:cubicBezTo>
                      <a:pt x="504" y="1166"/>
                      <a:pt x="589" y="1156"/>
                      <a:pt x="637" y="1146"/>
                    </a:cubicBezTo>
                    <a:cubicBezTo>
                      <a:pt x="685" y="1136"/>
                      <a:pt x="708" y="1121"/>
                      <a:pt x="727" y="1105"/>
                    </a:cubicBezTo>
                    <a:cubicBezTo>
                      <a:pt x="746" y="1089"/>
                      <a:pt x="747" y="1095"/>
                      <a:pt x="751" y="1051"/>
                    </a:cubicBezTo>
                    <a:cubicBezTo>
                      <a:pt x="755" y="1007"/>
                      <a:pt x="754" y="936"/>
                      <a:pt x="754" y="841"/>
                    </a:cubicBezTo>
                    <a:cubicBezTo>
                      <a:pt x="754" y="746"/>
                      <a:pt x="756" y="562"/>
                      <a:pt x="754" y="478"/>
                    </a:cubicBezTo>
                    <a:cubicBezTo>
                      <a:pt x="752" y="394"/>
                      <a:pt x="747" y="364"/>
                      <a:pt x="741" y="334"/>
                    </a:cubicBezTo>
                    <a:cubicBezTo>
                      <a:pt x="736" y="303"/>
                      <a:pt x="725" y="307"/>
                      <a:pt x="717" y="296"/>
                    </a:cubicBezTo>
                    <a:cubicBezTo>
                      <a:pt x="709" y="286"/>
                      <a:pt x="708" y="282"/>
                      <a:pt x="693" y="276"/>
                    </a:cubicBezTo>
                    <a:cubicBezTo>
                      <a:pt x="679" y="269"/>
                      <a:pt x="645" y="264"/>
                      <a:pt x="629" y="259"/>
                    </a:cubicBezTo>
                    <a:cubicBezTo>
                      <a:pt x="614" y="255"/>
                      <a:pt x="608" y="255"/>
                      <a:pt x="597" y="251"/>
                    </a:cubicBezTo>
                    <a:cubicBezTo>
                      <a:pt x="588" y="247"/>
                      <a:pt x="577" y="241"/>
                      <a:pt x="569" y="234"/>
                    </a:cubicBezTo>
                    <a:cubicBezTo>
                      <a:pt x="562" y="227"/>
                      <a:pt x="554" y="221"/>
                      <a:pt x="551" y="212"/>
                    </a:cubicBezTo>
                    <a:cubicBezTo>
                      <a:pt x="548" y="201"/>
                      <a:pt x="545" y="189"/>
                      <a:pt x="549" y="176"/>
                    </a:cubicBezTo>
                    <a:cubicBezTo>
                      <a:pt x="553" y="164"/>
                      <a:pt x="567" y="146"/>
                      <a:pt x="577" y="133"/>
                    </a:cubicBezTo>
                    <a:cubicBezTo>
                      <a:pt x="587" y="121"/>
                      <a:pt x="602" y="115"/>
                      <a:pt x="610" y="104"/>
                    </a:cubicBezTo>
                    <a:cubicBezTo>
                      <a:pt x="619" y="93"/>
                      <a:pt x="628" y="77"/>
                      <a:pt x="628" y="66"/>
                    </a:cubicBezTo>
                    <a:cubicBezTo>
                      <a:pt x="628" y="54"/>
                      <a:pt x="635" y="43"/>
                      <a:pt x="613" y="34"/>
                    </a:cubicBezTo>
                    <a:cubicBezTo>
                      <a:pt x="592" y="25"/>
                      <a:pt x="543" y="17"/>
                      <a:pt x="501" y="11"/>
                    </a:cubicBezTo>
                    <a:cubicBezTo>
                      <a:pt x="459" y="6"/>
                      <a:pt x="411" y="0"/>
                      <a:pt x="361" y="0"/>
                    </a:cubicBezTo>
                    <a:cubicBezTo>
                      <a:pt x="312" y="0"/>
                      <a:pt x="242" y="6"/>
                      <a:pt x="203" y="14"/>
                    </a:cubicBezTo>
                    <a:cubicBezTo>
                      <a:pt x="163" y="21"/>
                      <a:pt x="136" y="33"/>
                      <a:pt x="125" y="48"/>
                    </a:cubicBezTo>
                    <a:cubicBezTo>
                      <a:pt x="115" y="62"/>
                      <a:pt x="131" y="90"/>
                      <a:pt x="137" y="105"/>
                    </a:cubicBezTo>
                    <a:cubicBezTo>
                      <a:pt x="143" y="121"/>
                      <a:pt x="153" y="129"/>
                      <a:pt x="161" y="139"/>
                    </a:cubicBezTo>
                    <a:cubicBezTo>
                      <a:pt x="169" y="149"/>
                      <a:pt x="181" y="158"/>
                      <a:pt x="188" y="166"/>
                    </a:cubicBezTo>
                    <a:cubicBezTo>
                      <a:pt x="193" y="173"/>
                      <a:pt x="196" y="174"/>
                      <a:pt x="197" y="182"/>
                    </a:cubicBezTo>
                    <a:cubicBezTo>
                      <a:pt x="198" y="190"/>
                      <a:pt x="199" y="202"/>
                      <a:pt x="195" y="212"/>
                    </a:cubicBezTo>
                    <a:cubicBezTo>
                      <a:pt x="192" y="221"/>
                      <a:pt x="185" y="228"/>
                      <a:pt x="175" y="236"/>
                    </a:cubicBezTo>
                    <a:cubicBezTo>
                      <a:pt x="165" y="244"/>
                      <a:pt x="150" y="252"/>
                      <a:pt x="137" y="257"/>
                    </a:cubicBezTo>
                    <a:cubicBezTo>
                      <a:pt x="124" y="261"/>
                      <a:pt x="108" y="262"/>
                      <a:pt x="97" y="26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1ffff"/>
                  </a:gs>
                  <a:gs pos="100000">
                    <a:srgbClr val="00f4ee"/>
                  </a:gs>
                </a:gsLst>
                <a:lin ang="5400000"/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95360" y="3920760"/>
                <a:ext cx="1250640" cy="131760"/>
              </a:xfrm>
              <a:custGeom>
                <a:avLst/>
                <a:gdLst/>
                <a:ahLst/>
                <a:rect l="l" t="t" r="r" b="b"/>
                <a:pathLst>
                  <a:path w="732" h="83">
                    <a:moveTo>
                      <a:pt x="732" y="80"/>
                    </a:moveTo>
                    <a:cubicBezTo>
                      <a:pt x="713" y="70"/>
                      <a:pt x="675" y="33"/>
                      <a:pt x="615" y="20"/>
                    </a:cubicBezTo>
                    <a:cubicBezTo>
                      <a:pt x="555" y="7"/>
                      <a:pt x="454" y="0"/>
                      <a:pt x="372" y="1"/>
                    </a:cubicBezTo>
                    <a:cubicBezTo>
                      <a:pt x="290" y="2"/>
                      <a:pt x="184" y="14"/>
                      <a:pt x="122" y="28"/>
                    </a:cubicBezTo>
                    <a:cubicBezTo>
                      <a:pt x="60" y="42"/>
                      <a:pt x="25" y="72"/>
                      <a:pt x="0" y="83"/>
                    </a:cubicBezTo>
                  </a:path>
                </a:pathLst>
              </a:custGeom>
              <a:noFill/>
              <a:ln w="19080">
                <a:solidFill>
                  <a:srgbClr val="0000d2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73200" y="2349360"/>
                <a:ext cx="869400" cy="185400"/>
              </a:xfrm>
              <a:custGeom>
                <a:avLst/>
                <a:gdLst/>
                <a:ahLst/>
                <a:rect l="l" t="t" r="r" b="b"/>
                <a:pathLst>
                  <a:path w="475" h="103">
                    <a:moveTo>
                      <a:pt x="5" y="57"/>
                    </a:moveTo>
                    <a:cubicBezTo>
                      <a:pt x="0" y="49"/>
                      <a:pt x="8" y="37"/>
                      <a:pt x="25" y="29"/>
                    </a:cubicBezTo>
                    <a:cubicBezTo>
                      <a:pt x="42" y="21"/>
                      <a:pt x="76" y="16"/>
                      <a:pt x="107" y="11"/>
                    </a:cubicBezTo>
                    <a:cubicBezTo>
                      <a:pt x="138" y="6"/>
                      <a:pt x="180" y="2"/>
                      <a:pt x="213" y="1"/>
                    </a:cubicBezTo>
                    <a:cubicBezTo>
                      <a:pt x="246" y="0"/>
                      <a:pt x="279" y="1"/>
                      <a:pt x="307" y="3"/>
                    </a:cubicBezTo>
                    <a:cubicBezTo>
                      <a:pt x="335" y="5"/>
                      <a:pt x="357" y="9"/>
                      <a:pt x="379" y="13"/>
                    </a:cubicBezTo>
                    <a:cubicBezTo>
                      <a:pt x="401" y="17"/>
                      <a:pt x="422" y="19"/>
                      <a:pt x="437" y="25"/>
                    </a:cubicBezTo>
                    <a:cubicBezTo>
                      <a:pt x="452" y="31"/>
                      <a:pt x="471" y="42"/>
                      <a:pt x="473" y="49"/>
                    </a:cubicBezTo>
                    <a:cubicBezTo>
                      <a:pt x="475" y="56"/>
                      <a:pt x="464" y="60"/>
                      <a:pt x="449" y="67"/>
                    </a:cubicBezTo>
                    <a:cubicBezTo>
                      <a:pt x="434" y="74"/>
                      <a:pt x="410" y="83"/>
                      <a:pt x="381" y="89"/>
                    </a:cubicBezTo>
                    <a:cubicBezTo>
                      <a:pt x="352" y="95"/>
                      <a:pt x="316" y="99"/>
                      <a:pt x="277" y="101"/>
                    </a:cubicBezTo>
                    <a:cubicBezTo>
                      <a:pt x="238" y="103"/>
                      <a:pt x="186" y="102"/>
                      <a:pt x="149" y="99"/>
                    </a:cubicBezTo>
                    <a:cubicBezTo>
                      <a:pt x="112" y="96"/>
                      <a:pt x="79" y="87"/>
                      <a:pt x="55" y="80"/>
                    </a:cubicBezTo>
                    <a:cubicBezTo>
                      <a:pt x="31" y="73"/>
                      <a:pt x="11" y="66"/>
                      <a:pt x="5" y="5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1ffff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68360" y="3245400"/>
                <a:ext cx="1294920" cy="325440"/>
              </a:xfrm>
              <a:custGeom>
                <a:avLst/>
                <a:gdLst/>
                <a:ahLst/>
                <a:rect l="l" t="t" r="r" b="b"/>
                <a:pathLst>
                  <a:path w="758" h="205">
                    <a:moveTo>
                      <a:pt x="9" y="99"/>
                    </a:moveTo>
                    <a:cubicBezTo>
                      <a:pt x="0" y="112"/>
                      <a:pt x="16" y="121"/>
                      <a:pt x="35" y="133"/>
                    </a:cubicBezTo>
                    <a:cubicBezTo>
                      <a:pt x="54" y="144"/>
                      <a:pt x="75" y="155"/>
                      <a:pt x="121" y="166"/>
                    </a:cubicBezTo>
                    <a:cubicBezTo>
                      <a:pt x="167" y="178"/>
                      <a:pt x="240" y="196"/>
                      <a:pt x="311" y="200"/>
                    </a:cubicBezTo>
                    <a:cubicBezTo>
                      <a:pt x="382" y="205"/>
                      <a:pt x="492" y="198"/>
                      <a:pt x="547" y="194"/>
                    </a:cubicBezTo>
                    <a:cubicBezTo>
                      <a:pt x="602" y="189"/>
                      <a:pt x="611" y="183"/>
                      <a:pt x="637" y="176"/>
                    </a:cubicBezTo>
                    <a:cubicBezTo>
                      <a:pt x="663" y="168"/>
                      <a:pt x="686" y="161"/>
                      <a:pt x="703" y="148"/>
                    </a:cubicBezTo>
                    <a:cubicBezTo>
                      <a:pt x="720" y="135"/>
                      <a:pt x="735" y="109"/>
                      <a:pt x="742" y="97"/>
                    </a:cubicBezTo>
                    <a:cubicBezTo>
                      <a:pt x="749" y="85"/>
                      <a:pt x="758" y="90"/>
                      <a:pt x="748" y="79"/>
                    </a:cubicBezTo>
                    <a:cubicBezTo>
                      <a:pt x="738" y="68"/>
                      <a:pt x="718" y="40"/>
                      <a:pt x="678" y="27"/>
                    </a:cubicBezTo>
                    <a:cubicBezTo>
                      <a:pt x="638" y="14"/>
                      <a:pt x="568" y="7"/>
                      <a:pt x="507" y="3"/>
                    </a:cubicBezTo>
                    <a:cubicBezTo>
                      <a:pt x="446" y="0"/>
                      <a:pt x="360" y="1"/>
                      <a:pt x="308" y="3"/>
                    </a:cubicBezTo>
                    <a:cubicBezTo>
                      <a:pt x="255" y="6"/>
                      <a:pt x="231" y="10"/>
                      <a:pt x="193" y="17"/>
                    </a:cubicBezTo>
                    <a:cubicBezTo>
                      <a:pt x="157" y="24"/>
                      <a:pt x="116" y="34"/>
                      <a:pt x="85" y="48"/>
                    </a:cubicBezTo>
                    <a:cubicBezTo>
                      <a:pt x="55" y="61"/>
                      <a:pt x="17" y="85"/>
                      <a:pt x="9" y="99"/>
                    </a:cubicBezTo>
                    <a:close/>
                  </a:path>
                </a:pathLst>
              </a:custGeom>
              <a:solidFill>
                <a:srgbClr val="8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469800" y="3388320"/>
                <a:ext cx="1293480" cy="176040"/>
              </a:xfrm>
              <a:custGeom>
                <a:avLst/>
                <a:gdLst/>
                <a:ahLst/>
                <a:rect l="l" t="t" r="r" b="b"/>
                <a:pathLst>
                  <a:path w="706" h="98">
                    <a:moveTo>
                      <a:pt x="0" y="18"/>
                    </a:moveTo>
                    <a:cubicBezTo>
                      <a:pt x="6" y="22"/>
                      <a:pt x="17" y="35"/>
                      <a:pt x="36" y="44"/>
                    </a:cubicBezTo>
                    <a:cubicBezTo>
                      <a:pt x="55" y="53"/>
                      <a:pt x="83" y="64"/>
                      <a:pt x="115" y="72"/>
                    </a:cubicBezTo>
                    <a:cubicBezTo>
                      <a:pt x="147" y="80"/>
                      <a:pt x="189" y="86"/>
                      <a:pt x="230" y="90"/>
                    </a:cubicBezTo>
                    <a:cubicBezTo>
                      <a:pt x="271" y="94"/>
                      <a:pt x="318" y="98"/>
                      <a:pt x="364" y="98"/>
                    </a:cubicBezTo>
                    <a:cubicBezTo>
                      <a:pt x="410" y="98"/>
                      <a:pt x="467" y="96"/>
                      <a:pt x="508" y="90"/>
                    </a:cubicBezTo>
                    <a:cubicBezTo>
                      <a:pt x="549" y="84"/>
                      <a:pt x="582" y="73"/>
                      <a:pt x="610" y="64"/>
                    </a:cubicBezTo>
                    <a:cubicBezTo>
                      <a:pt x="638" y="55"/>
                      <a:pt x="660" y="45"/>
                      <a:pt x="676" y="34"/>
                    </a:cubicBezTo>
                    <a:cubicBezTo>
                      <a:pt x="692" y="23"/>
                      <a:pt x="700" y="7"/>
                      <a:pt x="706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469800" y="3248280"/>
                <a:ext cx="1293480" cy="160560"/>
              </a:xfrm>
              <a:custGeom>
                <a:avLst/>
                <a:gdLst/>
                <a:ahLst/>
                <a:rect l="l" t="t" r="r" b="b"/>
                <a:pathLst>
                  <a:path w="706" h="90">
                    <a:moveTo>
                      <a:pt x="706" y="70"/>
                    </a:moveTo>
                    <a:cubicBezTo>
                      <a:pt x="699" y="65"/>
                      <a:pt x="685" y="49"/>
                      <a:pt x="664" y="40"/>
                    </a:cubicBezTo>
                    <a:cubicBezTo>
                      <a:pt x="643" y="31"/>
                      <a:pt x="611" y="22"/>
                      <a:pt x="580" y="16"/>
                    </a:cubicBezTo>
                    <a:cubicBezTo>
                      <a:pt x="549" y="10"/>
                      <a:pt x="514" y="4"/>
                      <a:pt x="478" y="2"/>
                    </a:cubicBezTo>
                    <a:cubicBezTo>
                      <a:pt x="442" y="0"/>
                      <a:pt x="399" y="1"/>
                      <a:pt x="361" y="1"/>
                    </a:cubicBezTo>
                    <a:cubicBezTo>
                      <a:pt x="323" y="1"/>
                      <a:pt x="286" y="1"/>
                      <a:pt x="252" y="4"/>
                    </a:cubicBezTo>
                    <a:cubicBezTo>
                      <a:pt x="218" y="7"/>
                      <a:pt x="183" y="14"/>
                      <a:pt x="154" y="20"/>
                    </a:cubicBezTo>
                    <a:cubicBezTo>
                      <a:pt x="125" y="26"/>
                      <a:pt x="97" y="34"/>
                      <a:pt x="76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468360" y="2840040"/>
                <a:ext cx="1296720" cy="325440"/>
              </a:xfrm>
              <a:custGeom>
                <a:avLst/>
                <a:gdLst/>
                <a:ahLst/>
                <a:rect l="l" t="t" r="r" b="b"/>
                <a:pathLst>
                  <a:path w="708" h="181">
                    <a:moveTo>
                      <a:pt x="8" y="87"/>
                    </a:moveTo>
                    <a:cubicBezTo>
                      <a:pt x="0" y="99"/>
                      <a:pt x="15" y="107"/>
                      <a:pt x="33" y="117"/>
                    </a:cubicBezTo>
                    <a:cubicBezTo>
                      <a:pt x="50" y="127"/>
                      <a:pt x="71" y="137"/>
                      <a:pt x="114" y="147"/>
                    </a:cubicBezTo>
                    <a:cubicBezTo>
                      <a:pt x="157" y="157"/>
                      <a:pt x="226" y="173"/>
                      <a:pt x="292" y="177"/>
                    </a:cubicBezTo>
                    <a:cubicBezTo>
                      <a:pt x="359" y="181"/>
                      <a:pt x="463" y="175"/>
                      <a:pt x="514" y="171"/>
                    </a:cubicBezTo>
                    <a:cubicBezTo>
                      <a:pt x="566" y="167"/>
                      <a:pt x="575" y="162"/>
                      <a:pt x="599" y="155"/>
                    </a:cubicBezTo>
                    <a:cubicBezTo>
                      <a:pt x="623" y="148"/>
                      <a:pt x="644" y="142"/>
                      <a:pt x="661" y="131"/>
                    </a:cubicBezTo>
                    <a:cubicBezTo>
                      <a:pt x="678" y="120"/>
                      <a:pt x="695" y="99"/>
                      <a:pt x="701" y="89"/>
                    </a:cubicBezTo>
                    <a:cubicBezTo>
                      <a:pt x="707" y="79"/>
                      <a:pt x="708" y="80"/>
                      <a:pt x="697" y="69"/>
                    </a:cubicBezTo>
                    <a:cubicBezTo>
                      <a:pt x="686" y="58"/>
                      <a:pt x="674" y="35"/>
                      <a:pt x="637" y="24"/>
                    </a:cubicBezTo>
                    <a:cubicBezTo>
                      <a:pt x="600" y="13"/>
                      <a:pt x="534" y="6"/>
                      <a:pt x="477" y="3"/>
                    </a:cubicBezTo>
                    <a:cubicBezTo>
                      <a:pt x="419" y="0"/>
                      <a:pt x="339" y="1"/>
                      <a:pt x="289" y="3"/>
                    </a:cubicBezTo>
                    <a:cubicBezTo>
                      <a:pt x="240" y="5"/>
                      <a:pt x="217" y="9"/>
                      <a:pt x="182" y="15"/>
                    </a:cubicBezTo>
                    <a:cubicBezTo>
                      <a:pt x="147" y="21"/>
                      <a:pt x="109" y="30"/>
                      <a:pt x="80" y="42"/>
                    </a:cubicBezTo>
                    <a:cubicBezTo>
                      <a:pt x="51" y="54"/>
                      <a:pt x="16" y="75"/>
                      <a:pt x="8" y="8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1ffff"/>
                  </a:gs>
                  <a:gs pos="100000">
                    <a:srgbClr val="8b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469800" y="2978280"/>
                <a:ext cx="1278360" cy="179280"/>
              </a:xfrm>
              <a:custGeom>
                <a:avLst/>
                <a:gdLst/>
                <a:ahLst/>
                <a:rect l="l" t="t" r="r" b="b"/>
                <a:pathLst>
                  <a:path w="698" h="100">
                    <a:moveTo>
                      <a:pt x="0" y="20"/>
                    </a:moveTo>
                    <a:cubicBezTo>
                      <a:pt x="6" y="24"/>
                      <a:pt x="17" y="37"/>
                      <a:pt x="36" y="46"/>
                    </a:cubicBezTo>
                    <a:cubicBezTo>
                      <a:pt x="55" y="55"/>
                      <a:pt x="84" y="66"/>
                      <a:pt x="116" y="74"/>
                    </a:cubicBezTo>
                    <a:cubicBezTo>
                      <a:pt x="148" y="82"/>
                      <a:pt x="191" y="88"/>
                      <a:pt x="232" y="92"/>
                    </a:cubicBezTo>
                    <a:cubicBezTo>
                      <a:pt x="273" y="96"/>
                      <a:pt x="321" y="100"/>
                      <a:pt x="367" y="100"/>
                    </a:cubicBezTo>
                    <a:cubicBezTo>
                      <a:pt x="413" y="100"/>
                      <a:pt x="471" y="98"/>
                      <a:pt x="512" y="92"/>
                    </a:cubicBezTo>
                    <a:cubicBezTo>
                      <a:pt x="554" y="86"/>
                      <a:pt x="587" y="75"/>
                      <a:pt x="615" y="66"/>
                    </a:cubicBezTo>
                    <a:cubicBezTo>
                      <a:pt x="643" y="57"/>
                      <a:pt x="668" y="47"/>
                      <a:pt x="682" y="36"/>
                    </a:cubicBezTo>
                    <a:cubicBezTo>
                      <a:pt x="696" y="25"/>
                      <a:pt x="695" y="7"/>
                      <a:pt x="698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469800" y="2841840"/>
                <a:ext cx="1274760" cy="161640"/>
              </a:xfrm>
              <a:custGeom>
                <a:avLst/>
                <a:gdLst/>
                <a:ahLst/>
                <a:rect l="l" t="t" r="r" b="b"/>
                <a:pathLst>
                  <a:path w="696" h="90">
                    <a:moveTo>
                      <a:pt x="696" y="68"/>
                    </a:moveTo>
                    <a:cubicBezTo>
                      <a:pt x="691" y="63"/>
                      <a:pt x="688" y="49"/>
                      <a:pt x="670" y="40"/>
                    </a:cubicBezTo>
                    <a:cubicBezTo>
                      <a:pt x="652" y="31"/>
                      <a:pt x="616" y="22"/>
                      <a:pt x="585" y="16"/>
                    </a:cubicBezTo>
                    <a:cubicBezTo>
                      <a:pt x="554" y="10"/>
                      <a:pt x="518" y="4"/>
                      <a:pt x="482" y="2"/>
                    </a:cubicBezTo>
                    <a:cubicBezTo>
                      <a:pt x="446" y="0"/>
                      <a:pt x="402" y="1"/>
                      <a:pt x="364" y="1"/>
                    </a:cubicBezTo>
                    <a:cubicBezTo>
                      <a:pt x="326" y="1"/>
                      <a:pt x="288" y="1"/>
                      <a:pt x="254" y="4"/>
                    </a:cubicBezTo>
                    <a:cubicBezTo>
                      <a:pt x="220" y="7"/>
                      <a:pt x="185" y="14"/>
                      <a:pt x="155" y="20"/>
                    </a:cubicBezTo>
                    <a:cubicBezTo>
                      <a:pt x="126" y="26"/>
                      <a:pt x="98" y="34"/>
                      <a:pt x="77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3" name=""/>
            <p:cNvSpPr/>
            <p:nvPr/>
          </p:nvSpPr>
          <p:spPr>
            <a:xfrm>
              <a:off x="395280" y="2997360"/>
              <a:ext cx="84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3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2050920" y="2349360"/>
            <a:ext cx="1441080" cy="1863360"/>
            <a:chOff x="2050920" y="2349360"/>
            <a:chExt cx="1441080" cy="1863360"/>
          </a:xfrm>
        </p:grpSpPr>
        <p:grpSp>
          <p:nvGrpSpPr>
            <p:cNvPr id="655" name=""/>
            <p:cNvGrpSpPr/>
            <p:nvPr/>
          </p:nvGrpSpPr>
          <p:grpSpPr>
            <a:xfrm>
              <a:off x="2195640" y="2349360"/>
              <a:ext cx="1296360" cy="1863360"/>
              <a:chOff x="2195640" y="2349360"/>
              <a:chExt cx="1296360" cy="1863360"/>
            </a:xfrm>
          </p:grpSpPr>
          <p:sp>
            <p:nvSpPr>
              <p:cNvPr id="656" name=""/>
              <p:cNvSpPr/>
              <p:nvPr/>
            </p:nvSpPr>
            <p:spPr>
              <a:xfrm>
                <a:off x="2195640" y="2349360"/>
                <a:ext cx="1290960" cy="1863360"/>
              </a:xfrm>
              <a:custGeom>
                <a:avLst/>
                <a:gdLst/>
                <a:ahLst/>
                <a:rect l="l" t="t" r="r" b="b"/>
                <a:pathLst>
                  <a:path w="756" h="1173">
                    <a:moveTo>
                      <a:pt x="97" y="266"/>
                    </a:moveTo>
                    <a:cubicBezTo>
                      <a:pt x="85" y="268"/>
                      <a:pt x="78" y="268"/>
                      <a:pt x="66" y="276"/>
                    </a:cubicBezTo>
                    <a:cubicBezTo>
                      <a:pt x="55" y="283"/>
                      <a:pt x="35" y="292"/>
                      <a:pt x="26" y="309"/>
                    </a:cubicBezTo>
                    <a:cubicBezTo>
                      <a:pt x="15" y="326"/>
                      <a:pt x="10" y="327"/>
                      <a:pt x="5" y="379"/>
                    </a:cubicBezTo>
                    <a:cubicBezTo>
                      <a:pt x="1" y="432"/>
                      <a:pt x="2" y="549"/>
                      <a:pt x="1" y="624"/>
                    </a:cubicBezTo>
                    <a:cubicBezTo>
                      <a:pt x="1" y="699"/>
                      <a:pt x="0" y="759"/>
                      <a:pt x="1" y="831"/>
                    </a:cubicBezTo>
                    <a:cubicBezTo>
                      <a:pt x="3" y="903"/>
                      <a:pt x="0" y="1007"/>
                      <a:pt x="10" y="1055"/>
                    </a:cubicBezTo>
                    <a:cubicBezTo>
                      <a:pt x="19" y="1104"/>
                      <a:pt x="24" y="1104"/>
                      <a:pt x="58" y="1122"/>
                    </a:cubicBezTo>
                    <a:cubicBezTo>
                      <a:pt x="92" y="1140"/>
                      <a:pt x="157" y="1155"/>
                      <a:pt x="219" y="1163"/>
                    </a:cubicBezTo>
                    <a:cubicBezTo>
                      <a:pt x="281" y="1171"/>
                      <a:pt x="365" y="1173"/>
                      <a:pt x="434" y="1170"/>
                    </a:cubicBezTo>
                    <a:cubicBezTo>
                      <a:pt x="504" y="1166"/>
                      <a:pt x="589" y="1156"/>
                      <a:pt x="637" y="1146"/>
                    </a:cubicBezTo>
                    <a:cubicBezTo>
                      <a:pt x="685" y="1136"/>
                      <a:pt x="708" y="1121"/>
                      <a:pt x="727" y="1105"/>
                    </a:cubicBezTo>
                    <a:cubicBezTo>
                      <a:pt x="746" y="1089"/>
                      <a:pt x="747" y="1095"/>
                      <a:pt x="751" y="1051"/>
                    </a:cubicBezTo>
                    <a:cubicBezTo>
                      <a:pt x="755" y="1007"/>
                      <a:pt x="754" y="936"/>
                      <a:pt x="754" y="841"/>
                    </a:cubicBezTo>
                    <a:cubicBezTo>
                      <a:pt x="754" y="746"/>
                      <a:pt x="756" y="562"/>
                      <a:pt x="754" y="478"/>
                    </a:cubicBezTo>
                    <a:cubicBezTo>
                      <a:pt x="752" y="394"/>
                      <a:pt x="747" y="364"/>
                      <a:pt x="741" y="334"/>
                    </a:cubicBezTo>
                    <a:cubicBezTo>
                      <a:pt x="736" y="303"/>
                      <a:pt x="725" y="307"/>
                      <a:pt x="717" y="296"/>
                    </a:cubicBezTo>
                    <a:cubicBezTo>
                      <a:pt x="709" y="286"/>
                      <a:pt x="708" y="282"/>
                      <a:pt x="693" y="276"/>
                    </a:cubicBezTo>
                    <a:cubicBezTo>
                      <a:pt x="679" y="269"/>
                      <a:pt x="645" y="264"/>
                      <a:pt x="629" y="259"/>
                    </a:cubicBezTo>
                    <a:cubicBezTo>
                      <a:pt x="614" y="255"/>
                      <a:pt x="608" y="255"/>
                      <a:pt x="597" y="251"/>
                    </a:cubicBezTo>
                    <a:cubicBezTo>
                      <a:pt x="588" y="247"/>
                      <a:pt x="577" y="241"/>
                      <a:pt x="569" y="234"/>
                    </a:cubicBezTo>
                    <a:cubicBezTo>
                      <a:pt x="562" y="227"/>
                      <a:pt x="554" y="221"/>
                      <a:pt x="551" y="212"/>
                    </a:cubicBezTo>
                    <a:cubicBezTo>
                      <a:pt x="548" y="201"/>
                      <a:pt x="545" y="189"/>
                      <a:pt x="549" y="176"/>
                    </a:cubicBezTo>
                    <a:cubicBezTo>
                      <a:pt x="553" y="164"/>
                      <a:pt x="567" y="146"/>
                      <a:pt x="577" y="133"/>
                    </a:cubicBezTo>
                    <a:cubicBezTo>
                      <a:pt x="587" y="121"/>
                      <a:pt x="602" y="115"/>
                      <a:pt x="610" y="104"/>
                    </a:cubicBezTo>
                    <a:cubicBezTo>
                      <a:pt x="619" y="93"/>
                      <a:pt x="628" y="77"/>
                      <a:pt x="628" y="66"/>
                    </a:cubicBezTo>
                    <a:cubicBezTo>
                      <a:pt x="628" y="54"/>
                      <a:pt x="635" y="43"/>
                      <a:pt x="613" y="34"/>
                    </a:cubicBezTo>
                    <a:cubicBezTo>
                      <a:pt x="592" y="25"/>
                      <a:pt x="543" y="17"/>
                      <a:pt x="501" y="11"/>
                    </a:cubicBezTo>
                    <a:cubicBezTo>
                      <a:pt x="459" y="6"/>
                      <a:pt x="411" y="0"/>
                      <a:pt x="361" y="0"/>
                    </a:cubicBezTo>
                    <a:cubicBezTo>
                      <a:pt x="312" y="0"/>
                      <a:pt x="242" y="6"/>
                      <a:pt x="203" y="14"/>
                    </a:cubicBezTo>
                    <a:cubicBezTo>
                      <a:pt x="163" y="21"/>
                      <a:pt x="136" y="33"/>
                      <a:pt x="125" y="48"/>
                    </a:cubicBezTo>
                    <a:cubicBezTo>
                      <a:pt x="115" y="62"/>
                      <a:pt x="131" y="90"/>
                      <a:pt x="137" y="105"/>
                    </a:cubicBezTo>
                    <a:cubicBezTo>
                      <a:pt x="143" y="121"/>
                      <a:pt x="153" y="129"/>
                      <a:pt x="161" y="139"/>
                    </a:cubicBezTo>
                    <a:cubicBezTo>
                      <a:pt x="169" y="149"/>
                      <a:pt x="181" y="158"/>
                      <a:pt x="188" y="166"/>
                    </a:cubicBezTo>
                    <a:cubicBezTo>
                      <a:pt x="193" y="173"/>
                      <a:pt x="196" y="174"/>
                      <a:pt x="197" y="182"/>
                    </a:cubicBezTo>
                    <a:cubicBezTo>
                      <a:pt x="198" y="190"/>
                      <a:pt x="199" y="202"/>
                      <a:pt x="195" y="212"/>
                    </a:cubicBezTo>
                    <a:cubicBezTo>
                      <a:pt x="192" y="221"/>
                      <a:pt x="185" y="228"/>
                      <a:pt x="175" y="236"/>
                    </a:cubicBezTo>
                    <a:cubicBezTo>
                      <a:pt x="165" y="244"/>
                      <a:pt x="150" y="252"/>
                      <a:pt x="137" y="257"/>
                    </a:cubicBezTo>
                    <a:cubicBezTo>
                      <a:pt x="124" y="261"/>
                      <a:pt x="108" y="262"/>
                      <a:pt x="97" y="26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1ffff"/>
                  </a:gs>
                  <a:gs pos="100000">
                    <a:srgbClr val="00f4ee"/>
                  </a:gs>
                </a:gsLst>
                <a:lin ang="5400000"/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2222640" y="3920760"/>
                <a:ext cx="1250280" cy="131760"/>
              </a:xfrm>
              <a:custGeom>
                <a:avLst/>
                <a:gdLst/>
                <a:ahLst/>
                <a:rect l="l" t="t" r="r" b="b"/>
                <a:pathLst>
                  <a:path w="732" h="83">
                    <a:moveTo>
                      <a:pt x="732" y="80"/>
                    </a:moveTo>
                    <a:cubicBezTo>
                      <a:pt x="713" y="70"/>
                      <a:pt x="675" y="33"/>
                      <a:pt x="615" y="20"/>
                    </a:cubicBezTo>
                    <a:cubicBezTo>
                      <a:pt x="555" y="7"/>
                      <a:pt x="454" y="0"/>
                      <a:pt x="372" y="1"/>
                    </a:cubicBezTo>
                    <a:cubicBezTo>
                      <a:pt x="290" y="2"/>
                      <a:pt x="184" y="14"/>
                      <a:pt x="122" y="28"/>
                    </a:cubicBezTo>
                    <a:cubicBezTo>
                      <a:pt x="60" y="42"/>
                      <a:pt x="25" y="72"/>
                      <a:pt x="0" y="83"/>
                    </a:cubicBezTo>
                  </a:path>
                </a:pathLst>
              </a:custGeom>
              <a:noFill/>
              <a:ln w="19080">
                <a:solidFill>
                  <a:srgbClr val="0000d2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400480" y="2349360"/>
                <a:ext cx="869040" cy="185400"/>
              </a:xfrm>
              <a:custGeom>
                <a:avLst/>
                <a:gdLst/>
                <a:ahLst/>
                <a:rect l="l" t="t" r="r" b="b"/>
                <a:pathLst>
                  <a:path w="475" h="103">
                    <a:moveTo>
                      <a:pt x="5" y="57"/>
                    </a:moveTo>
                    <a:cubicBezTo>
                      <a:pt x="0" y="49"/>
                      <a:pt x="8" y="37"/>
                      <a:pt x="25" y="29"/>
                    </a:cubicBezTo>
                    <a:cubicBezTo>
                      <a:pt x="42" y="21"/>
                      <a:pt x="76" y="16"/>
                      <a:pt x="107" y="11"/>
                    </a:cubicBezTo>
                    <a:cubicBezTo>
                      <a:pt x="138" y="6"/>
                      <a:pt x="180" y="2"/>
                      <a:pt x="213" y="1"/>
                    </a:cubicBezTo>
                    <a:cubicBezTo>
                      <a:pt x="246" y="0"/>
                      <a:pt x="279" y="1"/>
                      <a:pt x="307" y="3"/>
                    </a:cubicBezTo>
                    <a:cubicBezTo>
                      <a:pt x="335" y="5"/>
                      <a:pt x="357" y="9"/>
                      <a:pt x="379" y="13"/>
                    </a:cubicBezTo>
                    <a:cubicBezTo>
                      <a:pt x="401" y="17"/>
                      <a:pt x="422" y="19"/>
                      <a:pt x="437" y="25"/>
                    </a:cubicBezTo>
                    <a:cubicBezTo>
                      <a:pt x="452" y="31"/>
                      <a:pt x="471" y="42"/>
                      <a:pt x="473" y="49"/>
                    </a:cubicBezTo>
                    <a:cubicBezTo>
                      <a:pt x="475" y="56"/>
                      <a:pt x="464" y="60"/>
                      <a:pt x="449" y="67"/>
                    </a:cubicBezTo>
                    <a:cubicBezTo>
                      <a:pt x="434" y="74"/>
                      <a:pt x="410" y="83"/>
                      <a:pt x="381" y="89"/>
                    </a:cubicBezTo>
                    <a:cubicBezTo>
                      <a:pt x="352" y="95"/>
                      <a:pt x="316" y="99"/>
                      <a:pt x="277" y="101"/>
                    </a:cubicBezTo>
                    <a:cubicBezTo>
                      <a:pt x="238" y="103"/>
                      <a:pt x="186" y="102"/>
                      <a:pt x="149" y="99"/>
                    </a:cubicBezTo>
                    <a:cubicBezTo>
                      <a:pt x="112" y="96"/>
                      <a:pt x="79" y="87"/>
                      <a:pt x="55" y="80"/>
                    </a:cubicBezTo>
                    <a:cubicBezTo>
                      <a:pt x="31" y="73"/>
                      <a:pt x="11" y="66"/>
                      <a:pt x="5" y="5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1ffff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195640" y="3245400"/>
                <a:ext cx="1294560" cy="325440"/>
              </a:xfrm>
              <a:custGeom>
                <a:avLst/>
                <a:gdLst/>
                <a:ahLst/>
                <a:rect l="l" t="t" r="r" b="b"/>
                <a:pathLst>
                  <a:path w="758" h="205">
                    <a:moveTo>
                      <a:pt x="9" y="99"/>
                    </a:moveTo>
                    <a:cubicBezTo>
                      <a:pt x="0" y="112"/>
                      <a:pt x="16" y="121"/>
                      <a:pt x="35" y="133"/>
                    </a:cubicBezTo>
                    <a:cubicBezTo>
                      <a:pt x="54" y="144"/>
                      <a:pt x="75" y="155"/>
                      <a:pt x="121" y="166"/>
                    </a:cubicBezTo>
                    <a:cubicBezTo>
                      <a:pt x="167" y="178"/>
                      <a:pt x="240" y="196"/>
                      <a:pt x="311" y="200"/>
                    </a:cubicBezTo>
                    <a:cubicBezTo>
                      <a:pt x="382" y="205"/>
                      <a:pt x="492" y="198"/>
                      <a:pt x="547" y="194"/>
                    </a:cubicBezTo>
                    <a:cubicBezTo>
                      <a:pt x="602" y="189"/>
                      <a:pt x="611" y="183"/>
                      <a:pt x="637" y="176"/>
                    </a:cubicBezTo>
                    <a:cubicBezTo>
                      <a:pt x="663" y="168"/>
                      <a:pt x="686" y="161"/>
                      <a:pt x="703" y="148"/>
                    </a:cubicBezTo>
                    <a:cubicBezTo>
                      <a:pt x="720" y="135"/>
                      <a:pt x="735" y="109"/>
                      <a:pt x="742" y="97"/>
                    </a:cubicBezTo>
                    <a:cubicBezTo>
                      <a:pt x="749" y="85"/>
                      <a:pt x="758" y="90"/>
                      <a:pt x="748" y="79"/>
                    </a:cubicBezTo>
                    <a:cubicBezTo>
                      <a:pt x="738" y="68"/>
                      <a:pt x="718" y="40"/>
                      <a:pt x="678" y="27"/>
                    </a:cubicBezTo>
                    <a:cubicBezTo>
                      <a:pt x="638" y="14"/>
                      <a:pt x="568" y="7"/>
                      <a:pt x="507" y="3"/>
                    </a:cubicBezTo>
                    <a:cubicBezTo>
                      <a:pt x="446" y="0"/>
                      <a:pt x="360" y="1"/>
                      <a:pt x="308" y="3"/>
                    </a:cubicBezTo>
                    <a:cubicBezTo>
                      <a:pt x="255" y="6"/>
                      <a:pt x="231" y="10"/>
                      <a:pt x="193" y="17"/>
                    </a:cubicBezTo>
                    <a:cubicBezTo>
                      <a:pt x="157" y="24"/>
                      <a:pt x="116" y="34"/>
                      <a:pt x="85" y="48"/>
                    </a:cubicBezTo>
                    <a:cubicBezTo>
                      <a:pt x="55" y="61"/>
                      <a:pt x="17" y="85"/>
                      <a:pt x="9" y="99"/>
                    </a:cubicBezTo>
                    <a:close/>
                  </a:path>
                </a:pathLst>
              </a:custGeom>
              <a:solidFill>
                <a:srgbClr val="8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197080" y="3388320"/>
                <a:ext cx="1293120" cy="176040"/>
              </a:xfrm>
              <a:custGeom>
                <a:avLst/>
                <a:gdLst/>
                <a:ahLst/>
                <a:rect l="l" t="t" r="r" b="b"/>
                <a:pathLst>
                  <a:path w="706" h="98">
                    <a:moveTo>
                      <a:pt x="0" y="18"/>
                    </a:moveTo>
                    <a:cubicBezTo>
                      <a:pt x="6" y="22"/>
                      <a:pt x="17" y="35"/>
                      <a:pt x="36" y="44"/>
                    </a:cubicBezTo>
                    <a:cubicBezTo>
                      <a:pt x="55" y="53"/>
                      <a:pt x="83" y="64"/>
                      <a:pt x="115" y="72"/>
                    </a:cubicBezTo>
                    <a:cubicBezTo>
                      <a:pt x="147" y="80"/>
                      <a:pt x="189" y="86"/>
                      <a:pt x="230" y="90"/>
                    </a:cubicBezTo>
                    <a:cubicBezTo>
                      <a:pt x="271" y="94"/>
                      <a:pt x="318" y="98"/>
                      <a:pt x="364" y="98"/>
                    </a:cubicBezTo>
                    <a:cubicBezTo>
                      <a:pt x="410" y="98"/>
                      <a:pt x="467" y="96"/>
                      <a:pt x="508" y="90"/>
                    </a:cubicBezTo>
                    <a:cubicBezTo>
                      <a:pt x="549" y="84"/>
                      <a:pt x="582" y="73"/>
                      <a:pt x="610" y="64"/>
                    </a:cubicBezTo>
                    <a:cubicBezTo>
                      <a:pt x="638" y="55"/>
                      <a:pt x="660" y="45"/>
                      <a:pt x="676" y="34"/>
                    </a:cubicBezTo>
                    <a:cubicBezTo>
                      <a:pt x="692" y="23"/>
                      <a:pt x="700" y="7"/>
                      <a:pt x="706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197080" y="3248280"/>
                <a:ext cx="1293120" cy="160560"/>
              </a:xfrm>
              <a:custGeom>
                <a:avLst/>
                <a:gdLst/>
                <a:ahLst/>
                <a:rect l="l" t="t" r="r" b="b"/>
                <a:pathLst>
                  <a:path w="706" h="90">
                    <a:moveTo>
                      <a:pt x="706" y="70"/>
                    </a:moveTo>
                    <a:cubicBezTo>
                      <a:pt x="699" y="65"/>
                      <a:pt x="685" y="49"/>
                      <a:pt x="664" y="40"/>
                    </a:cubicBezTo>
                    <a:cubicBezTo>
                      <a:pt x="643" y="31"/>
                      <a:pt x="611" y="22"/>
                      <a:pt x="580" y="16"/>
                    </a:cubicBezTo>
                    <a:cubicBezTo>
                      <a:pt x="549" y="10"/>
                      <a:pt x="514" y="4"/>
                      <a:pt x="478" y="2"/>
                    </a:cubicBezTo>
                    <a:cubicBezTo>
                      <a:pt x="442" y="0"/>
                      <a:pt x="399" y="1"/>
                      <a:pt x="361" y="1"/>
                    </a:cubicBezTo>
                    <a:cubicBezTo>
                      <a:pt x="323" y="1"/>
                      <a:pt x="286" y="1"/>
                      <a:pt x="252" y="4"/>
                    </a:cubicBezTo>
                    <a:cubicBezTo>
                      <a:pt x="218" y="7"/>
                      <a:pt x="183" y="14"/>
                      <a:pt x="154" y="20"/>
                    </a:cubicBezTo>
                    <a:cubicBezTo>
                      <a:pt x="125" y="26"/>
                      <a:pt x="97" y="34"/>
                      <a:pt x="76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2195640" y="2840040"/>
                <a:ext cx="1296360" cy="325440"/>
              </a:xfrm>
              <a:custGeom>
                <a:avLst/>
                <a:gdLst/>
                <a:ahLst/>
                <a:rect l="l" t="t" r="r" b="b"/>
                <a:pathLst>
                  <a:path w="708" h="181">
                    <a:moveTo>
                      <a:pt x="8" y="87"/>
                    </a:moveTo>
                    <a:cubicBezTo>
                      <a:pt x="0" y="99"/>
                      <a:pt x="15" y="107"/>
                      <a:pt x="33" y="117"/>
                    </a:cubicBezTo>
                    <a:cubicBezTo>
                      <a:pt x="50" y="127"/>
                      <a:pt x="71" y="137"/>
                      <a:pt x="114" y="147"/>
                    </a:cubicBezTo>
                    <a:cubicBezTo>
                      <a:pt x="157" y="157"/>
                      <a:pt x="226" y="173"/>
                      <a:pt x="292" y="177"/>
                    </a:cubicBezTo>
                    <a:cubicBezTo>
                      <a:pt x="359" y="181"/>
                      <a:pt x="463" y="175"/>
                      <a:pt x="514" y="171"/>
                    </a:cubicBezTo>
                    <a:cubicBezTo>
                      <a:pt x="566" y="167"/>
                      <a:pt x="575" y="162"/>
                      <a:pt x="599" y="155"/>
                    </a:cubicBezTo>
                    <a:cubicBezTo>
                      <a:pt x="623" y="148"/>
                      <a:pt x="644" y="142"/>
                      <a:pt x="661" y="131"/>
                    </a:cubicBezTo>
                    <a:cubicBezTo>
                      <a:pt x="678" y="120"/>
                      <a:pt x="695" y="99"/>
                      <a:pt x="701" y="89"/>
                    </a:cubicBezTo>
                    <a:cubicBezTo>
                      <a:pt x="707" y="79"/>
                      <a:pt x="708" y="80"/>
                      <a:pt x="697" y="69"/>
                    </a:cubicBezTo>
                    <a:cubicBezTo>
                      <a:pt x="686" y="58"/>
                      <a:pt x="674" y="35"/>
                      <a:pt x="637" y="24"/>
                    </a:cubicBezTo>
                    <a:cubicBezTo>
                      <a:pt x="600" y="13"/>
                      <a:pt x="534" y="6"/>
                      <a:pt x="477" y="3"/>
                    </a:cubicBezTo>
                    <a:cubicBezTo>
                      <a:pt x="419" y="0"/>
                      <a:pt x="339" y="1"/>
                      <a:pt x="289" y="3"/>
                    </a:cubicBezTo>
                    <a:cubicBezTo>
                      <a:pt x="240" y="5"/>
                      <a:pt x="217" y="9"/>
                      <a:pt x="182" y="15"/>
                    </a:cubicBezTo>
                    <a:cubicBezTo>
                      <a:pt x="147" y="21"/>
                      <a:pt x="109" y="30"/>
                      <a:pt x="80" y="42"/>
                    </a:cubicBezTo>
                    <a:cubicBezTo>
                      <a:pt x="51" y="54"/>
                      <a:pt x="16" y="75"/>
                      <a:pt x="8" y="8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1ffff"/>
                  </a:gs>
                  <a:gs pos="100000">
                    <a:srgbClr val="8b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2197080" y="2978280"/>
                <a:ext cx="1278000" cy="179280"/>
              </a:xfrm>
              <a:custGeom>
                <a:avLst/>
                <a:gdLst/>
                <a:ahLst/>
                <a:rect l="l" t="t" r="r" b="b"/>
                <a:pathLst>
                  <a:path w="698" h="100">
                    <a:moveTo>
                      <a:pt x="0" y="20"/>
                    </a:moveTo>
                    <a:cubicBezTo>
                      <a:pt x="6" y="24"/>
                      <a:pt x="17" y="37"/>
                      <a:pt x="36" y="46"/>
                    </a:cubicBezTo>
                    <a:cubicBezTo>
                      <a:pt x="55" y="55"/>
                      <a:pt x="84" y="66"/>
                      <a:pt x="116" y="74"/>
                    </a:cubicBezTo>
                    <a:cubicBezTo>
                      <a:pt x="148" y="82"/>
                      <a:pt x="191" y="88"/>
                      <a:pt x="232" y="92"/>
                    </a:cubicBezTo>
                    <a:cubicBezTo>
                      <a:pt x="273" y="96"/>
                      <a:pt x="321" y="100"/>
                      <a:pt x="367" y="100"/>
                    </a:cubicBezTo>
                    <a:cubicBezTo>
                      <a:pt x="413" y="100"/>
                      <a:pt x="471" y="98"/>
                      <a:pt x="512" y="92"/>
                    </a:cubicBezTo>
                    <a:cubicBezTo>
                      <a:pt x="554" y="86"/>
                      <a:pt x="587" y="75"/>
                      <a:pt x="615" y="66"/>
                    </a:cubicBezTo>
                    <a:cubicBezTo>
                      <a:pt x="643" y="57"/>
                      <a:pt x="668" y="47"/>
                      <a:pt x="682" y="36"/>
                    </a:cubicBezTo>
                    <a:cubicBezTo>
                      <a:pt x="696" y="25"/>
                      <a:pt x="695" y="7"/>
                      <a:pt x="698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2197080" y="2841840"/>
                <a:ext cx="1274400" cy="161640"/>
              </a:xfrm>
              <a:custGeom>
                <a:avLst/>
                <a:gdLst/>
                <a:ahLst/>
                <a:rect l="l" t="t" r="r" b="b"/>
                <a:pathLst>
                  <a:path w="696" h="90">
                    <a:moveTo>
                      <a:pt x="696" y="68"/>
                    </a:moveTo>
                    <a:cubicBezTo>
                      <a:pt x="691" y="63"/>
                      <a:pt x="688" y="49"/>
                      <a:pt x="670" y="40"/>
                    </a:cubicBezTo>
                    <a:cubicBezTo>
                      <a:pt x="652" y="31"/>
                      <a:pt x="616" y="22"/>
                      <a:pt x="585" y="16"/>
                    </a:cubicBezTo>
                    <a:cubicBezTo>
                      <a:pt x="554" y="10"/>
                      <a:pt x="518" y="4"/>
                      <a:pt x="482" y="2"/>
                    </a:cubicBezTo>
                    <a:cubicBezTo>
                      <a:pt x="446" y="0"/>
                      <a:pt x="402" y="1"/>
                      <a:pt x="364" y="1"/>
                    </a:cubicBezTo>
                    <a:cubicBezTo>
                      <a:pt x="326" y="1"/>
                      <a:pt x="288" y="1"/>
                      <a:pt x="254" y="4"/>
                    </a:cubicBezTo>
                    <a:cubicBezTo>
                      <a:pt x="220" y="7"/>
                      <a:pt x="185" y="14"/>
                      <a:pt x="155" y="20"/>
                    </a:cubicBezTo>
                    <a:cubicBezTo>
                      <a:pt x="126" y="26"/>
                      <a:pt x="98" y="34"/>
                      <a:pt x="77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5" name=""/>
            <p:cNvSpPr/>
            <p:nvPr/>
          </p:nvSpPr>
          <p:spPr>
            <a:xfrm>
              <a:off x="2050920" y="2997360"/>
              <a:ext cx="84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1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79280" y="6165720"/>
            <a:ext cx="1873440" cy="476280"/>
          </a:xfrm>
          <a:custGeom>
            <a:avLst/>
            <a:gdLst>
              <a:gd name="textAreaLeft" fmla="*/ 30600 w 1873440"/>
              <a:gd name="textAreaRight" fmla="*/ 1842840 w 18734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84915" h="21600">
                <a:moveTo>
                  <a:pt x="0" y="0"/>
                </a:moveTo>
                <a:lnTo>
                  <a:pt x="84915" y="0"/>
                </a:lnTo>
                <a:lnTo>
                  <a:pt x="84915" y="21600"/>
                </a:lnTo>
                <a:lnTo>
                  <a:pt x="0" y="21600"/>
                </a:lnTo>
                <a:close/>
              </a:path>
              <a:path fill="lightenLess" w="84915" h="21600">
                <a:moveTo>
                  <a:pt x="0" y="0"/>
                </a:moveTo>
                <a:lnTo>
                  <a:pt x="84915" y="0"/>
                </a:lnTo>
                <a:lnTo>
                  <a:pt x="83515" y="1400"/>
                </a:lnTo>
                <a:lnTo>
                  <a:pt x="1400" y="1400"/>
                </a:lnTo>
                <a:close/>
              </a:path>
              <a:path fill="darken" w="84915" h="21600">
                <a:moveTo>
                  <a:pt x="84915" y="0"/>
                </a:moveTo>
                <a:lnTo>
                  <a:pt x="84915" y="21600"/>
                </a:lnTo>
                <a:lnTo>
                  <a:pt x="83515" y="20200"/>
                </a:lnTo>
                <a:lnTo>
                  <a:pt x="83515" y="1400"/>
                </a:lnTo>
                <a:close/>
              </a:path>
              <a:path fill="darkenLess" w="84915" h="21600">
                <a:moveTo>
                  <a:pt x="849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3515" y="20200"/>
                </a:lnTo>
                <a:close/>
              </a:path>
              <a:path fill="lighten" w="849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lackadder ITC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>
            <a:hlinkClick r:id="" action="ppaction://hlinkshowjump?jump=nextslide"/>
          </p:cNvPr>
          <p:cNvSpPr/>
          <p:nvPr/>
        </p:nvSpPr>
        <p:spPr>
          <a:xfrm>
            <a:off x="8459640" y="6165720"/>
            <a:ext cx="505080" cy="5382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760 h 538200"/>
              <a:gd name="textAreaBottom" fmla="*/ 505800 h 538200"/>
            </a:gdLst>
            <a:ahLst/>
            <a:rect l="textAreaLeft" t="textAreaTop" r="textAreaRight" b="textAreaBottom"/>
            <a:pathLst>
              <a:path w="21600" h="23015">
                <a:moveTo>
                  <a:pt x="0" y="0"/>
                </a:moveTo>
                <a:lnTo>
                  <a:pt x="21600" y="0"/>
                </a:lnTo>
                <a:lnTo>
                  <a:pt x="21600" y="23015"/>
                </a:lnTo>
                <a:lnTo>
                  <a:pt x="0" y="23015"/>
                </a:lnTo>
                <a:close/>
              </a:path>
              <a:path fill="lightenLess" w="21600" h="230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15">
                <a:moveTo>
                  <a:pt x="21600" y="0"/>
                </a:moveTo>
                <a:lnTo>
                  <a:pt x="21600" y="23015"/>
                </a:lnTo>
                <a:lnTo>
                  <a:pt x="20200" y="21615"/>
                </a:lnTo>
                <a:lnTo>
                  <a:pt x="20200" y="1400"/>
                </a:lnTo>
                <a:close/>
              </a:path>
              <a:path fill="darkenLess" w="21600" h="23015">
                <a:moveTo>
                  <a:pt x="21600" y="23015"/>
                </a:moveTo>
                <a:lnTo>
                  <a:pt x="0" y="23015"/>
                </a:lnTo>
                <a:lnTo>
                  <a:pt x="1400" y="21615"/>
                </a:lnTo>
                <a:lnTo>
                  <a:pt x="20200" y="21615"/>
                </a:lnTo>
                <a:close/>
              </a:path>
              <a:path fill="lighten" w="21600" h="23015">
                <a:moveTo>
                  <a:pt x="0" y="230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15"/>
                </a:lnTo>
                <a:close/>
              </a:path>
              <a:path fill="darken" w="21600" h="23015">
                <a:moveTo>
                  <a:pt x="3794" y="4501"/>
                </a:moveTo>
                <a:lnTo>
                  <a:pt x="17806" y="11508"/>
                </a:lnTo>
                <a:lnTo>
                  <a:pt x="3794" y="1851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211640" y="4076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400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2484360" y="4076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у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0" name=""/>
              <p:cNvSpPr txBox="1"/>
              <p:nvPr/>
            </p:nvSpPr>
            <p:spPr>
              <a:xfrm>
                <a:off x="5867280" y="3141720"/>
                <a:ext cx="193860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у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5796000" y="3716280"/>
                <a:ext cx="26161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3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0,1</m:t>
                    </m:r>
                    <m:r>
                      <m:t xml:space="preserve">у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2" name=""/>
          <p:cNvSpPr/>
          <p:nvPr/>
        </p:nvSpPr>
        <p:spPr>
          <a:xfrm>
            <a:off x="5651640" y="321300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8317080" y="3429000"/>
                <a:ext cx="56340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74" name=""/>
          <p:cNvGrpSpPr/>
          <p:nvPr/>
        </p:nvGrpSpPr>
        <p:grpSpPr>
          <a:xfrm>
            <a:off x="1908000" y="5084640"/>
            <a:ext cx="5472360" cy="486000"/>
            <a:chOff x="1908000" y="5084640"/>
            <a:chExt cx="5472360" cy="486000"/>
          </a:xfrm>
        </p:grpSpPr>
        <mc:AlternateContent>
          <mc:Choice xmlns:a14="http://schemas.microsoft.com/office/drawing/2010/main" Requires="a14">
            <p:sp>
              <p:nvSpPr>
                <p:cNvPr id="675" name=""/>
                <p:cNvSpPr txBox="1"/>
                <p:nvPr/>
              </p:nvSpPr>
              <p:spPr>
                <a:xfrm>
                  <a:off x="1908000" y="5084640"/>
                  <a:ext cx="1268640" cy="48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,3</m:t>
                      </m:r>
                      <m:r>
                        <m:t xml:space="preserve">х</m:t>
                      </m:r>
                      <m:r>
                        <m:t xml:space="preserve">(</m:t>
                      </m:r>
                      <m:r>
                        <m:t xml:space="preserve">г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76" name=""/>
            <p:cNvSpPr/>
            <p:nvPr/>
          </p:nvSpPr>
          <p:spPr>
            <a:xfrm>
              <a:off x="3059280" y="5084640"/>
              <a:ext cx="432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кислоты в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первом раствор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7" name=""/>
          <p:cNvSpPr/>
          <p:nvPr/>
        </p:nvSpPr>
        <p:spPr>
          <a:xfrm>
            <a:off x="900000" y="3068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0,3х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1895400" y="5516640"/>
            <a:ext cx="5484960" cy="485640"/>
            <a:chOff x="1895400" y="5516640"/>
            <a:chExt cx="5484960" cy="485640"/>
          </a:xfrm>
        </p:grpSpPr>
        <p:sp>
          <p:nvSpPr>
            <p:cNvPr id="679" name=""/>
            <p:cNvSpPr/>
            <p:nvPr/>
          </p:nvSpPr>
          <p:spPr>
            <a:xfrm>
              <a:off x="3059280" y="5516640"/>
              <a:ext cx="432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кислоты во втором раствор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0" name=""/>
                <p:cNvSpPr txBox="1"/>
                <p:nvPr/>
              </p:nvSpPr>
              <p:spPr>
                <a:xfrm>
                  <a:off x="1895400" y="5516640"/>
                  <a:ext cx="1241640" cy="48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,1</m:t>
                      </m:r>
                      <m:r>
                        <m:t xml:space="preserve">у</m:t>
                      </m:r>
                      <m:r>
                        <m:t xml:space="preserve">(</m:t>
                      </m:r>
                      <m:r>
                        <m:t xml:space="preserve">г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81" name=""/>
          <p:cNvGrpSpPr/>
          <p:nvPr/>
        </p:nvGrpSpPr>
        <p:grpSpPr>
          <a:xfrm>
            <a:off x="1187280" y="4653000"/>
            <a:ext cx="6769080" cy="485640"/>
            <a:chOff x="1187280" y="4653000"/>
            <a:chExt cx="6769080" cy="485640"/>
          </a:xfrm>
        </p:grpSpPr>
        <p:sp>
          <p:nvSpPr>
            <p:cNvPr id="682" name=""/>
            <p:cNvSpPr/>
            <p:nvPr/>
          </p:nvSpPr>
          <p:spPr>
            <a:xfrm>
              <a:off x="3635280" y="4653000"/>
              <a:ext cx="432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кислоты в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новом раствор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3" name=""/>
                <p:cNvSpPr txBox="1"/>
                <p:nvPr/>
              </p:nvSpPr>
              <p:spPr>
                <a:xfrm>
                  <a:off x="1187280" y="4653000"/>
                  <a:ext cx="2509920" cy="48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400</m:t>
                      </m:r>
                      <m:r>
                        <m:t xml:space="preserve">⋅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15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60</m:t>
                      </m:r>
                      <m:r>
                        <m:t xml:space="preserve">(</m:t>
                      </m:r>
                      <m:r>
                        <m:t xml:space="preserve">г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84" name=""/>
          <p:cNvSpPr/>
          <p:nvPr/>
        </p:nvSpPr>
        <p:spPr>
          <a:xfrm>
            <a:off x="2556000" y="3068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0,1у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4427640" y="292428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60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6" name=""/>
              <p:cNvSpPr txBox="1"/>
              <p:nvPr/>
            </p:nvSpPr>
            <p:spPr>
              <a:xfrm>
                <a:off x="971640" y="4508640"/>
                <a:ext cx="430524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у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0</m:t>
                            </m:r>
                            <m:r>
                              <m:t xml:space="preserve">−</m:t>
                            </m:r>
                            <m:r>
                              <m:t xml:space="preserve">х</m:t>
                            </m:r>
                            <m:r>
                              <m:t xml:space="preserve">;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5219640" y="4508640"/>
                <a:ext cx="201132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t xml:space="preserve">;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88" name=""/>
          <p:cNvSpPr/>
          <p:nvPr/>
        </p:nvSpPr>
        <p:spPr>
          <a:xfrm>
            <a:off x="3203640" y="6165720"/>
            <a:ext cx="2665440" cy="50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твет: 100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2050920" y="551664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00 г – 30% раствора было взя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2" dur="indefinite" restart="never" nodeType="tmRoot">
          <p:childTnLst>
            <p:seq>
              <p:cTn id="1033" restart="whenNotActive" nodeType="interactiveSeq" fill="hold">
                <p:stCondLst>
                  <p:cond evt="onClick">
                    <p:tgtEl>
                      <p:spTgt spid="666"/>
                    </p:tgtEl>
                  </p:cond>
                </p:stCondLst>
                <p:childTnLst>
                  <p:par>
                    <p:cTn id="1034" fill="hold">
                      <p:stCondLst>
                        <p:cond evt="onClick">
                          <p:tgtEl>
                            <p:spTgt spid="666"/>
                          </p:tgtEl>
                        </p:cond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8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1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4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evt="onClick">
                          <p:tgtEl>
                            <p:spTgt spid="666"/>
                          </p:tgtEl>
                        </p:cond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9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500"/>
                            </p:stCondLst>
                            <p:childTnLst>
                              <p:par>
                                <p:cTn id="105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3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7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1" dur="500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evt="onClick">
                          <p:tgtEl>
                            <p:spTgt spid="666"/>
                          </p:tgtEl>
                        </p:cond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6" dur="50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500"/>
                            </p:stCondLst>
                            <p:childTnLst>
                              <p:par>
                                <p:cTn id="10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0" dur="500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evt="onClick">
                          <p:tgtEl>
                            <p:spTgt spid="666"/>
                          </p:tgtEl>
                        </p:cond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74" dur="10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6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77" dur="1000" fill="hold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9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0" dur="10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6000"/>
                            </p:stCondLst>
                            <p:childTnLst>
                              <p:par>
                                <p:cTn id="10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4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evt="onClick">
                          <p:tgtEl>
                            <p:spTgt spid="666"/>
                          </p:tgtEl>
                        </p:cond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9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3" dur="1000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evt="onClick">
                          <p:tgtEl>
                            <p:spTgt spid="666"/>
                          </p:tgtEl>
                        </p:cond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8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2" dur="1000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evt="onClick">
                          <p:tgtEl>
                            <p:spTgt spid="666"/>
                          </p:tgtEl>
                        </p:cond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7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1" dur="100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evt="onClick">
                          <p:tgtEl>
                            <p:spTgt spid="666"/>
                          </p:tgtEl>
                        </p:cond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15" dur="10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7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18" dur="1000" fill="hold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0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21" dur="10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fill="hold">
                            <p:stCondLst>
                              <p:cond delay="6000"/>
                            </p:stCondLst>
                            <p:childTnLst>
                              <p:par>
                                <p:cTn id="11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5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7000"/>
                            </p:stCondLst>
                            <p:childTnLst>
                              <p:par>
                                <p:cTn id="1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9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8000"/>
                            </p:stCondLst>
                            <p:childTnLst>
                              <p:par>
                                <p:cTn id="1131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32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35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38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evt="onClick">
                          <p:tgtEl>
                            <p:spTgt spid="666"/>
                          </p:tgtEl>
                        </p:cond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4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8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2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6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3500"/>
                            </p:stCondLst>
                            <p:childTnLst>
                              <p:par>
                                <p:cTn id="11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0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4500"/>
                            </p:stCondLst>
                            <p:childTnLst>
                              <p:par>
                                <p:cTn id="11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4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179280" y="6165720"/>
            <a:ext cx="1873440" cy="476280"/>
          </a:xfrm>
          <a:custGeom>
            <a:avLst/>
            <a:gdLst>
              <a:gd name="textAreaLeft" fmla="*/ 30600 w 1873440"/>
              <a:gd name="textAreaRight" fmla="*/ 1842840 w 18734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84915" h="21600">
                <a:moveTo>
                  <a:pt x="0" y="0"/>
                </a:moveTo>
                <a:lnTo>
                  <a:pt x="84915" y="0"/>
                </a:lnTo>
                <a:lnTo>
                  <a:pt x="84915" y="21600"/>
                </a:lnTo>
                <a:lnTo>
                  <a:pt x="0" y="21600"/>
                </a:lnTo>
                <a:close/>
              </a:path>
              <a:path fill="lightenLess" w="84915" h="21600">
                <a:moveTo>
                  <a:pt x="0" y="0"/>
                </a:moveTo>
                <a:lnTo>
                  <a:pt x="84915" y="0"/>
                </a:lnTo>
                <a:lnTo>
                  <a:pt x="83515" y="1400"/>
                </a:lnTo>
                <a:lnTo>
                  <a:pt x="1400" y="1400"/>
                </a:lnTo>
                <a:close/>
              </a:path>
              <a:path fill="darken" w="84915" h="21600">
                <a:moveTo>
                  <a:pt x="84915" y="0"/>
                </a:moveTo>
                <a:lnTo>
                  <a:pt x="84915" y="21600"/>
                </a:lnTo>
                <a:lnTo>
                  <a:pt x="83515" y="20200"/>
                </a:lnTo>
                <a:lnTo>
                  <a:pt x="83515" y="1400"/>
                </a:lnTo>
                <a:close/>
              </a:path>
              <a:path fill="darkenLess" w="84915" h="21600">
                <a:moveTo>
                  <a:pt x="849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3515" y="20200"/>
                </a:lnTo>
                <a:close/>
              </a:path>
              <a:path fill="lighten" w="849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lackadder ITC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>
            <a:hlinkClick r:id="" action="ppaction://hlinkshowjump?jump=nextslide"/>
          </p:cNvPr>
          <p:cNvSpPr/>
          <p:nvPr/>
        </p:nvSpPr>
        <p:spPr>
          <a:xfrm>
            <a:off x="8459640" y="6165720"/>
            <a:ext cx="505080" cy="5382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760 h 538200"/>
              <a:gd name="textAreaBottom" fmla="*/ 505800 h 538200"/>
            </a:gdLst>
            <a:ahLst/>
            <a:rect l="textAreaLeft" t="textAreaTop" r="textAreaRight" b="textAreaBottom"/>
            <a:pathLst>
              <a:path w="21600" h="23015">
                <a:moveTo>
                  <a:pt x="0" y="0"/>
                </a:moveTo>
                <a:lnTo>
                  <a:pt x="21600" y="0"/>
                </a:lnTo>
                <a:lnTo>
                  <a:pt x="21600" y="23015"/>
                </a:lnTo>
                <a:lnTo>
                  <a:pt x="0" y="23015"/>
                </a:lnTo>
                <a:close/>
              </a:path>
              <a:path fill="lightenLess" w="21600" h="230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15">
                <a:moveTo>
                  <a:pt x="21600" y="0"/>
                </a:moveTo>
                <a:lnTo>
                  <a:pt x="21600" y="23015"/>
                </a:lnTo>
                <a:lnTo>
                  <a:pt x="20200" y="21615"/>
                </a:lnTo>
                <a:lnTo>
                  <a:pt x="20200" y="1400"/>
                </a:lnTo>
                <a:close/>
              </a:path>
              <a:path fill="darkenLess" w="21600" h="23015">
                <a:moveTo>
                  <a:pt x="21600" y="23015"/>
                </a:moveTo>
                <a:lnTo>
                  <a:pt x="0" y="23015"/>
                </a:lnTo>
                <a:lnTo>
                  <a:pt x="1400" y="21615"/>
                </a:lnTo>
                <a:lnTo>
                  <a:pt x="20200" y="21615"/>
                </a:lnTo>
                <a:close/>
              </a:path>
              <a:path fill="lighten" w="21600" h="23015">
                <a:moveTo>
                  <a:pt x="0" y="230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15"/>
                </a:lnTo>
                <a:close/>
              </a:path>
              <a:path fill="darken" w="21600" h="23015">
                <a:moveTo>
                  <a:pt x="3794" y="4501"/>
                </a:moveTo>
                <a:lnTo>
                  <a:pt x="17806" y="11508"/>
                </a:lnTo>
                <a:lnTo>
                  <a:pt x="3794" y="1851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250920" y="260280"/>
            <a:ext cx="8642160" cy="230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Имеются два слитка сплава серебра и олова. Первый сли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содержит 360г серебра и 40г олова, а второй слиток – 450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серебра и 150г олова. От каждого слитка взяли по куск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сплавили их и получили 200г сплава, в котором оказало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81% серебра. Определите массу (в граммах) куска, взят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от второго слит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250920" y="2637000"/>
            <a:ext cx="8569080" cy="345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588000" y="4508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00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5796000" y="3573360"/>
            <a:ext cx="2401920" cy="1122480"/>
            <a:chOff x="5796000" y="3573360"/>
            <a:chExt cx="2401920" cy="1122480"/>
          </a:xfrm>
        </p:grpSpPr>
        <p:grpSp>
          <p:nvGrpSpPr>
            <p:cNvPr id="696" name=""/>
            <p:cNvGrpSpPr/>
            <p:nvPr/>
          </p:nvGrpSpPr>
          <p:grpSpPr>
            <a:xfrm>
              <a:off x="5796000" y="3583080"/>
              <a:ext cx="2047320" cy="1071360"/>
              <a:chOff x="5796000" y="3583080"/>
              <a:chExt cx="2047320" cy="1071360"/>
            </a:xfrm>
          </p:grpSpPr>
          <p:sp>
            <p:nvSpPr>
              <p:cNvPr id="697" name=""/>
              <p:cNvSpPr/>
              <p:nvPr/>
            </p:nvSpPr>
            <p:spPr>
              <a:xfrm>
                <a:off x="5801400" y="3583080"/>
                <a:ext cx="2040840" cy="701640"/>
              </a:xfrm>
              <a:custGeom>
                <a:avLst/>
                <a:gdLst/>
                <a:ahLst/>
                <a:rect l="l" t="t" r="r" b="b"/>
                <a:pathLst>
                  <a:path w="1439" h="564">
                    <a:moveTo>
                      <a:pt x="307" y="29"/>
                    </a:moveTo>
                    <a:cubicBezTo>
                      <a:pt x="282" y="45"/>
                      <a:pt x="239" y="72"/>
                      <a:pt x="205" y="94"/>
                    </a:cubicBezTo>
                    <a:cubicBezTo>
                      <a:pt x="171" y="116"/>
                      <a:pt x="132" y="140"/>
                      <a:pt x="100" y="163"/>
                    </a:cubicBezTo>
                    <a:cubicBezTo>
                      <a:pt x="68" y="186"/>
                      <a:pt x="0" y="215"/>
                      <a:pt x="11" y="235"/>
                    </a:cubicBezTo>
                    <a:cubicBezTo>
                      <a:pt x="22" y="255"/>
                      <a:pt x="109" y="265"/>
                      <a:pt x="165" y="282"/>
                    </a:cubicBezTo>
                    <a:cubicBezTo>
                      <a:pt x="221" y="299"/>
                      <a:pt x="288" y="317"/>
                      <a:pt x="346" y="334"/>
                    </a:cubicBezTo>
                    <a:cubicBezTo>
                      <a:pt x="405" y="351"/>
                      <a:pt x="471" y="370"/>
                      <a:pt x="517" y="384"/>
                    </a:cubicBezTo>
                    <a:cubicBezTo>
                      <a:pt x="563" y="399"/>
                      <a:pt x="586" y="411"/>
                      <a:pt x="623" y="422"/>
                    </a:cubicBezTo>
                    <a:cubicBezTo>
                      <a:pt x="661" y="434"/>
                      <a:pt x="688" y="438"/>
                      <a:pt x="738" y="452"/>
                    </a:cubicBezTo>
                    <a:cubicBezTo>
                      <a:pt x="788" y="467"/>
                      <a:pt x="867" y="493"/>
                      <a:pt x="924" y="510"/>
                    </a:cubicBezTo>
                    <a:cubicBezTo>
                      <a:pt x="980" y="527"/>
                      <a:pt x="1047" y="549"/>
                      <a:pt x="1077" y="556"/>
                    </a:cubicBezTo>
                    <a:cubicBezTo>
                      <a:pt x="1107" y="564"/>
                      <a:pt x="1094" y="563"/>
                      <a:pt x="1102" y="559"/>
                    </a:cubicBezTo>
                    <a:cubicBezTo>
                      <a:pt x="1111" y="554"/>
                      <a:pt x="1107" y="545"/>
                      <a:pt x="1131" y="526"/>
                    </a:cubicBezTo>
                    <a:cubicBezTo>
                      <a:pt x="1156" y="508"/>
                      <a:pt x="1214" y="471"/>
                      <a:pt x="1253" y="445"/>
                    </a:cubicBezTo>
                    <a:cubicBezTo>
                      <a:pt x="1291" y="420"/>
                      <a:pt x="1334" y="393"/>
                      <a:pt x="1364" y="374"/>
                    </a:cubicBezTo>
                    <a:cubicBezTo>
                      <a:pt x="1395" y="354"/>
                      <a:pt x="1439" y="341"/>
                      <a:pt x="1435" y="327"/>
                    </a:cubicBezTo>
                    <a:cubicBezTo>
                      <a:pt x="1430" y="314"/>
                      <a:pt x="1374" y="302"/>
                      <a:pt x="1339" y="290"/>
                    </a:cubicBezTo>
                    <a:cubicBezTo>
                      <a:pt x="1304" y="279"/>
                      <a:pt x="1260" y="267"/>
                      <a:pt x="1221" y="256"/>
                    </a:cubicBezTo>
                    <a:cubicBezTo>
                      <a:pt x="1181" y="244"/>
                      <a:pt x="1148" y="236"/>
                      <a:pt x="1104" y="222"/>
                    </a:cubicBezTo>
                    <a:cubicBezTo>
                      <a:pt x="1059" y="208"/>
                      <a:pt x="999" y="190"/>
                      <a:pt x="952" y="175"/>
                    </a:cubicBezTo>
                    <a:cubicBezTo>
                      <a:pt x="905" y="160"/>
                      <a:pt x="869" y="146"/>
                      <a:pt x="825" y="133"/>
                    </a:cubicBezTo>
                    <a:cubicBezTo>
                      <a:pt x="780" y="120"/>
                      <a:pt x="731" y="106"/>
                      <a:pt x="687" y="94"/>
                    </a:cubicBezTo>
                    <a:cubicBezTo>
                      <a:pt x="643" y="82"/>
                      <a:pt x="603" y="69"/>
                      <a:pt x="563" y="57"/>
                    </a:cubicBezTo>
                    <a:cubicBezTo>
                      <a:pt x="522" y="45"/>
                      <a:pt x="481" y="32"/>
                      <a:pt x="448" y="22"/>
                    </a:cubicBezTo>
                    <a:cubicBezTo>
                      <a:pt x="415" y="13"/>
                      <a:pt x="388" y="0"/>
                      <a:pt x="364" y="2"/>
                    </a:cubicBezTo>
                    <a:cubicBezTo>
                      <a:pt x="341" y="3"/>
                      <a:pt x="319" y="23"/>
                      <a:pt x="307" y="2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796000" y="3855600"/>
                <a:ext cx="1603800" cy="798840"/>
              </a:xfrm>
              <a:custGeom>
                <a:avLst/>
                <a:gdLst/>
                <a:ahLst/>
                <a:rect l="l" t="t" r="r" b="b"/>
                <a:pathLst>
                  <a:path w="1131" h="642">
                    <a:moveTo>
                      <a:pt x="207" y="58"/>
                    </a:moveTo>
                    <a:cubicBezTo>
                      <a:pt x="170" y="47"/>
                      <a:pt x="131" y="33"/>
                      <a:pt x="105" y="25"/>
                    </a:cubicBezTo>
                    <a:cubicBezTo>
                      <a:pt x="79" y="17"/>
                      <a:pt x="63" y="13"/>
                      <a:pt x="48" y="10"/>
                    </a:cubicBezTo>
                    <a:cubicBezTo>
                      <a:pt x="33" y="7"/>
                      <a:pt x="19" y="0"/>
                      <a:pt x="12" y="7"/>
                    </a:cubicBezTo>
                    <a:cubicBezTo>
                      <a:pt x="5" y="14"/>
                      <a:pt x="10" y="32"/>
                      <a:pt x="9" y="51"/>
                    </a:cubicBezTo>
                    <a:cubicBezTo>
                      <a:pt x="8" y="70"/>
                      <a:pt x="6" y="100"/>
                      <a:pt x="6" y="121"/>
                    </a:cubicBezTo>
                    <a:cubicBezTo>
                      <a:pt x="6" y="142"/>
                      <a:pt x="6" y="162"/>
                      <a:pt x="6" y="178"/>
                    </a:cubicBezTo>
                    <a:cubicBezTo>
                      <a:pt x="6" y="194"/>
                      <a:pt x="6" y="202"/>
                      <a:pt x="6" y="217"/>
                    </a:cubicBezTo>
                    <a:cubicBezTo>
                      <a:pt x="6" y="232"/>
                      <a:pt x="5" y="253"/>
                      <a:pt x="6" y="268"/>
                    </a:cubicBezTo>
                    <a:cubicBezTo>
                      <a:pt x="7" y="283"/>
                      <a:pt x="0" y="295"/>
                      <a:pt x="15" y="307"/>
                    </a:cubicBezTo>
                    <a:cubicBezTo>
                      <a:pt x="30" y="319"/>
                      <a:pt x="56" y="326"/>
                      <a:pt x="95" y="339"/>
                    </a:cubicBezTo>
                    <a:cubicBezTo>
                      <a:pt x="134" y="352"/>
                      <a:pt x="199" y="373"/>
                      <a:pt x="248" y="388"/>
                    </a:cubicBezTo>
                    <a:cubicBezTo>
                      <a:pt x="297" y="403"/>
                      <a:pt x="345" y="418"/>
                      <a:pt x="392" y="432"/>
                    </a:cubicBezTo>
                    <a:cubicBezTo>
                      <a:pt x="439" y="446"/>
                      <a:pt x="487" y="460"/>
                      <a:pt x="532" y="473"/>
                    </a:cubicBezTo>
                    <a:cubicBezTo>
                      <a:pt x="578" y="487"/>
                      <a:pt x="622" y="500"/>
                      <a:pt x="667" y="513"/>
                    </a:cubicBezTo>
                    <a:cubicBezTo>
                      <a:pt x="711" y="526"/>
                      <a:pt x="757" y="540"/>
                      <a:pt x="801" y="552"/>
                    </a:cubicBezTo>
                    <a:cubicBezTo>
                      <a:pt x="845" y="564"/>
                      <a:pt x="894" y="578"/>
                      <a:pt x="932" y="589"/>
                    </a:cubicBezTo>
                    <a:cubicBezTo>
                      <a:pt x="970" y="600"/>
                      <a:pt x="997" y="609"/>
                      <a:pt x="1028" y="617"/>
                    </a:cubicBezTo>
                    <a:cubicBezTo>
                      <a:pt x="1059" y="624"/>
                      <a:pt x="1101" y="642"/>
                      <a:pt x="1116" y="636"/>
                    </a:cubicBezTo>
                    <a:cubicBezTo>
                      <a:pt x="1131" y="630"/>
                      <a:pt x="1119" y="600"/>
                      <a:pt x="1120" y="578"/>
                    </a:cubicBezTo>
                    <a:cubicBezTo>
                      <a:pt x="1121" y="556"/>
                      <a:pt x="1122" y="527"/>
                      <a:pt x="1124" y="503"/>
                    </a:cubicBezTo>
                    <a:cubicBezTo>
                      <a:pt x="1125" y="478"/>
                      <a:pt x="1127" y="458"/>
                      <a:pt x="1128" y="434"/>
                    </a:cubicBezTo>
                    <a:cubicBezTo>
                      <a:pt x="1129" y="411"/>
                      <a:pt x="1131" y="378"/>
                      <a:pt x="1128" y="361"/>
                    </a:cubicBezTo>
                    <a:cubicBezTo>
                      <a:pt x="1125" y="344"/>
                      <a:pt x="1124" y="339"/>
                      <a:pt x="1111" y="330"/>
                    </a:cubicBezTo>
                    <a:cubicBezTo>
                      <a:pt x="1098" y="322"/>
                      <a:pt x="1082" y="319"/>
                      <a:pt x="1050" y="309"/>
                    </a:cubicBezTo>
                    <a:cubicBezTo>
                      <a:pt x="1018" y="299"/>
                      <a:pt x="962" y="283"/>
                      <a:pt x="919" y="270"/>
                    </a:cubicBezTo>
                    <a:cubicBezTo>
                      <a:pt x="876" y="257"/>
                      <a:pt x="832" y="243"/>
                      <a:pt x="791" y="231"/>
                    </a:cubicBezTo>
                    <a:cubicBezTo>
                      <a:pt x="751" y="219"/>
                      <a:pt x="712" y="205"/>
                      <a:pt x="673" y="194"/>
                    </a:cubicBezTo>
                    <a:cubicBezTo>
                      <a:pt x="634" y="182"/>
                      <a:pt x="588" y="170"/>
                      <a:pt x="552" y="159"/>
                    </a:cubicBezTo>
                    <a:cubicBezTo>
                      <a:pt x="515" y="149"/>
                      <a:pt x="493" y="141"/>
                      <a:pt x="456" y="129"/>
                    </a:cubicBezTo>
                    <a:cubicBezTo>
                      <a:pt x="419" y="118"/>
                      <a:pt x="366" y="102"/>
                      <a:pt x="325" y="90"/>
                    </a:cubicBezTo>
                    <a:cubicBezTo>
                      <a:pt x="283" y="78"/>
                      <a:pt x="231" y="65"/>
                      <a:pt x="207" y="5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338600" y="3977280"/>
                <a:ext cx="504720" cy="665640"/>
              </a:xfrm>
              <a:custGeom>
                <a:avLst/>
                <a:gdLst/>
                <a:ahLst/>
                <a:rect l="l" t="t" r="r" b="b"/>
                <a:pathLst>
                  <a:path w="356" h="535">
                    <a:moveTo>
                      <a:pt x="350" y="179"/>
                    </a:moveTo>
                    <a:cubicBezTo>
                      <a:pt x="351" y="199"/>
                      <a:pt x="353" y="220"/>
                      <a:pt x="353" y="239"/>
                    </a:cubicBezTo>
                    <a:cubicBezTo>
                      <a:pt x="353" y="257"/>
                      <a:pt x="353" y="276"/>
                      <a:pt x="353" y="290"/>
                    </a:cubicBezTo>
                    <a:cubicBezTo>
                      <a:pt x="353" y="304"/>
                      <a:pt x="356" y="315"/>
                      <a:pt x="350" y="325"/>
                    </a:cubicBezTo>
                    <a:cubicBezTo>
                      <a:pt x="344" y="335"/>
                      <a:pt x="331" y="341"/>
                      <a:pt x="317" y="352"/>
                    </a:cubicBezTo>
                    <a:cubicBezTo>
                      <a:pt x="303" y="363"/>
                      <a:pt x="287" y="375"/>
                      <a:pt x="269" y="388"/>
                    </a:cubicBezTo>
                    <a:cubicBezTo>
                      <a:pt x="251" y="401"/>
                      <a:pt x="227" y="417"/>
                      <a:pt x="206" y="431"/>
                    </a:cubicBezTo>
                    <a:cubicBezTo>
                      <a:pt x="185" y="445"/>
                      <a:pt x="163" y="457"/>
                      <a:pt x="142" y="470"/>
                    </a:cubicBezTo>
                    <a:cubicBezTo>
                      <a:pt x="121" y="483"/>
                      <a:pt x="103" y="497"/>
                      <a:pt x="83" y="508"/>
                    </a:cubicBezTo>
                    <a:cubicBezTo>
                      <a:pt x="63" y="519"/>
                      <a:pt x="35" y="535"/>
                      <a:pt x="23" y="535"/>
                    </a:cubicBezTo>
                    <a:cubicBezTo>
                      <a:pt x="11" y="535"/>
                      <a:pt x="15" y="522"/>
                      <a:pt x="13" y="507"/>
                    </a:cubicBezTo>
                    <a:cubicBezTo>
                      <a:pt x="11" y="492"/>
                      <a:pt x="10" y="465"/>
                      <a:pt x="10" y="444"/>
                    </a:cubicBezTo>
                    <a:cubicBezTo>
                      <a:pt x="10" y="423"/>
                      <a:pt x="10" y="401"/>
                      <a:pt x="10" y="378"/>
                    </a:cubicBezTo>
                    <a:cubicBezTo>
                      <a:pt x="10" y="355"/>
                      <a:pt x="6" y="328"/>
                      <a:pt x="7" y="303"/>
                    </a:cubicBezTo>
                    <a:cubicBezTo>
                      <a:pt x="8" y="278"/>
                      <a:pt x="0" y="248"/>
                      <a:pt x="14" y="225"/>
                    </a:cubicBezTo>
                    <a:cubicBezTo>
                      <a:pt x="28" y="202"/>
                      <a:pt x="68" y="183"/>
                      <a:pt x="91" y="167"/>
                    </a:cubicBezTo>
                    <a:cubicBezTo>
                      <a:pt x="113" y="151"/>
                      <a:pt x="124" y="144"/>
                      <a:pt x="148" y="128"/>
                    </a:cubicBezTo>
                    <a:cubicBezTo>
                      <a:pt x="173" y="112"/>
                      <a:pt x="209" y="89"/>
                      <a:pt x="234" y="72"/>
                    </a:cubicBezTo>
                    <a:cubicBezTo>
                      <a:pt x="260" y="56"/>
                      <a:pt x="284" y="40"/>
                      <a:pt x="302" y="29"/>
                    </a:cubicBezTo>
                    <a:cubicBezTo>
                      <a:pt x="320" y="17"/>
                      <a:pt x="336" y="0"/>
                      <a:pt x="343" y="3"/>
                    </a:cubicBezTo>
                    <a:cubicBezTo>
                      <a:pt x="351" y="6"/>
                      <a:pt x="349" y="28"/>
                      <a:pt x="350" y="47"/>
                    </a:cubicBezTo>
                    <a:cubicBezTo>
                      <a:pt x="351" y="66"/>
                      <a:pt x="350" y="97"/>
                      <a:pt x="350" y="119"/>
                    </a:cubicBezTo>
                    <a:cubicBezTo>
                      <a:pt x="350" y="140"/>
                      <a:pt x="349" y="159"/>
                      <a:pt x="350" y="17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438240" y="3748320"/>
                <a:ext cx="518760" cy="668160"/>
              </a:xfrm>
              <a:custGeom>
                <a:avLst/>
                <a:gdLst/>
                <a:ahLst/>
                <a:rect l="l" t="t" r="r" b="b"/>
                <a:pathLst>
                  <a:path w="366" h="537">
                    <a:moveTo>
                      <a:pt x="366" y="0"/>
                    </a:moveTo>
                    <a:cubicBezTo>
                      <a:pt x="345" y="13"/>
                      <a:pt x="275" y="54"/>
                      <a:pt x="237" y="77"/>
                    </a:cubicBezTo>
                    <a:cubicBezTo>
                      <a:pt x="199" y="100"/>
                      <a:pt x="171" y="116"/>
                      <a:pt x="135" y="139"/>
                    </a:cubicBezTo>
                    <a:cubicBezTo>
                      <a:pt x="98" y="162"/>
                      <a:pt x="45" y="198"/>
                      <a:pt x="22" y="215"/>
                    </a:cubicBezTo>
                    <a:cubicBezTo>
                      <a:pt x="0" y="233"/>
                      <a:pt x="6" y="229"/>
                      <a:pt x="3" y="243"/>
                    </a:cubicBezTo>
                    <a:cubicBezTo>
                      <a:pt x="0" y="258"/>
                      <a:pt x="0" y="284"/>
                      <a:pt x="0" y="303"/>
                    </a:cubicBezTo>
                    <a:cubicBezTo>
                      <a:pt x="0" y="322"/>
                      <a:pt x="0" y="338"/>
                      <a:pt x="0" y="359"/>
                    </a:cubicBezTo>
                    <a:cubicBezTo>
                      <a:pt x="0" y="379"/>
                      <a:pt x="0" y="411"/>
                      <a:pt x="0" y="428"/>
                    </a:cubicBezTo>
                    <a:cubicBezTo>
                      <a:pt x="0" y="445"/>
                      <a:pt x="0" y="446"/>
                      <a:pt x="0" y="460"/>
                    </a:cubicBezTo>
                    <a:cubicBezTo>
                      <a:pt x="0" y="475"/>
                      <a:pt x="0" y="505"/>
                      <a:pt x="0" y="518"/>
                    </a:cubicBezTo>
                    <a:cubicBezTo>
                      <a:pt x="0" y="531"/>
                      <a:pt x="0" y="533"/>
                      <a:pt x="0" y="537"/>
                    </a:cubicBezTo>
                  </a:path>
                </a:pathLst>
              </a:custGeom>
              <a:noFill/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"/>
            <p:cNvSpPr/>
            <p:nvPr/>
          </p:nvSpPr>
          <p:spPr>
            <a:xfrm>
              <a:off x="6588000" y="3790800"/>
              <a:ext cx="125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серебр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940360" y="357336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олов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 rot="19531800">
              <a:off x="7173000" y="3998520"/>
              <a:ext cx="98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81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4" name=""/>
          <p:cNvSpPr/>
          <p:nvPr/>
        </p:nvSpPr>
        <p:spPr>
          <a:xfrm>
            <a:off x="1332000" y="450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х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211640" y="450864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у 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3203640" y="4292640"/>
            <a:ext cx="28872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2c5"/>
                </a:solidFill>
                <a:latin typeface="Arial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e2c5"/>
              </a:solidFill>
              <a:latin typeface="Arial"/>
              <a:ea typeface="Arial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5508720" y="4365720"/>
            <a:ext cx="287280" cy="144360"/>
            <a:chOff x="5508720" y="4365720"/>
            <a:chExt cx="287280" cy="144360"/>
          </a:xfrm>
        </p:grpSpPr>
        <p:sp>
          <p:nvSpPr>
            <p:cNvPr id="708" name=""/>
            <p:cNvSpPr txBox="1"/>
            <p:nvPr/>
          </p:nvSpPr>
          <p:spPr>
            <a:xfrm>
              <a:off x="5508720" y="4365720"/>
              <a:ext cx="287280" cy="47520"/>
            </a:xfrm>
            <a:prstGeom prst="rect">
              <a:avLst/>
            </a:prstGeom>
          </p:spPr>
          <p:txBody>
            <a:bodyPr wrap="none" lIns="90000" rIns="90000" tIns="1080" bIns="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"/>
                </a:rPr>
                <a:t>_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709" name=""/>
            <p:cNvSpPr txBox="1"/>
            <p:nvPr/>
          </p:nvSpPr>
          <p:spPr>
            <a:xfrm>
              <a:off x="5508720" y="4462200"/>
              <a:ext cx="287280" cy="47880"/>
            </a:xfrm>
            <a:prstGeom prst="rect">
              <a:avLst/>
            </a:prstGeom>
          </p:spPr>
          <p:txBody>
            <a:bodyPr wrap="none" lIns="90000" rIns="90000" tIns="1440" bIns="14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e2c5"/>
                  </a:solidFill>
                  <a:latin typeface="Arial"/>
                </a:rPr>
                <a:t>_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2c5"/>
                </a:solidFill>
                <a:latin typeface="Arial"/>
                <a:ea typeface="Arial"/>
              </a:endParaRPr>
            </a:p>
          </p:txBody>
        </p:sp>
      </p:grpSp>
      <p:sp>
        <p:nvSpPr>
          <p:cNvPr id="710" name=""/>
          <p:cNvSpPr/>
          <p:nvPr/>
        </p:nvSpPr>
        <p:spPr>
          <a:xfrm>
            <a:off x="468360" y="2997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400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7524720" y="306864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600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1692360" y="2852640"/>
            <a:ext cx="2142720" cy="1092600"/>
            <a:chOff x="1692360" y="2852640"/>
            <a:chExt cx="2142720" cy="1092600"/>
          </a:xfrm>
        </p:grpSpPr>
        <p:grpSp>
          <p:nvGrpSpPr>
            <p:cNvPr id="713" name=""/>
            <p:cNvGrpSpPr/>
            <p:nvPr/>
          </p:nvGrpSpPr>
          <p:grpSpPr>
            <a:xfrm>
              <a:off x="1692360" y="2923920"/>
              <a:ext cx="1799640" cy="936000"/>
              <a:chOff x="1692360" y="2923920"/>
              <a:chExt cx="1799640" cy="936000"/>
            </a:xfrm>
          </p:grpSpPr>
          <p:sp>
            <p:nvSpPr>
              <p:cNvPr id="714" name=""/>
              <p:cNvSpPr/>
              <p:nvPr/>
            </p:nvSpPr>
            <p:spPr>
              <a:xfrm>
                <a:off x="1697040" y="2923920"/>
                <a:ext cx="1793880" cy="613080"/>
              </a:xfrm>
              <a:custGeom>
                <a:avLst/>
                <a:gdLst/>
                <a:ahLst/>
                <a:rect l="l" t="t" r="r" b="b"/>
                <a:pathLst>
                  <a:path w="1439" h="564">
                    <a:moveTo>
                      <a:pt x="307" y="29"/>
                    </a:moveTo>
                    <a:cubicBezTo>
                      <a:pt x="282" y="45"/>
                      <a:pt x="239" y="72"/>
                      <a:pt x="205" y="94"/>
                    </a:cubicBezTo>
                    <a:cubicBezTo>
                      <a:pt x="171" y="116"/>
                      <a:pt x="132" y="140"/>
                      <a:pt x="100" y="163"/>
                    </a:cubicBezTo>
                    <a:cubicBezTo>
                      <a:pt x="68" y="186"/>
                      <a:pt x="0" y="215"/>
                      <a:pt x="11" y="235"/>
                    </a:cubicBezTo>
                    <a:cubicBezTo>
                      <a:pt x="22" y="255"/>
                      <a:pt x="109" y="265"/>
                      <a:pt x="165" y="282"/>
                    </a:cubicBezTo>
                    <a:cubicBezTo>
                      <a:pt x="221" y="299"/>
                      <a:pt x="288" y="317"/>
                      <a:pt x="346" y="334"/>
                    </a:cubicBezTo>
                    <a:cubicBezTo>
                      <a:pt x="405" y="351"/>
                      <a:pt x="471" y="370"/>
                      <a:pt x="517" y="384"/>
                    </a:cubicBezTo>
                    <a:cubicBezTo>
                      <a:pt x="563" y="399"/>
                      <a:pt x="586" y="411"/>
                      <a:pt x="623" y="422"/>
                    </a:cubicBezTo>
                    <a:cubicBezTo>
                      <a:pt x="661" y="434"/>
                      <a:pt x="688" y="438"/>
                      <a:pt x="738" y="452"/>
                    </a:cubicBezTo>
                    <a:cubicBezTo>
                      <a:pt x="788" y="467"/>
                      <a:pt x="867" y="493"/>
                      <a:pt x="924" y="510"/>
                    </a:cubicBezTo>
                    <a:cubicBezTo>
                      <a:pt x="980" y="527"/>
                      <a:pt x="1047" y="549"/>
                      <a:pt x="1077" y="556"/>
                    </a:cubicBezTo>
                    <a:cubicBezTo>
                      <a:pt x="1107" y="564"/>
                      <a:pt x="1094" y="563"/>
                      <a:pt x="1102" y="559"/>
                    </a:cubicBezTo>
                    <a:cubicBezTo>
                      <a:pt x="1111" y="554"/>
                      <a:pt x="1107" y="545"/>
                      <a:pt x="1131" y="526"/>
                    </a:cubicBezTo>
                    <a:cubicBezTo>
                      <a:pt x="1156" y="508"/>
                      <a:pt x="1214" y="471"/>
                      <a:pt x="1253" y="445"/>
                    </a:cubicBezTo>
                    <a:cubicBezTo>
                      <a:pt x="1291" y="420"/>
                      <a:pt x="1334" y="393"/>
                      <a:pt x="1364" y="374"/>
                    </a:cubicBezTo>
                    <a:cubicBezTo>
                      <a:pt x="1395" y="354"/>
                      <a:pt x="1439" y="341"/>
                      <a:pt x="1435" y="327"/>
                    </a:cubicBezTo>
                    <a:cubicBezTo>
                      <a:pt x="1430" y="314"/>
                      <a:pt x="1374" y="302"/>
                      <a:pt x="1339" y="290"/>
                    </a:cubicBezTo>
                    <a:cubicBezTo>
                      <a:pt x="1304" y="279"/>
                      <a:pt x="1260" y="267"/>
                      <a:pt x="1221" y="256"/>
                    </a:cubicBezTo>
                    <a:cubicBezTo>
                      <a:pt x="1181" y="244"/>
                      <a:pt x="1148" y="236"/>
                      <a:pt x="1104" y="222"/>
                    </a:cubicBezTo>
                    <a:cubicBezTo>
                      <a:pt x="1059" y="208"/>
                      <a:pt x="999" y="190"/>
                      <a:pt x="952" y="175"/>
                    </a:cubicBezTo>
                    <a:cubicBezTo>
                      <a:pt x="905" y="160"/>
                      <a:pt x="869" y="146"/>
                      <a:pt x="825" y="133"/>
                    </a:cubicBezTo>
                    <a:cubicBezTo>
                      <a:pt x="780" y="120"/>
                      <a:pt x="731" y="106"/>
                      <a:pt x="687" y="94"/>
                    </a:cubicBezTo>
                    <a:cubicBezTo>
                      <a:pt x="643" y="82"/>
                      <a:pt x="603" y="69"/>
                      <a:pt x="563" y="57"/>
                    </a:cubicBezTo>
                    <a:cubicBezTo>
                      <a:pt x="522" y="45"/>
                      <a:pt x="481" y="32"/>
                      <a:pt x="448" y="22"/>
                    </a:cubicBezTo>
                    <a:cubicBezTo>
                      <a:pt x="415" y="13"/>
                      <a:pt x="388" y="0"/>
                      <a:pt x="364" y="2"/>
                    </a:cubicBezTo>
                    <a:cubicBezTo>
                      <a:pt x="341" y="3"/>
                      <a:pt x="319" y="23"/>
                      <a:pt x="307" y="2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692360" y="3161880"/>
                <a:ext cx="1409760" cy="698040"/>
              </a:xfrm>
              <a:custGeom>
                <a:avLst/>
                <a:gdLst/>
                <a:ahLst/>
                <a:rect l="l" t="t" r="r" b="b"/>
                <a:pathLst>
                  <a:path w="1131" h="642">
                    <a:moveTo>
                      <a:pt x="207" y="58"/>
                    </a:moveTo>
                    <a:cubicBezTo>
                      <a:pt x="170" y="47"/>
                      <a:pt x="131" y="33"/>
                      <a:pt x="105" y="25"/>
                    </a:cubicBezTo>
                    <a:cubicBezTo>
                      <a:pt x="79" y="17"/>
                      <a:pt x="63" y="13"/>
                      <a:pt x="48" y="10"/>
                    </a:cubicBezTo>
                    <a:cubicBezTo>
                      <a:pt x="33" y="7"/>
                      <a:pt x="19" y="0"/>
                      <a:pt x="12" y="7"/>
                    </a:cubicBezTo>
                    <a:cubicBezTo>
                      <a:pt x="5" y="14"/>
                      <a:pt x="10" y="32"/>
                      <a:pt x="9" y="51"/>
                    </a:cubicBezTo>
                    <a:cubicBezTo>
                      <a:pt x="8" y="70"/>
                      <a:pt x="6" y="100"/>
                      <a:pt x="6" y="121"/>
                    </a:cubicBezTo>
                    <a:cubicBezTo>
                      <a:pt x="6" y="142"/>
                      <a:pt x="6" y="162"/>
                      <a:pt x="6" y="178"/>
                    </a:cubicBezTo>
                    <a:cubicBezTo>
                      <a:pt x="6" y="194"/>
                      <a:pt x="6" y="202"/>
                      <a:pt x="6" y="217"/>
                    </a:cubicBezTo>
                    <a:cubicBezTo>
                      <a:pt x="6" y="232"/>
                      <a:pt x="5" y="253"/>
                      <a:pt x="6" y="268"/>
                    </a:cubicBezTo>
                    <a:cubicBezTo>
                      <a:pt x="7" y="283"/>
                      <a:pt x="0" y="295"/>
                      <a:pt x="15" y="307"/>
                    </a:cubicBezTo>
                    <a:cubicBezTo>
                      <a:pt x="30" y="319"/>
                      <a:pt x="56" y="326"/>
                      <a:pt x="95" y="339"/>
                    </a:cubicBezTo>
                    <a:cubicBezTo>
                      <a:pt x="134" y="352"/>
                      <a:pt x="199" y="373"/>
                      <a:pt x="248" y="388"/>
                    </a:cubicBezTo>
                    <a:cubicBezTo>
                      <a:pt x="297" y="403"/>
                      <a:pt x="345" y="418"/>
                      <a:pt x="392" y="432"/>
                    </a:cubicBezTo>
                    <a:cubicBezTo>
                      <a:pt x="439" y="446"/>
                      <a:pt x="487" y="460"/>
                      <a:pt x="532" y="473"/>
                    </a:cubicBezTo>
                    <a:cubicBezTo>
                      <a:pt x="578" y="487"/>
                      <a:pt x="622" y="500"/>
                      <a:pt x="667" y="513"/>
                    </a:cubicBezTo>
                    <a:cubicBezTo>
                      <a:pt x="711" y="526"/>
                      <a:pt x="757" y="540"/>
                      <a:pt x="801" y="552"/>
                    </a:cubicBezTo>
                    <a:cubicBezTo>
                      <a:pt x="845" y="564"/>
                      <a:pt x="894" y="578"/>
                      <a:pt x="932" y="589"/>
                    </a:cubicBezTo>
                    <a:cubicBezTo>
                      <a:pt x="970" y="600"/>
                      <a:pt x="997" y="609"/>
                      <a:pt x="1028" y="617"/>
                    </a:cubicBezTo>
                    <a:cubicBezTo>
                      <a:pt x="1059" y="624"/>
                      <a:pt x="1101" y="642"/>
                      <a:pt x="1116" y="636"/>
                    </a:cubicBezTo>
                    <a:cubicBezTo>
                      <a:pt x="1131" y="630"/>
                      <a:pt x="1119" y="600"/>
                      <a:pt x="1120" y="578"/>
                    </a:cubicBezTo>
                    <a:cubicBezTo>
                      <a:pt x="1121" y="556"/>
                      <a:pt x="1122" y="527"/>
                      <a:pt x="1124" y="503"/>
                    </a:cubicBezTo>
                    <a:cubicBezTo>
                      <a:pt x="1125" y="478"/>
                      <a:pt x="1127" y="458"/>
                      <a:pt x="1128" y="434"/>
                    </a:cubicBezTo>
                    <a:cubicBezTo>
                      <a:pt x="1129" y="411"/>
                      <a:pt x="1131" y="378"/>
                      <a:pt x="1128" y="361"/>
                    </a:cubicBezTo>
                    <a:cubicBezTo>
                      <a:pt x="1125" y="344"/>
                      <a:pt x="1124" y="339"/>
                      <a:pt x="1111" y="330"/>
                    </a:cubicBezTo>
                    <a:cubicBezTo>
                      <a:pt x="1098" y="322"/>
                      <a:pt x="1082" y="319"/>
                      <a:pt x="1050" y="309"/>
                    </a:cubicBezTo>
                    <a:cubicBezTo>
                      <a:pt x="1018" y="299"/>
                      <a:pt x="962" y="283"/>
                      <a:pt x="919" y="270"/>
                    </a:cubicBezTo>
                    <a:cubicBezTo>
                      <a:pt x="876" y="257"/>
                      <a:pt x="832" y="243"/>
                      <a:pt x="791" y="231"/>
                    </a:cubicBezTo>
                    <a:cubicBezTo>
                      <a:pt x="751" y="219"/>
                      <a:pt x="712" y="205"/>
                      <a:pt x="673" y="194"/>
                    </a:cubicBezTo>
                    <a:cubicBezTo>
                      <a:pt x="634" y="182"/>
                      <a:pt x="588" y="170"/>
                      <a:pt x="552" y="159"/>
                    </a:cubicBezTo>
                    <a:cubicBezTo>
                      <a:pt x="515" y="149"/>
                      <a:pt x="493" y="141"/>
                      <a:pt x="456" y="129"/>
                    </a:cubicBezTo>
                    <a:cubicBezTo>
                      <a:pt x="419" y="118"/>
                      <a:pt x="366" y="102"/>
                      <a:pt x="325" y="90"/>
                    </a:cubicBezTo>
                    <a:cubicBezTo>
                      <a:pt x="283" y="78"/>
                      <a:pt x="231" y="65"/>
                      <a:pt x="207" y="5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3048480" y="3268440"/>
                <a:ext cx="443520" cy="581760"/>
              </a:xfrm>
              <a:custGeom>
                <a:avLst/>
                <a:gdLst/>
                <a:ahLst/>
                <a:rect l="l" t="t" r="r" b="b"/>
                <a:pathLst>
                  <a:path w="356" h="535">
                    <a:moveTo>
                      <a:pt x="350" y="179"/>
                    </a:moveTo>
                    <a:cubicBezTo>
                      <a:pt x="351" y="199"/>
                      <a:pt x="353" y="220"/>
                      <a:pt x="353" y="239"/>
                    </a:cubicBezTo>
                    <a:cubicBezTo>
                      <a:pt x="353" y="257"/>
                      <a:pt x="353" y="276"/>
                      <a:pt x="353" y="290"/>
                    </a:cubicBezTo>
                    <a:cubicBezTo>
                      <a:pt x="353" y="304"/>
                      <a:pt x="356" y="315"/>
                      <a:pt x="350" y="325"/>
                    </a:cubicBezTo>
                    <a:cubicBezTo>
                      <a:pt x="344" y="335"/>
                      <a:pt x="331" y="341"/>
                      <a:pt x="317" y="352"/>
                    </a:cubicBezTo>
                    <a:cubicBezTo>
                      <a:pt x="303" y="363"/>
                      <a:pt x="287" y="375"/>
                      <a:pt x="269" y="388"/>
                    </a:cubicBezTo>
                    <a:cubicBezTo>
                      <a:pt x="251" y="401"/>
                      <a:pt x="227" y="417"/>
                      <a:pt x="206" y="431"/>
                    </a:cubicBezTo>
                    <a:cubicBezTo>
                      <a:pt x="185" y="445"/>
                      <a:pt x="163" y="457"/>
                      <a:pt x="142" y="470"/>
                    </a:cubicBezTo>
                    <a:cubicBezTo>
                      <a:pt x="121" y="483"/>
                      <a:pt x="103" y="497"/>
                      <a:pt x="83" y="508"/>
                    </a:cubicBezTo>
                    <a:cubicBezTo>
                      <a:pt x="63" y="519"/>
                      <a:pt x="35" y="535"/>
                      <a:pt x="23" y="535"/>
                    </a:cubicBezTo>
                    <a:cubicBezTo>
                      <a:pt x="11" y="535"/>
                      <a:pt x="15" y="522"/>
                      <a:pt x="13" y="507"/>
                    </a:cubicBezTo>
                    <a:cubicBezTo>
                      <a:pt x="11" y="492"/>
                      <a:pt x="10" y="465"/>
                      <a:pt x="10" y="444"/>
                    </a:cubicBezTo>
                    <a:cubicBezTo>
                      <a:pt x="10" y="423"/>
                      <a:pt x="10" y="401"/>
                      <a:pt x="10" y="378"/>
                    </a:cubicBezTo>
                    <a:cubicBezTo>
                      <a:pt x="10" y="355"/>
                      <a:pt x="6" y="328"/>
                      <a:pt x="7" y="303"/>
                    </a:cubicBezTo>
                    <a:cubicBezTo>
                      <a:pt x="8" y="278"/>
                      <a:pt x="0" y="248"/>
                      <a:pt x="14" y="225"/>
                    </a:cubicBezTo>
                    <a:cubicBezTo>
                      <a:pt x="28" y="202"/>
                      <a:pt x="68" y="183"/>
                      <a:pt x="91" y="167"/>
                    </a:cubicBezTo>
                    <a:cubicBezTo>
                      <a:pt x="113" y="151"/>
                      <a:pt x="124" y="144"/>
                      <a:pt x="148" y="128"/>
                    </a:cubicBezTo>
                    <a:cubicBezTo>
                      <a:pt x="173" y="112"/>
                      <a:pt x="209" y="89"/>
                      <a:pt x="234" y="72"/>
                    </a:cubicBezTo>
                    <a:cubicBezTo>
                      <a:pt x="260" y="56"/>
                      <a:pt x="284" y="40"/>
                      <a:pt x="302" y="29"/>
                    </a:cubicBezTo>
                    <a:cubicBezTo>
                      <a:pt x="320" y="17"/>
                      <a:pt x="336" y="0"/>
                      <a:pt x="343" y="3"/>
                    </a:cubicBezTo>
                    <a:cubicBezTo>
                      <a:pt x="351" y="6"/>
                      <a:pt x="349" y="28"/>
                      <a:pt x="350" y="47"/>
                    </a:cubicBezTo>
                    <a:cubicBezTo>
                      <a:pt x="351" y="66"/>
                      <a:pt x="350" y="97"/>
                      <a:pt x="350" y="119"/>
                    </a:cubicBezTo>
                    <a:cubicBezTo>
                      <a:pt x="350" y="140"/>
                      <a:pt x="349" y="159"/>
                      <a:pt x="350" y="17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2256840" y="3068280"/>
                <a:ext cx="456120" cy="583920"/>
              </a:xfrm>
              <a:custGeom>
                <a:avLst/>
                <a:gdLst/>
                <a:ahLst/>
                <a:rect l="l" t="t" r="r" b="b"/>
                <a:pathLst>
                  <a:path w="366" h="537">
                    <a:moveTo>
                      <a:pt x="366" y="0"/>
                    </a:moveTo>
                    <a:cubicBezTo>
                      <a:pt x="345" y="13"/>
                      <a:pt x="275" y="54"/>
                      <a:pt x="237" y="77"/>
                    </a:cubicBezTo>
                    <a:cubicBezTo>
                      <a:pt x="199" y="100"/>
                      <a:pt x="171" y="116"/>
                      <a:pt x="135" y="139"/>
                    </a:cubicBezTo>
                    <a:cubicBezTo>
                      <a:pt x="98" y="162"/>
                      <a:pt x="45" y="198"/>
                      <a:pt x="22" y="215"/>
                    </a:cubicBezTo>
                    <a:cubicBezTo>
                      <a:pt x="0" y="233"/>
                      <a:pt x="6" y="229"/>
                      <a:pt x="3" y="243"/>
                    </a:cubicBezTo>
                    <a:cubicBezTo>
                      <a:pt x="0" y="258"/>
                      <a:pt x="0" y="284"/>
                      <a:pt x="0" y="303"/>
                    </a:cubicBezTo>
                    <a:cubicBezTo>
                      <a:pt x="0" y="322"/>
                      <a:pt x="0" y="338"/>
                      <a:pt x="0" y="359"/>
                    </a:cubicBezTo>
                    <a:cubicBezTo>
                      <a:pt x="0" y="379"/>
                      <a:pt x="0" y="411"/>
                      <a:pt x="0" y="428"/>
                    </a:cubicBezTo>
                    <a:cubicBezTo>
                      <a:pt x="0" y="445"/>
                      <a:pt x="0" y="446"/>
                      <a:pt x="0" y="460"/>
                    </a:cubicBezTo>
                    <a:cubicBezTo>
                      <a:pt x="0" y="475"/>
                      <a:pt x="0" y="505"/>
                      <a:pt x="0" y="518"/>
                    </a:cubicBezTo>
                    <a:cubicBezTo>
                      <a:pt x="0" y="531"/>
                      <a:pt x="0" y="533"/>
                      <a:pt x="0" y="537"/>
                    </a:cubicBezTo>
                  </a:path>
                </a:pathLst>
              </a:custGeom>
              <a:noFill/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2341440" y="3068280"/>
              <a:ext cx="110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серебр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765440" y="2852640"/>
              <a:ext cx="93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олов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rot="19531800">
              <a:off x="2917800" y="3283920"/>
              <a:ext cx="8636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"/>
          <p:cNvGrpSpPr/>
          <p:nvPr/>
        </p:nvGrpSpPr>
        <p:grpSpPr>
          <a:xfrm>
            <a:off x="5651640" y="2852640"/>
            <a:ext cx="2142720" cy="1092600"/>
            <a:chOff x="5651640" y="2852640"/>
            <a:chExt cx="2142720" cy="1092600"/>
          </a:xfrm>
        </p:grpSpPr>
        <p:grpSp>
          <p:nvGrpSpPr>
            <p:cNvPr id="722" name=""/>
            <p:cNvGrpSpPr/>
            <p:nvPr/>
          </p:nvGrpSpPr>
          <p:grpSpPr>
            <a:xfrm>
              <a:off x="5651640" y="2923920"/>
              <a:ext cx="1799640" cy="936000"/>
              <a:chOff x="5651640" y="2923920"/>
              <a:chExt cx="1799640" cy="936000"/>
            </a:xfrm>
          </p:grpSpPr>
          <p:sp>
            <p:nvSpPr>
              <p:cNvPr id="723" name=""/>
              <p:cNvSpPr/>
              <p:nvPr/>
            </p:nvSpPr>
            <p:spPr>
              <a:xfrm>
                <a:off x="5656320" y="2923920"/>
                <a:ext cx="1793880" cy="613080"/>
              </a:xfrm>
              <a:custGeom>
                <a:avLst/>
                <a:gdLst/>
                <a:ahLst/>
                <a:rect l="l" t="t" r="r" b="b"/>
                <a:pathLst>
                  <a:path w="1439" h="564">
                    <a:moveTo>
                      <a:pt x="307" y="29"/>
                    </a:moveTo>
                    <a:cubicBezTo>
                      <a:pt x="282" y="45"/>
                      <a:pt x="239" y="72"/>
                      <a:pt x="205" y="94"/>
                    </a:cubicBezTo>
                    <a:cubicBezTo>
                      <a:pt x="171" y="116"/>
                      <a:pt x="132" y="140"/>
                      <a:pt x="100" y="163"/>
                    </a:cubicBezTo>
                    <a:cubicBezTo>
                      <a:pt x="68" y="186"/>
                      <a:pt x="0" y="215"/>
                      <a:pt x="11" y="235"/>
                    </a:cubicBezTo>
                    <a:cubicBezTo>
                      <a:pt x="22" y="255"/>
                      <a:pt x="109" y="265"/>
                      <a:pt x="165" y="282"/>
                    </a:cubicBezTo>
                    <a:cubicBezTo>
                      <a:pt x="221" y="299"/>
                      <a:pt x="288" y="317"/>
                      <a:pt x="346" y="334"/>
                    </a:cubicBezTo>
                    <a:cubicBezTo>
                      <a:pt x="405" y="351"/>
                      <a:pt x="471" y="370"/>
                      <a:pt x="517" y="384"/>
                    </a:cubicBezTo>
                    <a:cubicBezTo>
                      <a:pt x="563" y="399"/>
                      <a:pt x="586" y="411"/>
                      <a:pt x="623" y="422"/>
                    </a:cubicBezTo>
                    <a:cubicBezTo>
                      <a:pt x="661" y="434"/>
                      <a:pt x="688" y="438"/>
                      <a:pt x="738" y="452"/>
                    </a:cubicBezTo>
                    <a:cubicBezTo>
                      <a:pt x="788" y="467"/>
                      <a:pt x="867" y="493"/>
                      <a:pt x="924" y="510"/>
                    </a:cubicBezTo>
                    <a:cubicBezTo>
                      <a:pt x="980" y="527"/>
                      <a:pt x="1047" y="549"/>
                      <a:pt x="1077" y="556"/>
                    </a:cubicBezTo>
                    <a:cubicBezTo>
                      <a:pt x="1107" y="564"/>
                      <a:pt x="1094" y="563"/>
                      <a:pt x="1102" y="559"/>
                    </a:cubicBezTo>
                    <a:cubicBezTo>
                      <a:pt x="1111" y="554"/>
                      <a:pt x="1107" y="545"/>
                      <a:pt x="1131" y="526"/>
                    </a:cubicBezTo>
                    <a:cubicBezTo>
                      <a:pt x="1156" y="508"/>
                      <a:pt x="1214" y="471"/>
                      <a:pt x="1253" y="445"/>
                    </a:cubicBezTo>
                    <a:cubicBezTo>
                      <a:pt x="1291" y="420"/>
                      <a:pt x="1334" y="393"/>
                      <a:pt x="1364" y="374"/>
                    </a:cubicBezTo>
                    <a:cubicBezTo>
                      <a:pt x="1395" y="354"/>
                      <a:pt x="1439" y="341"/>
                      <a:pt x="1435" y="327"/>
                    </a:cubicBezTo>
                    <a:cubicBezTo>
                      <a:pt x="1430" y="314"/>
                      <a:pt x="1374" y="302"/>
                      <a:pt x="1339" y="290"/>
                    </a:cubicBezTo>
                    <a:cubicBezTo>
                      <a:pt x="1304" y="279"/>
                      <a:pt x="1260" y="267"/>
                      <a:pt x="1221" y="256"/>
                    </a:cubicBezTo>
                    <a:cubicBezTo>
                      <a:pt x="1181" y="244"/>
                      <a:pt x="1148" y="236"/>
                      <a:pt x="1104" y="222"/>
                    </a:cubicBezTo>
                    <a:cubicBezTo>
                      <a:pt x="1059" y="208"/>
                      <a:pt x="999" y="190"/>
                      <a:pt x="952" y="175"/>
                    </a:cubicBezTo>
                    <a:cubicBezTo>
                      <a:pt x="905" y="160"/>
                      <a:pt x="869" y="146"/>
                      <a:pt x="825" y="133"/>
                    </a:cubicBezTo>
                    <a:cubicBezTo>
                      <a:pt x="780" y="120"/>
                      <a:pt x="731" y="106"/>
                      <a:pt x="687" y="94"/>
                    </a:cubicBezTo>
                    <a:cubicBezTo>
                      <a:pt x="643" y="82"/>
                      <a:pt x="603" y="69"/>
                      <a:pt x="563" y="57"/>
                    </a:cubicBezTo>
                    <a:cubicBezTo>
                      <a:pt x="522" y="45"/>
                      <a:pt x="481" y="32"/>
                      <a:pt x="448" y="22"/>
                    </a:cubicBezTo>
                    <a:cubicBezTo>
                      <a:pt x="415" y="13"/>
                      <a:pt x="388" y="0"/>
                      <a:pt x="364" y="2"/>
                    </a:cubicBezTo>
                    <a:cubicBezTo>
                      <a:pt x="341" y="3"/>
                      <a:pt x="319" y="23"/>
                      <a:pt x="307" y="2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651640" y="3161880"/>
                <a:ext cx="1409760" cy="698040"/>
              </a:xfrm>
              <a:custGeom>
                <a:avLst/>
                <a:gdLst/>
                <a:ahLst/>
                <a:rect l="l" t="t" r="r" b="b"/>
                <a:pathLst>
                  <a:path w="1131" h="642">
                    <a:moveTo>
                      <a:pt x="207" y="58"/>
                    </a:moveTo>
                    <a:cubicBezTo>
                      <a:pt x="170" y="47"/>
                      <a:pt x="131" y="33"/>
                      <a:pt x="105" y="25"/>
                    </a:cubicBezTo>
                    <a:cubicBezTo>
                      <a:pt x="79" y="17"/>
                      <a:pt x="63" y="13"/>
                      <a:pt x="48" y="10"/>
                    </a:cubicBezTo>
                    <a:cubicBezTo>
                      <a:pt x="33" y="7"/>
                      <a:pt x="19" y="0"/>
                      <a:pt x="12" y="7"/>
                    </a:cubicBezTo>
                    <a:cubicBezTo>
                      <a:pt x="5" y="14"/>
                      <a:pt x="10" y="32"/>
                      <a:pt x="9" y="51"/>
                    </a:cubicBezTo>
                    <a:cubicBezTo>
                      <a:pt x="8" y="70"/>
                      <a:pt x="6" y="100"/>
                      <a:pt x="6" y="121"/>
                    </a:cubicBezTo>
                    <a:cubicBezTo>
                      <a:pt x="6" y="142"/>
                      <a:pt x="6" y="162"/>
                      <a:pt x="6" y="178"/>
                    </a:cubicBezTo>
                    <a:cubicBezTo>
                      <a:pt x="6" y="194"/>
                      <a:pt x="6" y="202"/>
                      <a:pt x="6" y="217"/>
                    </a:cubicBezTo>
                    <a:cubicBezTo>
                      <a:pt x="6" y="232"/>
                      <a:pt x="5" y="253"/>
                      <a:pt x="6" y="268"/>
                    </a:cubicBezTo>
                    <a:cubicBezTo>
                      <a:pt x="7" y="283"/>
                      <a:pt x="0" y="295"/>
                      <a:pt x="15" y="307"/>
                    </a:cubicBezTo>
                    <a:cubicBezTo>
                      <a:pt x="30" y="319"/>
                      <a:pt x="56" y="326"/>
                      <a:pt x="95" y="339"/>
                    </a:cubicBezTo>
                    <a:cubicBezTo>
                      <a:pt x="134" y="352"/>
                      <a:pt x="199" y="373"/>
                      <a:pt x="248" y="388"/>
                    </a:cubicBezTo>
                    <a:cubicBezTo>
                      <a:pt x="297" y="403"/>
                      <a:pt x="345" y="418"/>
                      <a:pt x="392" y="432"/>
                    </a:cubicBezTo>
                    <a:cubicBezTo>
                      <a:pt x="439" y="446"/>
                      <a:pt x="487" y="460"/>
                      <a:pt x="532" y="473"/>
                    </a:cubicBezTo>
                    <a:cubicBezTo>
                      <a:pt x="578" y="487"/>
                      <a:pt x="622" y="500"/>
                      <a:pt x="667" y="513"/>
                    </a:cubicBezTo>
                    <a:cubicBezTo>
                      <a:pt x="711" y="526"/>
                      <a:pt x="757" y="540"/>
                      <a:pt x="801" y="552"/>
                    </a:cubicBezTo>
                    <a:cubicBezTo>
                      <a:pt x="845" y="564"/>
                      <a:pt x="894" y="578"/>
                      <a:pt x="932" y="589"/>
                    </a:cubicBezTo>
                    <a:cubicBezTo>
                      <a:pt x="970" y="600"/>
                      <a:pt x="997" y="609"/>
                      <a:pt x="1028" y="617"/>
                    </a:cubicBezTo>
                    <a:cubicBezTo>
                      <a:pt x="1059" y="624"/>
                      <a:pt x="1101" y="642"/>
                      <a:pt x="1116" y="636"/>
                    </a:cubicBezTo>
                    <a:cubicBezTo>
                      <a:pt x="1131" y="630"/>
                      <a:pt x="1119" y="600"/>
                      <a:pt x="1120" y="578"/>
                    </a:cubicBezTo>
                    <a:cubicBezTo>
                      <a:pt x="1121" y="556"/>
                      <a:pt x="1122" y="527"/>
                      <a:pt x="1124" y="503"/>
                    </a:cubicBezTo>
                    <a:cubicBezTo>
                      <a:pt x="1125" y="478"/>
                      <a:pt x="1127" y="458"/>
                      <a:pt x="1128" y="434"/>
                    </a:cubicBezTo>
                    <a:cubicBezTo>
                      <a:pt x="1129" y="411"/>
                      <a:pt x="1131" y="378"/>
                      <a:pt x="1128" y="361"/>
                    </a:cubicBezTo>
                    <a:cubicBezTo>
                      <a:pt x="1125" y="344"/>
                      <a:pt x="1124" y="339"/>
                      <a:pt x="1111" y="330"/>
                    </a:cubicBezTo>
                    <a:cubicBezTo>
                      <a:pt x="1098" y="322"/>
                      <a:pt x="1082" y="319"/>
                      <a:pt x="1050" y="309"/>
                    </a:cubicBezTo>
                    <a:cubicBezTo>
                      <a:pt x="1018" y="299"/>
                      <a:pt x="962" y="283"/>
                      <a:pt x="919" y="270"/>
                    </a:cubicBezTo>
                    <a:cubicBezTo>
                      <a:pt x="876" y="257"/>
                      <a:pt x="832" y="243"/>
                      <a:pt x="791" y="231"/>
                    </a:cubicBezTo>
                    <a:cubicBezTo>
                      <a:pt x="751" y="219"/>
                      <a:pt x="712" y="205"/>
                      <a:pt x="673" y="194"/>
                    </a:cubicBezTo>
                    <a:cubicBezTo>
                      <a:pt x="634" y="182"/>
                      <a:pt x="588" y="170"/>
                      <a:pt x="552" y="159"/>
                    </a:cubicBezTo>
                    <a:cubicBezTo>
                      <a:pt x="515" y="149"/>
                      <a:pt x="493" y="141"/>
                      <a:pt x="456" y="129"/>
                    </a:cubicBezTo>
                    <a:cubicBezTo>
                      <a:pt x="419" y="118"/>
                      <a:pt x="366" y="102"/>
                      <a:pt x="325" y="90"/>
                    </a:cubicBezTo>
                    <a:cubicBezTo>
                      <a:pt x="283" y="78"/>
                      <a:pt x="231" y="65"/>
                      <a:pt x="207" y="5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007760" y="3268440"/>
                <a:ext cx="443520" cy="581760"/>
              </a:xfrm>
              <a:custGeom>
                <a:avLst/>
                <a:gdLst/>
                <a:ahLst/>
                <a:rect l="l" t="t" r="r" b="b"/>
                <a:pathLst>
                  <a:path w="356" h="535">
                    <a:moveTo>
                      <a:pt x="350" y="179"/>
                    </a:moveTo>
                    <a:cubicBezTo>
                      <a:pt x="351" y="199"/>
                      <a:pt x="353" y="220"/>
                      <a:pt x="353" y="239"/>
                    </a:cubicBezTo>
                    <a:cubicBezTo>
                      <a:pt x="353" y="257"/>
                      <a:pt x="353" y="276"/>
                      <a:pt x="353" y="290"/>
                    </a:cubicBezTo>
                    <a:cubicBezTo>
                      <a:pt x="353" y="304"/>
                      <a:pt x="356" y="315"/>
                      <a:pt x="350" y="325"/>
                    </a:cubicBezTo>
                    <a:cubicBezTo>
                      <a:pt x="344" y="335"/>
                      <a:pt x="331" y="341"/>
                      <a:pt x="317" y="352"/>
                    </a:cubicBezTo>
                    <a:cubicBezTo>
                      <a:pt x="303" y="363"/>
                      <a:pt x="287" y="375"/>
                      <a:pt x="269" y="388"/>
                    </a:cubicBezTo>
                    <a:cubicBezTo>
                      <a:pt x="251" y="401"/>
                      <a:pt x="227" y="417"/>
                      <a:pt x="206" y="431"/>
                    </a:cubicBezTo>
                    <a:cubicBezTo>
                      <a:pt x="185" y="445"/>
                      <a:pt x="163" y="457"/>
                      <a:pt x="142" y="470"/>
                    </a:cubicBezTo>
                    <a:cubicBezTo>
                      <a:pt x="121" y="483"/>
                      <a:pt x="103" y="497"/>
                      <a:pt x="83" y="508"/>
                    </a:cubicBezTo>
                    <a:cubicBezTo>
                      <a:pt x="63" y="519"/>
                      <a:pt x="35" y="535"/>
                      <a:pt x="23" y="535"/>
                    </a:cubicBezTo>
                    <a:cubicBezTo>
                      <a:pt x="11" y="535"/>
                      <a:pt x="15" y="522"/>
                      <a:pt x="13" y="507"/>
                    </a:cubicBezTo>
                    <a:cubicBezTo>
                      <a:pt x="11" y="492"/>
                      <a:pt x="10" y="465"/>
                      <a:pt x="10" y="444"/>
                    </a:cubicBezTo>
                    <a:cubicBezTo>
                      <a:pt x="10" y="423"/>
                      <a:pt x="10" y="401"/>
                      <a:pt x="10" y="378"/>
                    </a:cubicBezTo>
                    <a:cubicBezTo>
                      <a:pt x="10" y="355"/>
                      <a:pt x="6" y="328"/>
                      <a:pt x="7" y="303"/>
                    </a:cubicBezTo>
                    <a:cubicBezTo>
                      <a:pt x="8" y="278"/>
                      <a:pt x="0" y="248"/>
                      <a:pt x="14" y="225"/>
                    </a:cubicBezTo>
                    <a:cubicBezTo>
                      <a:pt x="28" y="202"/>
                      <a:pt x="68" y="183"/>
                      <a:pt x="91" y="167"/>
                    </a:cubicBezTo>
                    <a:cubicBezTo>
                      <a:pt x="113" y="151"/>
                      <a:pt x="124" y="144"/>
                      <a:pt x="148" y="128"/>
                    </a:cubicBezTo>
                    <a:cubicBezTo>
                      <a:pt x="173" y="112"/>
                      <a:pt x="209" y="89"/>
                      <a:pt x="234" y="72"/>
                    </a:cubicBezTo>
                    <a:cubicBezTo>
                      <a:pt x="260" y="56"/>
                      <a:pt x="284" y="40"/>
                      <a:pt x="302" y="29"/>
                    </a:cubicBezTo>
                    <a:cubicBezTo>
                      <a:pt x="320" y="17"/>
                      <a:pt x="336" y="0"/>
                      <a:pt x="343" y="3"/>
                    </a:cubicBezTo>
                    <a:cubicBezTo>
                      <a:pt x="351" y="6"/>
                      <a:pt x="349" y="28"/>
                      <a:pt x="350" y="47"/>
                    </a:cubicBezTo>
                    <a:cubicBezTo>
                      <a:pt x="351" y="66"/>
                      <a:pt x="350" y="97"/>
                      <a:pt x="350" y="119"/>
                    </a:cubicBezTo>
                    <a:cubicBezTo>
                      <a:pt x="350" y="140"/>
                      <a:pt x="349" y="159"/>
                      <a:pt x="350" y="17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6216120" y="3068280"/>
                <a:ext cx="456120" cy="583920"/>
              </a:xfrm>
              <a:custGeom>
                <a:avLst/>
                <a:gdLst/>
                <a:ahLst/>
                <a:rect l="l" t="t" r="r" b="b"/>
                <a:pathLst>
                  <a:path w="366" h="537">
                    <a:moveTo>
                      <a:pt x="366" y="0"/>
                    </a:moveTo>
                    <a:cubicBezTo>
                      <a:pt x="345" y="13"/>
                      <a:pt x="275" y="54"/>
                      <a:pt x="237" y="77"/>
                    </a:cubicBezTo>
                    <a:cubicBezTo>
                      <a:pt x="199" y="100"/>
                      <a:pt x="171" y="116"/>
                      <a:pt x="135" y="139"/>
                    </a:cubicBezTo>
                    <a:cubicBezTo>
                      <a:pt x="98" y="162"/>
                      <a:pt x="45" y="198"/>
                      <a:pt x="22" y="215"/>
                    </a:cubicBezTo>
                    <a:cubicBezTo>
                      <a:pt x="0" y="233"/>
                      <a:pt x="6" y="229"/>
                      <a:pt x="3" y="243"/>
                    </a:cubicBezTo>
                    <a:cubicBezTo>
                      <a:pt x="0" y="258"/>
                      <a:pt x="0" y="284"/>
                      <a:pt x="0" y="303"/>
                    </a:cubicBezTo>
                    <a:cubicBezTo>
                      <a:pt x="0" y="322"/>
                      <a:pt x="0" y="338"/>
                      <a:pt x="0" y="359"/>
                    </a:cubicBezTo>
                    <a:cubicBezTo>
                      <a:pt x="0" y="379"/>
                      <a:pt x="0" y="411"/>
                      <a:pt x="0" y="428"/>
                    </a:cubicBezTo>
                    <a:cubicBezTo>
                      <a:pt x="0" y="445"/>
                      <a:pt x="0" y="446"/>
                      <a:pt x="0" y="460"/>
                    </a:cubicBezTo>
                    <a:cubicBezTo>
                      <a:pt x="0" y="475"/>
                      <a:pt x="0" y="505"/>
                      <a:pt x="0" y="518"/>
                    </a:cubicBezTo>
                    <a:cubicBezTo>
                      <a:pt x="0" y="531"/>
                      <a:pt x="0" y="533"/>
                      <a:pt x="0" y="537"/>
                    </a:cubicBezTo>
                  </a:path>
                </a:pathLst>
              </a:custGeom>
              <a:noFill/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"/>
            <p:cNvSpPr/>
            <p:nvPr/>
          </p:nvSpPr>
          <p:spPr>
            <a:xfrm>
              <a:off x="6300720" y="3068280"/>
              <a:ext cx="110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серебр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724720" y="2852640"/>
              <a:ext cx="93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олов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 rot="19531800">
              <a:off x="6877080" y="3283920"/>
              <a:ext cx="8636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5103720" y="2708280"/>
            <a:ext cx="2492280" cy="1152000"/>
            <a:chOff x="5103720" y="2708280"/>
            <a:chExt cx="2492280" cy="1152000"/>
          </a:xfrm>
        </p:grpSpPr>
        <p:grpSp>
          <p:nvGrpSpPr>
            <p:cNvPr id="731" name=""/>
            <p:cNvGrpSpPr/>
            <p:nvPr/>
          </p:nvGrpSpPr>
          <p:grpSpPr>
            <a:xfrm>
              <a:off x="5148360" y="2708280"/>
              <a:ext cx="2447640" cy="1152000"/>
              <a:chOff x="5148360" y="2708280"/>
              <a:chExt cx="2447640" cy="1152000"/>
            </a:xfrm>
          </p:grpSpPr>
          <p:sp>
            <p:nvSpPr>
              <p:cNvPr id="732" name=""/>
              <p:cNvSpPr/>
              <p:nvPr/>
            </p:nvSpPr>
            <p:spPr>
              <a:xfrm>
                <a:off x="5154840" y="2708280"/>
                <a:ext cx="2439720" cy="754560"/>
              </a:xfrm>
              <a:custGeom>
                <a:avLst/>
                <a:gdLst/>
                <a:ahLst/>
                <a:rect l="l" t="t" r="r" b="b"/>
                <a:pathLst>
                  <a:path w="1439" h="564">
                    <a:moveTo>
                      <a:pt x="307" y="29"/>
                    </a:moveTo>
                    <a:cubicBezTo>
                      <a:pt x="282" y="45"/>
                      <a:pt x="239" y="72"/>
                      <a:pt x="205" y="94"/>
                    </a:cubicBezTo>
                    <a:cubicBezTo>
                      <a:pt x="171" y="116"/>
                      <a:pt x="132" y="140"/>
                      <a:pt x="100" y="163"/>
                    </a:cubicBezTo>
                    <a:cubicBezTo>
                      <a:pt x="68" y="186"/>
                      <a:pt x="0" y="215"/>
                      <a:pt x="11" y="235"/>
                    </a:cubicBezTo>
                    <a:cubicBezTo>
                      <a:pt x="22" y="255"/>
                      <a:pt x="109" y="265"/>
                      <a:pt x="165" y="282"/>
                    </a:cubicBezTo>
                    <a:cubicBezTo>
                      <a:pt x="221" y="299"/>
                      <a:pt x="288" y="317"/>
                      <a:pt x="346" y="334"/>
                    </a:cubicBezTo>
                    <a:cubicBezTo>
                      <a:pt x="405" y="351"/>
                      <a:pt x="471" y="370"/>
                      <a:pt x="517" y="384"/>
                    </a:cubicBezTo>
                    <a:cubicBezTo>
                      <a:pt x="563" y="399"/>
                      <a:pt x="586" y="411"/>
                      <a:pt x="623" y="422"/>
                    </a:cubicBezTo>
                    <a:cubicBezTo>
                      <a:pt x="661" y="434"/>
                      <a:pt x="688" y="438"/>
                      <a:pt x="738" y="452"/>
                    </a:cubicBezTo>
                    <a:cubicBezTo>
                      <a:pt x="788" y="467"/>
                      <a:pt x="867" y="493"/>
                      <a:pt x="924" y="510"/>
                    </a:cubicBezTo>
                    <a:cubicBezTo>
                      <a:pt x="980" y="527"/>
                      <a:pt x="1047" y="549"/>
                      <a:pt x="1077" y="556"/>
                    </a:cubicBezTo>
                    <a:cubicBezTo>
                      <a:pt x="1107" y="564"/>
                      <a:pt x="1094" y="563"/>
                      <a:pt x="1102" y="559"/>
                    </a:cubicBezTo>
                    <a:cubicBezTo>
                      <a:pt x="1111" y="554"/>
                      <a:pt x="1107" y="545"/>
                      <a:pt x="1131" y="526"/>
                    </a:cubicBezTo>
                    <a:cubicBezTo>
                      <a:pt x="1156" y="508"/>
                      <a:pt x="1214" y="471"/>
                      <a:pt x="1253" y="445"/>
                    </a:cubicBezTo>
                    <a:cubicBezTo>
                      <a:pt x="1291" y="420"/>
                      <a:pt x="1334" y="393"/>
                      <a:pt x="1364" y="374"/>
                    </a:cubicBezTo>
                    <a:cubicBezTo>
                      <a:pt x="1395" y="354"/>
                      <a:pt x="1439" y="341"/>
                      <a:pt x="1435" y="327"/>
                    </a:cubicBezTo>
                    <a:cubicBezTo>
                      <a:pt x="1430" y="314"/>
                      <a:pt x="1374" y="302"/>
                      <a:pt x="1339" y="290"/>
                    </a:cubicBezTo>
                    <a:cubicBezTo>
                      <a:pt x="1304" y="279"/>
                      <a:pt x="1260" y="267"/>
                      <a:pt x="1221" y="256"/>
                    </a:cubicBezTo>
                    <a:cubicBezTo>
                      <a:pt x="1181" y="244"/>
                      <a:pt x="1148" y="236"/>
                      <a:pt x="1104" y="222"/>
                    </a:cubicBezTo>
                    <a:cubicBezTo>
                      <a:pt x="1059" y="208"/>
                      <a:pt x="999" y="190"/>
                      <a:pt x="952" y="175"/>
                    </a:cubicBezTo>
                    <a:cubicBezTo>
                      <a:pt x="905" y="160"/>
                      <a:pt x="869" y="146"/>
                      <a:pt x="825" y="133"/>
                    </a:cubicBezTo>
                    <a:cubicBezTo>
                      <a:pt x="780" y="120"/>
                      <a:pt x="731" y="106"/>
                      <a:pt x="687" y="94"/>
                    </a:cubicBezTo>
                    <a:cubicBezTo>
                      <a:pt x="643" y="82"/>
                      <a:pt x="603" y="69"/>
                      <a:pt x="563" y="57"/>
                    </a:cubicBezTo>
                    <a:cubicBezTo>
                      <a:pt x="522" y="45"/>
                      <a:pt x="481" y="32"/>
                      <a:pt x="448" y="22"/>
                    </a:cubicBezTo>
                    <a:cubicBezTo>
                      <a:pt x="415" y="13"/>
                      <a:pt x="388" y="0"/>
                      <a:pt x="364" y="2"/>
                    </a:cubicBezTo>
                    <a:cubicBezTo>
                      <a:pt x="341" y="3"/>
                      <a:pt x="319" y="23"/>
                      <a:pt x="307" y="2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5148360" y="3001320"/>
                <a:ext cx="1917360" cy="858960"/>
              </a:xfrm>
              <a:custGeom>
                <a:avLst/>
                <a:gdLst/>
                <a:ahLst/>
                <a:rect l="l" t="t" r="r" b="b"/>
                <a:pathLst>
                  <a:path w="1131" h="642">
                    <a:moveTo>
                      <a:pt x="207" y="58"/>
                    </a:moveTo>
                    <a:cubicBezTo>
                      <a:pt x="170" y="47"/>
                      <a:pt x="131" y="33"/>
                      <a:pt x="105" y="25"/>
                    </a:cubicBezTo>
                    <a:cubicBezTo>
                      <a:pt x="79" y="17"/>
                      <a:pt x="63" y="13"/>
                      <a:pt x="48" y="10"/>
                    </a:cubicBezTo>
                    <a:cubicBezTo>
                      <a:pt x="33" y="7"/>
                      <a:pt x="19" y="0"/>
                      <a:pt x="12" y="7"/>
                    </a:cubicBezTo>
                    <a:cubicBezTo>
                      <a:pt x="5" y="14"/>
                      <a:pt x="10" y="32"/>
                      <a:pt x="9" y="51"/>
                    </a:cubicBezTo>
                    <a:cubicBezTo>
                      <a:pt x="8" y="70"/>
                      <a:pt x="6" y="100"/>
                      <a:pt x="6" y="121"/>
                    </a:cubicBezTo>
                    <a:cubicBezTo>
                      <a:pt x="6" y="142"/>
                      <a:pt x="6" y="162"/>
                      <a:pt x="6" y="178"/>
                    </a:cubicBezTo>
                    <a:cubicBezTo>
                      <a:pt x="6" y="194"/>
                      <a:pt x="6" y="202"/>
                      <a:pt x="6" y="217"/>
                    </a:cubicBezTo>
                    <a:cubicBezTo>
                      <a:pt x="6" y="232"/>
                      <a:pt x="5" y="253"/>
                      <a:pt x="6" y="268"/>
                    </a:cubicBezTo>
                    <a:cubicBezTo>
                      <a:pt x="7" y="283"/>
                      <a:pt x="0" y="295"/>
                      <a:pt x="15" y="307"/>
                    </a:cubicBezTo>
                    <a:cubicBezTo>
                      <a:pt x="30" y="319"/>
                      <a:pt x="56" y="326"/>
                      <a:pt x="95" y="339"/>
                    </a:cubicBezTo>
                    <a:cubicBezTo>
                      <a:pt x="134" y="352"/>
                      <a:pt x="199" y="373"/>
                      <a:pt x="248" y="388"/>
                    </a:cubicBezTo>
                    <a:cubicBezTo>
                      <a:pt x="297" y="403"/>
                      <a:pt x="345" y="418"/>
                      <a:pt x="392" y="432"/>
                    </a:cubicBezTo>
                    <a:cubicBezTo>
                      <a:pt x="439" y="446"/>
                      <a:pt x="487" y="460"/>
                      <a:pt x="532" y="473"/>
                    </a:cubicBezTo>
                    <a:cubicBezTo>
                      <a:pt x="578" y="487"/>
                      <a:pt x="622" y="500"/>
                      <a:pt x="667" y="513"/>
                    </a:cubicBezTo>
                    <a:cubicBezTo>
                      <a:pt x="711" y="526"/>
                      <a:pt x="757" y="540"/>
                      <a:pt x="801" y="552"/>
                    </a:cubicBezTo>
                    <a:cubicBezTo>
                      <a:pt x="845" y="564"/>
                      <a:pt x="894" y="578"/>
                      <a:pt x="932" y="589"/>
                    </a:cubicBezTo>
                    <a:cubicBezTo>
                      <a:pt x="970" y="600"/>
                      <a:pt x="997" y="609"/>
                      <a:pt x="1028" y="617"/>
                    </a:cubicBezTo>
                    <a:cubicBezTo>
                      <a:pt x="1059" y="624"/>
                      <a:pt x="1101" y="642"/>
                      <a:pt x="1116" y="636"/>
                    </a:cubicBezTo>
                    <a:cubicBezTo>
                      <a:pt x="1131" y="630"/>
                      <a:pt x="1119" y="600"/>
                      <a:pt x="1120" y="578"/>
                    </a:cubicBezTo>
                    <a:cubicBezTo>
                      <a:pt x="1121" y="556"/>
                      <a:pt x="1122" y="527"/>
                      <a:pt x="1124" y="503"/>
                    </a:cubicBezTo>
                    <a:cubicBezTo>
                      <a:pt x="1125" y="478"/>
                      <a:pt x="1127" y="458"/>
                      <a:pt x="1128" y="434"/>
                    </a:cubicBezTo>
                    <a:cubicBezTo>
                      <a:pt x="1129" y="411"/>
                      <a:pt x="1131" y="378"/>
                      <a:pt x="1128" y="361"/>
                    </a:cubicBezTo>
                    <a:cubicBezTo>
                      <a:pt x="1125" y="344"/>
                      <a:pt x="1124" y="339"/>
                      <a:pt x="1111" y="330"/>
                    </a:cubicBezTo>
                    <a:cubicBezTo>
                      <a:pt x="1098" y="322"/>
                      <a:pt x="1082" y="319"/>
                      <a:pt x="1050" y="309"/>
                    </a:cubicBezTo>
                    <a:cubicBezTo>
                      <a:pt x="1018" y="299"/>
                      <a:pt x="962" y="283"/>
                      <a:pt x="919" y="270"/>
                    </a:cubicBezTo>
                    <a:cubicBezTo>
                      <a:pt x="876" y="257"/>
                      <a:pt x="832" y="243"/>
                      <a:pt x="791" y="231"/>
                    </a:cubicBezTo>
                    <a:cubicBezTo>
                      <a:pt x="751" y="219"/>
                      <a:pt x="712" y="205"/>
                      <a:pt x="673" y="194"/>
                    </a:cubicBezTo>
                    <a:cubicBezTo>
                      <a:pt x="634" y="182"/>
                      <a:pt x="588" y="170"/>
                      <a:pt x="552" y="159"/>
                    </a:cubicBezTo>
                    <a:cubicBezTo>
                      <a:pt x="515" y="149"/>
                      <a:pt x="493" y="141"/>
                      <a:pt x="456" y="129"/>
                    </a:cubicBezTo>
                    <a:cubicBezTo>
                      <a:pt x="419" y="118"/>
                      <a:pt x="366" y="102"/>
                      <a:pt x="325" y="90"/>
                    </a:cubicBezTo>
                    <a:cubicBezTo>
                      <a:pt x="283" y="78"/>
                      <a:pt x="231" y="65"/>
                      <a:pt x="207" y="5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6992640" y="3132360"/>
                <a:ext cx="603360" cy="715680"/>
              </a:xfrm>
              <a:custGeom>
                <a:avLst/>
                <a:gdLst/>
                <a:ahLst/>
                <a:rect l="l" t="t" r="r" b="b"/>
                <a:pathLst>
                  <a:path w="356" h="535">
                    <a:moveTo>
                      <a:pt x="350" y="179"/>
                    </a:moveTo>
                    <a:cubicBezTo>
                      <a:pt x="351" y="199"/>
                      <a:pt x="353" y="220"/>
                      <a:pt x="353" y="239"/>
                    </a:cubicBezTo>
                    <a:cubicBezTo>
                      <a:pt x="353" y="257"/>
                      <a:pt x="353" y="276"/>
                      <a:pt x="353" y="290"/>
                    </a:cubicBezTo>
                    <a:cubicBezTo>
                      <a:pt x="353" y="304"/>
                      <a:pt x="356" y="315"/>
                      <a:pt x="350" y="325"/>
                    </a:cubicBezTo>
                    <a:cubicBezTo>
                      <a:pt x="344" y="335"/>
                      <a:pt x="331" y="341"/>
                      <a:pt x="317" y="352"/>
                    </a:cubicBezTo>
                    <a:cubicBezTo>
                      <a:pt x="303" y="363"/>
                      <a:pt x="287" y="375"/>
                      <a:pt x="269" y="388"/>
                    </a:cubicBezTo>
                    <a:cubicBezTo>
                      <a:pt x="251" y="401"/>
                      <a:pt x="227" y="417"/>
                      <a:pt x="206" y="431"/>
                    </a:cubicBezTo>
                    <a:cubicBezTo>
                      <a:pt x="185" y="445"/>
                      <a:pt x="163" y="457"/>
                      <a:pt x="142" y="470"/>
                    </a:cubicBezTo>
                    <a:cubicBezTo>
                      <a:pt x="121" y="483"/>
                      <a:pt x="103" y="497"/>
                      <a:pt x="83" y="508"/>
                    </a:cubicBezTo>
                    <a:cubicBezTo>
                      <a:pt x="63" y="519"/>
                      <a:pt x="35" y="535"/>
                      <a:pt x="23" y="535"/>
                    </a:cubicBezTo>
                    <a:cubicBezTo>
                      <a:pt x="11" y="535"/>
                      <a:pt x="15" y="522"/>
                      <a:pt x="13" y="507"/>
                    </a:cubicBezTo>
                    <a:cubicBezTo>
                      <a:pt x="11" y="492"/>
                      <a:pt x="10" y="465"/>
                      <a:pt x="10" y="444"/>
                    </a:cubicBezTo>
                    <a:cubicBezTo>
                      <a:pt x="10" y="423"/>
                      <a:pt x="10" y="401"/>
                      <a:pt x="10" y="378"/>
                    </a:cubicBezTo>
                    <a:cubicBezTo>
                      <a:pt x="10" y="355"/>
                      <a:pt x="6" y="328"/>
                      <a:pt x="7" y="303"/>
                    </a:cubicBezTo>
                    <a:cubicBezTo>
                      <a:pt x="8" y="278"/>
                      <a:pt x="0" y="248"/>
                      <a:pt x="14" y="225"/>
                    </a:cubicBezTo>
                    <a:cubicBezTo>
                      <a:pt x="28" y="202"/>
                      <a:pt x="68" y="183"/>
                      <a:pt x="91" y="167"/>
                    </a:cubicBezTo>
                    <a:cubicBezTo>
                      <a:pt x="113" y="151"/>
                      <a:pt x="124" y="144"/>
                      <a:pt x="148" y="128"/>
                    </a:cubicBezTo>
                    <a:cubicBezTo>
                      <a:pt x="173" y="112"/>
                      <a:pt x="209" y="89"/>
                      <a:pt x="234" y="72"/>
                    </a:cubicBezTo>
                    <a:cubicBezTo>
                      <a:pt x="260" y="56"/>
                      <a:pt x="284" y="40"/>
                      <a:pt x="302" y="29"/>
                    </a:cubicBezTo>
                    <a:cubicBezTo>
                      <a:pt x="320" y="17"/>
                      <a:pt x="336" y="0"/>
                      <a:pt x="343" y="3"/>
                    </a:cubicBezTo>
                    <a:cubicBezTo>
                      <a:pt x="351" y="6"/>
                      <a:pt x="349" y="28"/>
                      <a:pt x="350" y="47"/>
                    </a:cubicBezTo>
                    <a:cubicBezTo>
                      <a:pt x="351" y="66"/>
                      <a:pt x="350" y="97"/>
                      <a:pt x="350" y="119"/>
                    </a:cubicBezTo>
                    <a:cubicBezTo>
                      <a:pt x="350" y="140"/>
                      <a:pt x="349" y="159"/>
                      <a:pt x="350" y="17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915880" y="2886120"/>
                <a:ext cx="620280" cy="718560"/>
              </a:xfrm>
              <a:custGeom>
                <a:avLst/>
                <a:gdLst/>
                <a:ahLst/>
                <a:rect l="l" t="t" r="r" b="b"/>
                <a:pathLst>
                  <a:path w="366" h="537">
                    <a:moveTo>
                      <a:pt x="366" y="0"/>
                    </a:moveTo>
                    <a:cubicBezTo>
                      <a:pt x="345" y="13"/>
                      <a:pt x="275" y="54"/>
                      <a:pt x="237" y="77"/>
                    </a:cubicBezTo>
                    <a:cubicBezTo>
                      <a:pt x="199" y="100"/>
                      <a:pt x="171" y="116"/>
                      <a:pt x="135" y="139"/>
                    </a:cubicBezTo>
                    <a:cubicBezTo>
                      <a:pt x="98" y="162"/>
                      <a:pt x="45" y="198"/>
                      <a:pt x="22" y="215"/>
                    </a:cubicBezTo>
                    <a:cubicBezTo>
                      <a:pt x="0" y="233"/>
                      <a:pt x="6" y="229"/>
                      <a:pt x="3" y="243"/>
                    </a:cubicBezTo>
                    <a:cubicBezTo>
                      <a:pt x="0" y="258"/>
                      <a:pt x="0" y="284"/>
                      <a:pt x="0" y="303"/>
                    </a:cubicBezTo>
                    <a:cubicBezTo>
                      <a:pt x="0" y="322"/>
                      <a:pt x="0" y="338"/>
                      <a:pt x="0" y="359"/>
                    </a:cubicBezTo>
                    <a:cubicBezTo>
                      <a:pt x="0" y="379"/>
                      <a:pt x="0" y="411"/>
                      <a:pt x="0" y="428"/>
                    </a:cubicBezTo>
                    <a:cubicBezTo>
                      <a:pt x="0" y="445"/>
                      <a:pt x="0" y="446"/>
                      <a:pt x="0" y="460"/>
                    </a:cubicBezTo>
                    <a:cubicBezTo>
                      <a:pt x="0" y="475"/>
                      <a:pt x="0" y="505"/>
                      <a:pt x="0" y="518"/>
                    </a:cubicBezTo>
                    <a:cubicBezTo>
                      <a:pt x="0" y="531"/>
                      <a:pt x="0" y="533"/>
                      <a:pt x="0" y="537"/>
                    </a:cubicBezTo>
                  </a:path>
                </a:pathLst>
              </a:custGeom>
              <a:noFill/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6" name=""/>
            <p:cNvSpPr/>
            <p:nvPr/>
          </p:nvSpPr>
          <p:spPr>
            <a:xfrm rot="710400">
              <a:off x="6083280" y="3284640"/>
              <a:ext cx="9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450 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880200">
              <a:off x="5148000" y="3068640"/>
              <a:ext cx="84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150 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156720" y="2851200"/>
              <a:ext cx="12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серебр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364360" y="270828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оло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0" name=""/>
          <p:cNvGrpSpPr/>
          <p:nvPr/>
        </p:nvGrpSpPr>
        <p:grpSpPr>
          <a:xfrm>
            <a:off x="1187280" y="2708280"/>
            <a:ext cx="2447640" cy="1152000"/>
            <a:chOff x="1187280" y="2708280"/>
            <a:chExt cx="2447640" cy="1152000"/>
          </a:xfrm>
        </p:grpSpPr>
        <p:grpSp>
          <p:nvGrpSpPr>
            <p:cNvPr id="741" name=""/>
            <p:cNvGrpSpPr/>
            <p:nvPr/>
          </p:nvGrpSpPr>
          <p:grpSpPr>
            <a:xfrm>
              <a:off x="1187280" y="2708280"/>
              <a:ext cx="2447640" cy="1152000"/>
              <a:chOff x="1187280" y="2708280"/>
              <a:chExt cx="2447640" cy="1152000"/>
            </a:xfrm>
          </p:grpSpPr>
          <p:sp>
            <p:nvSpPr>
              <p:cNvPr id="742" name=""/>
              <p:cNvSpPr/>
              <p:nvPr/>
            </p:nvSpPr>
            <p:spPr>
              <a:xfrm>
                <a:off x="1193760" y="2708280"/>
                <a:ext cx="2439720" cy="754560"/>
              </a:xfrm>
              <a:custGeom>
                <a:avLst/>
                <a:gdLst/>
                <a:ahLst/>
                <a:rect l="l" t="t" r="r" b="b"/>
                <a:pathLst>
                  <a:path w="1439" h="564">
                    <a:moveTo>
                      <a:pt x="307" y="29"/>
                    </a:moveTo>
                    <a:cubicBezTo>
                      <a:pt x="282" y="45"/>
                      <a:pt x="239" y="72"/>
                      <a:pt x="205" y="94"/>
                    </a:cubicBezTo>
                    <a:cubicBezTo>
                      <a:pt x="171" y="116"/>
                      <a:pt x="132" y="140"/>
                      <a:pt x="100" y="163"/>
                    </a:cubicBezTo>
                    <a:cubicBezTo>
                      <a:pt x="68" y="186"/>
                      <a:pt x="0" y="215"/>
                      <a:pt x="11" y="235"/>
                    </a:cubicBezTo>
                    <a:cubicBezTo>
                      <a:pt x="22" y="255"/>
                      <a:pt x="109" y="265"/>
                      <a:pt x="165" y="282"/>
                    </a:cubicBezTo>
                    <a:cubicBezTo>
                      <a:pt x="221" y="299"/>
                      <a:pt x="288" y="317"/>
                      <a:pt x="346" y="334"/>
                    </a:cubicBezTo>
                    <a:cubicBezTo>
                      <a:pt x="405" y="351"/>
                      <a:pt x="471" y="370"/>
                      <a:pt x="517" y="384"/>
                    </a:cubicBezTo>
                    <a:cubicBezTo>
                      <a:pt x="563" y="399"/>
                      <a:pt x="586" y="411"/>
                      <a:pt x="623" y="422"/>
                    </a:cubicBezTo>
                    <a:cubicBezTo>
                      <a:pt x="661" y="434"/>
                      <a:pt x="688" y="438"/>
                      <a:pt x="738" y="452"/>
                    </a:cubicBezTo>
                    <a:cubicBezTo>
                      <a:pt x="788" y="467"/>
                      <a:pt x="867" y="493"/>
                      <a:pt x="924" y="510"/>
                    </a:cubicBezTo>
                    <a:cubicBezTo>
                      <a:pt x="980" y="527"/>
                      <a:pt x="1047" y="549"/>
                      <a:pt x="1077" y="556"/>
                    </a:cubicBezTo>
                    <a:cubicBezTo>
                      <a:pt x="1107" y="564"/>
                      <a:pt x="1094" y="563"/>
                      <a:pt x="1102" y="559"/>
                    </a:cubicBezTo>
                    <a:cubicBezTo>
                      <a:pt x="1111" y="554"/>
                      <a:pt x="1107" y="545"/>
                      <a:pt x="1131" y="526"/>
                    </a:cubicBezTo>
                    <a:cubicBezTo>
                      <a:pt x="1156" y="508"/>
                      <a:pt x="1214" y="471"/>
                      <a:pt x="1253" y="445"/>
                    </a:cubicBezTo>
                    <a:cubicBezTo>
                      <a:pt x="1291" y="420"/>
                      <a:pt x="1334" y="393"/>
                      <a:pt x="1364" y="374"/>
                    </a:cubicBezTo>
                    <a:cubicBezTo>
                      <a:pt x="1395" y="354"/>
                      <a:pt x="1439" y="341"/>
                      <a:pt x="1435" y="327"/>
                    </a:cubicBezTo>
                    <a:cubicBezTo>
                      <a:pt x="1430" y="314"/>
                      <a:pt x="1374" y="302"/>
                      <a:pt x="1339" y="290"/>
                    </a:cubicBezTo>
                    <a:cubicBezTo>
                      <a:pt x="1304" y="279"/>
                      <a:pt x="1260" y="267"/>
                      <a:pt x="1221" y="256"/>
                    </a:cubicBezTo>
                    <a:cubicBezTo>
                      <a:pt x="1181" y="244"/>
                      <a:pt x="1148" y="236"/>
                      <a:pt x="1104" y="222"/>
                    </a:cubicBezTo>
                    <a:cubicBezTo>
                      <a:pt x="1059" y="208"/>
                      <a:pt x="999" y="190"/>
                      <a:pt x="952" y="175"/>
                    </a:cubicBezTo>
                    <a:cubicBezTo>
                      <a:pt x="905" y="160"/>
                      <a:pt x="869" y="146"/>
                      <a:pt x="825" y="133"/>
                    </a:cubicBezTo>
                    <a:cubicBezTo>
                      <a:pt x="780" y="120"/>
                      <a:pt x="731" y="106"/>
                      <a:pt x="687" y="94"/>
                    </a:cubicBezTo>
                    <a:cubicBezTo>
                      <a:pt x="643" y="82"/>
                      <a:pt x="603" y="69"/>
                      <a:pt x="563" y="57"/>
                    </a:cubicBezTo>
                    <a:cubicBezTo>
                      <a:pt x="522" y="45"/>
                      <a:pt x="481" y="32"/>
                      <a:pt x="448" y="22"/>
                    </a:cubicBezTo>
                    <a:cubicBezTo>
                      <a:pt x="415" y="13"/>
                      <a:pt x="388" y="0"/>
                      <a:pt x="364" y="2"/>
                    </a:cubicBezTo>
                    <a:cubicBezTo>
                      <a:pt x="341" y="3"/>
                      <a:pt x="319" y="23"/>
                      <a:pt x="307" y="2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1187280" y="3001320"/>
                <a:ext cx="1917360" cy="858960"/>
              </a:xfrm>
              <a:custGeom>
                <a:avLst/>
                <a:gdLst/>
                <a:ahLst/>
                <a:rect l="l" t="t" r="r" b="b"/>
                <a:pathLst>
                  <a:path w="1131" h="642">
                    <a:moveTo>
                      <a:pt x="207" y="58"/>
                    </a:moveTo>
                    <a:cubicBezTo>
                      <a:pt x="170" y="47"/>
                      <a:pt x="131" y="33"/>
                      <a:pt x="105" y="25"/>
                    </a:cubicBezTo>
                    <a:cubicBezTo>
                      <a:pt x="79" y="17"/>
                      <a:pt x="63" y="13"/>
                      <a:pt x="48" y="10"/>
                    </a:cubicBezTo>
                    <a:cubicBezTo>
                      <a:pt x="33" y="7"/>
                      <a:pt x="19" y="0"/>
                      <a:pt x="12" y="7"/>
                    </a:cubicBezTo>
                    <a:cubicBezTo>
                      <a:pt x="5" y="14"/>
                      <a:pt x="10" y="32"/>
                      <a:pt x="9" y="51"/>
                    </a:cubicBezTo>
                    <a:cubicBezTo>
                      <a:pt x="8" y="70"/>
                      <a:pt x="6" y="100"/>
                      <a:pt x="6" y="121"/>
                    </a:cubicBezTo>
                    <a:cubicBezTo>
                      <a:pt x="6" y="142"/>
                      <a:pt x="6" y="162"/>
                      <a:pt x="6" y="178"/>
                    </a:cubicBezTo>
                    <a:cubicBezTo>
                      <a:pt x="6" y="194"/>
                      <a:pt x="6" y="202"/>
                      <a:pt x="6" y="217"/>
                    </a:cubicBezTo>
                    <a:cubicBezTo>
                      <a:pt x="6" y="232"/>
                      <a:pt x="5" y="253"/>
                      <a:pt x="6" y="268"/>
                    </a:cubicBezTo>
                    <a:cubicBezTo>
                      <a:pt x="7" y="283"/>
                      <a:pt x="0" y="295"/>
                      <a:pt x="15" y="307"/>
                    </a:cubicBezTo>
                    <a:cubicBezTo>
                      <a:pt x="30" y="319"/>
                      <a:pt x="56" y="326"/>
                      <a:pt x="95" y="339"/>
                    </a:cubicBezTo>
                    <a:cubicBezTo>
                      <a:pt x="134" y="352"/>
                      <a:pt x="199" y="373"/>
                      <a:pt x="248" y="388"/>
                    </a:cubicBezTo>
                    <a:cubicBezTo>
                      <a:pt x="297" y="403"/>
                      <a:pt x="345" y="418"/>
                      <a:pt x="392" y="432"/>
                    </a:cubicBezTo>
                    <a:cubicBezTo>
                      <a:pt x="439" y="446"/>
                      <a:pt x="487" y="460"/>
                      <a:pt x="532" y="473"/>
                    </a:cubicBezTo>
                    <a:cubicBezTo>
                      <a:pt x="578" y="487"/>
                      <a:pt x="622" y="500"/>
                      <a:pt x="667" y="513"/>
                    </a:cubicBezTo>
                    <a:cubicBezTo>
                      <a:pt x="711" y="526"/>
                      <a:pt x="757" y="540"/>
                      <a:pt x="801" y="552"/>
                    </a:cubicBezTo>
                    <a:cubicBezTo>
                      <a:pt x="845" y="564"/>
                      <a:pt x="894" y="578"/>
                      <a:pt x="932" y="589"/>
                    </a:cubicBezTo>
                    <a:cubicBezTo>
                      <a:pt x="970" y="600"/>
                      <a:pt x="997" y="609"/>
                      <a:pt x="1028" y="617"/>
                    </a:cubicBezTo>
                    <a:cubicBezTo>
                      <a:pt x="1059" y="624"/>
                      <a:pt x="1101" y="642"/>
                      <a:pt x="1116" y="636"/>
                    </a:cubicBezTo>
                    <a:cubicBezTo>
                      <a:pt x="1131" y="630"/>
                      <a:pt x="1119" y="600"/>
                      <a:pt x="1120" y="578"/>
                    </a:cubicBezTo>
                    <a:cubicBezTo>
                      <a:pt x="1121" y="556"/>
                      <a:pt x="1122" y="527"/>
                      <a:pt x="1124" y="503"/>
                    </a:cubicBezTo>
                    <a:cubicBezTo>
                      <a:pt x="1125" y="478"/>
                      <a:pt x="1127" y="458"/>
                      <a:pt x="1128" y="434"/>
                    </a:cubicBezTo>
                    <a:cubicBezTo>
                      <a:pt x="1129" y="411"/>
                      <a:pt x="1131" y="378"/>
                      <a:pt x="1128" y="361"/>
                    </a:cubicBezTo>
                    <a:cubicBezTo>
                      <a:pt x="1125" y="344"/>
                      <a:pt x="1124" y="339"/>
                      <a:pt x="1111" y="330"/>
                    </a:cubicBezTo>
                    <a:cubicBezTo>
                      <a:pt x="1098" y="322"/>
                      <a:pt x="1082" y="319"/>
                      <a:pt x="1050" y="309"/>
                    </a:cubicBezTo>
                    <a:cubicBezTo>
                      <a:pt x="1018" y="299"/>
                      <a:pt x="962" y="283"/>
                      <a:pt x="919" y="270"/>
                    </a:cubicBezTo>
                    <a:cubicBezTo>
                      <a:pt x="876" y="257"/>
                      <a:pt x="832" y="243"/>
                      <a:pt x="791" y="231"/>
                    </a:cubicBezTo>
                    <a:cubicBezTo>
                      <a:pt x="751" y="219"/>
                      <a:pt x="712" y="205"/>
                      <a:pt x="673" y="194"/>
                    </a:cubicBezTo>
                    <a:cubicBezTo>
                      <a:pt x="634" y="182"/>
                      <a:pt x="588" y="170"/>
                      <a:pt x="552" y="159"/>
                    </a:cubicBezTo>
                    <a:cubicBezTo>
                      <a:pt x="515" y="149"/>
                      <a:pt x="493" y="141"/>
                      <a:pt x="456" y="129"/>
                    </a:cubicBezTo>
                    <a:cubicBezTo>
                      <a:pt x="419" y="118"/>
                      <a:pt x="366" y="102"/>
                      <a:pt x="325" y="90"/>
                    </a:cubicBezTo>
                    <a:cubicBezTo>
                      <a:pt x="283" y="78"/>
                      <a:pt x="231" y="65"/>
                      <a:pt x="207" y="5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31560" y="3132360"/>
                <a:ext cx="603360" cy="715680"/>
              </a:xfrm>
              <a:custGeom>
                <a:avLst/>
                <a:gdLst/>
                <a:ahLst/>
                <a:rect l="l" t="t" r="r" b="b"/>
                <a:pathLst>
                  <a:path w="356" h="535">
                    <a:moveTo>
                      <a:pt x="350" y="179"/>
                    </a:moveTo>
                    <a:cubicBezTo>
                      <a:pt x="351" y="199"/>
                      <a:pt x="353" y="220"/>
                      <a:pt x="353" y="239"/>
                    </a:cubicBezTo>
                    <a:cubicBezTo>
                      <a:pt x="353" y="257"/>
                      <a:pt x="353" y="276"/>
                      <a:pt x="353" y="290"/>
                    </a:cubicBezTo>
                    <a:cubicBezTo>
                      <a:pt x="353" y="304"/>
                      <a:pt x="356" y="315"/>
                      <a:pt x="350" y="325"/>
                    </a:cubicBezTo>
                    <a:cubicBezTo>
                      <a:pt x="344" y="335"/>
                      <a:pt x="331" y="341"/>
                      <a:pt x="317" y="352"/>
                    </a:cubicBezTo>
                    <a:cubicBezTo>
                      <a:pt x="303" y="363"/>
                      <a:pt x="287" y="375"/>
                      <a:pt x="269" y="388"/>
                    </a:cubicBezTo>
                    <a:cubicBezTo>
                      <a:pt x="251" y="401"/>
                      <a:pt x="227" y="417"/>
                      <a:pt x="206" y="431"/>
                    </a:cubicBezTo>
                    <a:cubicBezTo>
                      <a:pt x="185" y="445"/>
                      <a:pt x="163" y="457"/>
                      <a:pt x="142" y="470"/>
                    </a:cubicBezTo>
                    <a:cubicBezTo>
                      <a:pt x="121" y="483"/>
                      <a:pt x="103" y="497"/>
                      <a:pt x="83" y="508"/>
                    </a:cubicBezTo>
                    <a:cubicBezTo>
                      <a:pt x="63" y="519"/>
                      <a:pt x="35" y="535"/>
                      <a:pt x="23" y="535"/>
                    </a:cubicBezTo>
                    <a:cubicBezTo>
                      <a:pt x="11" y="535"/>
                      <a:pt x="15" y="522"/>
                      <a:pt x="13" y="507"/>
                    </a:cubicBezTo>
                    <a:cubicBezTo>
                      <a:pt x="11" y="492"/>
                      <a:pt x="10" y="465"/>
                      <a:pt x="10" y="444"/>
                    </a:cubicBezTo>
                    <a:cubicBezTo>
                      <a:pt x="10" y="423"/>
                      <a:pt x="10" y="401"/>
                      <a:pt x="10" y="378"/>
                    </a:cubicBezTo>
                    <a:cubicBezTo>
                      <a:pt x="10" y="355"/>
                      <a:pt x="6" y="328"/>
                      <a:pt x="7" y="303"/>
                    </a:cubicBezTo>
                    <a:cubicBezTo>
                      <a:pt x="8" y="278"/>
                      <a:pt x="0" y="248"/>
                      <a:pt x="14" y="225"/>
                    </a:cubicBezTo>
                    <a:cubicBezTo>
                      <a:pt x="28" y="202"/>
                      <a:pt x="68" y="183"/>
                      <a:pt x="91" y="167"/>
                    </a:cubicBezTo>
                    <a:cubicBezTo>
                      <a:pt x="113" y="151"/>
                      <a:pt x="124" y="144"/>
                      <a:pt x="148" y="128"/>
                    </a:cubicBezTo>
                    <a:cubicBezTo>
                      <a:pt x="173" y="112"/>
                      <a:pt x="209" y="89"/>
                      <a:pt x="234" y="72"/>
                    </a:cubicBezTo>
                    <a:cubicBezTo>
                      <a:pt x="260" y="56"/>
                      <a:pt x="284" y="40"/>
                      <a:pt x="302" y="29"/>
                    </a:cubicBezTo>
                    <a:cubicBezTo>
                      <a:pt x="320" y="17"/>
                      <a:pt x="336" y="0"/>
                      <a:pt x="343" y="3"/>
                    </a:cubicBezTo>
                    <a:cubicBezTo>
                      <a:pt x="351" y="6"/>
                      <a:pt x="349" y="28"/>
                      <a:pt x="350" y="47"/>
                    </a:cubicBezTo>
                    <a:cubicBezTo>
                      <a:pt x="351" y="66"/>
                      <a:pt x="350" y="97"/>
                      <a:pt x="350" y="119"/>
                    </a:cubicBezTo>
                    <a:cubicBezTo>
                      <a:pt x="350" y="140"/>
                      <a:pt x="349" y="159"/>
                      <a:pt x="350" y="17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1954800" y="2886120"/>
                <a:ext cx="620280" cy="718560"/>
              </a:xfrm>
              <a:custGeom>
                <a:avLst/>
                <a:gdLst/>
                <a:ahLst/>
                <a:rect l="l" t="t" r="r" b="b"/>
                <a:pathLst>
                  <a:path w="366" h="537">
                    <a:moveTo>
                      <a:pt x="366" y="0"/>
                    </a:moveTo>
                    <a:cubicBezTo>
                      <a:pt x="345" y="13"/>
                      <a:pt x="275" y="54"/>
                      <a:pt x="237" y="77"/>
                    </a:cubicBezTo>
                    <a:cubicBezTo>
                      <a:pt x="199" y="100"/>
                      <a:pt x="171" y="116"/>
                      <a:pt x="135" y="139"/>
                    </a:cubicBezTo>
                    <a:cubicBezTo>
                      <a:pt x="98" y="162"/>
                      <a:pt x="45" y="198"/>
                      <a:pt x="22" y="215"/>
                    </a:cubicBezTo>
                    <a:cubicBezTo>
                      <a:pt x="0" y="233"/>
                      <a:pt x="6" y="229"/>
                      <a:pt x="3" y="243"/>
                    </a:cubicBezTo>
                    <a:cubicBezTo>
                      <a:pt x="0" y="258"/>
                      <a:pt x="0" y="284"/>
                      <a:pt x="0" y="303"/>
                    </a:cubicBezTo>
                    <a:cubicBezTo>
                      <a:pt x="0" y="322"/>
                      <a:pt x="0" y="338"/>
                      <a:pt x="0" y="359"/>
                    </a:cubicBezTo>
                    <a:cubicBezTo>
                      <a:pt x="0" y="379"/>
                      <a:pt x="0" y="411"/>
                      <a:pt x="0" y="428"/>
                    </a:cubicBezTo>
                    <a:cubicBezTo>
                      <a:pt x="0" y="445"/>
                      <a:pt x="0" y="446"/>
                      <a:pt x="0" y="460"/>
                    </a:cubicBezTo>
                    <a:cubicBezTo>
                      <a:pt x="0" y="475"/>
                      <a:pt x="0" y="505"/>
                      <a:pt x="0" y="518"/>
                    </a:cubicBezTo>
                    <a:cubicBezTo>
                      <a:pt x="0" y="531"/>
                      <a:pt x="0" y="533"/>
                      <a:pt x="0" y="537"/>
                    </a:cubicBezTo>
                  </a:path>
                </a:pathLst>
              </a:custGeom>
              <a:noFill/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6" name=""/>
            <p:cNvSpPr/>
            <p:nvPr/>
          </p:nvSpPr>
          <p:spPr>
            <a:xfrm>
              <a:off x="2195280" y="2851200"/>
              <a:ext cx="12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серебр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403280" y="2708280"/>
              <a:ext cx="9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оло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 rot="710400">
              <a:off x="2120400" y="3285720"/>
              <a:ext cx="83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360 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 rot="733800">
              <a:off x="1260000" y="30682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40 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0" name=""/>
          <p:cNvSpPr/>
          <p:nvPr/>
        </p:nvSpPr>
        <p:spPr>
          <a:xfrm>
            <a:off x="3492360" y="6165720"/>
            <a:ext cx="2665440" cy="50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твет:120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1" name=""/>
          <p:cNvGrpSpPr/>
          <p:nvPr/>
        </p:nvGrpSpPr>
        <p:grpSpPr>
          <a:xfrm>
            <a:off x="611280" y="5300640"/>
            <a:ext cx="6835680" cy="485640"/>
            <a:chOff x="611280" y="5300640"/>
            <a:chExt cx="6835680" cy="485640"/>
          </a:xfrm>
        </p:grpSpPr>
        <p:sp>
          <p:nvSpPr>
            <p:cNvPr id="752" name=""/>
            <p:cNvSpPr/>
            <p:nvPr/>
          </p:nvSpPr>
          <p:spPr>
            <a:xfrm>
              <a:off x="3125880" y="5300640"/>
              <a:ext cx="432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серебра  в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новом сплав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3" name=""/>
                <p:cNvSpPr txBox="1"/>
                <p:nvPr/>
              </p:nvSpPr>
              <p:spPr>
                <a:xfrm>
                  <a:off x="611280" y="5300640"/>
                  <a:ext cx="2644560" cy="48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200</m:t>
                      </m:r>
                      <m:r>
                        <m:t xml:space="preserve">⋅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81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62</m:t>
                      </m:r>
                      <m:r>
                        <m:t xml:space="preserve">(</m:t>
                      </m:r>
                      <m:r>
                        <m:t xml:space="preserve">г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54" name=""/>
          <p:cNvSpPr/>
          <p:nvPr/>
        </p:nvSpPr>
        <p:spPr>
          <a:xfrm rot="795600">
            <a:off x="6443280" y="4076640"/>
            <a:ext cx="9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162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1187280" y="5013360"/>
            <a:ext cx="5809320" cy="941400"/>
            <a:chOff x="1187280" y="5013360"/>
            <a:chExt cx="5809320" cy="941400"/>
          </a:xfrm>
        </p:grpSpPr>
        <mc:AlternateContent>
          <mc:Choice xmlns:a14="http://schemas.microsoft.com/office/drawing/2010/main" Requires="a14">
            <p:sp>
              <p:nvSpPr>
                <p:cNvPr id="756" name=""/>
                <p:cNvSpPr txBox="1"/>
                <p:nvPr/>
              </p:nvSpPr>
              <p:spPr>
                <a:xfrm>
                  <a:off x="1187280" y="5013360"/>
                  <a:ext cx="2401920" cy="94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36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400</m:t>
                          </m:r>
                        </m:den>
                      </m:f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100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rPr>
                          <m:lit/>
                          <m:nor/>
                        </m:rPr>
                        <m:t xml:space="preserve">%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57" name=""/>
            <p:cNvSpPr/>
            <p:nvPr/>
          </p:nvSpPr>
          <p:spPr>
            <a:xfrm>
              <a:off x="3492000" y="5229360"/>
              <a:ext cx="350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серебра в первом слитк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"/>
          <p:cNvSpPr/>
          <p:nvPr/>
        </p:nvSpPr>
        <p:spPr>
          <a:xfrm rot="19664400">
            <a:off x="4861080" y="40762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7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1042920" y="5013360"/>
            <a:ext cx="6046200" cy="941400"/>
            <a:chOff x="1042920" y="5013360"/>
            <a:chExt cx="6046200" cy="941400"/>
          </a:xfrm>
        </p:grpSpPr>
        <mc:AlternateContent>
          <mc:Choice xmlns:a14="http://schemas.microsoft.com/office/drawing/2010/main" Requires="a14">
            <p:sp>
              <p:nvSpPr>
                <p:cNvPr id="760" name=""/>
                <p:cNvSpPr txBox="1"/>
                <p:nvPr/>
              </p:nvSpPr>
              <p:spPr>
                <a:xfrm>
                  <a:off x="1042920" y="5013360"/>
                  <a:ext cx="2401920" cy="94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45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600</m:t>
                          </m:r>
                        </m:den>
                      </m:f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100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75</m:t>
                      </m:r>
                      <m:r>
                        <m:rPr>
                          <m:lit/>
                          <m:nor/>
                        </m:rPr>
                        <m:t xml:space="preserve">%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61" name=""/>
            <p:cNvSpPr/>
            <p:nvPr/>
          </p:nvSpPr>
          <p:spPr>
            <a:xfrm>
              <a:off x="3346920" y="5229360"/>
              <a:ext cx="374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серебра во втором слитк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2" name=""/>
          <p:cNvSpPr/>
          <p:nvPr/>
        </p:nvSpPr>
        <p:spPr>
          <a:xfrm rot="19753800">
            <a:off x="2556360" y="3933360"/>
            <a:ext cx="8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9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rot="1009800">
            <a:off x="1762920" y="4076640"/>
            <a:ext cx="10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0,9х(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2556000" y="5300640"/>
            <a:ext cx="4310280" cy="459720"/>
            <a:chOff x="2556000" y="5300640"/>
            <a:chExt cx="4310280" cy="459720"/>
          </a:xfrm>
        </p:grpSpPr>
        <p:sp>
          <p:nvSpPr>
            <p:cNvPr id="765" name=""/>
            <p:cNvSpPr/>
            <p:nvPr/>
          </p:nvSpPr>
          <p:spPr>
            <a:xfrm>
              <a:off x="3636000" y="5300640"/>
              <a:ext cx="323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серебра в первом куск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556000" y="5300640"/>
              <a:ext cx="122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0,9х(г) -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"/>
          <p:cNvSpPr/>
          <p:nvPr/>
        </p:nvSpPr>
        <p:spPr>
          <a:xfrm rot="834000">
            <a:off x="3923640" y="4149360"/>
            <a:ext cx="12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0,75у(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2195640" y="5229360"/>
            <a:ext cx="4647600" cy="825480"/>
            <a:chOff x="2195640" y="5229360"/>
            <a:chExt cx="4647600" cy="825480"/>
          </a:xfrm>
        </p:grpSpPr>
        <p:sp>
          <p:nvSpPr>
            <p:cNvPr id="769" name=""/>
            <p:cNvSpPr/>
            <p:nvPr/>
          </p:nvSpPr>
          <p:spPr>
            <a:xfrm>
              <a:off x="3375360" y="5229360"/>
              <a:ext cx="346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серебра во втором куск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195640" y="5229360"/>
              <a:ext cx="133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0,75у(г)-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1" name=""/>
          <p:cNvSpPr/>
          <p:nvPr/>
        </p:nvSpPr>
        <p:spPr>
          <a:xfrm rot="19753800">
            <a:off x="2916720" y="3284280"/>
            <a:ext cx="8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9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rot="19664400">
            <a:off x="6950160" y="32842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7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3" name=""/>
              <p:cNvSpPr txBox="1"/>
              <p:nvPr/>
            </p:nvSpPr>
            <p:spPr>
              <a:xfrm>
                <a:off x="611280" y="4941720"/>
                <a:ext cx="165888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у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611280" y="5516640"/>
                <a:ext cx="259848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9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у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5" name=""/>
          <p:cNvSpPr/>
          <p:nvPr/>
        </p:nvSpPr>
        <p:spPr>
          <a:xfrm>
            <a:off x="468360" y="494172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6" name=""/>
              <p:cNvSpPr txBox="1"/>
              <p:nvPr/>
            </p:nvSpPr>
            <p:spPr>
              <a:xfrm>
                <a:off x="3059280" y="5013360"/>
                <a:ext cx="395892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0,9</m:t>
                            </m:r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0,9</m:t>
                            </m:r>
                            <m:r>
                              <m:t xml:space="preserve">у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  <m:r>
                              <m:t xml:space="preserve">;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7" name=""/>
              <p:cNvSpPr txBox="1"/>
              <p:nvPr/>
            </p:nvSpPr>
            <p:spPr>
              <a:xfrm>
                <a:off x="2195640" y="4941720"/>
                <a:ext cx="1244520" cy="43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0,9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8" name=""/>
              <p:cNvSpPr txBox="1"/>
              <p:nvPr/>
            </p:nvSpPr>
            <p:spPr>
              <a:xfrm>
                <a:off x="6877080" y="4941720"/>
                <a:ext cx="1979640" cy="105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  <m:r>
                              <m:t xml:space="preserve">;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165" dur="indefinite" restart="never" nodeType="tmRoot">
          <p:childTnLst>
            <p:seq>
              <p:cTn id="1166" restart="whenNotActive" nodeType="interactiveSeq" fill="hold">
                <p:stCondLst>
                  <p:cond evt="onClick">
                    <p:tgtEl>
                      <p:spTgt spid="690"/>
                    </p:tgtEl>
                  </p:cond>
                </p:stCondLst>
                <p:childTnLst>
                  <p:par>
                    <p:cTn id="1167" fill="hold">
                      <p:stCondLst>
                        <p:cond evt="onClick">
                          <p:tgtEl>
                            <p:spTgt spid="690"/>
                          </p:tgtEl>
                        </p:cond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1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4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7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evt="onClick">
                          <p:tgtEl>
                            <p:spTgt spid="690"/>
                          </p:tgtEl>
                        </p:cond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2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18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6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evt="onClick">
                          <p:tgtEl>
                            <p:spTgt spid="690"/>
                          </p:tgtEl>
                        </p:cond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87283E-006 L -0.04341 0.10497 E">
                                      <p:cBhvr>
                                        <p:cTn id="1193" dur="500" fill="hold"/>
                                        <p:tgtEl>
                                          <p:spTgt spid="7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19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7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3.87283E-006 L -0.22448 0.1156 E">
                                      <p:cBhvr>
                                        <p:cTn id="1203" dur="500" fill="hold"/>
                                        <p:tgtEl>
                                          <p:spTgt spid="7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7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4" dur="500"/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evt="onClick">
                          <p:tgtEl>
                            <p:spTgt spid="690"/>
                          </p:tgtEl>
                        </p:cond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9" dur="1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3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7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evt="onClick">
                          <p:tgtEl>
                            <p:spTgt spid="690"/>
                          </p:tgtEl>
                        </p:cond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31" dur="1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evt="onClick">
                          <p:tgtEl>
                            <p:spTgt spid="690"/>
                          </p:tgtEl>
                        </p:cond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7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1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5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evt="onClick">
                          <p:tgtEl>
                            <p:spTgt spid="690"/>
                          </p:tgtEl>
                        </p:cond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49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evt="onClick">
                          <p:tgtEl>
                            <p:spTgt spid="690"/>
                          </p:tgtEl>
                        </p:cond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5" dur="500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500"/>
                            </p:stCondLst>
                            <p:childTnLst>
                              <p:par>
                                <p:cTn id="125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9" dur="500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evt="onClick">
                          <p:tgtEl>
                            <p:spTgt spid="690"/>
                          </p:tgtEl>
                        </p:cond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4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8" dur="500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evt="onClick">
                          <p:tgtEl>
                            <p:spTgt spid="690"/>
                          </p:tgtEl>
                        </p:cond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72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7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1" dur="500"/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evt="onClick">
                          <p:tgtEl>
                            <p:spTgt spid="690"/>
                          </p:tgtEl>
                        </p:cond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85" dur="1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0" dur="1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4" dur="500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evt="onClick">
                          <p:tgtEl>
                            <p:spTgt spid="690"/>
                          </p:tgtEl>
                        </p:cond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98" dur="1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evt="onClick">
                          <p:tgtEl>
                            <p:spTgt spid="690"/>
                          </p:tgtEl>
                        </p:cond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03" dur="1000" fill="hold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5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06" dur="1000" fill="hold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8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09" dur="1000" fill="hold"/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0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3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evt="onClick">
                          <p:tgtEl>
                            <p:spTgt spid="690"/>
                          </p:tgtEl>
                        </p:cond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17" dur="1000" fill="hold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9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20" dur="1000" fill="hold"/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2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23" dur="10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fill="hold">
                            <p:stCondLst>
                              <p:cond delay="6000"/>
                            </p:stCondLst>
                            <p:childTnLst>
                              <p:par>
                                <p:cTn id="13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7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fill="hold">
                            <p:stCondLst>
                              <p:cond delay="7000"/>
                            </p:stCondLst>
                            <p:childTnLst>
                              <p:par>
                                <p:cTn id="13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1" dur="1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evt="onClick">
                          <p:tgtEl>
                            <p:spTgt spid="690"/>
                          </p:tgtEl>
                        </p:cond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6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evt="onClick">
                          <p:tgtEl>
                            <p:spTgt spid="690"/>
                          </p:tgtEl>
                        </p:cond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1" dur="1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5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9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2500"/>
                            </p:stCondLst>
                            <p:childTnLst>
                              <p:par>
                                <p:cTn id="135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3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250920" y="260280"/>
            <a:ext cx="8642160" cy="230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Первый раствор содержит 40% кислоты, а второй -  60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кислоты. Смешав эти растворы и добавив 5 л вод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получили 20 процентный раствор. Если бы вместо вод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добавили 5 л 80 процентного раствора, то получился 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70 процентный раствор. Сколько литров 60 процент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раствора кислоты было первоначальн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179280" y="6165720"/>
            <a:ext cx="1873440" cy="476280"/>
          </a:xfrm>
          <a:custGeom>
            <a:avLst/>
            <a:gdLst>
              <a:gd name="textAreaLeft" fmla="*/ 30600 w 1873440"/>
              <a:gd name="textAreaRight" fmla="*/ 1842840 w 18734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84915" h="21600">
                <a:moveTo>
                  <a:pt x="0" y="0"/>
                </a:moveTo>
                <a:lnTo>
                  <a:pt x="84915" y="0"/>
                </a:lnTo>
                <a:lnTo>
                  <a:pt x="84915" y="21600"/>
                </a:lnTo>
                <a:lnTo>
                  <a:pt x="0" y="21600"/>
                </a:lnTo>
                <a:close/>
              </a:path>
              <a:path fill="lightenLess" w="84915" h="21600">
                <a:moveTo>
                  <a:pt x="0" y="0"/>
                </a:moveTo>
                <a:lnTo>
                  <a:pt x="84915" y="0"/>
                </a:lnTo>
                <a:lnTo>
                  <a:pt x="83515" y="1400"/>
                </a:lnTo>
                <a:lnTo>
                  <a:pt x="1400" y="1400"/>
                </a:lnTo>
                <a:close/>
              </a:path>
              <a:path fill="darken" w="84915" h="21600">
                <a:moveTo>
                  <a:pt x="84915" y="0"/>
                </a:moveTo>
                <a:lnTo>
                  <a:pt x="84915" y="21600"/>
                </a:lnTo>
                <a:lnTo>
                  <a:pt x="83515" y="20200"/>
                </a:lnTo>
                <a:lnTo>
                  <a:pt x="83515" y="1400"/>
                </a:lnTo>
                <a:close/>
              </a:path>
              <a:path fill="darkenLess" w="84915" h="21600">
                <a:moveTo>
                  <a:pt x="849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3515" y="20200"/>
                </a:lnTo>
                <a:close/>
              </a:path>
              <a:path fill="lighten" w="849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lackadder ITC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>
            <a:hlinkClick r:id="" action="ppaction://hlinkshowjump?jump=nextslide"/>
          </p:cNvPr>
          <p:cNvSpPr/>
          <p:nvPr/>
        </p:nvSpPr>
        <p:spPr>
          <a:xfrm>
            <a:off x="8459640" y="6165720"/>
            <a:ext cx="505080" cy="5382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760 h 538200"/>
              <a:gd name="textAreaBottom" fmla="*/ 505800 h 538200"/>
            </a:gdLst>
            <a:ahLst/>
            <a:rect l="textAreaLeft" t="textAreaTop" r="textAreaRight" b="textAreaBottom"/>
            <a:pathLst>
              <a:path w="21600" h="23015">
                <a:moveTo>
                  <a:pt x="0" y="0"/>
                </a:moveTo>
                <a:lnTo>
                  <a:pt x="21600" y="0"/>
                </a:lnTo>
                <a:lnTo>
                  <a:pt x="21600" y="23015"/>
                </a:lnTo>
                <a:lnTo>
                  <a:pt x="0" y="23015"/>
                </a:lnTo>
                <a:close/>
              </a:path>
              <a:path fill="lightenLess" w="21600" h="230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15">
                <a:moveTo>
                  <a:pt x="21600" y="0"/>
                </a:moveTo>
                <a:lnTo>
                  <a:pt x="21600" y="23015"/>
                </a:lnTo>
                <a:lnTo>
                  <a:pt x="20200" y="21615"/>
                </a:lnTo>
                <a:lnTo>
                  <a:pt x="20200" y="1400"/>
                </a:lnTo>
                <a:close/>
              </a:path>
              <a:path fill="darkenLess" w="21600" h="23015">
                <a:moveTo>
                  <a:pt x="21600" y="23015"/>
                </a:moveTo>
                <a:lnTo>
                  <a:pt x="0" y="23015"/>
                </a:lnTo>
                <a:lnTo>
                  <a:pt x="1400" y="21615"/>
                </a:lnTo>
                <a:lnTo>
                  <a:pt x="20200" y="21615"/>
                </a:lnTo>
                <a:close/>
              </a:path>
              <a:path fill="lighten" w="21600" h="23015">
                <a:moveTo>
                  <a:pt x="0" y="230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15"/>
                </a:lnTo>
                <a:close/>
              </a:path>
              <a:path fill="darken" w="21600" h="23015">
                <a:moveTo>
                  <a:pt x="3794" y="4501"/>
                </a:moveTo>
                <a:lnTo>
                  <a:pt x="17806" y="11508"/>
                </a:lnTo>
                <a:lnTo>
                  <a:pt x="3794" y="1851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179280" y="2637000"/>
            <a:ext cx="8785440" cy="345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1547640" y="3068640"/>
            <a:ext cx="936360" cy="1439640"/>
            <a:chOff x="1547640" y="3068640"/>
            <a:chExt cx="936360" cy="1439640"/>
          </a:xfrm>
        </p:grpSpPr>
        <p:grpSp>
          <p:nvGrpSpPr>
            <p:cNvPr id="784" name=""/>
            <p:cNvGrpSpPr/>
            <p:nvPr/>
          </p:nvGrpSpPr>
          <p:grpSpPr>
            <a:xfrm>
              <a:off x="1620720" y="3068640"/>
              <a:ext cx="863280" cy="1439640"/>
              <a:chOff x="1620720" y="3068640"/>
              <a:chExt cx="863280" cy="1439640"/>
            </a:xfrm>
          </p:grpSpPr>
          <p:sp>
            <p:nvSpPr>
              <p:cNvPr id="785" name=""/>
              <p:cNvSpPr/>
              <p:nvPr/>
            </p:nvSpPr>
            <p:spPr>
              <a:xfrm>
                <a:off x="1626480" y="3068640"/>
                <a:ext cx="857520" cy="1439640"/>
              </a:xfrm>
              <a:custGeom>
                <a:avLst/>
                <a:gdLst/>
                <a:ahLst/>
                <a:rect l="l" t="t" r="r" b="b"/>
                <a:pathLst>
                  <a:path w="977" h="1445">
                    <a:moveTo>
                      <a:pt x="125" y="327"/>
                    </a:moveTo>
                    <a:cubicBezTo>
                      <a:pt x="110" y="330"/>
                      <a:pt x="101" y="330"/>
                      <a:pt x="86" y="340"/>
                    </a:cubicBezTo>
                    <a:cubicBezTo>
                      <a:pt x="71" y="348"/>
                      <a:pt x="46" y="360"/>
                      <a:pt x="33" y="380"/>
                    </a:cubicBezTo>
                    <a:cubicBezTo>
                      <a:pt x="19" y="401"/>
                      <a:pt x="12" y="403"/>
                      <a:pt x="7" y="467"/>
                    </a:cubicBezTo>
                    <a:cubicBezTo>
                      <a:pt x="1" y="532"/>
                      <a:pt x="3" y="676"/>
                      <a:pt x="1" y="769"/>
                    </a:cubicBezTo>
                    <a:cubicBezTo>
                      <a:pt x="1" y="861"/>
                      <a:pt x="0" y="935"/>
                      <a:pt x="1" y="1024"/>
                    </a:cubicBezTo>
                    <a:cubicBezTo>
                      <a:pt x="4" y="1112"/>
                      <a:pt x="0" y="1240"/>
                      <a:pt x="12" y="1300"/>
                    </a:cubicBezTo>
                    <a:cubicBezTo>
                      <a:pt x="25" y="1360"/>
                      <a:pt x="30" y="1360"/>
                      <a:pt x="75" y="1382"/>
                    </a:cubicBezTo>
                    <a:cubicBezTo>
                      <a:pt x="119" y="1405"/>
                      <a:pt x="202" y="1423"/>
                      <a:pt x="283" y="1432"/>
                    </a:cubicBezTo>
                    <a:cubicBezTo>
                      <a:pt x="363" y="1442"/>
                      <a:pt x="471" y="1445"/>
                      <a:pt x="561" y="1441"/>
                    </a:cubicBezTo>
                    <a:cubicBezTo>
                      <a:pt x="651" y="1437"/>
                      <a:pt x="761" y="1424"/>
                      <a:pt x="823" y="1412"/>
                    </a:cubicBezTo>
                    <a:cubicBezTo>
                      <a:pt x="886" y="1399"/>
                      <a:pt x="915" y="1382"/>
                      <a:pt x="940" y="1361"/>
                    </a:cubicBezTo>
                    <a:cubicBezTo>
                      <a:pt x="965" y="1340"/>
                      <a:pt x="964" y="1339"/>
                      <a:pt x="970" y="1284"/>
                    </a:cubicBezTo>
                    <a:cubicBezTo>
                      <a:pt x="976" y="1229"/>
                      <a:pt x="973" y="1148"/>
                      <a:pt x="974" y="1032"/>
                    </a:cubicBezTo>
                    <a:cubicBezTo>
                      <a:pt x="975" y="916"/>
                      <a:pt x="977" y="692"/>
                      <a:pt x="974" y="589"/>
                    </a:cubicBezTo>
                    <a:cubicBezTo>
                      <a:pt x="971" y="486"/>
                      <a:pt x="966" y="449"/>
                      <a:pt x="958" y="411"/>
                    </a:cubicBezTo>
                    <a:cubicBezTo>
                      <a:pt x="951" y="373"/>
                      <a:pt x="937" y="378"/>
                      <a:pt x="927" y="365"/>
                    </a:cubicBezTo>
                    <a:cubicBezTo>
                      <a:pt x="916" y="353"/>
                      <a:pt x="915" y="347"/>
                      <a:pt x="895" y="340"/>
                    </a:cubicBezTo>
                    <a:cubicBezTo>
                      <a:pt x="877" y="332"/>
                      <a:pt x="834" y="325"/>
                      <a:pt x="814" y="319"/>
                    </a:cubicBezTo>
                    <a:cubicBezTo>
                      <a:pt x="794" y="314"/>
                      <a:pt x="786" y="314"/>
                      <a:pt x="772" y="309"/>
                    </a:cubicBezTo>
                    <a:cubicBezTo>
                      <a:pt x="760" y="304"/>
                      <a:pt x="746" y="297"/>
                      <a:pt x="736" y="288"/>
                    </a:cubicBezTo>
                    <a:cubicBezTo>
                      <a:pt x="726" y="280"/>
                      <a:pt x="717" y="272"/>
                      <a:pt x="712" y="261"/>
                    </a:cubicBezTo>
                    <a:cubicBezTo>
                      <a:pt x="708" y="248"/>
                      <a:pt x="704" y="233"/>
                      <a:pt x="710" y="217"/>
                    </a:cubicBezTo>
                    <a:cubicBezTo>
                      <a:pt x="715" y="202"/>
                      <a:pt x="733" y="180"/>
                      <a:pt x="746" y="164"/>
                    </a:cubicBezTo>
                    <a:cubicBezTo>
                      <a:pt x="758" y="149"/>
                      <a:pt x="778" y="142"/>
                      <a:pt x="789" y="128"/>
                    </a:cubicBezTo>
                    <a:cubicBezTo>
                      <a:pt x="800" y="114"/>
                      <a:pt x="812" y="95"/>
                      <a:pt x="812" y="81"/>
                    </a:cubicBezTo>
                    <a:cubicBezTo>
                      <a:pt x="812" y="67"/>
                      <a:pt x="821" y="53"/>
                      <a:pt x="793" y="42"/>
                    </a:cubicBezTo>
                    <a:cubicBezTo>
                      <a:pt x="765" y="31"/>
                      <a:pt x="701" y="21"/>
                      <a:pt x="647" y="14"/>
                    </a:cubicBezTo>
                    <a:cubicBezTo>
                      <a:pt x="593" y="7"/>
                      <a:pt x="531" y="0"/>
                      <a:pt x="467" y="0"/>
                    </a:cubicBezTo>
                    <a:cubicBezTo>
                      <a:pt x="403" y="0"/>
                      <a:pt x="313" y="7"/>
                      <a:pt x="262" y="17"/>
                    </a:cubicBezTo>
                    <a:cubicBezTo>
                      <a:pt x="211" y="26"/>
                      <a:pt x="176" y="40"/>
                      <a:pt x="162" y="59"/>
                    </a:cubicBezTo>
                    <a:cubicBezTo>
                      <a:pt x="148" y="77"/>
                      <a:pt x="169" y="111"/>
                      <a:pt x="177" y="130"/>
                    </a:cubicBezTo>
                    <a:cubicBezTo>
                      <a:pt x="184" y="149"/>
                      <a:pt x="198" y="159"/>
                      <a:pt x="208" y="171"/>
                    </a:cubicBezTo>
                    <a:cubicBezTo>
                      <a:pt x="219" y="184"/>
                      <a:pt x="234" y="195"/>
                      <a:pt x="243" y="205"/>
                    </a:cubicBezTo>
                    <a:cubicBezTo>
                      <a:pt x="250" y="213"/>
                      <a:pt x="254" y="215"/>
                      <a:pt x="255" y="224"/>
                    </a:cubicBezTo>
                    <a:cubicBezTo>
                      <a:pt x="256" y="234"/>
                      <a:pt x="258" y="249"/>
                      <a:pt x="252" y="261"/>
                    </a:cubicBezTo>
                    <a:cubicBezTo>
                      <a:pt x="248" y="272"/>
                      <a:pt x="240" y="281"/>
                      <a:pt x="226" y="291"/>
                    </a:cubicBezTo>
                    <a:cubicBezTo>
                      <a:pt x="213" y="301"/>
                      <a:pt x="194" y="311"/>
                      <a:pt x="177" y="316"/>
                    </a:cubicBezTo>
                    <a:cubicBezTo>
                      <a:pt x="161" y="322"/>
                      <a:pt x="140" y="323"/>
                      <a:pt x="125" y="32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1ffff"/>
                  </a:gs>
                  <a:gs pos="100000">
                    <a:srgbClr val="00f4ee"/>
                  </a:gs>
                </a:gsLst>
                <a:lin ang="5400000"/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1762920" y="3068640"/>
                <a:ext cx="579240" cy="143640"/>
              </a:xfrm>
              <a:custGeom>
                <a:avLst/>
                <a:gdLst/>
                <a:ahLst/>
                <a:rect l="l" t="t" r="r" b="b"/>
                <a:pathLst>
                  <a:path w="475" h="103">
                    <a:moveTo>
                      <a:pt x="5" y="57"/>
                    </a:moveTo>
                    <a:cubicBezTo>
                      <a:pt x="0" y="49"/>
                      <a:pt x="8" y="37"/>
                      <a:pt x="25" y="29"/>
                    </a:cubicBezTo>
                    <a:cubicBezTo>
                      <a:pt x="42" y="21"/>
                      <a:pt x="76" y="16"/>
                      <a:pt x="107" y="11"/>
                    </a:cubicBezTo>
                    <a:cubicBezTo>
                      <a:pt x="138" y="6"/>
                      <a:pt x="180" y="2"/>
                      <a:pt x="213" y="1"/>
                    </a:cubicBezTo>
                    <a:cubicBezTo>
                      <a:pt x="246" y="0"/>
                      <a:pt x="279" y="1"/>
                      <a:pt x="307" y="3"/>
                    </a:cubicBezTo>
                    <a:cubicBezTo>
                      <a:pt x="335" y="5"/>
                      <a:pt x="357" y="9"/>
                      <a:pt x="379" y="13"/>
                    </a:cubicBezTo>
                    <a:cubicBezTo>
                      <a:pt x="401" y="17"/>
                      <a:pt x="422" y="19"/>
                      <a:pt x="437" y="25"/>
                    </a:cubicBezTo>
                    <a:cubicBezTo>
                      <a:pt x="452" y="31"/>
                      <a:pt x="471" y="42"/>
                      <a:pt x="473" y="49"/>
                    </a:cubicBezTo>
                    <a:cubicBezTo>
                      <a:pt x="475" y="56"/>
                      <a:pt x="464" y="60"/>
                      <a:pt x="449" y="67"/>
                    </a:cubicBezTo>
                    <a:cubicBezTo>
                      <a:pt x="434" y="74"/>
                      <a:pt x="410" y="83"/>
                      <a:pt x="381" y="89"/>
                    </a:cubicBezTo>
                    <a:cubicBezTo>
                      <a:pt x="352" y="95"/>
                      <a:pt x="316" y="99"/>
                      <a:pt x="277" y="101"/>
                    </a:cubicBezTo>
                    <a:cubicBezTo>
                      <a:pt x="238" y="103"/>
                      <a:pt x="186" y="102"/>
                      <a:pt x="149" y="99"/>
                    </a:cubicBezTo>
                    <a:cubicBezTo>
                      <a:pt x="112" y="96"/>
                      <a:pt x="79" y="87"/>
                      <a:pt x="55" y="80"/>
                    </a:cubicBezTo>
                    <a:cubicBezTo>
                      <a:pt x="31" y="73"/>
                      <a:pt x="11" y="66"/>
                      <a:pt x="5" y="5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1ffff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1626480" y="4199040"/>
                <a:ext cx="851760" cy="144000"/>
              </a:xfrm>
              <a:custGeom>
                <a:avLst/>
                <a:gdLst/>
                <a:ahLst/>
                <a:rect l="l" t="t" r="r" b="b"/>
                <a:pathLst>
                  <a:path w="713" h="109">
                    <a:moveTo>
                      <a:pt x="0" y="24"/>
                    </a:moveTo>
                    <a:cubicBezTo>
                      <a:pt x="6" y="28"/>
                      <a:pt x="17" y="42"/>
                      <a:pt x="37" y="52"/>
                    </a:cubicBezTo>
                    <a:cubicBezTo>
                      <a:pt x="56" y="61"/>
                      <a:pt x="85" y="73"/>
                      <a:pt x="117" y="81"/>
                    </a:cubicBezTo>
                    <a:cubicBezTo>
                      <a:pt x="150" y="90"/>
                      <a:pt x="193" y="96"/>
                      <a:pt x="235" y="101"/>
                    </a:cubicBezTo>
                    <a:cubicBezTo>
                      <a:pt x="276" y="105"/>
                      <a:pt x="324" y="109"/>
                      <a:pt x="371" y="109"/>
                    </a:cubicBezTo>
                    <a:cubicBezTo>
                      <a:pt x="418" y="109"/>
                      <a:pt x="477" y="106"/>
                      <a:pt x="518" y="101"/>
                    </a:cubicBezTo>
                    <a:cubicBezTo>
                      <a:pt x="559" y="96"/>
                      <a:pt x="592" y="91"/>
                      <a:pt x="620" y="81"/>
                    </a:cubicBezTo>
                    <a:cubicBezTo>
                      <a:pt x="648" y="71"/>
                      <a:pt x="674" y="55"/>
                      <a:pt x="689" y="41"/>
                    </a:cubicBezTo>
                    <a:cubicBezTo>
                      <a:pt x="704" y="27"/>
                      <a:pt x="708" y="9"/>
                      <a:pt x="713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620720" y="3706200"/>
                <a:ext cx="850680" cy="138600"/>
              </a:xfrm>
              <a:custGeom>
                <a:avLst/>
                <a:gdLst/>
                <a:ahLst/>
                <a:rect l="l" t="t" r="r" b="b"/>
                <a:pathLst>
                  <a:path w="712" h="105">
                    <a:moveTo>
                      <a:pt x="0" y="21"/>
                    </a:moveTo>
                    <a:cubicBezTo>
                      <a:pt x="6" y="25"/>
                      <a:pt x="17" y="39"/>
                      <a:pt x="37" y="48"/>
                    </a:cubicBezTo>
                    <a:cubicBezTo>
                      <a:pt x="56" y="58"/>
                      <a:pt x="86" y="69"/>
                      <a:pt x="118" y="78"/>
                    </a:cubicBezTo>
                    <a:cubicBezTo>
                      <a:pt x="151" y="86"/>
                      <a:pt x="195" y="92"/>
                      <a:pt x="237" y="97"/>
                    </a:cubicBezTo>
                    <a:cubicBezTo>
                      <a:pt x="278" y="101"/>
                      <a:pt x="327" y="105"/>
                      <a:pt x="374" y="105"/>
                    </a:cubicBezTo>
                    <a:cubicBezTo>
                      <a:pt x="421" y="105"/>
                      <a:pt x="480" y="103"/>
                      <a:pt x="522" y="97"/>
                    </a:cubicBezTo>
                    <a:cubicBezTo>
                      <a:pt x="565" y="90"/>
                      <a:pt x="599" y="79"/>
                      <a:pt x="627" y="69"/>
                    </a:cubicBezTo>
                    <a:cubicBezTo>
                      <a:pt x="655" y="59"/>
                      <a:pt x="675" y="45"/>
                      <a:pt x="689" y="34"/>
                    </a:cubicBezTo>
                    <a:cubicBezTo>
                      <a:pt x="703" y="23"/>
                      <a:pt x="707" y="7"/>
                      <a:pt x="712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1620720" y="3588840"/>
                <a:ext cx="842040" cy="126360"/>
              </a:xfrm>
              <a:custGeom>
                <a:avLst/>
                <a:gdLst/>
                <a:ahLst/>
                <a:rect l="l" t="t" r="r" b="b"/>
                <a:pathLst>
                  <a:path w="705" h="96">
                    <a:moveTo>
                      <a:pt x="705" y="72"/>
                    </a:moveTo>
                    <a:cubicBezTo>
                      <a:pt x="693" y="66"/>
                      <a:pt x="655" y="45"/>
                      <a:pt x="630" y="36"/>
                    </a:cubicBezTo>
                    <a:cubicBezTo>
                      <a:pt x="605" y="27"/>
                      <a:pt x="583" y="26"/>
                      <a:pt x="555" y="21"/>
                    </a:cubicBezTo>
                    <a:cubicBezTo>
                      <a:pt x="527" y="16"/>
                      <a:pt x="491" y="9"/>
                      <a:pt x="459" y="6"/>
                    </a:cubicBezTo>
                    <a:cubicBezTo>
                      <a:pt x="427" y="3"/>
                      <a:pt x="393" y="0"/>
                      <a:pt x="360" y="0"/>
                    </a:cubicBezTo>
                    <a:cubicBezTo>
                      <a:pt x="327" y="0"/>
                      <a:pt x="292" y="4"/>
                      <a:pt x="261" y="6"/>
                    </a:cubicBezTo>
                    <a:cubicBezTo>
                      <a:pt x="230" y="8"/>
                      <a:pt x="200" y="11"/>
                      <a:pt x="171" y="15"/>
                    </a:cubicBezTo>
                    <a:cubicBezTo>
                      <a:pt x="142" y="19"/>
                      <a:pt x="110" y="26"/>
                      <a:pt x="87" y="33"/>
                    </a:cubicBezTo>
                    <a:cubicBezTo>
                      <a:pt x="64" y="40"/>
                      <a:pt x="44" y="47"/>
                      <a:pt x="30" y="57"/>
                    </a:cubicBezTo>
                    <a:cubicBezTo>
                      <a:pt x="16" y="67"/>
                      <a:pt x="6" y="88"/>
                      <a:pt x="0" y="96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1620720" y="3605760"/>
                <a:ext cx="846720" cy="237600"/>
              </a:xfrm>
              <a:custGeom>
                <a:avLst/>
                <a:gdLst/>
                <a:ahLst/>
                <a:rect l="l" t="t" r="r" b="b"/>
                <a:pathLst>
                  <a:path w="709" h="180">
                    <a:moveTo>
                      <a:pt x="3" y="93"/>
                    </a:moveTo>
                    <a:cubicBezTo>
                      <a:pt x="0" y="103"/>
                      <a:pt x="18" y="108"/>
                      <a:pt x="36" y="117"/>
                    </a:cubicBezTo>
                    <a:cubicBezTo>
                      <a:pt x="54" y="126"/>
                      <a:pt x="80" y="141"/>
                      <a:pt x="114" y="150"/>
                    </a:cubicBezTo>
                    <a:cubicBezTo>
                      <a:pt x="148" y="159"/>
                      <a:pt x="195" y="166"/>
                      <a:pt x="240" y="171"/>
                    </a:cubicBezTo>
                    <a:cubicBezTo>
                      <a:pt x="285" y="176"/>
                      <a:pt x="342" y="180"/>
                      <a:pt x="387" y="180"/>
                    </a:cubicBezTo>
                    <a:cubicBezTo>
                      <a:pt x="432" y="180"/>
                      <a:pt x="475" y="178"/>
                      <a:pt x="510" y="174"/>
                    </a:cubicBezTo>
                    <a:cubicBezTo>
                      <a:pt x="545" y="170"/>
                      <a:pt x="572" y="161"/>
                      <a:pt x="597" y="153"/>
                    </a:cubicBezTo>
                    <a:cubicBezTo>
                      <a:pt x="622" y="145"/>
                      <a:pt x="646" y="136"/>
                      <a:pt x="663" y="126"/>
                    </a:cubicBezTo>
                    <a:cubicBezTo>
                      <a:pt x="680" y="116"/>
                      <a:pt x="696" y="99"/>
                      <a:pt x="702" y="90"/>
                    </a:cubicBezTo>
                    <a:cubicBezTo>
                      <a:pt x="708" y="81"/>
                      <a:pt x="709" y="81"/>
                      <a:pt x="699" y="72"/>
                    </a:cubicBezTo>
                    <a:cubicBezTo>
                      <a:pt x="689" y="63"/>
                      <a:pt x="675" y="46"/>
                      <a:pt x="642" y="36"/>
                    </a:cubicBezTo>
                    <a:cubicBezTo>
                      <a:pt x="609" y="26"/>
                      <a:pt x="543" y="14"/>
                      <a:pt x="501" y="9"/>
                    </a:cubicBezTo>
                    <a:cubicBezTo>
                      <a:pt x="459" y="4"/>
                      <a:pt x="427" y="4"/>
                      <a:pt x="387" y="3"/>
                    </a:cubicBezTo>
                    <a:cubicBezTo>
                      <a:pt x="347" y="2"/>
                      <a:pt x="300" y="0"/>
                      <a:pt x="258" y="3"/>
                    </a:cubicBezTo>
                    <a:cubicBezTo>
                      <a:pt x="216" y="6"/>
                      <a:pt x="171" y="13"/>
                      <a:pt x="135" y="21"/>
                    </a:cubicBezTo>
                    <a:cubicBezTo>
                      <a:pt x="99" y="29"/>
                      <a:pt x="64" y="39"/>
                      <a:pt x="42" y="51"/>
                    </a:cubicBezTo>
                    <a:cubicBezTo>
                      <a:pt x="20" y="63"/>
                      <a:pt x="11" y="84"/>
                      <a:pt x="3" y="9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7ffff"/>
                  </a:gs>
                  <a:gs pos="100000">
                    <a:srgbClr val="01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1626480" y="4085640"/>
                <a:ext cx="852840" cy="245520"/>
              </a:xfrm>
              <a:custGeom>
                <a:avLst/>
                <a:gdLst/>
                <a:ahLst/>
                <a:rect l="l" t="t" r="r" b="b"/>
                <a:pathLst>
                  <a:path w="714" h="186">
                    <a:moveTo>
                      <a:pt x="8" y="89"/>
                    </a:moveTo>
                    <a:cubicBezTo>
                      <a:pt x="0" y="101"/>
                      <a:pt x="18" y="110"/>
                      <a:pt x="34" y="121"/>
                    </a:cubicBezTo>
                    <a:cubicBezTo>
                      <a:pt x="50" y="132"/>
                      <a:pt x="63" y="145"/>
                      <a:pt x="107" y="155"/>
                    </a:cubicBezTo>
                    <a:cubicBezTo>
                      <a:pt x="151" y="165"/>
                      <a:pt x="228" y="180"/>
                      <a:pt x="296" y="183"/>
                    </a:cubicBezTo>
                    <a:cubicBezTo>
                      <a:pt x="364" y="186"/>
                      <a:pt x="464" y="181"/>
                      <a:pt x="515" y="176"/>
                    </a:cubicBezTo>
                    <a:cubicBezTo>
                      <a:pt x="566" y="171"/>
                      <a:pt x="577" y="162"/>
                      <a:pt x="602" y="155"/>
                    </a:cubicBezTo>
                    <a:cubicBezTo>
                      <a:pt x="627" y="148"/>
                      <a:pt x="647" y="143"/>
                      <a:pt x="665" y="131"/>
                    </a:cubicBezTo>
                    <a:cubicBezTo>
                      <a:pt x="683" y="119"/>
                      <a:pt x="700" y="96"/>
                      <a:pt x="707" y="86"/>
                    </a:cubicBezTo>
                    <a:cubicBezTo>
                      <a:pt x="714" y="76"/>
                      <a:pt x="714" y="77"/>
                      <a:pt x="704" y="68"/>
                    </a:cubicBezTo>
                    <a:cubicBezTo>
                      <a:pt x="694" y="59"/>
                      <a:pt x="680" y="42"/>
                      <a:pt x="647" y="32"/>
                    </a:cubicBezTo>
                    <a:cubicBezTo>
                      <a:pt x="614" y="22"/>
                      <a:pt x="549" y="10"/>
                      <a:pt x="506" y="5"/>
                    </a:cubicBezTo>
                    <a:cubicBezTo>
                      <a:pt x="463" y="0"/>
                      <a:pt x="429" y="2"/>
                      <a:pt x="389" y="2"/>
                    </a:cubicBezTo>
                    <a:cubicBezTo>
                      <a:pt x="349" y="2"/>
                      <a:pt x="305" y="1"/>
                      <a:pt x="263" y="5"/>
                    </a:cubicBezTo>
                    <a:cubicBezTo>
                      <a:pt x="221" y="9"/>
                      <a:pt x="171" y="21"/>
                      <a:pt x="137" y="29"/>
                    </a:cubicBezTo>
                    <a:cubicBezTo>
                      <a:pt x="103" y="37"/>
                      <a:pt x="77" y="43"/>
                      <a:pt x="56" y="53"/>
                    </a:cubicBezTo>
                    <a:cubicBezTo>
                      <a:pt x="35" y="63"/>
                      <a:pt x="18" y="82"/>
                      <a:pt x="8" y="8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7ffff"/>
                  </a:gs>
                  <a:gs pos="100000">
                    <a:srgbClr val="00f8f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1626480" y="4085640"/>
                <a:ext cx="842040" cy="117720"/>
              </a:xfrm>
              <a:custGeom>
                <a:avLst/>
                <a:gdLst/>
                <a:ahLst/>
                <a:rect l="l" t="t" r="r" b="b"/>
                <a:pathLst>
                  <a:path w="705" h="89">
                    <a:moveTo>
                      <a:pt x="705" y="68"/>
                    </a:moveTo>
                    <a:cubicBezTo>
                      <a:pt x="698" y="63"/>
                      <a:pt x="692" y="50"/>
                      <a:pt x="672" y="42"/>
                    </a:cubicBezTo>
                    <a:cubicBezTo>
                      <a:pt x="652" y="34"/>
                      <a:pt x="618" y="23"/>
                      <a:pt x="587" y="17"/>
                    </a:cubicBezTo>
                    <a:cubicBezTo>
                      <a:pt x="555" y="10"/>
                      <a:pt x="519" y="4"/>
                      <a:pt x="482" y="2"/>
                    </a:cubicBezTo>
                    <a:cubicBezTo>
                      <a:pt x="446" y="0"/>
                      <a:pt x="402" y="1"/>
                      <a:pt x="363" y="1"/>
                    </a:cubicBezTo>
                    <a:cubicBezTo>
                      <a:pt x="324" y="1"/>
                      <a:pt x="287" y="1"/>
                      <a:pt x="252" y="4"/>
                    </a:cubicBezTo>
                    <a:cubicBezTo>
                      <a:pt x="217" y="7"/>
                      <a:pt x="182" y="12"/>
                      <a:pt x="153" y="17"/>
                    </a:cubicBezTo>
                    <a:cubicBezTo>
                      <a:pt x="124" y="22"/>
                      <a:pt x="97" y="28"/>
                      <a:pt x="75" y="35"/>
                    </a:cubicBezTo>
                    <a:cubicBezTo>
                      <a:pt x="53" y="42"/>
                      <a:pt x="30" y="53"/>
                      <a:pt x="18" y="62"/>
                    </a:cubicBezTo>
                    <a:cubicBezTo>
                      <a:pt x="6" y="71"/>
                      <a:pt x="4" y="84"/>
                      <a:pt x="0" y="89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626480" y="4266360"/>
                <a:ext cx="832680" cy="92520"/>
              </a:xfrm>
              <a:custGeom>
                <a:avLst/>
                <a:gdLst/>
                <a:ahLst/>
                <a:rect l="l" t="t" r="r" b="b"/>
                <a:pathLst>
                  <a:path w="948" h="92">
                    <a:moveTo>
                      <a:pt x="948" y="80"/>
                    </a:moveTo>
                    <a:cubicBezTo>
                      <a:pt x="926" y="71"/>
                      <a:pt x="900" y="39"/>
                      <a:pt x="822" y="26"/>
                    </a:cubicBezTo>
                    <a:cubicBezTo>
                      <a:pt x="744" y="13"/>
                      <a:pt x="587" y="0"/>
                      <a:pt x="477" y="1"/>
                    </a:cubicBezTo>
                    <a:cubicBezTo>
                      <a:pt x="366" y="3"/>
                      <a:pt x="231" y="20"/>
                      <a:pt x="152" y="35"/>
                    </a:cubicBezTo>
                    <a:cubicBezTo>
                      <a:pt x="73" y="50"/>
                      <a:pt x="32" y="80"/>
                      <a:pt x="0" y="92"/>
                    </a:cubicBezTo>
                  </a:path>
                </a:pathLst>
              </a:custGeom>
              <a:noFill/>
              <a:ln w="19080">
                <a:solidFill>
                  <a:srgbClr val="0000d2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4" name=""/>
            <p:cNvSpPr/>
            <p:nvPr/>
          </p:nvSpPr>
          <p:spPr>
            <a:xfrm>
              <a:off x="1547640" y="3716280"/>
              <a:ext cx="82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6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2700360" y="3068640"/>
            <a:ext cx="936000" cy="1439640"/>
            <a:chOff x="2700360" y="3068640"/>
            <a:chExt cx="936000" cy="1439640"/>
          </a:xfrm>
        </p:grpSpPr>
        <p:grpSp>
          <p:nvGrpSpPr>
            <p:cNvPr id="796" name=""/>
            <p:cNvGrpSpPr/>
            <p:nvPr/>
          </p:nvGrpSpPr>
          <p:grpSpPr>
            <a:xfrm>
              <a:off x="2770200" y="3068640"/>
              <a:ext cx="866160" cy="1439640"/>
              <a:chOff x="2770200" y="3068640"/>
              <a:chExt cx="866160" cy="1439640"/>
            </a:xfrm>
          </p:grpSpPr>
          <p:sp>
            <p:nvSpPr>
              <p:cNvPr id="797" name=""/>
              <p:cNvSpPr/>
              <p:nvPr/>
            </p:nvSpPr>
            <p:spPr>
              <a:xfrm>
                <a:off x="2772000" y="3068640"/>
                <a:ext cx="864360" cy="1439640"/>
              </a:xfrm>
              <a:custGeom>
                <a:avLst/>
                <a:gdLst/>
                <a:ahLst/>
                <a:rect l="l" t="t" r="r" b="b"/>
                <a:pathLst>
                  <a:path w="977" h="1445">
                    <a:moveTo>
                      <a:pt x="125" y="327"/>
                    </a:moveTo>
                    <a:cubicBezTo>
                      <a:pt x="110" y="330"/>
                      <a:pt x="101" y="330"/>
                      <a:pt x="86" y="340"/>
                    </a:cubicBezTo>
                    <a:cubicBezTo>
                      <a:pt x="71" y="348"/>
                      <a:pt x="46" y="360"/>
                      <a:pt x="33" y="380"/>
                    </a:cubicBezTo>
                    <a:cubicBezTo>
                      <a:pt x="19" y="401"/>
                      <a:pt x="12" y="403"/>
                      <a:pt x="7" y="467"/>
                    </a:cubicBezTo>
                    <a:cubicBezTo>
                      <a:pt x="1" y="532"/>
                      <a:pt x="3" y="676"/>
                      <a:pt x="1" y="769"/>
                    </a:cubicBezTo>
                    <a:cubicBezTo>
                      <a:pt x="1" y="861"/>
                      <a:pt x="0" y="935"/>
                      <a:pt x="1" y="1024"/>
                    </a:cubicBezTo>
                    <a:cubicBezTo>
                      <a:pt x="4" y="1112"/>
                      <a:pt x="0" y="1240"/>
                      <a:pt x="12" y="1300"/>
                    </a:cubicBezTo>
                    <a:cubicBezTo>
                      <a:pt x="25" y="1360"/>
                      <a:pt x="30" y="1360"/>
                      <a:pt x="75" y="1382"/>
                    </a:cubicBezTo>
                    <a:cubicBezTo>
                      <a:pt x="119" y="1405"/>
                      <a:pt x="202" y="1423"/>
                      <a:pt x="283" y="1432"/>
                    </a:cubicBezTo>
                    <a:cubicBezTo>
                      <a:pt x="363" y="1442"/>
                      <a:pt x="471" y="1445"/>
                      <a:pt x="561" y="1441"/>
                    </a:cubicBezTo>
                    <a:cubicBezTo>
                      <a:pt x="651" y="1437"/>
                      <a:pt x="761" y="1424"/>
                      <a:pt x="823" y="1412"/>
                    </a:cubicBezTo>
                    <a:cubicBezTo>
                      <a:pt x="886" y="1399"/>
                      <a:pt x="915" y="1382"/>
                      <a:pt x="940" y="1361"/>
                    </a:cubicBezTo>
                    <a:cubicBezTo>
                      <a:pt x="965" y="1340"/>
                      <a:pt x="964" y="1339"/>
                      <a:pt x="970" y="1284"/>
                    </a:cubicBezTo>
                    <a:cubicBezTo>
                      <a:pt x="976" y="1229"/>
                      <a:pt x="973" y="1148"/>
                      <a:pt x="974" y="1032"/>
                    </a:cubicBezTo>
                    <a:cubicBezTo>
                      <a:pt x="975" y="916"/>
                      <a:pt x="977" y="692"/>
                      <a:pt x="974" y="589"/>
                    </a:cubicBezTo>
                    <a:cubicBezTo>
                      <a:pt x="971" y="486"/>
                      <a:pt x="966" y="449"/>
                      <a:pt x="958" y="411"/>
                    </a:cubicBezTo>
                    <a:cubicBezTo>
                      <a:pt x="951" y="373"/>
                      <a:pt x="937" y="378"/>
                      <a:pt x="927" y="365"/>
                    </a:cubicBezTo>
                    <a:cubicBezTo>
                      <a:pt x="916" y="353"/>
                      <a:pt x="915" y="347"/>
                      <a:pt x="895" y="340"/>
                    </a:cubicBezTo>
                    <a:cubicBezTo>
                      <a:pt x="877" y="332"/>
                      <a:pt x="834" y="325"/>
                      <a:pt x="814" y="319"/>
                    </a:cubicBezTo>
                    <a:cubicBezTo>
                      <a:pt x="794" y="314"/>
                      <a:pt x="786" y="314"/>
                      <a:pt x="772" y="309"/>
                    </a:cubicBezTo>
                    <a:cubicBezTo>
                      <a:pt x="760" y="304"/>
                      <a:pt x="746" y="297"/>
                      <a:pt x="736" y="288"/>
                    </a:cubicBezTo>
                    <a:cubicBezTo>
                      <a:pt x="726" y="280"/>
                      <a:pt x="717" y="272"/>
                      <a:pt x="712" y="261"/>
                    </a:cubicBezTo>
                    <a:cubicBezTo>
                      <a:pt x="708" y="248"/>
                      <a:pt x="704" y="233"/>
                      <a:pt x="710" y="217"/>
                    </a:cubicBezTo>
                    <a:cubicBezTo>
                      <a:pt x="715" y="202"/>
                      <a:pt x="733" y="180"/>
                      <a:pt x="746" y="164"/>
                    </a:cubicBezTo>
                    <a:cubicBezTo>
                      <a:pt x="758" y="149"/>
                      <a:pt x="778" y="142"/>
                      <a:pt x="789" y="128"/>
                    </a:cubicBezTo>
                    <a:cubicBezTo>
                      <a:pt x="800" y="114"/>
                      <a:pt x="812" y="95"/>
                      <a:pt x="812" y="81"/>
                    </a:cubicBezTo>
                    <a:cubicBezTo>
                      <a:pt x="812" y="67"/>
                      <a:pt x="821" y="53"/>
                      <a:pt x="793" y="42"/>
                    </a:cubicBezTo>
                    <a:cubicBezTo>
                      <a:pt x="765" y="31"/>
                      <a:pt x="701" y="21"/>
                      <a:pt x="647" y="14"/>
                    </a:cubicBezTo>
                    <a:cubicBezTo>
                      <a:pt x="593" y="7"/>
                      <a:pt x="531" y="0"/>
                      <a:pt x="467" y="0"/>
                    </a:cubicBezTo>
                    <a:cubicBezTo>
                      <a:pt x="403" y="0"/>
                      <a:pt x="313" y="7"/>
                      <a:pt x="262" y="17"/>
                    </a:cubicBezTo>
                    <a:cubicBezTo>
                      <a:pt x="211" y="26"/>
                      <a:pt x="176" y="40"/>
                      <a:pt x="162" y="59"/>
                    </a:cubicBezTo>
                    <a:cubicBezTo>
                      <a:pt x="148" y="77"/>
                      <a:pt x="169" y="111"/>
                      <a:pt x="177" y="130"/>
                    </a:cubicBezTo>
                    <a:cubicBezTo>
                      <a:pt x="184" y="149"/>
                      <a:pt x="198" y="159"/>
                      <a:pt x="208" y="171"/>
                    </a:cubicBezTo>
                    <a:cubicBezTo>
                      <a:pt x="219" y="184"/>
                      <a:pt x="234" y="195"/>
                      <a:pt x="243" y="205"/>
                    </a:cubicBezTo>
                    <a:cubicBezTo>
                      <a:pt x="250" y="213"/>
                      <a:pt x="254" y="215"/>
                      <a:pt x="255" y="224"/>
                    </a:cubicBezTo>
                    <a:cubicBezTo>
                      <a:pt x="256" y="234"/>
                      <a:pt x="258" y="249"/>
                      <a:pt x="252" y="261"/>
                    </a:cubicBezTo>
                    <a:cubicBezTo>
                      <a:pt x="248" y="272"/>
                      <a:pt x="240" y="281"/>
                      <a:pt x="226" y="291"/>
                    </a:cubicBezTo>
                    <a:cubicBezTo>
                      <a:pt x="213" y="301"/>
                      <a:pt x="194" y="311"/>
                      <a:pt x="177" y="316"/>
                    </a:cubicBezTo>
                    <a:cubicBezTo>
                      <a:pt x="161" y="322"/>
                      <a:pt x="140" y="323"/>
                      <a:pt x="125" y="32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1ffff"/>
                  </a:gs>
                  <a:gs pos="100000">
                    <a:srgbClr val="00f4ee"/>
                  </a:gs>
                </a:gsLst>
                <a:lin ang="5400000"/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2784600" y="4287600"/>
                <a:ext cx="839160" cy="92160"/>
              </a:xfrm>
              <a:custGeom>
                <a:avLst/>
                <a:gdLst/>
                <a:ahLst/>
                <a:rect l="l" t="t" r="r" b="b"/>
                <a:pathLst>
                  <a:path w="948" h="92">
                    <a:moveTo>
                      <a:pt x="948" y="80"/>
                    </a:moveTo>
                    <a:cubicBezTo>
                      <a:pt x="926" y="71"/>
                      <a:pt x="900" y="39"/>
                      <a:pt x="822" y="26"/>
                    </a:cubicBezTo>
                    <a:cubicBezTo>
                      <a:pt x="744" y="13"/>
                      <a:pt x="587" y="0"/>
                      <a:pt x="477" y="1"/>
                    </a:cubicBezTo>
                    <a:cubicBezTo>
                      <a:pt x="366" y="3"/>
                      <a:pt x="231" y="20"/>
                      <a:pt x="152" y="35"/>
                    </a:cubicBezTo>
                    <a:cubicBezTo>
                      <a:pt x="73" y="50"/>
                      <a:pt x="32" y="80"/>
                      <a:pt x="0" y="92"/>
                    </a:cubicBezTo>
                  </a:path>
                </a:pathLst>
              </a:custGeom>
              <a:noFill/>
              <a:ln w="19080">
                <a:solidFill>
                  <a:srgbClr val="0000d2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908800" y="3068640"/>
                <a:ext cx="585360" cy="144360"/>
              </a:xfrm>
              <a:custGeom>
                <a:avLst/>
                <a:gdLst/>
                <a:ahLst/>
                <a:rect l="l" t="t" r="r" b="b"/>
                <a:pathLst>
                  <a:path w="475" h="103">
                    <a:moveTo>
                      <a:pt x="5" y="57"/>
                    </a:moveTo>
                    <a:cubicBezTo>
                      <a:pt x="0" y="49"/>
                      <a:pt x="8" y="37"/>
                      <a:pt x="25" y="29"/>
                    </a:cubicBezTo>
                    <a:cubicBezTo>
                      <a:pt x="42" y="21"/>
                      <a:pt x="76" y="16"/>
                      <a:pt x="107" y="11"/>
                    </a:cubicBezTo>
                    <a:cubicBezTo>
                      <a:pt x="138" y="6"/>
                      <a:pt x="180" y="2"/>
                      <a:pt x="213" y="1"/>
                    </a:cubicBezTo>
                    <a:cubicBezTo>
                      <a:pt x="246" y="0"/>
                      <a:pt x="279" y="1"/>
                      <a:pt x="307" y="3"/>
                    </a:cubicBezTo>
                    <a:cubicBezTo>
                      <a:pt x="335" y="5"/>
                      <a:pt x="357" y="9"/>
                      <a:pt x="379" y="13"/>
                    </a:cubicBezTo>
                    <a:cubicBezTo>
                      <a:pt x="401" y="17"/>
                      <a:pt x="422" y="19"/>
                      <a:pt x="437" y="25"/>
                    </a:cubicBezTo>
                    <a:cubicBezTo>
                      <a:pt x="452" y="31"/>
                      <a:pt x="471" y="42"/>
                      <a:pt x="473" y="49"/>
                    </a:cubicBezTo>
                    <a:cubicBezTo>
                      <a:pt x="475" y="56"/>
                      <a:pt x="464" y="60"/>
                      <a:pt x="449" y="67"/>
                    </a:cubicBezTo>
                    <a:cubicBezTo>
                      <a:pt x="434" y="74"/>
                      <a:pt x="410" y="83"/>
                      <a:pt x="381" y="89"/>
                    </a:cubicBezTo>
                    <a:cubicBezTo>
                      <a:pt x="352" y="95"/>
                      <a:pt x="316" y="99"/>
                      <a:pt x="277" y="101"/>
                    </a:cubicBezTo>
                    <a:cubicBezTo>
                      <a:pt x="238" y="103"/>
                      <a:pt x="186" y="102"/>
                      <a:pt x="149" y="99"/>
                    </a:cubicBezTo>
                    <a:cubicBezTo>
                      <a:pt x="112" y="96"/>
                      <a:pt x="79" y="87"/>
                      <a:pt x="55" y="80"/>
                    </a:cubicBezTo>
                    <a:cubicBezTo>
                      <a:pt x="31" y="73"/>
                      <a:pt x="11" y="66"/>
                      <a:pt x="5" y="5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1ffff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2772000" y="3535200"/>
                <a:ext cx="857880" cy="138240"/>
              </a:xfrm>
              <a:custGeom>
                <a:avLst/>
                <a:gdLst/>
                <a:ahLst/>
                <a:rect l="l" t="t" r="r" b="b"/>
                <a:pathLst>
                  <a:path w="698" h="100">
                    <a:moveTo>
                      <a:pt x="0" y="20"/>
                    </a:moveTo>
                    <a:cubicBezTo>
                      <a:pt x="6" y="24"/>
                      <a:pt x="17" y="37"/>
                      <a:pt x="36" y="46"/>
                    </a:cubicBezTo>
                    <a:cubicBezTo>
                      <a:pt x="55" y="55"/>
                      <a:pt x="84" y="66"/>
                      <a:pt x="116" y="74"/>
                    </a:cubicBezTo>
                    <a:cubicBezTo>
                      <a:pt x="148" y="82"/>
                      <a:pt x="191" y="88"/>
                      <a:pt x="232" y="92"/>
                    </a:cubicBezTo>
                    <a:cubicBezTo>
                      <a:pt x="273" y="96"/>
                      <a:pt x="321" y="100"/>
                      <a:pt x="367" y="100"/>
                    </a:cubicBezTo>
                    <a:cubicBezTo>
                      <a:pt x="413" y="100"/>
                      <a:pt x="471" y="98"/>
                      <a:pt x="512" y="92"/>
                    </a:cubicBezTo>
                    <a:cubicBezTo>
                      <a:pt x="554" y="86"/>
                      <a:pt x="587" y="75"/>
                      <a:pt x="615" y="66"/>
                    </a:cubicBezTo>
                    <a:cubicBezTo>
                      <a:pt x="643" y="57"/>
                      <a:pt x="668" y="47"/>
                      <a:pt x="682" y="36"/>
                    </a:cubicBezTo>
                    <a:cubicBezTo>
                      <a:pt x="696" y="25"/>
                      <a:pt x="695" y="7"/>
                      <a:pt x="698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2770200" y="3429000"/>
                <a:ext cx="853560" cy="125280"/>
              </a:xfrm>
              <a:custGeom>
                <a:avLst/>
                <a:gdLst/>
                <a:ahLst/>
                <a:rect l="l" t="t" r="r" b="b"/>
                <a:pathLst>
                  <a:path w="696" h="90">
                    <a:moveTo>
                      <a:pt x="696" y="68"/>
                    </a:moveTo>
                    <a:cubicBezTo>
                      <a:pt x="691" y="63"/>
                      <a:pt x="688" y="49"/>
                      <a:pt x="670" y="40"/>
                    </a:cubicBezTo>
                    <a:cubicBezTo>
                      <a:pt x="652" y="31"/>
                      <a:pt x="616" y="22"/>
                      <a:pt x="585" y="16"/>
                    </a:cubicBezTo>
                    <a:cubicBezTo>
                      <a:pt x="554" y="10"/>
                      <a:pt x="518" y="4"/>
                      <a:pt x="482" y="2"/>
                    </a:cubicBezTo>
                    <a:cubicBezTo>
                      <a:pt x="446" y="0"/>
                      <a:pt x="402" y="1"/>
                      <a:pt x="364" y="1"/>
                    </a:cubicBezTo>
                    <a:cubicBezTo>
                      <a:pt x="326" y="1"/>
                      <a:pt x="288" y="1"/>
                      <a:pt x="254" y="4"/>
                    </a:cubicBezTo>
                    <a:cubicBezTo>
                      <a:pt x="220" y="7"/>
                      <a:pt x="185" y="14"/>
                      <a:pt x="155" y="20"/>
                    </a:cubicBezTo>
                    <a:cubicBezTo>
                      <a:pt x="126" y="26"/>
                      <a:pt x="98" y="34"/>
                      <a:pt x="77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"/>
            <p:cNvSpPr/>
            <p:nvPr/>
          </p:nvSpPr>
          <p:spPr>
            <a:xfrm>
              <a:off x="2700360" y="3570120"/>
              <a:ext cx="79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3851280" y="2708280"/>
            <a:ext cx="1296360" cy="1800000"/>
            <a:chOff x="3851280" y="2708280"/>
            <a:chExt cx="1296360" cy="1800000"/>
          </a:xfrm>
        </p:grpSpPr>
        <p:grpSp>
          <p:nvGrpSpPr>
            <p:cNvPr id="804" name=""/>
            <p:cNvGrpSpPr/>
            <p:nvPr/>
          </p:nvGrpSpPr>
          <p:grpSpPr>
            <a:xfrm>
              <a:off x="3921120" y="2708280"/>
              <a:ext cx="1226520" cy="1800000"/>
              <a:chOff x="3921120" y="2708280"/>
              <a:chExt cx="1226520" cy="1800000"/>
            </a:xfrm>
          </p:grpSpPr>
          <p:sp>
            <p:nvSpPr>
              <p:cNvPr id="805" name=""/>
              <p:cNvSpPr/>
              <p:nvPr/>
            </p:nvSpPr>
            <p:spPr>
              <a:xfrm>
                <a:off x="3921120" y="2708280"/>
                <a:ext cx="1221480" cy="1800000"/>
              </a:xfrm>
              <a:custGeom>
                <a:avLst/>
                <a:gdLst/>
                <a:ahLst/>
                <a:rect l="l" t="t" r="r" b="b"/>
                <a:pathLst>
                  <a:path w="756" h="1173">
                    <a:moveTo>
                      <a:pt x="97" y="266"/>
                    </a:moveTo>
                    <a:cubicBezTo>
                      <a:pt x="85" y="268"/>
                      <a:pt x="78" y="268"/>
                      <a:pt x="66" y="276"/>
                    </a:cubicBezTo>
                    <a:cubicBezTo>
                      <a:pt x="55" y="283"/>
                      <a:pt x="35" y="292"/>
                      <a:pt x="26" y="309"/>
                    </a:cubicBezTo>
                    <a:cubicBezTo>
                      <a:pt x="15" y="326"/>
                      <a:pt x="10" y="327"/>
                      <a:pt x="5" y="379"/>
                    </a:cubicBezTo>
                    <a:cubicBezTo>
                      <a:pt x="1" y="432"/>
                      <a:pt x="2" y="549"/>
                      <a:pt x="1" y="624"/>
                    </a:cubicBezTo>
                    <a:cubicBezTo>
                      <a:pt x="1" y="699"/>
                      <a:pt x="0" y="759"/>
                      <a:pt x="1" y="831"/>
                    </a:cubicBezTo>
                    <a:cubicBezTo>
                      <a:pt x="3" y="903"/>
                      <a:pt x="0" y="1007"/>
                      <a:pt x="10" y="1055"/>
                    </a:cubicBezTo>
                    <a:cubicBezTo>
                      <a:pt x="19" y="1104"/>
                      <a:pt x="24" y="1104"/>
                      <a:pt x="58" y="1122"/>
                    </a:cubicBezTo>
                    <a:cubicBezTo>
                      <a:pt x="92" y="1140"/>
                      <a:pt x="157" y="1155"/>
                      <a:pt x="219" y="1163"/>
                    </a:cubicBezTo>
                    <a:cubicBezTo>
                      <a:pt x="281" y="1171"/>
                      <a:pt x="365" y="1173"/>
                      <a:pt x="434" y="1170"/>
                    </a:cubicBezTo>
                    <a:cubicBezTo>
                      <a:pt x="504" y="1166"/>
                      <a:pt x="589" y="1156"/>
                      <a:pt x="637" y="1146"/>
                    </a:cubicBezTo>
                    <a:cubicBezTo>
                      <a:pt x="685" y="1136"/>
                      <a:pt x="708" y="1121"/>
                      <a:pt x="727" y="1105"/>
                    </a:cubicBezTo>
                    <a:cubicBezTo>
                      <a:pt x="746" y="1089"/>
                      <a:pt x="747" y="1095"/>
                      <a:pt x="751" y="1051"/>
                    </a:cubicBezTo>
                    <a:cubicBezTo>
                      <a:pt x="755" y="1007"/>
                      <a:pt x="754" y="936"/>
                      <a:pt x="754" y="841"/>
                    </a:cubicBezTo>
                    <a:cubicBezTo>
                      <a:pt x="754" y="746"/>
                      <a:pt x="756" y="562"/>
                      <a:pt x="754" y="478"/>
                    </a:cubicBezTo>
                    <a:cubicBezTo>
                      <a:pt x="752" y="394"/>
                      <a:pt x="747" y="364"/>
                      <a:pt x="741" y="334"/>
                    </a:cubicBezTo>
                    <a:cubicBezTo>
                      <a:pt x="736" y="303"/>
                      <a:pt x="725" y="307"/>
                      <a:pt x="717" y="296"/>
                    </a:cubicBezTo>
                    <a:cubicBezTo>
                      <a:pt x="709" y="286"/>
                      <a:pt x="708" y="282"/>
                      <a:pt x="693" y="276"/>
                    </a:cubicBezTo>
                    <a:cubicBezTo>
                      <a:pt x="679" y="269"/>
                      <a:pt x="645" y="264"/>
                      <a:pt x="629" y="259"/>
                    </a:cubicBezTo>
                    <a:cubicBezTo>
                      <a:pt x="614" y="255"/>
                      <a:pt x="608" y="255"/>
                      <a:pt x="597" y="251"/>
                    </a:cubicBezTo>
                    <a:cubicBezTo>
                      <a:pt x="588" y="247"/>
                      <a:pt x="577" y="241"/>
                      <a:pt x="569" y="234"/>
                    </a:cubicBezTo>
                    <a:cubicBezTo>
                      <a:pt x="562" y="227"/>
                      <a:pt x="554" y="221"/>
                      <a:pt x="551" y="212"/>
                    </a:cubicBezTo>
                    <a:cubicBezTo>
                      <a:pt x="548" y="201"/>
                      <a:pt x="545" y="189"/>
                      <a:pt x="549" y="176"/>
                    </a:cubicBezTo>
                    <a:cubicBezTo>
                      <a:pt x="553" y="164"/>
                      <a:pt x="567" y="146"/>
                      <a:pt x="577" y="133"/>
                    </a:cubicBezTo>
                    <a:cubicBezTo>
                      <a:pt x="587" y="121"/>
                      <a:pt x="602" y="115"/>
                      <a:pt x="610" y="104"/>
                    </a:cubicBezTo>
                    <a:cubicBezTo>
                      <a:pt x="619" y="93"/>
                      <a:pt x="628" y="77"/>
                      <a:pt x="628" y="66"/>
                    </a:cubicBezTo>
                    <a:cubicBezTo>
                      <a:pt x="628" y="54"/>
                      <a:pt x="635" y="43"/>
                      <a:pt x="613" y="34"/>
                    </a:cubicBezTo>
                    <a:cubicBezTo>
                      <a:pt x="592" y="25"/>
                      <a:pt x="543" y="17"/>
                      <a:pt x="501" y="11"/>
                    </a:cubicBezTo>
                    <a:cubicBezTo>
                      <a:pt x="459" y="6"/>
                      <a:pt x="411" y="0"/>
                      <a:pt x="361" y="0"/>
                    </a:cubicBezTo>
                    <a:cubicBezTo>
                      <a:pt x="312" y="0"/>
                      <a:pt x="242" y="6"/>
                      <a:pt x="203" y="14"/>
                    </a:cubicBezTo>
                    <a:cubicBezTo>
                      <a:pt x="163" y="21"/>
                      <a:pt x="136" y="33"/>
                      <a:pt x="125" y="48"/>
                    </a:cubicBezTo>
                    <a:cubicBezTo>
                      <a:pt x="115" y="62"/>
                      <a:pt x="131" y="90"/>
                      <a:pt x="137" y="105"/>
                    </a:cubicBezTo>
                    <a:cubicBezTo>
                      <a:pt x="143" y="121"/>
                      <a:pt x="153" y="129"/>
                      <a:pt x="161" y="139"/>
                    </a:cubicBezTo>
                    <a:cubicBezTo>
                      <a:pt x="169" y="149"/>
                      <a:pt x="181" y="158"/>
                      <a:pt x="188" y="166"/>
                    </a:cubicBezTo>
                    <a:cubicBezTo>
                      <a:pt x="193" y="173"/>
                      <a:pt x="196" y="174"/>
                      <a:pt x="197" y="182"/>
                    </a:cubicBezTo>
                    <a:cubicBezTo>
                      <a:pt x="198" y="190"/>
                      <a:pt x="199" y="202"/>
                      <a:pt x="195" y="212"/>
                    </a:cubicBezTo>
                    <a:cubicBezTo>
                      <a:pt x="192" y="221"/>
                      <a:pt x="185" y="228"/>
                      <a:pt x="175" y="236"/>
                    </a:cubicBezTo>
                    <a:cubicBezTo>
                      <a:pt x="165" y="244"/>
                      <a:pt x="150" y="252"/>
                      <a:pt x="137" y="257"/>
                    </a:cubicBezTo>
                    <a:cubicBezTo>
                      <a:pt x="124" y="261"/>
                      <a:pt x="108" y="262"/>
                      <a:pt x="97" y="26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1ffff"/>
                  </a:gs>
                  <a:gs pos="100000">
                    <a:srgbClr val="00f4ee"/>
                  </a:gs>
                </a:gsLst>
                <a:lin ang="5400000"/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3946680" y="4225680"/>
                <a:ext cx="1182960" cy="127080"/>
              </a:xfrm>
              <a:custGeom>
                <a:avLst/>
                <a:gdLst/>
                <a:ahLst/>
                <a:rect l="l" t="t" r="r" b="b"/>
                <a:pathLst>
                  <a:path w="732" h="83">
                    <a:moveTo>
                      <a:pt x="732" y="80"/>
                    </a:moveTo>
                    <a:cubicBezTo>
                      <a:pt x="713" y="70"/>
                      <a:pt x="675" y="33"/>
                      <a:pt x="615" y="20"/>
                    </a:cubicBezTo>
                    <a:cubicBezTo>
                      <a:pt x="555" y="7"/>
                      <a:pt x="454" y="0"/>
                      <a:pt x="372" y="1"/>
                    </a:cubicBezTo>
                    <a:cubicBezTo>
                      <a:pt x="290" y="2"/>
                      <a:pt x="184" y="14"/>
                      <a:pt x="122" y="28"/>
                    </a:cubicBezTo>
                    <a:cubicBezTo>
                      <a:pt x="60" y="42"/>
                      <a:pt x="25" y="72"/>
                      <a:pt x="0" y="83"/>
                    </a:cubicBezTo>
                  </a:path>
                </a:pathLst>
              </a:custGeom>
              <a:noFill/>
              <a:ln w="19080">
                <a:solidFill>
                  <a:srgbClr val="0000d2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114800" y="2708280"/>
                <a:ext cx="822240" cy="178920"/>
              </a:xfrm>
              <a:custGeom>
                <a:avLst/>
                <a:gdLst/>
                <a:ahLst/>
                <a:rect l="l" t="t" r="r" b="b"/>
                <a:pathLst>
                  <a:path w="475" h="103">
                    <a:moveTo>
                      <a:pt x="5" y="57"/>
                    </a:moveTo>
                    <a:cubicBezTo>
                      <a:pt x="0" y="49"/>
                      <a:pt x="8" y="37"/>
                      <a:pt x="25" y="29"/>
                    </a:cubicBezTo>
                    <a:cubicBezTo>
                      <a:pt x="42" y="21"/>
                      <a:pt x="76" y="16"/>
                      <a:pt x="107" y="11"/>
                    </a:cubicBezTo>
                    <a:cubicBezTo>
                      <a:pt x="138" y="6"/>
                      <a:pt x="180" y="2"/>
                      <a:pt x="213" y="1"/>
                    </a:cubicBezTo>
                    <a:cubicBezTo>
                      <a:pt x="246" y="0"/>
                      <a:pt x="279" y="1"/>
                      <a:pt x="307" y="3"/>
                    </a:cubicBezTo>
                    <a:cubicBezTo>
                      <a:pt x="335" y="5"/>
                      <a:pt x="357" y="9"/>
                      <a:pt x="379" y="13"/>
                    </a:cubicBezTo>
                    <a:cubicBezTo>
                      <a:pt x="401" y="17"/>
                      <a:pt x="422" y="19"/>
                      <a:pt x="437" y="25"/>
                    </a:cubicBezTo>
                    <a:cubicBezTo>
                      <a:pt x="452" y="31"/>
                      <a:pt x="471" y="42"/>
                      <a:pt x="473" y="49"/>
                    </a:cubicBezTo>
                    <a:cubicBezTo>
                      <a:pt x="475" y="56"/>
                      <a:pt x="464" y="60"/>
                      <a:pt x="449" y="67"/>
                    </a:cubicBezTo>
                    <a:cubicBezTo>
                      <a:pt x="434" y="74"/>
                      <a:pt x="410" y="83"/>
                      <a:pt x="381" y="89"/>
                    </a:cubicBezTo>
                    <a:cubicBezTo>
                      <a:pt x="352" y="95"/>
                      <a:pt x="316" y="99"/>
                      <a:pt x="277" y="101"/>
                    </a:cubicBezTo>
                    <a:cubicBezTo>
                      <a:pt x="238" y="103"/>
                      <a:pt x="186" y="102"/>
                      <a:pt x="149" y="99"/>
                    </a:cubicBezTo>
                    <a:cubicBezTo>
                      <a:pt x="112" y="96"/>
                      <a:pt x="79" y="87"/>
                      <a:pt x="55" y="80"/>
                    </a:cubicBezTo>
                    <a:cubicBezTo>
                      <a:pt x="31" y="73"/>
                      <a:pt x="11" y="66"/>
                      <a:pt x="5" y="5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1ffff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3921120" y="3573720"/>
                <a:ext cx="1224720" cy="314280"/>
              </a:xfrm>
              <a:custGeom>
                <a:avLst/>
                <a:gdLst/>
                <a:ahLst/>
                <a:rect l="l" t="t" r="r" b="b"/>
                <a:pathLst>
                  <a:path w="758" h="205">
                    <a:moveTo>
                      <a:pt x="9" y="99"/>
                    </a:moveTo>
                    <a:cubicBezTo>
                      <a:pt x="0" y="112"/>
                      <a:pt x="16" y="121"/>
                      <a:pt x="35" y="133"/>
                    </a:cubicBezTo>
                    <a:cubicBezTo>
                      <a:pt x="54" y="144"/>
                      <a:pt x="75" y="155"/>
                      <a:pt x="121" y="166"/>
                    </a:cubicBezTo>
                    <a:cubicBezTo>
                      <a:pt x="167" y="178"/>
                      <a:pt x="240" y="196"/>
                      <a:pt x="311" y="200"/>
                    </a:cubicBezTo>
                    <a:cubicBezTo>
                      <a:pt x="382" y="205"/>
                      <a:pt x="492" y="198"/>
                      <a:pt x="547" y="194"/>
                    </a:cubicBezTo>
                    <a:cubicBezTo>
                      <a:pt x="602" y="189"/>
                      <a:pt x="611" y="183"/>
                      <a:pt x="637" y="176"/>
                    </a:cubicBezTo>
                    <a:cubicBezTo>
                      <a:pt x="663" y="168"/>
                      <a:pt x="686" y="161"/>
                      <a:pt x="703" y="148"/>
                    </a:cubicBezTo>
                    <a:cubicBezTo>
                      <a:pt x="720" y="135"/>
                      <a:pt x="735" y="109"/>
                      <a:pt x="742" y="97"/>
                    </a:cubicBezTo>
                    <a:cubicBezTo>
                      <a:pt x="749" y="85"/>
                      <a:pt x="758" y="90"/>
                      <a:pt x="748" y="79"/>
                    </a:cubicBezTo>
                    <a:cubicBezTo>
                      <a:pt x="738" y="68"/>
                      <a:pt x="718" y="40"/>
                      <a:pt x="678" y="27"/>
                    </a:cubicBezTo>
                    <a:cubicBezTo>
                      <a:pt x="638" y="14"/>
                      <a:pt x="568" y="7"/>
                      <a:pt x="507" y="3"/>
                    </a:cubicBezTo>
                    <a:cubicBezTo>
                      <a:pt x="446" y="0"/>
                      <a:pt x="360" y="1"/>
                      <a:pt x="308" y="3"/>
                    </a:cubicBezTo>
                    <a:cubicBezTo>
                      <a:pt x="255" y="6"/>
                      <a:pt x="231" y="10"/>
                      <a:pt x="193" y="17"/>
                    </a:cubicBezTo>
                    <a:cubicBezTo>
                      <a:pt x="157" y="24"/>
                      <a:pt x="116" y="34"/>
                      <a:pt x="85" y="48"/>
                    </a:cubicBezTo>
                    <a:cubicBezTo>
                      <a:pt x="55" y="61"/>
                      <a:pt x="17" y="85"/>
                      <a:pt x="9" y="99"/>
                    </a:cubicBezTo>
                    <a:close/>
                  </a:path>
                </a:pathLst>
              </a:custGeom>
              <a:solidFill>
                <a:srgbClr val="8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3922560" y="3711960"/>
                <a:ext cx="1223280" cy="169920"/>
              </a:xfrm>
              <a:custGeom>
                <a:avLst/>
                <a:gdLst/>
                <a:ahLst/>
                <a:rect l="l" t="t" r="r" b="b"/>
                <a:pathLst>
                  <a:path w="706" h="98">
                    <a:moveTo>
                      <a:pt x="0" y="18"/>
                    </a:moveTo>
                    <a:cubicBezTo>
                      <a:pt x="6" y="22"/>
                      <a:pt x="17" y="35"/>
                      <a:pt x="36" y="44"/>
                    </a:cubicBezTo>
                    <a:cubicBezTo>
                      <a:pt x="55" y="53"/>
                      <a:pt x="83" y="64"/>
                      <a:pt x="115" y="72"/>
                    </a:cubicBezTo>
                    <a:cubicBezTo>
                      <a:pt x="147" y="80"/>
                      <a:pt x="189" y="86"/>
                      <a:pt x="230" y="90"/>
                    </a:cubicBezTo>
                    <a:cubicBezTo>
                      <a:pt x="271" y="94"/>
                      <a:pt x="318" y="98"/>
                      <a:pt x="364" y="98"/>
                    </a:cubicBezTo>
                    <a:cubicBezTo>
                      <a:pt x="410" y="98"/>
                      <a:pt x="467" y="96"/>
                      <a:pt x="508" y="90"/>
                    </a:cubicBezTo>
                    <a:cubicBezTo>
                      <a:pt x="549" y="84"/>
                      <a:pt x="582" y="73"/>
                      <a:pt x="610" y="64"/>
                    </a:cubicBezTo>
                    <a:cubicBezTo>
                      <a:pt x="638" y="55"/>
                      <a:pt x="660" y="45"/>
                      <a:pt x="676" y="34"/>
                    </a:cubicBezTo>
                    <a:cubicBezTo>
                      <a:pt x="692" y="23"/>
                      <a:pt x="700" y="7"/>
                      <a:pt x="706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922560" y="3576600"/>
                <a:ext cx="1223280" cy="155160"/>
              </a:xfrm>
              <a:custGeom>
                <a:avLst/>
                <a:gdLst/>
                <a:ahLst/>
                <a:rect l="l" t="t" r="r" b="b"/>
                <a:pathLst>
                  <a:path w="706" h="90">
                    <a:moveTo>
                      <a:pt x="706" y="70"/>
                    </a:moveTo>
                    <a:cubicBezTo>
                      <a:pt x="699" y="65"/>
                      <a:pt x="685" y="49"/>
                      <a:pt x="664" y="40"/>
                    </a:cubicBezTo>
                    <a:cubicBezTo>
                      <a:pt x="643" y="31"/>
                      <a:pt x="611" y="22"/>
                      <a:pt x="580" y="16"/>
                    </a:cubicBezTo>
                    <a:cubicBezTo>
                      <a:pt x="549" y="10"/>
                      <a:pt x="514" y="4"/>
                      <a:pt x="478" y="2"/>
                    </a:cubicBezTo>
                    <a:cubicBezTo>
                      <a:pt x="442" y="0"/>
                      <a:pt x="399" y="1"/>
                      <a:pt x="361" y="1"/>
                    </a:cubicBezTo>
                    <a:cubicBezTo>
                      <a:pt x="323" y="1"/>
                      <a:pt x="286" y="1"/>
                      <a:pt x="252" y="4"/>
                    </a:cubicBezTo>
                    <a:cubicBezTo>
                      <a:pt x="218" y="7"/>
                      <a:pt x="183" y="14"/>
                      <a:pt x="154" y="20"/>
                    </a:cubicBezTo>
                    <a:cubicBezTo>
                      <a:pt x="125" y="26"/>
                      <a:pt x="97" y="34"/>
                      <a:pt x="76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3921120" y="3182040"/>
                <a:ext cx="1226520" cy="314280"/>
              </a:xfrm>
              <a:custGeom>
                <a:avLst/>
                <a:gdLst/>
                <a:ahLst/>
                <a:rect l="l" t="t" r="r" b="b"/>
                <a:pathLst>
                  <a:path w="708" h="181">
                    <a:moveTo>
                      <a:pt x="8" y="87"/>
                    </a:moveTo>
                    <a:cubicBezTo>
                      <a:pt x="0" y="99"/>
                      <a:pt x="15" y="107"/>
                      <a:pt x="33" y="117"/>
                    </a:cubicBezTo>
                    <a:cubicBezTo>
                      <a:pt x="50" y="127"/>
                      <a:pt x="71" y="137"/>
                      <a:pt x="114" y="147"/>
                    </a:cubicBezTo>
                    <a:cubicBezTo>
                      <a:pt x="157" y="157"/>
                      <a:pt x="226" y="173"/>
                      <a:pt x="292" y="177"/>
                    </a:cubicBezTo>
                    <a:cubicBezTo>
                      <a:pt x="359" y="181"/>
                      <a:pt x="463" y="175"/>
                      <a:pt x="514" y="171"/>
                    </a:cubicBezTo>
                    <a:cubicBezTo>
                      <a:pt x="566" y="167"/>
                      <a:pt x="575" y="162"/>
                      <a:pt x="599" y="155"/>
                    </a:cubicBezTo>
                    <a:cubicBezTo>
                      <a:pt x="623" y="148"/>
                      <a:pt x="644" y="142"/>
                      <a:pt x="661" y="131"/>
                    </a:cubicBezTo>
                    <a:cubicBezTo>
                      <a:pt x="678" y="120"/>
                      <a:pt x="695" y="99"/>
                      <a:pt x="701" y="89"/>
                    </a:cubicBezTo>
                    <a:cubicBezTo>
                      <a:pt x="707" y="79"/>
                      <a:pt x="708" y="80"/>
                      <a:pt x="697" y="69"/>
                    </a:cubicBezTo>
                    <a:cubicBezTo>
                      <a:pt x="686" y="58"/>
                      <a:pt x="674" y="35"/>
                      <a:pt x="637" y="24"/>
                    </a:cubicBezTo>
                    <a:cubicBezTo>
                      <a:pt x="600" y="13"/>
                      <a:pt x="534" y="6"/>
                      <a:pt x="477" y="3"/>
                    </a:cubicBezTo>
                    <a:cubicBezTo>
                      <a:pt x="419" y="0"/>
                      <a:pt x="339" y="1"/>
                      <a:pt x="289" y="3"/>
                    </a:cubicBezTo>
                    <a:cubicBezTo>
                      <a:pt x="240" y="5"/>
                      <a:pt x="217" y="9"/>
                      <a:pt x="182" y="15"/>
                    </a:cubicBezTo>
                    <a:cubicBezTo>
                      <a:pt x="147" y="21"/>
                      <a:pt x="109" y="30"/>
                      <a:pt x="80" y="42"/>
                    </a:cubicBezTo>
                    <a:cubicBezTo>
                      <a:pt x="51" y="54"/>
                      <a:pt x="16" y="75"/>
                      <a:pt x="8" y="8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1ffff"/>
                  </a:gs>
                  <a:gs pos="100000">
                    <a:srgbClr val="8b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922560" y="3315600"/>
                <a:ext cx="1209240" cy="173160"/>
              </a:xfrm>
              <a:custGeom>
                <a:avLst/>
                <a:gdLst/>
                <a:ahLst/>
                <a:rect l="l" t="t" r="r" b="b"/>
                <a:pathLst>
                  <a:path w="698" h="100">
                    <a:moveTo>
                      <a:pt x="0" y="20"/>
                    </a:moveTo>
                    <a:cubicBezTo>
                      <a:pt x="6" y="24"/>
                      <a:pt x="17" y="37"/>
                      <a:pt x="36" y="46"/>
                    </a:cubicBezTo>
                    <a:cubicBezTo>
                      <a:pt x="55" y="55"/>
                      <a:pt x="84" y="66"/>
                      <a:pt x="116" y="74"/>
                    </a:cubicBezTo>
                    <a:cubicBezTo>
                      <a:pt x="148" y="82"/>
                      <a:pt x="191" y="88"/>
                      <a:pt x="232" y="92"/>
                    </a:cubicBezTo>
                    <a:cubicBezTo>
                      <a:pt x="273" y="96"/>
                      <a:pt x="321" y="100"/>
                      <a:pt x="367" y="100"/>
                    </a:cubicBezTo>
                    <a:cubicBezTo>
                      <a:pt x="413" y="100"/>
                      <a:pt x="471" y="98"/>
                      <a:pt x="512" y="92"/>
                    </a:cubicBezTo>
                    <a:cubicBezTo>
                      <a:pt x="554" y="86"/>
                      <a:pt x="587" y="75"/>
                      <a:pt x="615" y="66"/>
                    </a:cubicBezTo>
                    <a:cubicBezTo>
                      <a:pt x="643" y="57"/>
                      <a:pt x="668" y="47"/>
                      <a:pt x="682" y="36"/>
                    </a:cubicBezTo>
                    <a:cubicBezTo>
                      <a:pt x="696" y="25"/>
                      <a:pt x="695" y="7"/>
                      <a:pt x="698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3922560" y="3183840"/>
                <a:ext cx="1205640" cy="156240"/>
              </a:xfrm>
              <a:custGeom>
                <a:avLst/>
                <a:gdLst/>
                <a:ahLst/>
                <a:rect l="l" t="t" r="r" b="b"/>
                <a:pathLst>
                  <a:path w="696" h="90">
                    <a:moveTo>
                      <a:pt x="696" y="68"/>
                    </a:moveTo>
                    <a:cubicBezTo>
                      <a:pt x="691" y="63"/>
                      <a:pt x="688" y="49"/>
                      <a:pt x="670" y="40"/>
                    </a:cubicBezTo>
                    <a:cubicBezTo>
                      <a:pt x="652" y="31"/>
                      <a:pt x="616" y="22"/>
                      <a:pt x="585" y="16"/>
                    </a:cubicBezTo>
                    <a:cubicBezTo>
                      <a:pt x="554" y="10"/>
                      <a:pt x="518" y="4"/>
                      <a:pt x="482" y="2"/>
                    </a:cubicBezTo>
                    <a:cubicBezTo>
                      <a:pt x="446" y="0"/>
                      <a:pt x="402" y="1"/>
                      <a:pt x="364" y="1"/>
                    </a:cubicBezTo>
                    <a:cubicBezTo>
                      <a:pt x="326" y="1"/>
                      <a:pt x="288" y="1"/>
                      <a:pt x="254" y="4"/>
                    </a:cubicBezTo>
                    <a:cubicBezTo>
                      <a:pt x="220" y="7"/>
                      <a:pt x="185" y="14"/>
                      <a:pt x="155" y="20"/>
                    </a:cubicBezTo>
                    <a:cubicBezTo>
                      <a:pt x="126" y="26"/>
                      <a:pt x="98" y="34"/>
                      <a:pt x="77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>
              <a:off x="3851280" y="3211560"/>
              <a:ext cx="80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2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5" name=""/>
          <p:cNvSpPr/>
          <p:nvPr/>
        </p:nvSpPr>
        <p:spPr>
          <a:xfrm>
            <a:off x="3565440" y="36450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2412720" y="36450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1188720" y="36450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2845080" y="4437000"/>
            <a:ext cx="56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5 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324000" y="3068640"/>
            <a:ext cx="935640" cy="1439640"/>
            <a:chOff x="324000" y="3068640"/>
            <a:chExt cx="935640" cy="1439640"/>
          </a:xfrm>
        </p:grpSpPr>
        <p:grpSp>
          <p:nvGrpSpPr>
            <p:cNvPr id="820" name=""/>
            <p:cNvGrpSpPr/>
            <p:nvPr/>
          </p:nvGrpSpPr>
          <p:grpSpPr>
            <a:xfrm>
              <a:off x="396720" y="3068640"/>
              <a:ext cx="862920" cy="1439640"/>
              <a:chOff x="396720" y="3068640"/>
              <a:chExt cx="862920" cy="1439640"/>
            </a:xfrm>
          </p:grpSpPr>
          <p:sp>
            <p:nvSpPr>
              <p:cNvPr id="821" name=""/>
              <p:cNvSpPr/>
              <p:nvPr/>
            </p:nvSpPr>
            <p:spPr>
              <a:xfrm>
                <a:off x="402480" y="3068640"/>
                <a:ext cx="857160" cy="1439640"/>
              </a:xfrm>
              <a:custGeom>
                <a:avLst/>
                <a:gdLst/>
                <a:ahLst/>
                <a:rect l="l" t="t" r="r" b="b"/>
                <a:pathLst>
                  <a:path w="977" h="1445">
                    <a:moveTo>
                      <a:pt x="125" y="327"/>
                    </a:moveTo>
                    <a:cubicBezTo>
                      <a:pt x="110" y="330"/>
                      <a:pt x="101" y="330"/>
                      <a:pt x="86" y="340"/>
                    </a:cubicBezTo>
                    <a:cubicBezTo>
                      <a:pt x="71" y="348"/>
                      <a:pt x="46" y="360"/>
                      <a:pt x="33" y="380"/>
                    </a:cubicBezTo>
                    <a:cubicBezTo>
                      <a:pt x="19" y="401"/>
                      <a:pt x="12" y="403"/>
                      <a:pt x="7" y="467"/>
                    </a:cubicBezTo>
                    <a:cubicBezTo>
                      <a:pt x="1" y="532"/>
                      <a:pt x="3" y="676"/>
                      <a:pt x="1" y="769"/>
                    </a:cubicBezTo>
                    <a:cubicBezTo>
                      <a:pt x="1" y="861"/>
                      <a:pt x="0" y="935"/>
                      <a:pt x="1" y="1024"/>
                    </a:cubicBezTo>
                    <a:cubicBezTo>
                      <a:pt x="4" y="1112"/>
                      <a:pt x="0" y="1240"/>
                      <a:pt x="12" y="1300"/>
                    </a:cubicBezTo>
                    <a:cubicBezTo>
                      <a:pt x="25" y="1360"/>
                      <a:pt x="30" y="1360"/>
                      <a:pt x="75" y="1382"/>
                    </a:cubicBezTo>
                    <a:cubicBezTo>
                      <a:pt x="119" y="1405"/>
                      <a:pt x="202" y="1423"/>
                      <a:pt x="283" y="1432"/>
                    </a:cubicBezTo>
                    <a:cubicBezTo>
                      <a:pt x="363" y="1442"/>
                      <a:pt x="471" y="1445"/>
                      <a:pt x="561" y="1441"/>
                    </a:cubicBezTo>
                    <a:cubicBezTo>
                      <a:pt x="651" y="1437"/>
                      <a:pt x="761" y="1424"/>
                      <a:pt x="823" y="1412"/>
                    </a:cubicBezTo>
                    <a:cubicBezTo>
                      <a:pt x="886" y="1399"/>
                      <a:pt x="915" y="1382"/>
                      <a:pt x="940" y="1361"/>
                    </a:cubicBezTo>
                    <a:cubicBezTo>
                      <a:pt x="965" y="1340"/>
                      <a:pt x="964" y="1339"/>
                      <a:pt x="970" y="1284"/>
                    </a:cubicBezTo>
                    <a:cubicBezTo>
                      <a:pt x="976" y="1229"/>
                      <a:pt x="973" y="1148"/>
                      <a:pt x="974" y="1032"/>
                    </a:cubicBezTo>
                    <a:cubicBezTo>
                      <a:pt x="975" y="916"/>
                      <a:pt x="977" y="692"/>
                      <a:pt x="974" y="589"/>
                    </a:cubicBezTo>
                    <a:cubicBezTo>
                      <a:pt x="971" y="486"/>
                      <a:pt x="966" y="449"/>
                      <a:pt x="958" y="411"/>
                    </a:cubicBezTo>
                    <a:cubicBezTo>
                      <a:pt x="951" y="373"/>
                      <a:pt x="937" y="378"/>
                      <a:pt x="927" y="365"/>
                    </a:cubicBezTo>
                    <a:cubicBezTo>
                      <a:pt x="916" y="353"/>
                      <a:pt x="915" y="347"/>
                      <a:pt x="895" y="340"/>
                    </a:cubicBezTo>
                    <a:cubicBezTo>
                      <a:pt x="877" y="332"/>
                      <a:pt x="834" y="325"/>
                      <a:pt x="814" y="319"/>
                    </a:cubicBezTo>
                    <a:cubicBezTo>
                      <a:pt x="794" y="314"/>
                      <a:pt x="786" y="314"/>
                      <a:pt x="772" y="309"/>
                    </a:cubicBezTo>
                    <a:cubicBezTo>
                      <a:pt x="760" y="304"/>
                      <a:pt x="746" y="297"/>
                      <a:pt x="736" y="288"/>
                    </a:cubicBezTo>
                    <a:cubicBezTo>
                      <a:pt x="726" y="280"/>
                      <a:pt x="717" y="272"/>
                      <a:pt x="712" y="261"/>
                    </a:cubicBezTo>
                    <a:cubicBezTo>
                      <a:pt x="708" y="248"/>
                      <a:pt x="704" y="233"/>
                      <a:pt x="710" y="217"/>
                    </a:cubicBezTo>
                    <a:cubicBezTo>
                      <a:pt x="715" y="202"/>
                      <a:pt x="733" y="180"/>
                      <a:pt x="746" y="164"/>
                    </a:cubicBezTo>
                    <a:cubicBezTo>
                      <a:pt x="758" y="149"/>
                      <a:pt x="778" y="142"/>
                      <a:pt x="789" y="128"/>
                    </a:cubicBezTo>
                    <a:cubicBezTo>
                      <a:pt x="800" y="114"/>
                      <a:pt x="812" y="95"/>
                      <a:pt x="812" y="81"/>
                    </a:cubicBezTo>
                    <a:cubicBezTo>
                      <a:pt x="812" y="67"/>
                      <a:pt x="821" y="53"/>
                      <a:pt x="793" y="42"/>
                    </a:cubicBezTo>
                    <a:cubicBezTo>
                      <a:pt x="765" y="31"/>
                      <a:pt x="701" y="21"/>
                      <a:pt x="647" y="14"/>
                    </a:cubicBezTo>
                    <a:cubicBezTo>
                      <a:pt x="593" y="7"/>
                      <a:pt x="531" y="0"/>
                      <a:pt x="467" y="0"/>
                    </a:cubicBezTo>
                    <a:cubicBezTo>
                      <a:pt x="403" y="0"/>
                      <a:pt x="313" y="7"/>
                      <a:pt x="262" y="17"/>
                    </a:cubicBezTo>
                    <a:cubicBezTo>
                      <a:pt x="211" y="26"/>
                      <a:pt x="176" y="40"/>
                      <a:pt x="162" y="59"/>
                    </a:cubicBezTo>
                    <a:cubicBezTo>
                      <a:pt x="148" y="77"/>
                      <a:pt x="169" y="111"/>
                      <a:pt x="177" y="130"/>
                    </a:cubicBezTo>
                    <a:cubicBezTo>
                      <a:pt x="184" y="149"/>
                      <a:pt x="198" y="159"/>
                      <a:pt x="208" y="171"/>
                    </a:cubicBezTo>
                    <a:cubicBezTo>
                      <a:pt x="219" y="184"/>
                      <a:pt x="234" y="195"/>
                      <a:pt x="243" y="205"/>
                    </a:cubicBezTo>
                    <a:cubicBezTo>
                      <a:pt x="250" y="213"/>
                      <a:pt x="254" y="215"/>
                      <a:pt x="255" y="224"/>
                    </a:cubicBezTo>
                    <a:cubicBezTo>
                      <a:pt x="256" y="234"/>
                      <a:pt x="258" y="249"/>
                      <a:pt x="252" y="261"/>
                    </a:cubicBezTo>
                    <a:cubicBezTo>
                      <a:pt x="248" y="272"/>
                      <a:pt x="240" y="281"/>
                      <a:pt x="226" y="291"/>
                    </a:cubicBezTo>
                    <a:cubicBezTo>
                      <a:pt x="213" y="301"/>
                      <a:pt x="194" y="311"/>
                      <a:pt x="177" y="316"/>
                    </a:cubicBezTo>
                    <a:cubicBezTo>
                      <a:pt x="161" y="322"/>
                      <a:pt x="140" y="323"/>
                      <a:pt x="125" y="32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1ffff"/>
                  </a:gs>
                  <a:gs pos="100000">
                    <a:srgbClr val="00f4ee"/>
                  </a:gs>
                </a:gsLst>
                <a:lin ang="5400000"/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538560" y="3068640"/>
                <a:ext cx="578880" cy="143640"/>
              </a:xfrm>
              <a:custGeom>
                <a:avLst/>
                <a:gdLst/>
                <a:ahLst/>
                <a:rect l="l" t="t" r="r" b="b"/>
                <a:pathLst>
                  <a:path w="475" h="103">
                    <a:moveTo>
                      <a:pt x="5" y="57"/>
                    </a:moveTo>
                    <a:cubicBezTo>
                      <a:pt x="0" y="49"/>
                      <a:pt x="8" y="37"/>
                      <a:pt x="25" y="29"/>
                    </a:cubicBezTo>
                    <a:cubicBezTo>
                      <a:pt x="42" y="21"/>
                      <a:pt x="76" y="16"/>
                      <a:pt x="107" y="11"/>
                    </a:cubicBezTo>
                    <a:cubicBezTo>
                      <a:pt x="138" y="6"/>
                      <a:pt x="180" y="2"/>
                      <a:pt x="213" y="1"/>
                    </a:cubicBezTo>
                    <a:cubicBezTo>
                      <a:pt x="246" y="0"/>
                      <a:pt x="279" y="1"/>
                      <a:pt x="307" y="3"/>
                    </a:cubicBezTo>
                    <a:cubicBezTo>
                      <a:pt x="335" y="5"/>
                      <a:pt x="357" y="9"/>
                      <a:pt x="379" y="13"/>
                    </a:cubicBezTo>
                    <a:cubicBezTo>
                      <a:pt x="401" y="17"/>
                      <a:pt x="422" y="19"/>
                      <a:pt x="437" y="25"/>
                    </a:cubicBezTo>
                    <a:cubicBezTo>
                      <a:pt x="452" y="31"/>
                      <a:pt x="471" y="42"/>
                      <a:pt x="473" y="49"/>
                    </a:cubicBezTo>
                    <a:cubicBezTo>
                      <a:pt x="475" y="56"/>
                      <a:pt x="464" y="60"/>
                      <a:pt x="449" y="67"/>
                    </a:cubicBezTo>
                    <a:cubicBezTo>
                      <a:pt x="434" y="74"/>
                      <a:pt x="410" y="83"/>
                      <a:pt x="381" y="89"/>
                    </a:cubicBezTo>
                    <a:cubicBezTo>
                      <a:pt x="352" y="95"/>
                      <a:pt x="316" y="99"/>
                      <a:pt x="277" y="101"/>
                    </a:cubicBezTo>
                    <a:cubicBezTo>
                      <a:pt x="238" y="103"/>
                      <a:pt x="186" y="102"/>
                      <a:pt x="149" y="99"/>
                    </a:cubicBezTo>
                    <a:cubicBezTo>
                      <a:pt x="112" y="96"/>
                      <a:pt x="79" y="87"/>
                      <a:pt x="55" y="80"/>
                    </a:cubicBezTo>
                    <a:cubicBezTo>
                      <a:pt x="31" y="73"/>
                      <a:pt x="11" y="66"/>
                      <a:pt x="5" y="5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1ffff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402480" y="4199040"/>
                <a:ext cx="851400" cy="144000"/>
              </a:xfrm>
              <a:custGeom>
                <a:avLst/>
                <a:gdLst/>
                <a:ahLst/>
                <a:rect l="l" t="t" r="r" b="b"/>
                <a:pathLst>
                  <a:path w="713" h="109">
                    <a:moveTo>
                      <a:pt x="0" y="24"/>
                    </a:moveTo>
                    <a:cubicBezTo>
                      <a:pt x="6" y="28"/>
                      <a:pt x="17" y="42"/>
                      <a:pt x="37" y="52"/>
                    </a:cubicBezTo>
                    <a:cubicBezTo>
                      <a:pt x="56" y="61"/>
                      <a:pt x="85" y="73"/>
                      <a:pt x="117" y="81"/>
                    </a:cubicBezTo>
                    <a:cubicBezTo>
                      <a:pt x="150" y="90"/>
                      <a:pt x="193" y="96"/>
                      <a:pt x="235" y="101"/>
                    </a:cubicBezTo>
                    <a:cubicBezTo>
                      <a:pt x="276" y="105"/>
                      <a:pt x="324" y="109"/>
                      <a:pt x="371" y="109"/>
                    </a:cubicBezTo>
                    <a:cubicBezTo>
                      <a:pt x="418" y="109"/>
                      <a:pt x="477" y="106"/>
                      <a:pt x="518" y="101"/>
                    </a:cubicBezTo>
                    <a:cubicBezTo>
                      <a:pt x="559" y="96"/>
                      <a:pt x="592" y="91"/>
                      <a:pt x="620" y="81"/>
                    </a:cubicBezTo>
                    <a:cubicBezTo>
                      <a:pt x="648" y="71"/>
                      <a:pt x="674" y="55"/>
                      <a:pt x="689" y="41"/>
                    </a:cubicBezTo>
                    <a:cubicBezTo>
                      <a:pt x="704" y="27"/>
                      <a:pt x="708" y="9"/>
                      <a:pt x="713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96720" y="3706200"/>
                <a:ext cx="850320" cy="138600"/>
              </a:xfrm>
              <a:custGeom>
                <a:avLst/>
                <a:gdLst/>
                <a:ahLst/>
                <a:rect l="l" t="t" r="r" b="b"/>
                <a:pathLst>
                  <a:path w="712" h="105">
                    <a:moveTo>
                      <a:pt x="0" y="21"/>
                    </a:moveTo>
                    <a:cubicBezTo>
                      <a:pt x="6" y="25"/>
                      <a:pt x="17" y="39"/>
                      <a:pt x="37" y="48"/>
                    </a:cubicBezTo>
                    <a:cubicBezTo>
                      <a:pt x="56" y="58"/>
                      <a:pt x="86" y="69"/>
                      <a:pt x="118" y="78"/>
                    </a:cubicBezTo>
                    <a:cubicBezTo>
                      <a:pt x="151" y="86"/>
                      <a:pt x="195" y="92"/>
                      <a:pt x="237" y="97"/>
                    </a:cubicBezTo>
                    <a:cubicBezTo>
                      <a:pt x="278" y="101"/>
                      <a:pt x="327" y="105"/>
                      <a:pt x="374" y="105"/>
                    </a:cubicBezTo>
                    <a:cubicBezTo>
                      <a:pt x="421" y="105"/>
                      <a:pt x="480" y="103"/>
                      <a:pt x="522" y="97"/>
                    </a:cubicBezTo>
                    <a:cubicBezTo>
                      <a:pt x="565" y="90"/>
                      <a:pt x="599" y="79"/>
                      <a:pt x="627" y="69"/>
                    </a:cubicBezTo>
                    <a:cubicBezTo>
                      <a:pt x="655" y="59"/>
                      <a:pt x="675" y="45"/>
                      <a:pt x="689" y="34"/>
                    </a:cubicBezTo>
                    <a:cubicBezTo>
                      <a:pt x="703" y="23"/>
                      <a:pt x="707" y="7"/>
                      <a:pt x="712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96720" y="3588840"/>
                <a:ext cx="841680" cy="126360"/>
              </a:xfrm>
              <a:custGeom>
                <a:avLst/>
                <a:gdLst/>
                <a:ahLst/>
                <a:rect l="l" t="t" r="r" b="b"/>
                <a:pathLst>
                  <a:path w="705" h="96">
                    <a:moveTo>
                      <a:pt x="705" y="72"/>
                    </a:moveTo>
                    <a:cubicBezTo>
                      <a:pt x="693" y="66"/>
                      <a:pt x="655" y="45"/>
                      <a:pt x="630" y="36"/>
                    </a:cubicBezTo>
                    <a:cubicBezTo>
                      <a:pt x="605" y="27"/>
                      <a:pt x="583" y="26"/>
                      <a:pt x="555" y="21"/>
                    </a:cubicBezTo>
                    <a:cubicBezTo>
                      <a:pt x="527" y="16"/>
                      <a:pt x="491" y="9"/>
                      <a:pt x="459" y="6"/>
                    </a:cubicBezTo>
                    <a:cubicBezTo>
                      <a:pt x="427" y="3"/>
                      <a:pt x="393" y="0"/>
                      <a:pt x="360" y="0"/>
                    </a:cubicBezTo>
                    <a:cubicBezTo>
                      <a:pt x="327" y="0"/>
                      <a:pt x="292" y="4"/>
                      <a:pt x="261" y="6"/>
                    </a:cubicBezTo>
                    <a:cubicBezTo>
                      <a:pt x="230" y="8"/>
                      <a:pt x="200" y="11"/>
                      <a:pt x="171" y="15"/>
                    </a:cubicBezTo>
                    <a:cubicBezTo>
                      <a:pt x="142" y="19"/>
                      <a:pt x="110" y="26"/>
                      <a:pt x="87" y="33"/>
                    </a:cubicBezTo>
                    <a:cubicBezTo>
                      <a:pt x="64" y="40"/>
                      <a:pt x="44" y="47"/>
                      <a:pt x="30" y="57"/>
                    </a:cubicBezTo>
                    <a:cubicBezTo>
                      <a:pt x="16" y="67"/>
                      <a:pt x="6" y="88"/>
                      <a:pt x="0" y="96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96720" y="3605760"/>
                <a:ext cx="846360" cy="237600"/>
              </a:xfrm>
              <a:custGeom>
                <a:avLst/>
                <a:gdLst/>
                <a:ahLst/>
                <a:rect l="l" t="t" r="r" b="b"/>
                <a:pathLst>
                  <a:path w="709" h="180">
                    <a:moveTo>
                      <a:pt x="3" y="93"/>
                    </a:moveTo>
                    <a:cubicBezTo>
                      <a:pt x="0" y="103"/>
                      <a:pt x="18" y="108"/>
                      <a:pt x="36" y="117"/>
                    </a:cubicBezTo>
                    <a:cubicBezTo>
                      <a:pt x="54" y="126"/>
                      <a:pt x="80" y="141"/>
                      <a:pt x="114" y="150"/>
                    </a:cubicBezTo>
                    <a:cubicBezTo>
                      <a:pt x="148" y="159"/>
                      <a:pt x="195" y="166"/>
                      <a:pt x="240" y="171"/>
                    </a:cubicBezTo>
                    <a:cubicBezTo>
                      <a:pt x="285" y="176"/>
                      <a:pt x="342" y="180"/>
                      <a:pt x="387" y="180"/>
                    </a:cubicBezTo>
                    <a:cubicBezTo>
                      <a:pt x="432" y="180"/>
                      <a:pt x="475" y="178"/>
                      <a:pt x="510" y="174"/>
                    </a:cubicBezTo>
                    <a:cubicBezTo>
                      <a:pt x="545" y="170"/>
                      <a:pt x="572" y="161"/>
                      <a:pt x="597" y="153"/>
                    </a:cubicBezTo>
                    <a:cubicBezTo>
                      <a:pt x="622" y="145"/>
                      <a:pt x="646" y="136"/>
                      <a:pt x="663" y="126"/>
                    </a:cubicBezTo>
                    <a:cubicBezTo>
                      <a:pt x="680" y="116"/>
                      <a:pt x="696" y="99"/>
                      <a:pt x="702" y="90"/>
                    </a:cubicBezTo>
                    <a:cubicBezTo>
                      <a:pt x="708" y="81"/>
                      <a:pt x="709" y="81"/>
                      <a:pt x="699" y="72"/>
                    </a:cubicBezTo>
                    <a:cubicBezTo>
                      <a:pt x="689" y="63"/>
                      <a:pt x="675" y="46"/>
                      <a:pt x="642" y="36"/>
                    </a:cubicBezTo>
                    <a:cubicBezTo>
                      <a:pt x="609" y="26"/>
                      <a:pt x="543" y="14"/>
                      <a:pt x="501" y="9"/>
                    </a:cubicBezTo>
                    <a:cubicBezTo>
                      <a:pt x="459" y="4"/>
                      <a:pt x="427" y="4"/>
                      <a:pt x="387" y="3"/>
                    </a:cubicBezTo>
                    <a:cubicBezTo>
                      <a:pt x="347" y="2"/>
                      <a:pt x="300" y="0"/>
                      <a:pt x="258" y="3"/>
                    </a:cubicBezTo>
                    <a:cubicBezTo>
                      <a:pt x="216" y="6"/>
                      <a:pt x="171" y="13"/>
                      <a:pt x="135" y="21"/>
                    </a:cubicBezTo>
                    <a:cubicBezTo>
                      <a:pt x="99" y="29"/>
                      <a:pt x="64" y="39"/>
                      <a:pt x="42" y="51"/>
                    </a:cubicBezTo>
                    <a:cubicBezTo>
                      <a:pt x="20" y="63"/>
                      <a:pt x="11" y="84"/>
                      <a:pt x="3" y="9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7ffff"/>
                  </a:gs>
                  <a:gs pos="100000">
                    <a:srgbClr val="01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402480" y="4085640"/>
                <a:ext cx="852480" cy="245520"/>
              </a:xfrm>
              <a:custGeom>
                <a:avLst/>
                <a:gdLst/>
                <a:ahLst/>
                <a:rect l="l" t="t" r="r" b="b"/>
                <a:pathLst>
                  <a:path w="714" h="186">
                    <a:moveTo>
                      <a:pt x="8" y="89"/>
                    </a:moveTo>
                    <a:cubicBezTo>
                      <a:pt x="0" y="101"/>
                      <a:pt x="18" y="110"/>
                      <a:pt x="34" y="121"/>
                    </a:cubicBezTo>
                    <a:cubicBezTo>
                      <a:pt x="50" y="132"/>
                      <a:pt x="63" y="145"/>
                      <a:pt x="107" y="155"/>
                    </a:cubicBezTo>
                    <a:cubicBezTo>
                      <a:pt x="151" y="165"/>
                      <a:pt x="228" y="180"/>
                      <a:pt x="296" y="183"/>
                    </a:cubicBezTo>
                    <a:cubicBezTo>
                      <a:pt x="364" y="186"/>
                      <a:pt x="464" y="181"/>
                      <a:pt x="515" y="176"/>
                    </a:cubicBezTo>
                    <a:cubicBezTo>
                      <a:pt x="566" y="171"/>
                      <a:pt x="577" y="162"/>
                      <a:pt x="602" y="155"/>
                    </a:cubicBezTo>
                    <a:cubicBezTo>
                      <a:pt x="627" y="148"/>
                      <a:pt x="647" y="143"/>
                      <a:pt x="665" y="131"/>
                    </a:cubicBezTo>
                    <a:cubicBezTo>
                      <a:pt x="683" y="119"/>
                      <a:pt x="700" y="96"/>
                      <a:pt x="707" y="86"/>
                    </a:cubicBezTo>
                    <a:cubicBezTo>
                      <a:pt x="714" y="76"/>
                      <a:pt x="714" y="77"/>
                      <a:pt x="704" y="68"/>
                    </a:cubicBezTo>
                    <a:cubicBezTo>
                      <a:pt x="694" y="59"/>
                      <a:pt x="680" y="42"/>
                      <a:pt x="647" y="32"/>
                    </a:cubicBezTo>
                    <a:cubicBezTo>
                      <a:pt x="614" y="22"/>
                      <a:pt x="549" y="10"/>
                      <a:pt x="506" y="5"/>
                    </a:cubicBezTo>
                    <a:cubicBezTo>
                      <a:pt x="463" y="0"/>
                      <a:pt x="429" y="2"/>
                      <a:pt x="389" y="2"/>
                    </a:cubicBezTo>
                    <a:cubicBezTo>
                      <a:pt x="349" y="2"/>
                      <a:pt x="305" y="1"/>
                      <a:pt x="263" y="5"/>
                    </a:cubicBezTo>
                    <a:cubicBezTo>
                      <a:pt x="221" y="9"/>
                      <a:pt x="171" y="21"/>
                      <a:pt x="137" y="29"/>
                    </a:cubicBezTo>
                    <a:cubicBezTo>
                      <a:pt x="103" y="37"/>
                      <a:pt x="77" y="43"/>
                      <a:pt x="56" y="53"/>
                    </a:cubicBezTo>
                    <a:cubicBezTo>
                      <a:pt x="35" y="63"/>
                      <a:pt x="18" y="82"/>
                      <a:pt x="8" y="8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7ffff"/>
                  </a:gs>
                  <a:gs pos="100000">
                    <a:srgbClr val="00f8f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402480" y="4085640"/>
                <a:ext cx="841680" cy="117720"/>
              </a:xfrm>
              <a:custGeom>
                <a:avLst/>
                <a:gdLst/>
                <a:ahLst/>
                <a:rect l="l" t="t" r="r" b="b"/>
                <a:pathLst>
                  <a:path w="705" h="89">
                    <a:moveTo>
                      <a:pt x="705" y="68"/>
                    </a:moveTo>
                    <a:cubicBezTo>
                      <a:pt x="698" y="63"/>
                      <a:pt x="692" y="50"/>
                      <a:pt x="672" y="42"/>
                    </a:cubicBezTo>
                    <a:cubicBezTo>
                      <a:pt x="652" y="34"/>
                      <a:pt x="618" y="23"/>
                      <a:pt x="587" y="17"/>
                    </a:cubicBezTo>
                    <a:cubicBezTo>
                      <a:pt x="555" y="10"/>
                      <a:pt x="519" y="4"/>
                      <a:pt x="482" y="2"/>
                    </a:cubicBezTo>
                    <a:cubicBezTo>
                      <a:pt x="446" y="0"/>
                      <a:pt x="402" y="1"/>
                      <a:pt x="363" y="1"/>
                    </a:cubicBezTo>
                    <a:cubicBezTo>
                      <a:pt x="324" y="1"/>
                      <a:pt x="287" y="1"/>
                      <a:pt x="252" y="4"/>
                    </a:cubicBezTo>
                    <a:cubicBezTo>
                      <a:pt x="217" y="7"/>
                      <a:pt x="182" y="12"/>
                      <a:pt x="153" y="17"/>
                    </a:cubicBezTo>
                    <a:cubicBezTo>
                      <a:pt x="124" y="22"/>
                      <a:pt x="97" y="28"/>
                      <a:pt x="75" y="35"/>
                    </a:cubicBezTo>
                    <a:cubicBezTo>
                      <a:pt x="53" y="42"/>
                      <a:pt x="30" y="53"/>
                      <a:pt x="18" y="62"/>
                    </a:cubicBezTo>
                    <a:cubicBezTo>
                      <a:pt x="6" y="71"/>
                      <a:pt x="4" y="84"/>
                      <a:pt x="0" y="89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402480" y="4266360"/>
                <a:ext cx="832320" cy="92520"/>
              </a:xfrm>
              <a:custGeom>
                <a:avLst/>
                <a:gdLst/>
                <a:ahLst/>
                <a:rect l="l" t="t" r="r" b="b"/>
                <a:pathLst>
                  <a:path w="948" h="92">
                    <a:moveTo>
                      <a:pt x="948" y="80"/>
                    </a:moveTo>
                    <a:cubicBezTo>
                      <a:pt x="926" y="71"/>
                      <a:pt x="900" y="39"/>
                      <a:pt x="822" y="26"/>
                    </a:cubicBezTo>
                    <a:cubicBezTo>
                      <a:pt x="744" y="13"/>
                      <a:pt x="587" y="0"/>
                      <a:pt x="477" y="1"/>
                    </a:cubicBezTo>
                    <a:cubicBezTo>
                      <a:pt x="366" y="3"/>
                      <a:pt x="231" y="20"/>
                      <a:pt x="152" y="35"/>
                    </a:cubicBezTo>
                    <a:cubicBezTo>
                      <a:pt x="73" y="50"/>
                      <a:pt x="32" y="80"/>
                      <a:pt x="0" y="92"/>
                    </a:cubicBezTo>
                  </a:path>
                </a:pathLst>
              </a:custGeom>
              <a:noFill/>
              <a:ln w="19080">
                <a:solidFill>
                  <a:srgbClr val="0000d2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0" name=""/>
            <p:cNvSpPr/>
            <p:nvPr/>
          </p:nvSpPr>
          <p:spPr>
            <a:xfrm>
              <a:off x="324000" y="371628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4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468360" y="4365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х 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1692360" y="4365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у 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3780000" y="436572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х+у+5) 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950760" y="4960800"/>
            <a:ext cx="542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0,4х (л) - кислоты в первом раств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397080" y="3933720"/>
            <a:ext cx="94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0,4х 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900000" y="494172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0,6у (л) - кислоты во втором раств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620720" y="3933720"/>
            <a:ext cx="93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0,6у 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900000" y="4941720"/>
            <a:ext cx="59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0,2(х+у+5) (л) - кислоты в новом раств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3708360" y="3500280"/>
            <a:ext cx="17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0,2(х+у+5) 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5219640" y="386064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1" name=""/>
              <p:cNvSpPr txBox="1"/>
              <p:nvPr/>
            </p:nvSpPr>
            <p:spPr>
              <a:xfrm>
                <a:off x="5292720" y="3860640"/>
                <a:ext cx="316692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4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0,6</m:t>
                    </m:r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0,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у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42" name=""/>
          <p:cNvGrpSpPr/>
          <p:nvPr/>
        </p:nvGrpSpPr>
        <p:grpSpPr>
          <a:xfrm>
            <a:off x="3924360" y="2708280"/>
            <a:ext cx="1223280" cy="1802520"/>
            <a:chOff x="3924360" y="2708280"/>
            <a:chExt cx="1223280" cy="1802520"/>
          </a:xfrm>
        </p:grpSpPr>
        <p:grpSp>
          <p:nvGrpSpPr>
            <p:cNvPr id="843" name=""/>
            <p:cNvGrpSpPr/>
            <p:nvPr/>
          </p:nvGrpSpPr>
          <p:grpSpPr>
            <a:xfrm>
              <a:off x="3924360" y="2708280"/>
              <a:ext cx="1223280" cy="1802520"/>
              <a:chOff x="3924360" y="2708280"/>
              <a:chExt cx="1223280" cy="1802520"/>
            </a:xfrm>
          </p:grpSpPr>
          <p:sp>
            <p:nvSpPr>
              <p:cNvPr id="844" name=""/>
              <p:cNvSpPr/>
              <p:nvPr/>
            </p:nvSpPr>
            <p:spPr>
              <a:xfrm>
                <a:off x="3924360" y="2708280"/>
                <a:ext cx="1220040" cy="1802520"/>
              </a:xfrm>
              <a:custGeom>
                <a:avLst/>
                <a:gdLst/>
                <a:ahLst/>
                <a:rect l="l" t="t" r="r" b="b"/>
                <a:pathLst>
                  <a:path w="977" h="1445">
                    <a:moveTo>
                      <a:pt x="125" y="327"/>
                    </a:moveTo>
                    <a:cubicBezTo>
                      <a:pt x="110" y="330"/>
                      <a:pt x="101" y="330"/>
                      <a:pt x="86" y="340"/>
                    </a:cubicBezTo>
                    <a:cubicBezTo>
                      <a:pt x="71" y="348"/>
                      <a:pt x="46" y="360"/>
                      <a:pt x="33" y="380"/>
                    </a:cubicBezTo>
                    <a:cubicBezTo>
                      <a:pt x="19" y="401"/>
                      <a:pt x="12" y="403"/>
                      <a:pt x="7" y="467"/>
                    </a:cubicBezTo>
                    <a:cubicBezTo>
                      <a:pt x="1" y="532"/>
                      <a:pt x="3" y="676"/>
                      <a:pt x="1" y="769"/>
                    </a:cubicBezTo>
                    <a:cubicBezTo>
                      <a:pt x="1" y="861"/>
                      <a:pt x="0" y="935"/>
                      <a:pt x="1" y="1024"/>
                    </a:cubicBezTo>
                    <a:cubicBezTo>
                      <a:pt x="4" y="1112"/>
                      <a:pt x="0" y="1240"/>
                      <a:pt x="12" y="1300"/>
                    </a:cubicBezTo>
                    <a:cubicBezTo>
                      <a:pt x="25" y="1360"/>
                      <a:pt x="30" y="1360"/>
                      <a:pt x="75" y="1382"/>
                    </a:cubicBezTo>
                    <a:cubicBezTo>
                      <a:pt x="119" y="1405"/>
                      <a:pt x="202" y="1423"/>
                      <a:pt x="283" y="1432"/>
                    </a:cubicBezTo>
                    <a:cubicBezTo>
                      <a:pt x="363" y="1442"/>
                      <a:pt x="471" y="1445"/>
                      <a:pt x="561" y="1441"/>
                    </a:cubicBezTo>
                    <a:cubicBezTo>
                      <a:pt x="651" y="1437"/>
                      <a:pt x="761" y="1424"/>
                      <a:pt x="823" y="1412"/>
                    </a:cubicBezTo>
                    <a:cubicBezTo>
                      <a:pt x="886" y="1399"/>
                      <a:pt x="915" y="1382"/>
                      <a:pt x="940" y="1361"/>
                    </a:cubicBezTo>
                    <a:cubicBezTo>
                      <a:pt x="965" y="1340"/>
                      <a:pt x="964" y="1339"/>
                      <a:pt x="970" y="1284"/>
                    </a:cubicBezTo>
                    <a:cubicBezTo>
                      <a:pt x="976" y="1229"/>
                      <a:pt x="973" y="1148"/>
                      <a:pt x="974" y="1032"/>
                    </a:cubicBezTo>
                    <a:cubicBezTo>
                      <a:pt x="975" y="916"/>
                      <a:pt x="977" y="692"/>
                      <a:pt x="974" y="589"/>
                    </a:cubicBezTo>
                    <a:cubicBezTo>
                      <a:pt x="971" y="486"/>
                      <a:pt x="966" y="449"/>
                      <a:pt x="958" y="411"/>
                    </a:cubicBezTo>
                    <a:cubicBezTo>
                      <a:pt x="951" y="373"/>
                      <a:pt x="937" y="378"/>
                      <a:pt x="927" y="365"/>
                    </a:cubicBezTo>
                    <a:cubicBezTo>
                      <a:pt x="916" y="353"/>
                      <a:pt x="915" y="347"/>
                      <a:pt x="895" y="340"/>
                    </a:cubicBezTo>
                    <a:cubicBezTo>
                      <a:pt x="877" y="332"/>
                      <a:pt x="834" y="325"/>
                      <a:pt x="814" y="319"/>
                    </a:cubicBezTo>
                    <a:cubicBezTo>
                      <a:pt x="794" y="314"/>
                      <a:pt x="786" y="314"/>
                      <a:pt x="772" y="309"/>
                    </a:cubicBezTo>
                    <a:cubicBezTo>
                      <a:pt x="760" y="304"/>
                      <a:pt x="746" y="297"/>
                      <a:pt x="736" y="288"/>
                    </a:cubicBezTo>
                    <a:cubicBezTo>
                      <a:pt x="726" y="280"/>
                      <a:pt x="717" y="272"/>
                      <a:pt x="712" y="261"/>
                    </a:cubicBezTo>
                    <a:cubicBezTo>
                      <a:pt x="708" y="248"/>
                      <a:pt x="704" y="233"/>
                      <a:pt x="710" y="217"/>
                    </a:cubicBezTo>
                    <a:cubicBezTo>
                      <a:pt x="715" y="202"/>
                      <a:pt x="733" y="180"/>
                      <a:pt x="746" y="164"/>
                    </a:cubicBezTo>
                    <a:cubicBezTo>
                      <a:pt x="758" y="149"/>
                      <a:pt x="778" y="142"/>
                      <a:pt x="789" y="128"/>
                    </a:cubicBezTo>
                    <a:cubicBezTo>
                      <a:pt x="800" y="114"/>
                      <a:pt x="812" y="95"/>
                      <a:pt x="812" y="81"/>
                    </a:cubicBezTo>
                    <a:cubicBezTo>
                      <a:pt x="812" y="67"/>
                      <a:pt x="821" y="53"/>
                      <a:pt x="793" y="42"/>
                    </a:cubicBezTo>
                    <a:cubicBezTo>
                      <a:pt x="765" y="31"/>
                      <a:pt x="701" y="21"/>
                      <a:pt x="647" y="14"/>
                    </a:cubicBezTo>
                    <a:cubicBezTo>
                      <a:pt x="593" y="7"/>
                      <a:pt x="531" y="0"/>
                      <a:pt x="467" y="0"/>
                    </a:cubicBezTo>
                    <a:cubicBezTo>
                      <a:pt x="403" y="0"/>
                      <a:pt x="313" y="7"/>
                      <a:pt x="262" y="17"/>
                    </a:cubicBezTo>
                    <a:cubicBezTo>
                      <a:pt x="211" y="26"/>
                      <a:pt x="176" y="40"/>
                      <a:pt x="162" y="59"/>
                    </a:cubicBezTo>
                    <a:cubicBezTo>
                      <a:pt x="148" y="77"/>
                      <a:pt x="169" y="111"/>
                      <a:pt x="177" y="130"/>
                    </a:cubicBezTo>
                    <a:cubicBezTo>
                      <a:pt x="184" y="149"/>
                      <a:pt x="198" y="159"/>
                      <a:pt x="208" y="171"/>
                    </a:cubicBezTo>
                    <a:cubicBezTo>
                      <a:pt x="219" y="184"/>
                      <a:pt x="234" y="195"/>
                      <a:pt x="243" y="205"/>
                    </a:cubicBezTo>
                    <a:cubicBezTo>
                      <a:pt x="250" y="213"/>
                      <a:pt x="254" y="215"/>
                      <a:pt x="255" y="224"/>
                    </a:cubicBezTo>
                    <a:cubicBezTo>
                      <a:pt x="256" y="234"/>
                      <a:pt x="258" y="249"/>
                      <a:pt x="252" y="261"/>
                    </a:cubicBezTo>
                    <a:cubicBezTo>
                      <a:pt x="248" y="272"/>
                      <a:pt x="240" y="281"/>
                      <a:pt x="226" y="291"/>
                    </a:cubicBezTo>
                    <a:cubicBezTo>
                      <a:pt x="213" y="301"/>
                      <a:pt x="194" y="311"/>
                      <a:pt x="177" y="316"/>
                    </a:cubicBezTo>
                    <a:cubicBezTo>
                      <a:pt x="161" y="322"/>
                      <a:pt x="140" y="323"/>
                      <a:pt x="125" y="32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1ffff"/>
                  </a:gs>
                  <a:gs pos="100000">
                    <a:srgbClr val="00f4ee"/>
                  </a:gs>
                </a:gsLst>
                <a:lin ang="5400000"/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941280" y="4235040"/>
                <a:ext cx="1184040" cy="115560"/>
              </a:xfrm>
              <a:custGeom>
                <a:avLst/>
                <a:gdLst/>
                <a:ahLst/>
                <a:rect l="l" t="t" r="r" b="b"/>
                <a:pathLst>
                  <a:path w="948" h="92">
                    <a:moveTo>
                      <a:pt x="948" y="80"/>
                    </a:moveTo>
                    <a:cubicBezTo>
                      <a:pt x="926" y="71"/>
                      <a:pt x="900" y="39"/>
                      <a:pt x="822" y="26"/>
                    </a:cubicBezTo>
                    <a:cubicBezTo>
                      <a:pt x="744" y="13"/>
                      <a:pt x="587" y="0"/>
                      <a:pt x="477" y="1"/>
                    </a:cubicBezTo>
                    <a:cubicBezTo>
                      <a:pt x="366" y="3"/>
                      <a:pt x="231" y="20"/>
                      <a:pt x="152" y="35"/>
                    </a:cubicBezTo>
                    <a:cubicBezTo>
                      <a:pt x="73" y="50"/>
                      <a:pt x="32" y="80"/>
                      <a:pt x="0" y="92"/>
                    </a:cubicBezTo>
                  </a:path>
                </a:pathLst>
              </a:custGeom>
              <a:noFill/>
              <a:ln w="19080">
                <a:solidFill>
                  <a:srgbClr val="0000d2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4117680" y="2708280"/>
                <a:ext cx="824040" cy="180000"/>
              </a:xfrm>
              <a:custGeom>
                <a:avLst/>
                <a:gdLst/>
                <a:ahLst/>
                <a:rect l="l" t="t" r="r" b="b"/>
                <a:pathLst>
                  <a:path w="475" h="103">
                    <a:moveTo>
                      <a:pt x="5" y="57"/>
                    </a:moveTo>
                    <a:cubicBezTo>
                      <a:pt x="0" y="49"/>
                      <a:pt x="8" y="37"/>
                      <a:pt x="25" y="29"/>
                    </a:cubicBezTo>
                    <a:cubicBezTo>
                      <a:pt x="42" y="21"/>
                      <a:pt x="76" y="16"/>
                      <a:pt x="107" y="11"/>
                    </a:cubicBezTo>
                    <a:cubicBezTo>
                      <a:pt x="138" y="6"/>
                      <a:pt x="180" y="2"/>
                      <a:pt x="213" y="1"/>
                    </a:cubicBezTo>
                    <a:cubicBezTo>
                      <a:pt x="246" y="0"/>
                      <a:pt x="279" y="1"/>
                      <a:pt x="307" y="3"/>
                    </a:cubicBezTo>
                    <a:cubicBezTo>
                      <a:pt x="335" y="5"/>
                      <a:pt x="357" y="9"/>
                      <a:pt x="379" y="13"/>
                    </a:cubicBezTo>
                    <a:cubicBezTo>
                      <a:pt x="401" y="17"/>
                      <a:pt x="422" y="19"/>
                      <a:pt x="437" y="25"/>
                    </a:cubicBezTo>
                    <a:cubicBezTo>
                      <a:pt x="452" y="31"/>
                      <a:pt x="471" y="42"/>
                      <a:pt x="473" y="49"/>
                    </a:cubicBezTo>
                    <a:cubicBezTo>
                      <a:pt x="475" y="56"/>
                      <a:pt x="464" y="60"/>
                      <a:pt x="449" y="67"/>
                    </a:cubicBezTo>
                    <a:cubicBezTo>
                      <a:pt x="434" y="74"/>
                      <a:pt x="410" y="83"/>
                      <a:pt x="381" y="89"/>
                    </a:cubicBezTo>
                    <a:cubicBezTo>
                      <a:pt x="352" y="95"/>
                      <a:pt x="316" y="99"/>
                      <a:pt x="277" y="101"/>
                    </a:cubicBezTo>
                    <a:cubicBezTo>
                      <a:pt x="238" y="103"/>
                      <a:pt x="186" y="102"/>
                      <a:pt x="149" y="99"/>
                    </a:cubicBezTo>
                    <a:cubicBezTo>
                      <a:pt x="112" y="96"/>
                      <a:pt x="79" y="87"/>
                      <a:pt x="55" y="80"/>
                    </a:cubicBezTo>
                    <a:cubicBezTo>
                      <a:pt x="31" y="73"/>
                      <a:pt x="11" y="66"/>
                      <a:pt x="5" y="5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1ffff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3924360" y="3985200"/>
                <a:ext cx="1223280" cy="172080"/>
              </a:xfrm>
              <a:custGeom>
                <a:avLst/>
                <a:gdLst/>
                <a:ahLst/>
                <a:rect l="l" t="t" r="r" b="b"/>
                <a:pathLst>
                  <a:path w="706" h="98">
                    <a:moveTo>
                      <a:pt x="0" y="18"/>
                    </a:moveTo>
                    <a:cubicBezTo>
                      <a:pt x="6" y="22"/>
                      <a:pt x="17" y="35"/>
                      <a:pt x="36" y="44"/>
                    </a:cubicBezTo>
                    <a:cubicBezTo>
                      <a:pt x="55" y="53"/>
                      <a:pt x="83" y="64"/>
                      <a:pt x="115" y="72"/>
                    </a:cubicBezTo>
                    <a:cubicBezTo>
                      <a:pt x="147" y="80"/>
                      <a:pt x="189" y="86"/>
                      <a:pt x="230" y="90"/>
                    </a:cubicBezTo>
                    <a:cubicBezTo>
                      <a:pt x="271" y="94"/>
                      <a:pt x="318" y="98"/>
                      <a:pt x="364" y="98"/>
                    </a:cubicBezTo>
                    <a:cubicBezTo>
                      <a:pt x="410" y="98"/>
                      <a:pt x="467" y="96"/>
                      <a:pt x="508" y="90"/>
                    </a:cubicBezTo>
                    <a:cubicBezTo>
                      <a:pt x="549" y="84"/>
                      <a:pt x="582" y="73"/>
                      <a:pt x="610" y="64"/>
                    </a:cubicBezTo>
                    <a:cubicBezTo>
                      <a:pt x="638" y="55"/>
                      <a:pt x="660" y="45"/>
                      <a:pt x="676" y="34"/>
                    </a:cubicBezTo>
                    <a:cubicBezTo>
                      <a:pt x="692" y="23"/>
                      <a:pt x="700" y="7"/>
                      <a:pt x="706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924360" y="3834720"/>
                <a:ext cx="1223280" cy="155160"/>
              </a:xfrm>
              <a:custGeom>
                <a:avLst/>
                <a:gdLst/>
                <a:ahLst/>
                <a:rect l="l" t="t" r="r" b="b"/>
                <a:pathLst>
                  <a:path w="706" h="90">
                    <a:moveTo>
                      <a:pt x="706" y="70"/>
                    </a:moveTo>
                    <a:cubicBezTo>
                      <a:pt x="699" y="65"/>
                      <a:pt x="685" y="49"/>
                      <a:pt x="664" y="40"/>
                    </a:cubicBezTo>
                    <a:cubicBezTo>
                      <a:pt x="643" y="31"/>
                      <a:pt x="611" y="22"/>
                      <a:pt x="580" y="16"/>
                    </a:cubicBezTo>
                    <a:cubicBezTo>
                      <a:pt x="549" y="10"/>
                      <a:pt x="514" y="4"/>
                      <a:pt x="478" y="2"/>
                    </a:cubicBezTo>
                    <a:cubicBezTo>
                      <a:pt x="442" y="0"/>
                      <a:pt x="399" y="1"/>
                      <a:pt x="361" y="1"/>
                    </a:cubicBezTo>
                    <a:cubicBezTo>
                      <a:pt x="323" y="1"/>
                      <a:pt x="286" y="1"/>
                      <a:pt x="252" y="4"/>
                    </a:cubicBezTo>
                    <a:cubicBezTo>
                      <a:pt x="218" y="7"/>
                      <a:pt x="183" y="14"/>
                      <a:pt x="154" y="20"/>
                    </a:cubicBezTo>
                    <a:cubicBezTo>
                      <a:pt x="125" y="26"/>
                      <a:pt x="97" y="34"/>
                      <a:pt x="76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924360" y="3330000"/>
                <a:ext cx="1209600" cy="173520"/>
              </a:xfrm>
              <a:custGeom>
                <a:avLst/>
                <a:gdLst/>
                <a:ahLst/>
                <a:rect l="l" t="t" r="r" b="b"/>
                <a:pathLst>
                  <a:path w="698" h="100">
                    <a:moveTo>
                      <a:pt x="0" y="20"/>
                    </a:moveTo>
                    <a:cubicBezTo>
                      <a:pt x="6" y="24"/>
                      <a:pt x="17" y="37"/>
                      <a:pt x="36" y="46"/>
                    </a:cubicBezTo>
                    <a:cubicBezTo>
                      <a:pt x="55" y="55"/>
                      <a:pt x="84" y="66"/>
                      <a:pt x="116" y="74"/>
                    </a:cubicBezTo>
                    <a:cubicBezTo>
                      <a:pt x="148" y="82"/>
                      <a:pt x="191" y="88"/>
                      <a:pt x="232" y="92"/>
                    </a:cubicBezTo>
                    <a:cubicBezTo>
                      <a:pt x="273" y="96"/>
                      <a:pt x="321" y="100"/>
                      <a:pt x="367" y="100"/>
                    </a:cubicBezTo>
                    <a:cubicBezTo>
                      <a:pt x="413" y="100"/>
                      <a:pt x="471" y="98"/>
                      <a:pt x="512" y="92"/>
                    </a:cubicBezTo>
                    <a:cubicBezTo>
                      <a:pt x="554" y="86"/>
                      <a:pt x="587" y="75"/>
                      <a:pt x="615" y="66"/>
                    </a:cubicBezTo>
                    <a:cubicBezTo>
                      <a:pt x="643" y="57"/>
                      <a:pt x="668" y="47"/>
                      <a:pt x="682" y="36"/>
                    </a:cubicBezTo>
                    <a:cubicBezTo>
                      <a:pt x="696" y="25"/>
                      <a:pt x="695" y="7"/>
                      <a:pt x="698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925800" y="3197520"/>
                <a:ext cx="1204560" cy="156960"/>
              </a:xfrm>
              <a:custGeom>
                <a:avLst/>
                <a:gdLst/>
                <a:ahLst/>
                <a:rect l="l" t="t" r="r" b="b"/>
                <a:pathLst>
                  <a:path w="696" h="90">
                    <a:moveTo>
                      <a:pt x="696" y="68"/>
                    </a:moveTo>
                    <a:cubicBezTo>
                      <a:pt x="691" y="63"/>
                      <a:pt x="688" y="49"/>
                      <a:pt x="670" y="40"/>
                    </a:cubicBezTo>
                    <a:cubicBezTo>
                      <a:pt x="652" y="31"/>
                      <a:pt x="616" y="22"/>
                      <a:pt x="585" y="16"/>
                    </a:cubicBezTo>
                    <a:cubicBezTo>
                      <a:pt x="554" y="10"/>
                      <a:pt x="518" y="4"/>
                      <a:pt x="482" y="2"/>
                    </a:cubicBezTo>
                    <a:cubicBezTo>
                      <a:pt x="446" y="0"/>
                      <a:pt x="402" y="1"/>
                      <a:pt x="364" y="1"/>
                    </a:cubicBezTo>
                    <a:cubicBezTo>
                      <a:pt x="326" y="1"/>
                      <a:pt x="288" y="1"/>
                      <a:pt x="254" y="4"/>
                    </a:cubicBezTo>
                    <a:cubicBezTo>
                      <a:pt x="220" y="7"/>
                      <a:pt x="185" y="14"/>
                      <a:pt x="155" y="20"/>
                    </a:cubicBezTo>
                    <a:cubicBezTo>
                      <a:pt x="126" y="26"/>
                      <a:pt x="98" y="34"/>
                      <a:pt x="77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1" name=""/>
            <p:cNvSpPr/>
            <p:nvPr/>
          </p:nvSpPr>
          <p:spPr>
            <a:xfrm>
              <a:off x="4025520" y="3067200"/>
              <a:ext cx="112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7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2771640" y="3068640"/>
            <a:ext cx="863640" cy="1442880"/>
            <a:chOff x="2771640" y="3068640"/>
            <a:chExt cx="863640" cy="1442880"/>
          </a:xfrm>
        </p:grpSpPr>
        <p:grpSp>
          <p:nvGrpSpPr>
            <p:cNvPr id="853" name=""/>
            <p:cNvGrpSpPr/>
            <p:nvPr/>
          </p:nvGrpSpPr>
          <p:grpSpPr>
            <a:xfrm>
              <a:off x="2771640" y="3068640"/>
              <a:ext cx="863640" cy="1442880"/>
              <a:chOff x="2771640" y="3068640"/>
              <a:chExt cx="863640" cy="1442880"/>
            </a:xfrm>
          </p:grpSpPr>
          <p:sp>
            <p:nvSpPr>
              <p:cNvPr id="854" name=""/>
              <p:cNvSpPr/>
              <p:nvPr/>
            </p:nvSpPr>
            <p:spPr>
              <a:xfrm>
                <a:off x="2771640" y="3068640"/>
                <a:ext cx="861120" cy="1442880"/>
              </a:xfrm>
              <a:custGeom>
                <a:avLst/>
                <a:gdLst/>
                <a:ahLst/>
                <a:rect l="l" t="t" r="r" b="b"/>
                <a:pathLst>
                  <a:path w="977" h="1445">
                    <a:moveTo>
                      <a:pt x="125" y="327"/>
                    </a:moveTo>
                    <a:cubicBezTo>
                      <a:pt x="110" y="330"/>
                      <a:pt x="101" y="330"/>
                      <a:pt x="86" y="340"/>
                    </a:cubicBezTo>
                    <a:cubicBezTo>
                      <a:pt x="71" y="348"/>
                      <a:pt x="46" y="360"/>
                      <a:pt x="33" y="380"/>
                    </a:cubicBezTo>
                    <a:cubicBezTo>
                      <a:pt x="19" y="401"/>
                      <a:pt x="12" y="403"/>
                      <a:pt x="7" y="467"/>
                    </a:cubicBezTo>
                    <a:cubicBezTo>
                      <a:pt x="1" y="532"/>
                      <a:pt x="3" y="676"/>
                      <a:pt x="1" y="769"/>
                    </a:cubicBezTo>
                    <a:cubicBezTo>
                      <a:pt x="1" y="861"/>
                      <a:pt x="0" y="935"/>
                      <a:pt x="1" y="1024"/>
                    </a:cubicBezTo>
                    <a:cubicBezTo>
                      <a:pt x="4" y="1112"/>
                      <a:pt x="0" y="1240"/>
                      <a:pt x="12" y="1300"/>
                    </a:cubicBezTo>
                    <a:cubicBezTo>
                      <a:pt x="25" y="1360"/>
                      <a:pt x="30" y="1360"/>
                      <a:pt x="75" y="1382"/>
                    </a:cubicBezTo>
                    <a:cubicBezTo>
                      <a:pt x="119" y="1405"/>
                      <a:pt x="202" y="1423"/>
                      <a:pt x="283" y="1432"/>
                    </a:cubicBezTo>
                    <a:cubicBezTo>
                      <a:pt x="363" y="1442"/>
                      <a:pt x="471" y="1445"/>
                      <a:pt x="561" y="1441"/>
                    </a:cubicBezTo>
                    <a:cubicBezTo>
                      <a:pt x="651" y="1437"/>
                      <a:pt x="761" y="1424"/>
                      <a:pt x="823" y="1412"/>
                    </a:cubicBezTo>
                    <a:cubicBezTo>
                      <a:pt x="886" y="1399"/>
                      <a:pt x="915" y="1382"/>
                      <a:pt x="940" y="1361"/>
                    </a:cubicBezTo>
                    <a:cubicBezTo>
                      <a:pt x="965" y="1340"/>
                      <a:pt x="964" y="1339"/>
                      <a:pt x="970" y="1284"/>
                    </a:cubicBezTo>
                    <a:cubicBezTo>
                      <a:pt x="976" y="1229"/>
                      <a:pt x="973" y="1148"/>
                      <a:pt x="974" y="1032"/>
                    </a:cubicBezTo>
                    <a:cubicBezTo>
                      <a:pt x="975" y="916"/>
                      <a:pt x="977" y="692"/>
                      <a:pt x="974" y="589"/>
                    </a:cubicBezTo>
                    <a:cubicBezTo>
                      <a:pt x="971" y="486"/>
                      <a:pt x="966" y="449"/>
                      <a:pt x="958" y="411"/>
                    </a:cubicBezTo>
                    <a:cubicBezTo>
                      <a:pt x="951" y="373"/>
                      <a:pt x="937" y="378"/>
                      <a:pt x="927" y="365"/>
                    </a:cubicBezTo>
                    <a:cubicBezTo>
                      <a:pt x="916" y="353"/>
                      <a:pt x="915" y="347"/>
                      <a:pt x="895" y="340"/>
                    </a:cubicBezTo>
                    <a:cubicBezTo>
                      <a:pt x="877" y="332"/>
                      <a:pt x="834" y="325"/>
                      <a:pt x="814" y="319"/>
                    </a:cubicBezTo>
                    <a:cubicBezTo>
                      <a:pt x="794" y="314"/>
                      <a:pt x="786" y="314"/>
                      <a:pt x="772" y="309"/>
                    </a:cubicBezTo>
                    <a:cubicBezTo>
                      <a:pt x="760" y="304"/>
                      <a:pt x="746" y="297"/>
                      <a:pt x="736" y="288"/>
                    </a:cubicBezTo>
                    <a:cubicBezTo>
                      <a:pt x="726" y="280"/>
                      <a:pt x="717" y="272"/>
                      <a:pt x="712" y="261"/>
                    </a:cubicBezTo>
                    <a:cubicBezTo>
                      <a:pt x="708" y="248"/>
                      <a:pt x="704" y="233"/>
                      <a:pt x="710" y="217"/>
                    </a:cubicBezTo>
                    <a:cubicBezTo>
                      <a:pt x="715" y="202"/>
                      <a:pt x="733" y="180"/>
                      <a:pt x="746" y="164"/>
                    </a:cubicBezTo>
                    <a:cubicBezTo>
                      <a:pt x="758" y="149"/>
                      <a:pt x="778" y="142"/>
                      <a:pt x="789" y="128"/>
                    </a:cubicBezTo>
                    <a:cubicBezTo>
                      <a:pt x="800" y="114"/>
                      <a:pt x="812" y="95"/>
                      <a:pt x="812" y="81"/>
                    </a:cubicBezTo>
                    <a:cubicBezTo>
                      <a:pt x="812" y="67"/>
                      <a:pt x="821" y="53"/>
                      <a:pt x="793" y="42"/>
                    </a:cubicBezTo>
                    <a:cubicBezTo>
                      <a:pt x="765" y="31"/>
                      <a:pt x="701" y="21"/>
                      <a:pt x="647" y="14"/>
                    </a:cubicBezTo>
                    <a:cubicBezTo>
                      <a:pt x="593" y="7"/>
                      <a:pt x="531" y="0"/>
                      <a:pt x="467" y="0"/>
                    </a:cubicBezTo>
                    <a:cubicBezTo>
                      <a:pt x="403" y="0"/>
                      <a:pt x="313" y="7"/>
                      <a:pt x="262" y="17"/>
                    </a:cubicBezTo>
                    <a:cubicBezTo>
                      <a:pt x="211" y="26"/>
                      <a:pt x="176" y="40"/>
                      <a:pt x="162" y="59"/>
                    </a:cubicBezTo>
                    <a:cubicBezTo>
                      <a:pt x="148" y="77"/>
                      <a:pt x="169" y="111"/>
                      <a:pt x="177" y="130"/>
                    </a:cubicBezTo>
                    <a:cubicBezTo>
                      <a:pt x="184" y="149"/>
                      <a:pt x="198" y="159"/>
                      <a:pt x="208" y="171"/>
                    </a:cubicBezTo>
                    <a:cubicBezTo>
                      <a:pt x="219" y="184"/>
                      <a:pt x="234" y="195"/>
                      <a:pt x="243" y="205"/>
                    </a:cubicBezTo>
                    <a:cubicBezTo>
                      <a:pt x="250" y="213"/>
                      <a:pt x="254" y="215"/>
                      <a:pt x="255" y="224"/>
                    </a:cubicBezTo>
                    <a:cubicBezTo>
                      <a:pt x="256" y="234"/>
                      <a:pt x="258" y="249"/>
                      <a:pt x="252" y="261"/>
                    </a:cubicBezTo>
                    <a:cubicBezTo>
                      <a:pt x="248" y="272"/>
                      <a:pt x="240" y="281"/>
                      <a:pt x="226" y="291"/>
                    </a:cubicBezTo>
                    <a:cubicBezTo>
                      <a:pt x="213" y="301"/>
                      <a:pt x="194" y="311"/>
                      <a:pt x="177" y="316"/>
                    </a:cubicBezTo>
                    <a:cubicBezTo>
                      <a:pt x="161" y="322"/>
                      <a:pt x="140" y="323"/>
                      <a:pt x="125" y="32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1ffff"/>
                  </a:gs>
                  <a:gs pos="100000">
                    <a:srgbClr val="00f4ee"/>
                  </a:gs>
                </a:gsLst>
                <a:lin ang="5400000"/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783520" y="4290480"/>
                <a:ext cx="835920" cy="92520"/>
              </a:xfrm>
              <a:custGeom>
                <a:avLst/>
                <a:gdLst/>
                <a:ahLst/>
                <a:rect l="l" t="t" r="r" b="b"/>
                <a:pathLst>
                  <a:path w="948" h="92">
                    <a:moveTo>
                      <a:pt x="948" y="80"/>
                    </a:moveTo>
                    <a:cubicBezTo>
                      <a:pt x="926" y="71"/>
                      <a:pt x="900" y="39"/>
                      <a:pt x="822" y="26"/>
                    </a:cubicBezTo>
                    <a:cubicBezTo>
                      <a:pt x="744" y="13"/>
                      <a:pt x="587" y="0"/>
                      <a:pt x="477" y="1"/>
                    </a:cubicBezTo>
                    <a:cubicBezTo>
                      <a:pt x="366" y="3"/>
                      <a:pt x="231" y="20"/>
                      <a:pt x="152" y="35"/>
                    </a:cubicBezTo>
                    <a:cubicBezTo>
                      <a:pt x="73" y="50"/>
                      <a:pt x="32" y="80"/>
                      <a:pt x="0" y="92"/>
                    </a:cubicBezTo>
                  </a:path>
                </a:pathLst>
              </a:custGeom>
              <a:noFill/>
              <a:ln w="19080">
                <a:solidFill>
                  <a:srgbClr val="0000d2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2908080" y="3068640"/>
                <a:ext cx="581760" cy="144000"/>
              </a:xfrm>
              <a:custGeom>
                <a:avLst/>
                <a:gdLst/>
                <a:ahLst/>
                <a:rect l="l" t="t" r="r" b="b"/>
                <a:pathLst>
                  <a:path w="475" h="103">
                    <a:moveTo>
                      <a:pt x="5" y="57"/>
                    </a:moveTo>
                    <a:cubicBezTo>
                      <a:pt x="0" y="49"/>
                      <a:pt x="8" y="37"/>
                      <a:pt x="25" y="29"/>
                    </a:cubicBezTo>
                    <a:cubicBezTo>
                      <a:pt x="42" y="21"/>
                      <a:pt x="76" y="16"/>
                      <a:pt x="107" y="11"/>
                    </a:cubicBezTo>
                    <a:cubicBezTo>
                      <a:pt x="138" y="6"/>
                      <a:pt x="180" y="2"/>
                      <a:pt x="213" y="1"/>
                    </a:cubicBezTo>
                    <a:cubicBezTo>
                      <a:pt x="246" y="0"/>
                      <a:pt x="279" y="1"/>
                      <a:pt x="307" y="3"/>
                    </a:cubicBezTo>
                    <a:cubicBezTo>
                      <a:pt x="335" y="5"/>
                      <a:pt x="357" y="9"/>
                      <a:pt x="379" y="13"/>
                    </a:cubicBezTo>
                    <a:cubicBezTo>
                      <a:pt x="401" y="17"/>
                      <a:pt x="422" y="19"/>
                      <a:pt x="437" y="25"/>
                    </a:cubicBezTo>
                    <a:cubicBezTo>
                      <a:pt x="452" y="31"/>
                      <a:pt x="471" y="42"/>
                      <a:pt x="473" y="49"/>
                    </a:cubicBezTo>
                    <a:cubicBezTo>
                      <a:pt x="475" y="56"/>
                      <a:pt x="464" y="60"/>
                      <a:pt x="449" y="67"/>
                    </a:cubicBezTo>
                    <a:cubicBezTo>
                      <a:pt x="434" y="74"/>
                      <a:pt x="410" y="83"/>
                      <a:pt x="381" y="89"/>
                    </a:cubicBezTo>
                    <a:cubicBezTo>
                      <a:pt x="352" y="95"/>
                      <a:pt x="316" y="99"/>
                      <a:pt x="277" y="101"/>
                    </a:cubicBezTo>
                    <a:cubicBezTo>
                      <a:pt x="238" y="103"/>
                      <a:pt x="186" y="102"/>
                      <a:pt x="149" y="99"/>
                    </a:cubicBezTo>
                    <a:cubicBezTo>
                      <a:pt x="112" y="96"/>
                      <a:pt x="79" y="87"/>
                      <a:pt x="55" y="80"/>
                    </a:cubicBezTo>
                    <a:cubicBezTo>
                      <a:pt x="31" y="73"/>
                      <a:pt x="11" y="66"/>
                      <a:pt x="5" y="5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1ffff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2771640" y="4090320"/>
                <a:ext cx="863640" cy="137520"/>
              </a:xfrm>
              <a:custGeom>
                <a:avLst/>
                <a:gdLst/>
                <a:ahLst/>
                <a:rect l="l" t="t" r="r" b="b"/>
                <a:pathLst>
                  <a:path w="706" h="98">
                    <a:moveTo>
                      <a:pt x="0" y="18"/>
                    </a:moveTo>
                    <a:cubicBezTo>
                      <a:pt x="6" y="22"/>
                      <a:pt x="17" y="35"/>
                      <a:pt x="36" y="44"/>
                    </a:cubicBezTo>
                    <a:cubicBezTo>
                      <a:pt x="55" y="53"/>
                      <a:pt x="83" y="64"/>
                      <a:pt x="115" y="72"/>
                    </a:cubicBezTo>
                    <a:cubicBezTo>
                      <a:pt x="147" y="80"/>
                      <a:pt x="189" y="86"/>
                      <a:pt x="230" y="90"/>
                    </a:cubicBezTo>
                    <a:cubicBezTo>
                      <a:pt x="271" y="94"/>
                      <a:pt x="318" y="98"/>
                      <a:pt x="364" y="98"/>
                    </a:cubicBezTo>
                    <a:cubicBezTo>
                      <a:pt x="410" y="98"/>
                      <a:pt x="467" y="96"/>
                      <a:pt x="508" y="90"/>
                    </a:cubicBezTo>
                    <a:cubicBezTo>
                      <a:pt x="549" y="84"/>
                      <a:pt x="582" y="73"/>
                      <a:pt x="610" y="64"/>
                    </a:cubicBezTo>
                    <a:cubicBezTo>
                      <a:pt x="638" y="55"/>
                      <a:pt x="660" y="45"/>
                      <a:pt x="676" y="34"/>
                    </a:cubicBezTo>
                    <a:cubicBezTo>
                      <a:pt x="692" y="23"/>
                      <a:pt x="700" y="7"/>
                      <a:pt x="706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2771640" y="3970080"/>
                <a:ext cx="863640" cy="124200"/>
              </a:xfrm>
              <a:custGeom>
                <a:avLst/>
                <a:gdLst/>
                <a:ahLst/>
                <a:rect l="l" t="t" r="r" b="b"/>
                <a:pathLst>
                  <a:path w="706" h="90">
                    <a:moveTo>
                      <a:pt x="706" y="70"/>
                    </a:moveTo>
                    <a:cubicBezTo>
                      <a:pt x="699" y="65"/>
                      <a:pt x="685" y="49"/>
                      <a:pt x="664" y="40"/>
                    </a:cubicBezTo>
                    <a:cubicBezTo>
                      <a:pt x="643" y="31"/>
                      <a:pt x="611" y="22"/>
                      <a:pt x="580" y="16"/>
                    </a:cubicBezTo>
                    <a:cubicBezTo>
                      <a:pt x="549" y="10"/>
                      <a:pt x="514" y="4"/>
                      <a:pt x="478" y="2"/>
                    </a:cubicBezTo>
                    <a:cubicBezTo>
                      <a:pt x="442" y="0"/>
                      <a:pt x="399" y="1"/>
                      <a:pt x="361" y="1"/>
                    </a:cubicBezTo>
                    <a:cubicBezTo>
                      <a:pt x="323" y="1"/>
                      <a:pt x="286" y="1"/>
                      <a:pt x="252" y="4"/>
                    </a:cubicBezTo>
                    <a:cubicBezTo>
                      <a:pt x="218" y="7"/>
                      <a:pt x="183" y="14"/>
                      <a:pt x="154" y="20"/>
                    </a:cubicBezTo>
                    <a:cubicBezTo>
                      <a:pt x="125" y="26"/>
                      <a:pt x="97" y="34"/>
                      <a:pt x="76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2771640" y="3566160"/>
                <a:ext cx="853920" cy="138960"/>
              </a:xfrm>
              <a:custGeom>
                <a:avLst/>
                <a:gdLst/>
                <a:ahLst/>
                <a:rect l="l" t="t" r="r" b="b"/>
                <a:pathLst>
                  <a:path w="698" h="100">
                    <a:moveTo>
                      <a:pt x="0" y="20"/>
                    </a:moveTo>
                    <a:cubicBezTo>
                      <a:pt x="6" y="24"/>
                      <a:pt x="17" y="37"/>
                      <a:pt x="36" y="46"/>
                    </a:cubicBezTo>
                    <a:cubicBezTo>
                      <a:pt x="55" y="55"/>
                      <a:pt x="84" y="66"/>
                      <a:pt x="116" y="74"/>
                    </a:cubicBezTo>
                    <a:cubicBezTo>
                      <a:pt x="148" y="82"/>
                      <a:pt x="191" y="88"/>
                      <a:pt x="232" y="92"/>
                    </a:cubicBezTo>
                    <a:cubicBezTo>
                      <a:pt x="273" y="96"/>
                      <a:pt x="321" y="100"/>
                      <a:pt x="367" y="100"/>
                    </a:cubicBezTo>
                    <a:cubicBezTo>
                      <a:pt x="413" y="100"/>
                      <a:pt x="471" y="98"/>
                      <a:pt x="512" y="92"/>
                    </a:cubicBezTo>
                    <a:cubicBezTo>
                      <a:pt x="554" y="86"/>
                      <a:pt x="587" y="75"/>
                      <a:pt x="615" y="66"/>
                    </a:cubicBezTo>
                    <a:cubicBezTo>
                      <a:pt x="643" y="57"/>
                      <a:pt x="668" y="47"/>
                      <a:pt x="682" y="36"/>
                    </a:cubicBezTo>
                    <a:cubicBezTo>
                      <a:pt x="696" y="25"/>
                      <a:pt x="695" y="7"/>
                      <a:pt x="698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772720" y="3460320"/>
                <a:ext cx="850320" cy="125640"/>
              </a:xfrm>
              <a:custGeom>
                <a:avLst/>
                <a:gdLst/>
                <a:ahLst/>
                <a:rect l="l" t="t" r="r" b="b"/>
                <a:pathLst>
                  <a:path w="696" h="90">
                    <a:moveTo>
                      <a:pt x="696" y="68"/>
                    </a:moveTo>
                    <a:cubicBezTo>
                      <a:pt x="691" y="63"/>
                      <a:pt x="688" y="49"/>
                      <a:pt x="670" y="40"/>
                    </a:cubicBezTo>
                    <a:cubicBezTo>
                      <a:pt x="652" y="31"/>
                      <a:pt x="616" y="22"/>
                      <a:pt x="585" y="16"/>
                    </a:cubicBezTo>
                    <a:cubicBezTo>
                      <a:pt x="554" y="10"/>
                      <a:pt x="518" y="4"/>
                      <a:pt x="482" y="2"/>
                    </a:cubicBezTo>
                    <a:cubicBezTo>
                      <a:pt x="446" y="0"/>
                      <a:pt x="402" y="1"/>
                      <a:pt x="364" y="1"/>
                    </a:cubicBezTo>
                    <a:cubicBezTo>
                      <a:pt x="326" y="1"/>
                      <a:pt x="288" y="1"/>
                      <a:pt x="254" y="4"/>
                    </a:cubicBezTo>
                    <a:cubicBezTo>
                      <a:pt x="220" y="7"/>
                      <a:pt x="185" y="14"/>
                      <a:pt x="155" y="20"/>
                    </a:cubicBezTo>
                    <a:cubicBezTo>
                      <a:pt x="126" y="26"/>
                      <a:pt x="98" y="34"/>
                      <a:pt x="77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1" name=""/>
            <p:cNvSpPr/>
            <p:nvPr/>
          </p:nvSpPr>
          <p:spPr>
            <a:xfrm>
              <a:off x="2843280" y="335556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8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2" name=""/>
          <p:cNvSpPr/>
          <p:nvPr/>
        </p:nvSpPr>
        <p:spPr>
          <a:xfrm>
            <a:off x="2918160" y="3789360"/>
            <a:ext cx="56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4 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708360" y="3429000"/>
            <a:ext cx="17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0,7(х+у+5) 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4" name=""/>
              <p:cNvSpPr txBox="1"/>
              <p:nvPr/>
            </p:nvSpPr>
            <p:spPr>
              <a:xfrm>
                <a:off x="5292720" y="4292640"/>
                <a:ext cx="357192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4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0,6</m:t>
                    </m:r>
                    <m:r>
                      <m:t xml:space="preserve">у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,7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у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65" name=""/>
          <p:cNvGrpSpPr/>
          <p:nvPr/>
        </p:nvGrpSpPr>
        <p:grpSpPr>
          <a:xfrm>
            <a:off x="1979640" y="5013360"/>
            <a:ext cx="4824360" cy="485640"/>
            <a:chOff x="1979640" y="5013360"/>
            <a:chExt cx="4824360" cy="485640"/>
          </a:xfrm>
        </p:grpSpPr>
        <p:sp>
          <p:nvSpPr>
            <p:cNvPr id="866" name=""/>
            <p:cNvSpPr/>
            <p:nvPr/>
          </p:nvSpPr>
          <p:spPr>
            <a:xfrm>
              <a:off x="3780000" y="5013360"/>
              <a:ext cx="30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кислоты в 5 литра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7" name=""/>
                <p:cNvSpPr txBox="1"/>
                <p:nvPr/>
              </p:nvSpPr>
              <p:spPr>
                <a:xfrm>
                  <a:off x="1979640" y="5084640"/>
                  <a:ext cx="1944720" cy="41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,8</m:t>
                      </m:r>
                      <m:r>
                        <m:t xml:space="preserve">⋅</m:t>
                      </m:r>
                      <m:r>
                        <m:t xml:space="preserve">5</m:t>
                      </m:r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(</m:t>
                      </m:r>
                      <m:r>
                        <m:t xml:space="preserve">л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68" name=""/>
          <p:cNvSpPr/>
          <p:nvPr/>
        </p:nvSpPr>
        <p:spPr>
          <a:xfrm>
            <a:off x="971640" y="494172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0,7(х+у+5) (л) - кислоты в новом раств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9" name=""/>
              <p:cNvSpPr txBox="1"/>
              <p:nvPr/>
            </p:nvSpPr>
            <p:spPr>
              <a:xfrm>
                <a:off x="0" y="4797360"/>
                <a:ext cx="522432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0,4</m:t>
                            </m:r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0,6</m:t>
                            </m:r>
                            <m:r>
                              <m:t xml:space="preserve">у</m:t>
                            </m:r>
                            <m:r>
                              <m:t xml:space="preserve">=</m:t>
                            </m:r>
                            <m:r>
                              <m:t xml:space="preserve">0,2</m:t>
                            </m:r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0,2</m:t>
                            </m:r>
                            <m:r>
                              <m:t xml:space="preserve">у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;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8459640" y="4149720"/>
                <a:ext cx="47160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1" name=""/>
              <p:cNvSpPr txBox="1"/>
              <p:nvPr/>
            </p:nvSpPr>
            <p:spPr>
              <a:xfrm>
                <a:off x="5076720" y="4869000"/>
                <a:ext cx="288144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0,2</m:t>
                            </m:r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0,4</m:t>
                            </m:r>
                            <m:r>
                              <m:t xml:space="preserve">у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;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7570800" y="4797360"/>
                <a:ext cx="138420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;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73" name=""/>
          <p:cNvSpPr/>
          <p:nvPr/>
        </p:nvSpPr>
        <p:spPr>
          <a:xfrm>
            <a:off x="3635280" y="6165720"/>
            <a:ext cx="2374920" cy="50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твет: 2 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4" dur="indefinite" restart="never" nodeType="tmRoot">
          <p:childTnLst>
            <p:seq>
              <p:cTn id="1355" restart="whenNotActive" nodeType="interactiveSeq" fill="hold">
                <p:stCondLst>
                  <p:cond evt="onClick">
                    <p:tgtEl>
                      <p:spTgt spid="780"/>
                    </p:tgtEl>
                  </p:cond>
                </p:stCondLst>
                <p:childTnLst>
                  <p:par>
                    <p:cTn id="1356" fill="hold">
                      <p:stCondLst>
                        <p:cond evt="onClick">
                          <p:tgtEl>
                            <p:spTgt spid="780"/>
                          </p:tgtEl>
                        </p:cond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0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3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6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evt="onClick">
                          <p:tgtEl>
                            <p:spTgt spid="780"/>
                          </p:tgtEl>
                        </p:cond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1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500"/>
                            </p:stCondLst>
                            <p:childTnLst>
                              <p:par>
                                <p:cTn id="137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5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9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3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7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evt="onClick">
                          <p:tgtEl>
                            <p:spTgt spid="780"/>
                          </p:tgtEl>
                        </p:cond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6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fill="hold">
                            <p:stCondLst>
                              <p:cond delay="500"/>
                            </p:stCondLst>
                            <p:childTnLst>
                              <p:par>
                                <p:cTn id="13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0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4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evt="onClick">
                          <p:tgtEl>
                            <p:spTgt spid="780"/>
                          </p:tgtEl>
                        </p:cond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9" dur="1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3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evt="onClick">
                          <p:tgtEl>
                            <p:spTgt spid="780"/>
                          </p:tgtEl>
                        </p:cond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17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fill="hold">
                            <p:stCondLst>
                              <p:cond delay="500"/>
                            </p:stCondLst>
                            <p:childTnLst>
                              <p:par>
                                <p:cTn id="14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2" dur="1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6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evt="onClick">
                          <p:tgtEl>
                            <p:spTgt spid="780"/>
                          </p:tgtEl>
                        </p:cond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30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5" dur="10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9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evt="onClick">
                          <p:tgtEl>
                            <p:spTgt spid="780"/>
                          </p:tgtEl>
                        </p:cond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4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evt="onClick">
                          <p:tgtEl>
                            <p:spTgt spid="780"/>
                          </p:tgtEl>
                        </p:cond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48" dur="10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0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51" dur="1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3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54" dur="1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5" fill="hold">
                            <p:stCondLst>
                              <p:cond delay="6000"/>
                            </p:stCondLst>
                            <p:childTnLst>
                              <p:par>
                                <p:cTn id="14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8" dur="1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evt="onClick">
                          <p:tgtEl>
                            <p:spTgt spid="780"/>
                          </p:tgtEl>
                        </p:cond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62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65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68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evt="onClick">
                          <p:tgtEl>
                            <p:spTgt spid="780"/>
                          </p:tgtEl>
                        </p:cond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4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fill="hold">
                            <p:stCondLst>
                              <p:cond delay="500"/>
                            </p:stCondLst>
                            <p:childTnLst>
                              <p:par>
                                <p:cTn id="147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evt="onClick">
                          <p:tgtEl>
                            <p:spTgt spid="780"/>
                          </p:tgtEl>
                        </p:cond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3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fill="hold">
                            <p:stCondLst>
                              <p:cond delay="500"/>
                            </p:stCondLst>
                            <p:childTnLst>
                              <p:par>
                                <p:cTn id="148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7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fill="hold">
                      <p:stCondLst>
                        <p:cond evt="onClick">
                          <p:tgtEl>
                            <p:spTgt spid="780"/>
                          </p:tgtEl>
                        </p:cond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91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3" fill="hold">
                            <p:stCondLst>
                              <p:cond delay="500"/>
                            </p:stCondLst>
                            <p:childTnLst>
                              <p:par>
                                <p:cTn id="14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6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0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evt="onClick">
                          <p:tgtEl>
                            <p:spTgt spid="780"/>
                          </p:tgtEl>
                        </p:cond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04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evt="onClick">
                          <p:tgtEl>
                            <p:spTgt spid="780"/>
                          </p:tgtEl>
                        </p:cond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09" dur="10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1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12" dur="1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4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15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517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18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9" fill="hold">
                            <p:stCondLst>
                              <p:cond delay="8000"/>
                            </p:stCondLst>
                            <p:childTnLst>
                              <p:par>
                                <p:cTn id="15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2" dur="1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fill="hold">
                            <p:stCondLst>
                              <p:cond delay="9000"/>
                            </p:stCondLst>
                            <p:childTnLst>
                              <p:par>
                                <p:cTn id="15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6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7" fill="hold">
                            <p:stCondLst>
                              <p:cond delay="9500"/>
                            </p:stCondLst>
                            <p:childTnLst>
                              <p:par>
                                <p:cTn id="15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0" dur="1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fill="hold">
                      <p:stCondLst>
                        <p:cond evt="onClick">
                          <p:tgtEl>
                            <p:spTgt spid="780"/>
                          </p:tgtEl>
                        </p:cond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5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9" dur="1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3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7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8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1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"/>
          <p:cNvSpPr/>
          <p:nvPr/>
        </p:nvSpPr>
        <p:spPr>
          <a:xfrm>
            <a:off x="611280" y="260280"/>
            <a:ext cx="799308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990000"/>
                </a:solidFill>
                <a:latin typeface="Times New Roman"/>
              </a:rPr>
              <a:t>Литература и интернет-ресур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539640" y="1700280"/>
            <a:ext cx="8064720" cy="4537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енищева Л.О., Глазков Ю.А. и др. Еди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осударственный экзамен 2008. Математ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чебно-тренировочные материалы для подготов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чащихся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ФИПИ – М.: Интеллект-Центр,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2. Шевкин А.В. Текстовые задачи в школьном кур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атематики. М.: Педагогический университ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«Первое сентября», 200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3. Открытый банк заданий ЕГЭ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://www.nado5.ru/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materials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/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novoe-v-yege-po-matemat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>
            <a:hlinkClick r:id="" action="ppaction://hlinkshowjump?jump=endshow"/>
          </p:cNvPr>
          <p:cNvSpPr/>
          <p:nvPr/>
        </p:nvSpPr>
        <p:spPr>
          <a:xfrm>
            <a:off x="8459640" y="6165720"/>
            <a:ext cx="505080" cy="5382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760 h 538200"/>
              <a:gd name="textAreaBottom" fmla="*/ 505800 h 538200"/>
            </a:gdLst>
            <a:ahLst/>
            <a:rect l="textAreaLeft" t="textAreaTop" r="textAreaRight" b="textAreaBottom"/>
            <a:pathLst>
              <a:path w="21600" h="23015">
                <a:moveTo>
                  <a:pt x="0" y="0"/>
                </a:moveTo>
                <a:lnTo>
                  <a:pt x="21600" y="0"/>
                </a:lnTo>
                <a:lnTo>
                  <a:pt x="21600" y="23015"/>
                </a:lnTo>
                <a:lnTo>
                  <a:pt x="0" y="23015"/>
                </a:lnTo>
                <a:close/>
              </a:path>
              <a:path fill="lightenLess" w="21600" h="230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15">
                <a:moveTo>
                  <a:pt x="21600" y="0"/>
                </a:moveTo>
                <a:lnTo>
                  <a:pt x="21600" y="23015"/>
                </a:lnTo>
                <a:lnTo>
                  <a:pt x="20200" y="21615"/>
                </a:lnTo>
                <a:lnTo>
                  <a:pt x="20200" y="1400"/>
                </a:lnTo>
                <a:close/>
              </a:path>
              <a:path fill="darkenLess" w="21600" h="23015">
                <a:moveTo>
                  <a:pt x="21600" y="23015"/>
                </a:moveTo>
                <a:lnTo>
                  <a:pt x="0" y="23015"/>
                </a:lnTo>
                <a:lnTo>
                  <a:pt x="1400" y="21615"/>
                </a:lnTo>
                <a:lnTo>
                  <a:pt x="20200" y="21615"/>
                </a:lnTo>
                <a:close/>
              </a:path>
              <a:path fill="lighten" w="21600" h="23015">
                <a:moveTo>
                  <a:pt x="0" y="230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15"/>
                </a:lnTo>
                <a:close/>
              </a:path>
              <a:path fill="darken" w="21600" h="23015">
                <a:moveTo>
                  <a:pt x="3794" y="4501"/>
                </a:moveTo>
                <a:lnTo>
                  <a:pt x="17806" y="11508"/>
                </a:lnTo>
                <a:lnTo>
                  <a:pt x="3794" y="1851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2" dur="indefinite" restart="never" nodeType="tmRoot">
          <p:childTnLst>
            <p:seq>
              <p:cTn id="1553" dur="indefinite" nodeType="mainSeq">
                <p:childTnLst>
                  <p:par>
                    <p:cTn id="1554" fill="hold">
                      <p:stCondLst>
                        <p:cond delay="0"/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8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68360" y="2060640"/>
            <a:ext cx="8064360" cy="316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" action="ppaction://hlinkshowjump?jump=nextslide"/>
          </p:cNvPr>
          <p:cNvSpPr/>
          <p:nvPr/>
        </p:nvSpPr>
        <p:spPr>
          <a:xfrm>
            <a:off x="8459640" y="6165720"/>
            <a:ext cx="505080" cy="5382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760 h 538200"/>
              <a:gd name="textAreaBottom" fmla="*/ 505800 h 538200"/>
            </a:gdLst>
            <a:ahLst/>
            <a:rect l="textAreaLeft" t="textAreaTop" r="textAreaRight" b="textAreaBottom"/>
            <a:pathLst>
              <a:path w="21600" h="23015">
                <a:moveTo>
                  <a:pt x="0" y="0"/>
                </a:moveTo>
                <a:lnTo>
                  <a:pt x="21600" y="0"/>
                </a:lnTo>
                <a:lnTo>
                  <a:pt x="21600" y="23015"/>
                </a:lnTo>
                <a:lnTo>
                  <a:pt x="0" y="23015"/>
                </a:lnTo>
                <a:close/>
              </a:path>
              <a:path fill="lightenLess" w="21600" h="230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15">
                <a:moveTo>
                  <a:pt x="21600" y="0"/>
                </a:moveTo>
                <a:lnTo>
                  <a:pt x="21600" y="23015"/>
                </a:lnTo>
                <a:lnTo>
                  <a:pt x="20200" y="21615"/>
                </a:lnTo>
                <a:lnTo>
                  <a:pt x="20200" y="1400"/>
                </a:lnTo>
                <a:close/>
              </a:path>
              <a:path fill="darkenLess" w="21600" h="23015">
                <a:moveTo>
                  <a:pt x="21600" y="23015"/>
                </a:moveTo>
                <a:lnTo>
                  <a:pt x="0" y="23015"/>
                </a:lnTo>
                <a:lnTo>
                  <a:pt x="1400" y="21615"/>
                </a:lnTo>
                <a:lnTo>
                  <a:pt x="20200" y="21615"/>
                </a:lnTo>
                <a:close/>
              </a:path>
              <a:path fill="lighten" w="21600" h="23015">
                <a:moveTo>
                  <a:pt x="0" y="230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15"/>
                </a:lnTo>
                <a:close/>
              </a:path>
              <a:path fill="darken" w="21600" h="23015">
                <a:moveTo>
                  <a:pt x="3794" y="4501"/>
                </a:moveTo>
                <a:lnTo>
                  <a:pt x="17806" y="11508"/>
                </a:lnTo>
                <a:lnTo>
                  <a:pt x="3794" y="1851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26920" y="333360"/>
            <a:ext cx="734400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0000"/>
                </a:solidFill>
                <a:latin typeface="Times New Roman"/>
              </a:rPr>
              <a:t>Способы решения зада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0000"/>
                </a:solidFill>
                <a:latin typeface="Times New Roman"/>
              </a:rPr>
              <a:t>на смеси и сплав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042920" y="2421000"/>
            <a:ext cx="4048560" cy="642600"/>
            <a:chOff x="1042920" y="2421000"/>
            <a:chExt cx="4048560" cy="642600"/>
          </a:xfrm>
        </p:grpSpPr>
        <p:sp>
          <p:nvSpPr>
            <p:cNvPr id="80" name="">
              <a:hlinkClick r:id="rId2" action="ppaction://hlinksldjump"/>
            </p:cNvPr>
            <p:cNvSpPr/>
            <p:nvPr/>
          </p:nvSpPr>
          <p:spPr>
            <a:xfrm>
              <a:off x="1524600" y="2421000"/>
              <a:ext cx="3566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009999"/>
                  </a:solidFill>
                  <a:uFillTx/>
                  <a:latin typeface="Times New Roman"/>
                  <a:hlinkClick r:id="rId3" action="ppaction://hlinksldjump"/>
                </a:rPr>
                <a:t>Арифметический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>
              <a:hlinkClick r:id="rId4" action="ppaction://hlinksldjump"/>
            </p:cNvPr>
            <p:cNvSpPr/>
            <p:nvPr/>
          </p:nvSpPr>
          <p:spPr>
            <a:xfrm>
              <a:off x="1042920" y="2709720"/>
              <a:ext cx="217440" cy="213840"/>
            </a:xfrm>
            <a:prstGeom prst="ellipse">
              <a:avLst/>
            </a:prstGeom>
            <a:solidFill>
              <a:srgbClr val="00c9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042920" y="3429000"/>
            <a:ext cx="5182920" cy="642600"/>
            <a:chOff x="1042920" y="3429000"/>
            <a:chExt cx="5182920" cy="642600"/>
          </a:xfrm>
        </p:grpSpPr>
        <p:sp>
          <p:nvSpPr>
            <p:cNvPr id="83" name=""/>
            <p:cNvSpPr/>
            <p:nvPr/>
          </p:nvSpPr>
          <p:spPr>
            <a:xfrm>
              <a:off x="1467000" y="3429000"/>
              <a:ext cx="4758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009999"/>
                  </a:solidFill>
                  <a:uFillTx/>
                  <a:latin typeface="Times New Roman"/>
                  <a:hlinkClick r:id="rId5" action="ppaction://hlinksldjump"/>
                </a:rPr>
                <a:t>Применение уравнени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042920" y="3717720"/>
              <a:ext cx="217440" cy="214200"/>
            </a:xfrm>
            <a:prstGeom prst="ellipse">
              <a:avLst/>
            </a:prstGeom>
            <a:solidFill>
              <a:srgbClr val="00c9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1042920" y="4365720"/>
            <a:ext cx="6761520" cy="642600"/>
            <a:chOff x="1042920" y="4365720"/>
            <a:chExt cx="6761520" cy="642600"/>
          </a:xfrm>
        </p:grpSpPr>
        <p:sp>
          <p:nvSpPr>
            <p:cNvPr id="86" name=""/>
            <p:cNvSpPr/>
            <p:nvPr/>
          </p:nvSpPr>
          <p:spPr>
            <a:xfrm>
              <a:off x="1553760" y="4365720"/>
              <a:ext cx="6250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009999"/>
                  </a:solidFill>
                  <a:uFillTx/>
                  <a:latin typeface="Times New Roman"/>
                  <a:hlinkClick r:id="rId6" action="ppaction://hlinksldjump"/>
                </a:rPr>
                <a:t>Применение систем уравнений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42920" y="4654440"/>
              <a:ext cx="217440" cy="214560"/>
            </a:xfrm>
            <a:prstGeom prst="ellipse">
              <a:avLst/>
            </a:prstGeom>
            <a:solidFill>
              <a:srgbClr val="00c9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5508720" y="5516640"/>
            <a:ext cx="649080" cy="934920"/>
            <a:chOff x="5508720" y="5516640"/>
            <a:chExt cx="649080" cy="934920"/>
          </a:xfrm>
        </p:grpSpPr>
        <p:sp>
          <p:nvSpPr>
            <p:cNvPr id="89" name=""/>
            <p:cNvSpPr/>
            <p:nvPr/>
          </p:nvSpPr>
          <p:spPr>
            <a:xfrm>
              <a:off x="5513760" y="5521320"/>
              <a:ext cx="638280" cy="930240"/>
            </a:xfrm>
            <a:custGeom>
              <a:avLst/>
              <a:gdLst/>
              <a:ahLst/>
              <a:rect l="l" t="t" r="r" b="b"/>
              <a:pathLst>
                <a:path w="1113" h="1352">
                  <a:moveTo>
                    <a:pt x="142" y="306"/>
                  </a:moveTo>
                  <a:cubicBezTo>
                    <a:pt x="124" y="309"/>
                    <a:pt x="115" y="309"/>
                    <a:pt x="98" y="318"/>
                  </a:cubicBezTo>
                  <a:cubicBezTo>
                    <a:pt x="80" y="326"/>
                    <a:pt x="52" y="336"/>
                    <a:pt x="38" y="356"/>
                  </a:cubicBezTo>
                  <a:cubicBezTo>
                    <a:pt x="22" y="375"/>
                    <a:pt x="14" y="377"/>
                    <a:pt x="8" y="437"/>
                  </a:cubicBezTo>
                  <a:cubicBezTo>
                    <a:pt x="2" y="498"/>
                    <a:pt x="3" y="632"/>
                    <a:pt x="2" y="720"/>
                  </a:cubicBezTo>
                  <a:cubicBezTo>
                    <a:pt x="2" y="806"/>
                    <a:pt x="0" y="875"/>
                    <a:pt x="2" y="958"/>
                  </a:cubicBezTo>
                  <a:cubicBezTo>
                    <a:pt x="5" y="1040"/>
                    <a:pt x="0" y="1160"/>
                    <a:pt x="14" y="1216"/>
                  </a:cubicBezTo>
                  <a:cubicBezTo>
                    <a:pt x="28" y="1272"/>
                    <a:pt x="35" y="1272"/>
                    <a:pt x="85" y="1293"/>
                  </a:cubicBezTo>
                  <a:cubicBezTo>
                    <a:pt x="135" y="1314"/>
                    <a:pt x="230" y="1331"/>
                    <a:pt x="321" y="1340"/>
                  </a:cubicBezTo>
                  <a:cubicBezTo>
                    <a:pt x="413" y="1349"/>
                    <a:pt x="536" y="1352"/>
                    <a:pt x="638" y="1348"/>
                  </a:cubicBezTo>
                  <a:cubicBezTo>
                    <a:pt x="740" y="1344"/>
                    <a:pt x="866" y="1332"/>
                    <a:pt x="936" y="1321"/>
                  </a:cubicBezTo>
                  <a:cubicBezTo>
                    <a:pt x="1006" y="1310"/>
                    <a:pt x="1032" y="1300"/>
                    <a:pt x="1059" y="1282"/>
                  </a:cubicBezTo>
                  <a:cubicBezTo>
                    <a:pt x="1086" y="1264"/>
                    <a:pt x="1088" y="1263"/>
                    <a:pt x="1097" y="1212"/>
                  </a:cubicBezTo>
                  <a:cubicBezTo>
                    <a:pt x="1106" y="1161"/>
                    <a:pt x="1109" y="1088"/>
                    <a:pt x="1111" y="978"/>
                  </a:cubicBezTo>
                  <a:cubicBezTo>
                    <a:pt x="1113" y="868"/>
                    <a:pt x="1111" y="650"/>
                    <a:pt x="1107" y="551"/>
                  </a:cubicBezTo>
                  <a:cubicBezTo>
                    <a:pt x="1103" y="452"/>
                    <a:pt x="1098" y="420"/>
                    <a:pt x="1088" y="385"/>
                  </a:cubicBezTo>
                  <a:cubicBezTo>
                    <a:pt x="1080" y="349"/>
                    <a:pt x="1065" y="353"/>
                    <a:pt x="1054" y="342"/>
                  </a:cubicBezTo>
                  <a:cubicBezTo>
                    <a:pt x="1041" y="330"/>
                    <a:pt x="1040" y="325"/>
                    <a:pt x="1017" y="318"/>
                  </a:cubicBezTo>
                  <a:cubicBezTo>
                    <a:pt x="997" y="310"/>
                    <a:pt x="948" y="304"/>
                    <a:pt x="925" y="299"/>
                  </a:cubicBezTo>
                  <a:cubicBezTo>
                    <a:pt x="902" y="293"/>
                    <a:pt x="893" y="293"/>
                    <a:pt x="877" y="289"/>
                  </a:cubicBezTo>
                  <a:cubicBezTo>
                    <a:pt x="863" y="284"/>
                    <a:pt x="847" y="278"/>
                    <a:pt x="836" y="270"/>
                  </a:cubicBezTo>
                  <a:cubicBezTo>
                    <a:pt x="825" y="262"/>
                    <a:pt x="814" y="254"/>
                    <a:pt x="810" y="244"/>
                  </a:cubicBezTo>
                  <a:cubicBezTo>
                    <a:pt x="805" y="232"/>
                    <a:pt x="800" y="218"/>
                    <a:pt x="806" y="203"/>
                  </a:cubicBezTo>
                  <a:cubicBezTo>
                    <a:pt x="813" y="189"/>
                    <a:pt x="833" y="168"/>
                    <a:pt x="847" y="154"/>
                  </a:cubicBezTo>
                  <a:cubicBezTo>
                    <a:pt x="862" y="140"/>
                    <a:pt x="884" y="133"/>
                    <a:pt x="896" y="120"/>
                  </a:cubicBezTo>
                  <a:cubicBezTo>
                    <a:pt x="909" y="107"/>
                    <a:pt x="923" y="89"/>
                    <a:pt x="923" y="76"/>
                  </a:cubicBezTo>
                  <a:cubicBezTo>
                    <a:pt x="923" y="63"/>
                    <a:pt x="932" y="50"/>
                    <a:pt x="901" y="39"/>
                  </a:cubicBezTo>
                  <a:cubicBezTo>
                    <a:pt x="869" y="29"/>
                    <a:pt x="797" y="20"/>
                    <a:pt x="736" y="13"/>
                  </a:cubicBezTo>
                  <a:cubicBezTo>
                    <a:pt x="674" y="7"/>
                    <a:pt x="603" y="0"/>
                    <a:pt x="531" y="0"/>
                  </a:cubicBezTo>
                  <a:cubicBezTo>
                    <a:pt x="458" y="0"/>
                    <a:pt x="356" y="7"/>
                    <a:pt x="298" y="16"/>
                  </a:cubicBezTo>
                  <a:cubicBezTo>
                    <a:pt x="239" y="25"/>
                    <a:pt x="200" y="38"/>
                    <a:pt x="184" y="55"/>
                  </a:cubicBezTo>
                  <a:cubicBezTo>
                    <a:pt x="169" y="72"/>
                    <a:pt x="192" y="104"/>
                    <a:pt x="202" y="121"/>
                  </a:cubicBezTo>
                  <a:cubicBezTo>
                    <a:pt x="209" y="140"/>
                    <a:pt x="225" y="149"/>
                    <a:pt x="236" y="160"/>
                  </a:cubicBezTo>
                  <a:cubicBezTo>
                    <a:pt x="249" y="172"/>
                    <a:pt x="266" y="183"/>
                    <a:pt x="276" y="192"/>
                  </a:cubicBezTo>
                  <a:cubicBezTo>
                    <a:pt x="284" y="199"/>
                    <a:pt x="288" y="201"/>
                    <a:pt x="290" y="210"/>
                  </a:cubicBezTo>
                  <a:cubicBezTo>
                    <a:pt x="291" y="219"/>
                    <a:pt x="293" y="233"/>
                    <a:pt x="287" y="244"/>
                  </a:cubicBezTo>
                  <a:cubicBezTo>
                    <a:pt x="282" y="254"/>
                    <a:pt x="272" y="263"/>
                    <a:pt x="257" y="272"/>
                  </a:cubicBezTo>
                  <a:cubicBezTo>
                    <a:pt x="243" y="282"/>
                    <a:pt x="221" y="291"/>
                    <a:pt x="202" y="296"/>
                  </a:cubicBezTo>
                  <a:cubicBezTo>
                    <a:pt x="183" y="301"/>
                    <a:pt x="159" y="302"/>
                    <a:pt x="142" y="306"/>
                  </a:cubicBezTo>
                  <a:close/>
                </a:path>
              </a:pathLst>
            </a:custGeom>
            <a:gradFill rotWithShape="0">
              <a:gsLst>
                <a:gs pos="0">
                  <a:srgbClr val="09ffff"/>
                </a:gs>
                <a:gs pos="100000">
                  <a:srgbClr val="0000da"/>
                </a:gs>
              </a:gsLst>
              <a:lin ang="5400000"/>
            </a:gradFill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22400" y="6297480"/>
              <a:ext cx="614520" cy="70200"/>
            </a:xfrm>
            <a:custGeom>
              <a:avLst/>
              <a:gdLst/>
              <a:ahLst/>
              <a:rect l="l" t="t" r="r" b="b"/>
              <a:pathLst>
                <a:path w="1072" h="102">
                  <a:moveTo>
                    <a:pt x="1072" y="90"/>
                  </a:moveTo>
                  <a:cubicBezTo>
                    <a:pt x="1047" y="80"/>
                    <a:pt x="1012" y="45"/>
                    <a:pt x="924" y="30"/>
                  </a:cubicBezTo>
                  <a:cubicBezTo>
                    <a:pt x="836" y="15"/>
                    <a:pt x="667" y="0"/>
                    <a:pt x="542" y="0"/>
                  </a:cubicBezTo>
                  <a:cubicBezTo>
                    <a:pt x="417" y="0"/>
                    <a:pt x="264" y="15"/>
                    <a:pt x="174" y="32"/>
                  </a:cubicBezTo>
                  <a:cubicBezTo>
                    <a:pt x="84" y="49"/>
                    <a:pt x="36" y="88"/>
                    <a:pt x="0" y="102"/>
                  </a:cubicBezTo>
                </a:path>
              </a:pathLst>
            </a:custGeom>
            <a:noFill/>
            <a:ln w="19080">
              <a:solidFill>
                <a:srgbClr val="0000d2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08720" y="5932800"/>
              <a:ext cx="649080" cy="162360"/>
            </a:xfrm>
            <a:custGeom>
              <a:avLst/>
              <a:gdLst/>
              <a:ahLst/>
              <a:rect l="l" t="t" r="r" b="b"/>
              <a:pathLst>
                <a:path w="1132" h="236">
                  <a:moveTo>
                    <a:pt x="12" y="104"/>
                  </a:moveTo>
                  <a:cubicBezTo>
                    <a:pt x="0" y="120"/>
                    <a:pt x="21" y="138"/>
                    <a:pt x="48" y="153"/>
                  </a:cubicBezTo>
                  <a:cubicBezTo>
                    <a:pt x="75" y="168"/>
                    <a:pt x="106" y="179"/>
                    <a:pt x="174" y="192"/>
                  </a:cubicBezTo>
                  <a:cubicBezTo>
                    <a:pt x="242" y="205"/>
                    <a:pt x="349" y="226"/>
                    <a:pt x="453" y="231"/>
                  </a:cubicBezTo>
                  <a:cubicBezTo>
                    <a:pt x="557" y="236"/>
                    <a:pt x="719" y="228"/>
                    <a:pt x="799" y="223"/>
                  </a:cubicBezTo>
                  <a:cubicBezTo>
                    <a:pt x="880" y="218"/>
                    <a:pt x="894" y="211"/>
                    <a:pt x="932" y="202"/>
                  </a:cubicBezTo>
                  <a:cubicBezTo>
                    <a:pt x="969" y="193"/>
                    <a:pt x="999" y="185"/>
                    <a:pt x="1029" y="171"/>
                  </a:cubicBezTo>
                  <a:cubicBezTo>
                    <a:pt x="1059" y="157"/>
                    <a:pt x="1098" y="134"/>
                    <a:pt x="1112" y="120"/>
                  </a:cubicBezTo>
                  <a:cubicBezTo>
                    <a:pt x="1126" y="106"/>
                    <a:pt x="1132" y="103"/>
                    <a:pt x="1112" y="88"/>
                  </a:cubicBezTo>
                  <a:cubicBezTo>
                    <a:pt x="1092" y="73"/>
                    <a:pt x="1053" y="45"/>
                    <a:pt x="991" y="31"/>
                  </a:cubicBezTo>
                  <a:cubicBezTo>
                    <a:pt x="929" y="17"/>
                    <a:pt x="831" y="8"/>
                    <a:pt x="741" y="4"/>
                  </a:cubicBezTo>
                  <a:cubicBezTo>
                    <a:pt x="651" y="0"/>
                    <a:pt x="525" y="1"/>
                    <a:pt x="448" y="4"/>
                  </a:cubicBezTo>
                  <a:cubicBezTo>
                    <a:pt x="371" y="7"/>
                    <a:pt x="335" y="12"/>
                    <a:pt x="280" y="20"/>
                  </a:cubicBezTo>
                  <a:cubicBezTo>
                    <a:pt x="226" y="27"/>
                    <a:pt x="165" y="41"/>
                    <a:pt x="120" y="55"/>
                  </a:cubicBezTo>
                  <a:cubicBezTo>
                    <a:pt x="75" y="69"/>
                    <a:pt x="24" y="88"/>
                    <a:pt x="12" y="104"/>
                  </a:cubicBez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4747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15560" y="6006960"/>
              <a:ext cx="632880" cy="84600"/>
            </a:xfrm>
            <a:custGeom>
              <a:avLst/>
              <a:gdLst/>
              <a:ahLst/>
              <a:rect l="l" t="t" r="r" b="b"/>
              <a:pathLst>
                <a:path w="1104" h="123">
                  <a:moveTo>
                    <a:pt x="0" y="16"/>
                  </a:moveTo>
                  <a:cubicBezTo>
                    <a:pt x="8" y="22"/>
                    <a:pt x="15" y="40"/>
                    <a:pt x="43" y="52"/>
                  </a:cubicBezTo>
                  <a:cubicBezTo>
                    <a:pt x="71" y="64"/>
                    <a:pt x="117" y="79"/>
                    <a:pt x="167" y="89"/>
                  </a:cubicBezTo>
                  <a:cubicBezTo>
                    <a:pt x="218" y="99"/>
                    <a:pt x="284" y="107"/>
                    <a:pt x="348" y="113"/>
                  </a:cubicBezTo>
                  <a:cubicBezTo>
                    <a:pt x="413" y="118"/>
                    <a:pt x="487" y="123"/>
                    <a:pt x="559" y="123"/>
                  </a:cubicBezTo>
                  <a:cubicBezTo>
                    <a:pt x="632" y="123"/>
                    <a:pt x="722" y="120"/>
                    <a:pt x="786" y="113"/>
                  </a:cubicBezTo>
                  <a:cubicBezTo>
                    <a:pt x="851" y="105"/>
                    <a:pt x="903" y="90"/>
                    <a:pt x="947" y="79"/>
                  </a:cubicBezTo>
                  <a:cubicBezTo>
                    <a:pt x="991" y="67"/>
                    <a:pt x="1025" y="52"/>
                    <a:pt x="1051" y="39"/>
                  </a:cubicBezTo>
                  <a:cubicBezTo>
                    <a:pt x="1077" y="26"/>
                    <a:pt x="1093" y="8"/>
                    <a:pt x="1104" y="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17720" y="5933520"/>
              <a:ext cx="628560" cy="70920"/>
            </a:xfrm>
            <a:custGeom>
              <a:avLst/>
              <a:gdLst/>
              <a:ahLst/>
              <a:rect l="l" t="t" r="r" b="b"/>
              <a:pathLst>
                <a:path w="1096" h="103">
                  <a:moveTo>
                    <a:pt x="1096" y="91"/>
                  </a:moveTo>
                  <a:cubicBezTo>
                    <a:pt x="1085" y="85"/>
                    <a:pt x="1061" y="64"/>
                    <a:pt x="1028" y="52"/>
                  </a:cubicBezTo>
                  <a:cubicBezTo>
                    <a:pt x="995" y="40"/>
                    <a:pt x="944" y="29"/>
                    <a:pt x="896" y="21"/>
                  </a:cubicBezTo>
                  <a:cubicBezTo>
                    <a:pt x="847" y="13"/>
                    <a:pt x="792" y="5"/>
                    <a:pt x="735" y="3"/>
                  </a:cubicBezTo>
                  <a:cubicBezTo>
                    <a:pt x="678" y="0"/>
                    <a:pt x="610" y="1"/>
                    <a:pt x="551" y="1"/>
                  </a:cubicBezTo>
                  <a:cubicBezTo>
                    <a:pt x="491" y="1"/>
                    <a:pt x="432" y="1"/>
                    <a:pt x="379" y="5"/>
                  </a:cubicBezTo>
                  <a:cubicBezTo>
                    <a:pt x="325" y="9"/>
                    <a:pt x="270" y="18"/>
                    <a:pt x="225" y="26"/>
                  </a:cubicBezTo>
                  <a:cubicBezTo>
                    <a:pt x="179" y="34"/>
                    <a:pt x="135" y="45"/>
                    <a:pt x="102" y="55"/>
                  </a:cubicBezTo>
                  <a:cubicBezTo>
                    <a:pt x="69" y="66"/>
                    <a:pt x="43" y="81"/>
                    <a:pt x="26" y="89"/>
                  </a:cubicBezTo>
                  <a:cubicBezTo>
                    <a:pt x="9" y="97"/>
                    <a:pt x="5" y="100"/>
                    <a:pt x="0" y="103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618160" y="5516640"/>
              <a:ext cx="429480" cy="92160"/>
            </a:xfrm>
            <a:custGeom>
              <a:avLst/>
              <a:gdLst/>
              <a:ahLst/>
              <a:rect l="l" t="t" r="r" b="b"/>
              <a:pathLst>
                <a:path w="475" h="103">
                  <a:moveTo>
                    <a:pt x="5" y="57"/>
                  </a:moveTo>
                  <a:cubicBezTo>
                    <a:pt x="0" y="49"/>
                    <a:pt x="8" y="37"/>
                    <a:pt x="25" y="29"/>
                  </a:cubicBezTo>
                  <a:cubicBezTo>
                    <a:pt x="42" y="21"/>
                    <a:pt x="76" y="16"/>
                    <a:pt x="107" y="11"/>
                  </a:cubicBezTo>
                  <a:cubicBezTo>
                    <a:pt x="138" y="6"/>
                    <a:pt x="180" y="2"/>
                    <a:pt x="213" y="1"/>
                  </a:cubicBezTo>
                  <a:cubicBezTo>
                    <a:pt x="246" y="0"/>
                    <a:pt x="279" y="1"/>
                    <a:pt x="307" y="3"/>
                  </a:cubicBezTo>
                  <a:cubicBezTo>
                    <a:pt x="335" y="5"/>
                    <a:pt x="357" y="9"/>
                    <a:pt x="379" y="13"/>
                  </a:cubicBezTo>
                  <a:cubicBezTo>
                    <a:pt x="401" y="17"/>
                    <a:pt x="422" y="19"/>
                    <a:pt x="437" y="25"/>
                  </a:cubicBezTo>
                  <a:cubicBezTo>
                    <a:pt x="452" y="31"/>
                    <a:pt x="471" y="42"/>
                    <a:pt x="473" y="49"/>
                  </a:cubicBezTo>
                  <a:cubicBezTo>
                    <a:pt x="475" y="56"/>
                    <a:pt x="464" y="60"/>
                    <a:pt x="449" y="67"/>
                  </a:cubicBezTo>
                  <a:cubicBezTo>
                    <a:pt x="434" y="74"/>
                    <a:pt x="410" y="83"/>
                    <a:pt x="381" y="89"/>
                  </a:cubicBezTo>
                  <a:cubicBezTo>
                    <a:pt x="352" y="95"/>
                    <a:pt x="316" y="99"/>
                    <a:pt x="277" y="101"/>
                  </a:cubicBezTo>
                  <a:cubicBezTo>
                    <a:pt x="238" y="103"/>
                    <a:pt x="186" y="102"/>
                    <a:pt x="149" y="99"/>
                  </a:cubicBezTo>
                  <a:cubicBezTo>
                    <a:pt x="112" y="96"/>
                    <a:pt x="79" y="87"/>
                    <a:pt x="55" y="80"/>
                  </a:cubicBezTo>
                  <a:cubicBezTo>
                    <a:pt x="31" y="73"/>
                    <a:pt x="11" y="66"/>
                    <a:pt x="5" y="57"/>
                  </a:cubicBezTo>
                  <a:close/>
                </a:path>
              </a:pathLst>
            </a:custGeom>
            <a:solidFill>
              <a:srgbClr val="00ffff"/>
            </a:solidFill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2051280" y="5373720"/>
            <a:ext cx="2518920" cy="1202400"/>
            <a:chOff x="2051280" y="5373720"/>
            <a:chExt cx="2518920" cy="1202400"/>
          </a:xfrm>
        </p:grpSpPr>
        <p:grpSp>
          <p:nvGrpSpPr>
            <p:cNvPr id="96" name=""/>
            <p:cNvGrpSpPr/>
            <p:nvPr/>
          </p:nvGrpSpPr>
          <p:grpSpPr>
            <a:xfrm>
              <a:off x="2051280" y="5373720"/>
              <a:ext cx="2518920" cy="1150560"/>
              <a:chOff x="2051280" y="5373720"/>
              <a:chExt cx="2518920" cy="1150560"/>
            </a:xfrm>
          </p:grpSpPr>
          <p:sp>
            <p:nvSpPr>
              <p:cNvPr id="97" name=""/>
              <p:cNvSpPr/>
              <p:nvPr/>
            </p:nvSpPr>
            <p:spPr>
              <a:xfrm flipH="1">
                <a:off x="2075400" y="5373720"/>
                <a:ext cx="2494440" cy="701640"/>
              </a:xfrm>
              <a:custGeom>
                <a:avLst/>
                <a:gdLst/>
                <a:ahLst/>
                <a:rect l="l" t="t" r="r" b="b"/>
                <a:pathLst>
                  <a:path w="1617" h="369">
                    <a:moveTo>
                      <a:pt x="1207" y="4"/>
                    </a:moveTo>
                    <a:cubicBezTo>
                      <a:pt x="1266" y="8"/>
                      <a:pt x="1327" y="33"/>
                      <a:pt x="1376" y="47"/>
                    </a:cubicBezTo>
                    <a:cubicBezTo>
                      <a:pt x="1425" y="60"/>
                      <a:pt x="1466" y="71"/>
                      <a:pt x="1504" y="86"/>
                    </a:cubicBezTo>
                    <a:cubicBezTo>
                      <a:pt x="1543" y="102"/>
                      <a:pt x="1617" y="126"/>
                      <a:pt x="1606" y="140"/>
                    </a:cubicBezTo>
                    <a:cubicBezTo>
                      <a:pt x="1594" y="154"/>
                      <a:pt x="1496" y="160"/>
                      <a:pt x="1434" y="172"/>
                    </a:cubicBezTo>
                    <a:cubicBezTo>
                      <a:pt x="1373" y="184"/>
                      <a:pt x="1302" y="197"/>
                      <a:pt x="1238" y="210"/>
                    </a:cubicBezTo>
                    <a:cubicBezTo>
                      <a:pt x="1174" y="222"/>
                      <a:pt x="1126" y="232"/>
                      <a:pt x="1054" y="246"/>
                    </a:cubicBezTo>
                    <a:cubicBezTo>
                      <a:pt x="982" y="260"/>
                      <a:pt x="879" y="280"/>
                      <a:pt x="803" y="295"/>
                    </a:cubicBezTo>
                    <a:cubicBezTo>
                      <a:pt x="728" y="309"/>
                      <a:pt x="663" y="322"/>
                      <a:pt x="603" y="333"/>
                    </a:cubicBezTo>
                    <a:cubicBezTo>
                      <a:pt x="542" y="343"/>
                      <a:pt x="474" y="353"/>
                      <a:pt x="440" y="359"/>
                    </a:cubicBezTo>
                    <a:cubicBezTo>
                      <a:pt x="405" y="365"/>
                      <a:pt x="408" y="368"/>
                      <a:pt x="398" y="369"/>
                    </a:cubicBezTo>
                    <a:cubicBezTo>
                      <a:pt x="389" y="369"/>
                      <a:pt x="404" y="369"/>
                      <a:pt x="381" y="361"/>
                    </a:cubicBezTo>
                    <a:cubicBezTo>
                      <a:pt x="358" y="353"/>
                      <a:pt x="309" y="338"/>
                      <a:pt x="260" y="321"/>
                    </a:cubicBezTo>
                    <a:cubicBezTo>
                      <a:pt x="211" y="305"/>
                      <a:pt x="129" y="280"/>
                      <a:pt x="89" y="263"/>
                    </a:cubicBezTo>
                    <a:cubicBezTo>
                      <a:pt x="49" y="246"/>
                      <a:pt x="0" y="234"/>
                      <a:pt x="21" y="218"/>
                    </a:cubicBezTo>
                    <a:cubicBezTo>
                      <a:pt x="42" y="202"/>
                      <a:pt x="152" y="181"/>
                      <a:pt x="218" y="166"/>
                    </a:cubicBezTo>
                    <a:cubicBezTo>
                      <a:pt x="284" y="151"/>
                      <a:pt x="333" y="144"/>
                      <a:pt x="419" y="129"/>
                    </a:cubicBezTo>
                    <a:cubicBezTo>
                      <a:pt x="505" y="113"/>
                      <a:pt x="632" y="91"/>
                      <a:pt x="732" y="74"/>
                    </a:cubicBezTo>
                    <a:cubicBezTo>
                      <a:pt x="833" y="57"/>
                      <a:pt x="939" y="38"/>
                      <a:pt x="1019" y="27"/>
                    </a:cubicBezTo>
                    <a:cubicBezTo>
                      <a:pt x="1098" y="16"/>
                      <a:pt x="1148" y="0"/>
                      <a:pt x="1207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2050920" y="5628600"/>
                <a:ext cx="1906920" cy="895680"/>
              </a:xfrm>
              <a:custGeom>
                <a:avLst/>
                <a:gdLst/>
                <a:ahLst/>
                <a:rect l="l" t="t" r="r" b="b"/>
                <a:pathLst>
                  <a:path w="1236" h="471">
                    <a:moveTo>
                      <a:pt x="988" y="47"/>
                    </a:moveTo>
                    <a:cubicBezTo>
                      <a:pt x="1069" y="35"/>
                      <a:pt x="1122" y="23"/>
                      <a:pt x="1160" y="17"/>
                    </a:cubicBezTo>
                    <a:cubicBezTo>
                      <a:pt x="1198" y="11"/>
                      <a:pt x="1204" y="0"/>
                      <a:pt x="1214" y="9"/>
                    </a:cubicBezTo>
                    <a:cubicBezTo>
                      <a:pt x="1224" y="18"/>
                      <a:pt x="1221" y="45"/>
                      <a:pt x="1223" y="69"/>
                    </a:cubicBezTo>
                    <a:cubicBezTo>
                      <a:pt x="1225" y="93"/>
                      <a:pt x="1228" y="132"/>
                      <a:pt x="1229" y="156"/>
                    </a:cubicBezTo>
                    <a:cubicBezTo>
                      <a:pt x="1230" y="180"/>
                      <a:pt x="1236" y="203"/>
                      <a:pt x="1232" y="216"/>
                    </a:cubicBezTo>
                    <a:cubicBezTo>
                      <a:pt x="1228" y="229"/>
                      <a:pt x="1222" y="225"/>
                      <a:pt x="1205" y="231"/>
                    </a:cubicBezTo>
                    <a:cubicBezTo>
                      <a:pt x="1188" y="237"/>
                      <a:pt x="1171" y="245"/>
                      <a:pt x="1130" y="255"/>
                    </a:cubicBezTo>
                    <a:cubicBezTo>
                      <a:pt x="1089" y="265"/>
                      <a:pt x="1014" y="280"/>
                      <a:pt x="959" y="291"/>
                    </a:cubicBezTo>
                    <a:cubicBezTo>
                      <a:pt x="903" y="303"/>
                      <a:pt x="849" y="317"/>
                      <a:pt x="800" y="327"/>
                    </a:cubicBezTo>
                    <a:cubicBezTo>
                      <a:pt x="751" y="338"/>
                      <a:pt x="710" y="344"/>
                      <a:pt x="662" y="354"/>
                    </a:cubicBezTo>
                    <a:cubicBezTo>
                      <a:pt x="614" y="364"/>
                      <a:pt x="568" y="375"/>
                      <a:pt x="512" y="386"/>
                    </a:cubicBezTo>
                    <a:cubicBezTo>
                      <a:pt x="455" y="397"/>
                      <a:pt x="376" y="412"/>
                      <a:pt x="324" y="422"/>
                    </a:cubicBezTo>
                    <a:cubicBezTo>
                      <a:pt x="271" y="432"/>
                      <a:pt x="230" y="439"/>
                      <a:pt x="198" y="445"/>
                    </a:cubicBezTo>
                    <a:cubicBezTo>
                      <a:pt x="167" y="450"/>
                      <a:pt x="163" y="452"/>
                      <a:pt x="133" y="455"/>
                    </a:cubicBezTo>
                    <a:cubicBezTo>
                      <a:pt x="102" y="458"/>
                      <a:pt x="38" y="471"/>
                      <a:pt x="19" y="465"/>
                    </a:cubicBezTo>
                    <a:cubicBezTo>
                      <a:pt x="0" y="460"/>
                      <a:pt x="20" y="438"/>
                      <a:pt x="19" y="422"/>
                    </a:cubicBezTo>
                    <a:cubicBezTo>
                      <a:pt x="18" y="405"/>
                      <a:pt x="16" y="384"/>
                      <a:pt x="15" y="367"/>
                    </a:cubicBezTo>
                    <a:cubicBezTo>
                      <a:pt x="14" y="350"/>
                      <a:pt x="11" y="335"/>
                      <a:pt x="10" y="318"/>
                    </a:cubicBezTo>
                    <a:cubicBezTo>
                      <a:pt x="9" y="301"/>
                      <a:pt x="9" y="280"/>
                      <a:pt x="10" y="265"/>
                    </a:cubicBezTo>
                    <a:cubicBezTo>
                      <a:pt x="11" y="250"/>
                      <a:pt x="3" y="238"/>
                      <a:pt x="15" y="231"/>
                    </a:cubicBezTo>
                    <a:cubicBezTo>
                      <a:pt x="26" y="223"/>
                      <a:pt x="41" y="227"/>
                      <a:pt x="81" y="220"/>
                    </a:cubicBezTo>
                    <a:cubicBezTo>
                      <a:pt x="122" y="212"/>
                      <a:pt x="188" y="202"/>
                      <a:pt x="257" y="189"/>
                    </a:cubicBezTo>
                    <a:cubicBezTo>
                      <a:pt x="326" y="177"/>
                      <a:pt x="419" y="159"/>
                      <a:pt x="495" y="144"/>
                    </a:cubicBezTo>
                    <a:cubicBezTo>
                      <a:pt x="571" y="129"/>
                      <a:pt x="634" y="116"/>
                      <a:pt x="716" y="100"/>
                    </a:cubicBezTo>
                    <a:cubicBezTo>
                      <a:pt x="799" y="84"/>
                      <a:pt x="931" y="58"/>
                      <a:pt x="988" y="4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>
                <a:off x="3886920" y="5790240"/>
                <a:ext cx="659880" cy="724320"/>
              </a:xfrm>
              <a:custGeom>
                <a:avLst/>
                <a:gdLst/>
                <a:ahLst/>
                <a:rect l="l" t="t" r="r" b="b"/>
                <a:pathLst>
                  <a:path w="428" h="381">
                    <a:moveTo>
                      <a:pt x="10" y="80"/>
                    </a:moveTo>
                    <a:cubicBezTo>
                      <a:pt x="10" y="96"/>
                      <a:pt x="10" y="120"/>
                      <a:pt x="10" y="136"/>
                    </a:cubicBezTo>
                    <a:cubicBezTo>
                      <a:pt x="10" y="153"/>
                      <a:pt x="10" y="163"/>
                      <a:pt x="10" y="178"/>
                    </a:cubicBezTo>
                    <a:cubicBezTo>
                      <a:pt x="10" y="193"/>
                      <a:pt x="10" y="216"/>
                      <a:pt x="13" y="227"/>
                    </a:cubicBezTo>
                    <a:cubicBezTo>
                      <a:pt x="17" y="238"/>
                      <a:pt x="21" y="236"/>
                      <a:pt x="33" y="242"/>
                    </a:cubicBezTo>
                    <a:cubicBezTo>
                      <a:pt x="45" y="248"/>
                      <a:pt x="65" y="256"/>
                      <a:pt x="87" y="265"/>
                    </a:cubicBezTo>
                    <a:cubicBezTo>
                      <a:pt x="109" y="273"/>
                      <a:pt x="142" y="286"/>
                      <a:pt x="164" y="295"/>
                    </a:cubicBezTo>
                    <a:cubicBezTo>
                      <a:pt x="188" y="304"/>
                      <a:pt x="198" y="308"/>
                      <a:pt x="223" y="318"/>
                    </a:cubicBezTo>
                    <a:cubicBezTo>
                      <a:pt x="249" y="327"/>
                      <a:pt x="288" y="342"/>
                      <a:pt x="319" y="352"/>
                    </a:cubicBezTo>
                    <a:cubicBezTo>
                      <a:pt x="350" y="362"/>
                      <a:pt x="394" y="381"/>
                      <a:pt x="411" y="380"/>
                    </a:cubicBezTo>
                    <a:cubicBezTo>
                      <a:pt x="428" y="379"/>
                      <a:pt x="421" y="357"/>
                      <a:pt x="422" y="343"/>
                    </a:cubicBezTo>
                    <a:cubicBezTo>
                      <a:pt x="423" y="329"/>
                      <a:pt x="420" y="312"/>
                      <a:pt x="419" y="296"/>
                    </a:cubicBezTo>
                    <a:cubicBezTo>
                      <a:pt x="418" y="280"/>
                      <a:pt x="417" y="261"/>
                      <a:pt x="417" y="245"/>
                    </a:cubicBezTo>
                    <a:cubicBezTo>
                      <a:pt x="417" y="229"/>
                      <a:pt x="418" y="213"/>
                      <a:pt x="417" y="197"/>
                    </a:cubicBezTo>
                    <a:cubicBezTo>
                      <a:pt x="416" y="181"/>
                      <a:pt x="421" y="160"/>
                      <a:pt x="409" y="147"/>
                    </a:cubicBezTo>
                    <a:cubicBezTo>
                      <a:pt x="397" y="134"/>
                      <a:pt x="368" y="128"/>
                      <a:pt x="344" y="119"/>
                    </a:cubicBezTo>
                    <a:cubicBezTo>
                      <a:pt x="318" y="109"/>
                      <a:pt x="290" y="102"/>
                      <a:pt x="255" y="90"/>
                    </a:cubicBezTo>
                    <a:cubicBezTo>
                      <a:pt x="222" y="79"/>
                      <a:pt x="173" y="61"/>
                      <a:pt x="140" y="49"/>
                    </a:cubicBezTo>
                    <a:cubicBezTo>
                      <a:pt x="107" y="37"/>
                      <a:pt x="82" y="28"/>
                      <a:pt x="60" y="20"/>
                    </a:cubicBezTo>
                    <a:cubicBezTo>
                      <a:pt x="38" y="12"/>
                      <a:pt x="18" y="0"/>
                      <a:pt x="9" y="2"/>
                    </a:cubicBezTo>
                    <a:cubicBezTo>
                      <a:pt x="0" y="4"/>
                      <a:pt x="6" y="20"/>
                      <a:pt x="6" y="33"/>
                    </a:cubicBezTo>
                    <a:cubicBezTo>
                      <a:pt x="6" y="46"/>
                      <a:pt x="10" y="63"/>
                      <a:pt x="10" y="8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>
                <a:off x="3103200" y="5581080"/>
                <a:ext cx="657000" cy="754560"/>
              </a:xfrm>
              <a:custGeom>
                <a:avLst/>
                <a:gdLst/>
                <a:ahLst/>
                <a:rect l="l" t="t" r="r" b="b"/>
                <a:pathLst>
                  <a:path w="426" h="397">
                    <a:moveTo>
                      <a:pt x="0" y="0"/>
                    </a:moveTo>
                    <a:cubicBezTo>
                      <a:pt x="25" y="8"/>
                      <a:pt x="99" y="36"/>
                      <a:pt x="145" y="53"/>
                    </a:cubicBezTo>
                    <a:cubicBezTo>
                      <a:pt x="190" y="69"/>
                      <a:pt x="238" y="87"/>
                      <a:pt x="273" y="100"/>
                    </a:cubicBezTo>
                    <a:cubicBezTo>
                      <a:pt x="307" y="113"/>
                      <a:pt x="331" y="122"/>
                      <a:pt x="354" y="131"/>
                    </a:cubicBezTo>
                    <a:cubicBezTo>
                      <a:pt x="376" y="140"/>
                      <a:pt x="399" y="144"/>
                      <a:pt x="409" y="157"/>
                    </a:cubicBezTo>
                    <a:cubicBezTo>
                      <a:pt x="419" y="170"/>
                      <a:pt x="413" y="191"/>
                      <a:pt x="414" y="208"/>
                    </a:cubicBezTo>
                    <a:cubicBezTo>
                      <a:pt x="415" y="225"/>
                      <a:pt x="416" y="247"/>
                      <a:pt x="417" y="262"/>
                    </a:cubicBezTo>
                    <a:cubicBezTo>
                      <a:pt x="418" y="277"/>
                      <a:pt x="419" y="286"/>
                      <a:pt x="420" y="301"/>
                    </a:cubicBezTo>
                    <a:cubicBezTo>
                      <a:pt x="421" y="316"/>
                      <a:pt x="422" y="336"/>
                      <a:pt x="423" y="352"/>
                    </a:cubicBezTo>
                    <a:cubicBezTo>
                      <a:pt x="424" y="368"/>
                      <a:pt x="425" y="388"/>
                      <a:pt x="426" y="397"/>
                    </a:cubicBezTo>
                  </a:path>
                </a:pathLst>
              </a:custGeom>
              <a:noFill/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 rot="971400">
              <a:off x="3043800" y="600876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1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21195600">
              <a:off x="3273120" y="556668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никел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796000" y="2781360"/>
            <a:ext cx="3097080" cy="3240000"/>
          </a:xfrm>
          <a:custGeom>
            <a:avLst/>
            <a:gdLst>
              <a:gd name="textAreaLeft" fmla="*/ 151200 w 3097080"/>
              <a:gd name="textAreaRight" fmla="*/ 2945880 w 3097080"/>
              <a:gd name="textAreaTop" fmla="*/ 151200 h 3240000"/>
              <a:gd name="textAreaBottom" fmla="*/ 3088800 h 3240000"/>
            </a:gdLst>
            <a:ahLst/>
            <a:rect l="textAreaLeft" t="textAreaTop" r="textAreaRight" b="textAreaBottom"/>
            <a:pathLst>
              <a:path w="21600" h="22597">
                <a:moveTo>
                  <a:pt x="3600" y="0"/>
                </a:moveTo>
                <a:arcTo wR="3600" hR="3600" stAng="16200000" swAng="-5400000"/>
                <a:lnTo>
                  <a:pt x="0" y="18997"/>
                </a:lnTo>
                <a:arcTo wR="3600" hR="3600" stAng="10800000" swAng="-5400000"/>
                <a:lnTo>
                  <a:pt x="18000" y="225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333360"/>
            <a:ext cx="8496000" cy="194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В сосуд, содержащий 5 литров 12 процентн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водного раствора некоторого вещества, добави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7 литров воды. Сколько процентов составля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концентрация получившегося раствор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" action="ppaction://hlinkshowjump?jump=nextslide"/>
          </p:cNvPr>
          <p:cNvSpPr/>
          <p:nvPr/>
        </p:nvSpPr>
        <p:spPr>
          <a:xfrm>
            <a:off x="8459640" y="6165720"/>
            <a:ext cx="505080" cy="5382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760 h 538200"/>
              <a:gd name="textAreaBottom" fmla="*/ 505800 h 538200"/>
            </a:gdLst>
            <a:ahLst/>
            <a:rect l="textAreaLeft" t="textAreaTop" r="textAreaRight" b="textAreaBottom"/>
            <a:pathLst>
              <a:path w="21600" h="23015">
                <a:moveTo>
                  <a:pt x="0" y="0"/>
                </a:moveTo>
                <a:lnTo>
                  <a:pt x="21600" y="0"/>
                </a:lnTo>
                <a:lnTo>
                  <a:pt x="21600" y="23015"/>
                </a:lnTo>
                <a:lnTo>
                  <a:pt x="0" y="23015"/>
                </a:lnTo>
                <a:close/>
              </a:path>
              <a:path fill="lightenLess" w="21600" h="230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15">
                <a:moveTo>
                  <a:pt x="21600" y="0"/>
                </a:moveTo>
                <a:lnTo>
                  <a:pt x="21600" y="23015"/>
                </a:lnTo>
                <a:lnTo>
                  <a:pt x="20200" y="21615"/>
                </a:lnTo>
                <a:lnTo>
                  <a:pt x="20200" y="1400"/>
                </a:lnTo>
                <a:close/>
              </a:path>
              <a:path fill="darkenLess" w="21600" h="23015">
                <a:moveTo>
                  <a:pt x="21600" y="23015"/>
                </a:moveTo>
                <a:lnTo>
                  <a:pt x="0" y="23015"/>
                </a:lnTo>
                <a:lnTo>
                  <a:pt x="1400" y="21615"/>
                </a:lnTo>
                <a:lnTo>
                  <a:pt x="20200" y="21615"/>
                </a:lnTo>
                <a:close/>
              </a:path>
              <a:path fill="lighten" w="21600" h="23015">
                <a:moveTo>
                  <a:pt x="0" y="230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15"/>
                </a:lnTo>
                <a:close/>
              </a:path>
              <a:path fill="darken" w="21600" h="23015">
                <a:moveTo>
                  <a:pt x="3794" y="4501"/>
                </a:moveTo>
                <a:lnTo>
                  <a:pt x="17806" y="11508"/>
                </a:lnTo>
                <a:lnTo>
                  <a:pt x="3794" y="1851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6012000" y="3716280"/>
                <a:ext cx="2808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0,6</m:t>
                    </m:r>
                    <m:r>
                      <m:t xml:space="preserve">(</m:t>
                    </m:r>
                    <m:r>
                      <m:t xml:space="preserve">л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6012000" y="4292640"/>
                <a:ext cx="255564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0,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6084720" y="5300640"/>
            <a:ext cx="25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Ответ: 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6165720"/>
            <a:ext cx="1873080" cy="476280"/>
          </a:xfrm>
          <a:custGeom>
            <a:avLst/>
            <a:gdLst>
              <a:gd name="textAreaLeft" fmla="*/ 30600 w 1873080"/>
              <a:gd name="textAreaRight" fmla="*/ 1842480 w 1873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84899" h="21600">
                <a:moveTo>
                  <a:pt x="0" y="0"/>
                </a:moveTo>
                <a:lnTo>
                  <a:pt x="84899" y="0"/>
                </a:lnTo>
                <a:lnTo>
                  <a:pt x="84899" y="21600"/>
                </a:lnTo>
                <a:lnTo>
                  <a:pt x="0" y="21600"/>
                </a:lnTo>
                <a:close/>
              </a:path>
              <a:path fill="lightenLess" w="84899" h="21600">
                <a:moveTo>
                  <a:pt x="0" y="0"/>
                </a:moveTo>
                <a:lnTo>
                  <a:pt x="84899" y="0"/>
                </a:lnTo>
                <a:lnTo>
                  <a:pt x="83499" y="1400"/>
                </a:lnTo>
                <a:lnTo>
                  <a:pt x="1400" y="1400"/>
                </a:lnTo>
                <a:close/>
              </a:path>
              <a:path fill="darken" w="84899" h="21600">
                <a:moveTo>
                  <a:pt x="84899" y="0"/>
                </a:moveTo>
                <a:lnTo>
                  <a:pt x="84899" y="21600"/>
                </a:lnTo>
                <a:lnTo>
                  <a:pt x="83499" y="20200"/>
                </a:lnTo>
                <a:lnTo>
                  <a:pt x="83499" y="1400"/>
                </a:lnTo>
                <a:close/>
              </a:path>
              <a:path fill="darkenLess" w="84899" h="21600">
                <a:moveTo>
                  <a:pt x="848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3499" y="20200"/>
                </a:lnTo>
                <a:close/>
              </a:path>
              <a:path fill="lighten" w="848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lackadder ITC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50920" y="2781360"/>
            <a:ext cx="5472000" cy="2520720"/>
            <a:chOff x="250920" y="2781360"/>
            <a:chExt cx="5472000" cy="2520720"/>
          </a:xfrm>
        </p:grpSpPr>
        <p:sp>
          <p:nvSpPr>
            <p:cNvPr id="111" name=""/>
            <p:cNvSpPr/>
            <p:nvPr/>
          </p:nvSpPr>
          <p:spPr>
            <a:xfrm>
              <a:off x="250920" y="2781360"/>
              <a:ext cx="5472000" cy="2520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205000" y="278136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 спосо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548160" y="3789360"/>
              <a:ext cx="41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892520" y="3789360"/>
              <a:ext cx="41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28800" y="479736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 л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613240" y="479736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 л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739800" y="3213000"/>
              <a:ext cx="1143000" cy="1645920"/>
              <a:chOff x="739800" y="3213000"/>
              <a:chExt cx="1143000" cy="1645920"/>
            </a:xfrm>
          </p:grpSpPr>
          <p:sp>
            <p:nvSpPr>
              <p:cNvPr id="118" name=""/>
              <p:cNvSpPr/>
              <p:nvPr/>
            </p:nvSpPr>
            <p:spPr>
              <a:xfrm>
                <a:off x="739800" y="3213000"/>
                <a:ext cx="1143000" cy="1645920"/>
              </a:xfrm>
              <a:custGeom>
                <a:avLst/>
                <a:gdLst/>
                <a:ahLst/>
                <a:rect l="l" t="t" r="r" b="b"/>
                <a:pathLst>
                  <a:path w="720" h="1037">
                    <a:moveTo>
                      <a:pt x="90" y="235"/>
                    </a:moveTo>
                    <a:cubicBezTo>
                      <a:pt x="79" y="237"/>
                      <a:pt x="73" y="237"/>
                      <a:pt x="62" y="244"/>
                    </a:cubicBezTo>
                    <a:cubicBezTo>
                      <a:pt x="51" y="250"/>
                      <a:pt x="33" y="258"/>
                      <a:pt x="24" y="273"/>
                    </a:cubicBezTo>
                    <a:cubicBezTo>
                      <a:pt x="14" y="288"/>
                      <a:pt x="9" y="289"/>
                      <a:pt x="5" y="335"/>
                    </a:cubicBezTo>
                    <a:cubicBezTo>
                      <a:pt x="1" y="382"/>
                      <a:pt x="2" y="485"/>
                      <a:pt x="1" y="552"/>
                    </a:cubicBezTo>
                    <a:cubicBezTo>
                      <a:pt x="1" y="618"/>
                      <a:pt x="0" y="671"/>
                      <a:pt x="1" y="735"/>
                    </a:cubicBezTo>
                    <a:cubicBezTo>
                      <a:pt x="3" y="798"/>
                      <a:pt x="0" y="890"/>
                      <a:pt x="9" y="933"/>
                    </a:cubicBezTo>
                    <a:cubicBezTo>
                      <a:pt x="18" y="976"/>
                      <a:pt x="22" y="976"/>
                      <a:pt x="54" y="992"/>
                    </a:cubicBezTo>
                    <a:cubicBezTo>
                      <a:pt x="86" y="1008"/>
                      <a:pt x="146" y="1021"/>
                      <a:pt x="204" y="1028"/>
                    </a:cubicBezTo>
                    <a:cubicBezTo>
                      <a:pt x="262" y="1035"/>
                      <a:pt x="340" y="1037"/>
                      <a:pt x="405" y="1034"/>
                    </a:cubicBezTo>
                    <a:cubicBezTo>
                      <a:pt x="470" y="1031"/>
                      <a:pt x="549" y="1022"/>
                      <a:pt x="594" y="1013"/>
                    </a:cubicBezTo>
                    <a:cubicBezTo>
                      <a:pt x="639" y="1004"/>
                      <a:pt x="658" y="993"/>
                      <a:pt x="678" y="977"/>
                    </a:cubicBezTo>
                    <a:cubicBezTo>
                      <a:pt x="698" y="961"/>
                      <a:pt x="708" y="957"/>
                      <a:pt x="714" y="918"/>
                    </a:cubicBezTo>
                    <a:cubicBezTo>
                      <a:pt x="720" y="879"/>
                      <a:pt x="716" y="828"/>
                      <a:pt x="714" y="746"/>
                    </a:cubicBezTo>
                    <a:cubicBezTo>
                      <a:pt x="712" y="663"/>
                      <a:pt x="706" y="498"/>
                      <a:pt x="703" y="423"/>
                    </a:cubicBezTo>
                    <a:cubicBezTo>
                      <a:pt x="699" y="348"/>
                      <a:pt x="697" y="322"/>
                      <a:pt x="691" y="295"/>
                    </a:cubicBezTo>
                    <a:cubicBezTo>
                      <a:pt x="686" y="268"/>
                      <a:pt x="676" y="271"/>
                      <a:pt x="669" y="262"/>
                    </a:cubicBezTo>
                    <a:cubicBezTo>
                      <a:pt x="661" y="253"/>
                      <a:pt x="660" y="249"/>
                      <a:pt x="646" y="244"/>
                    </a:cubicBezTo>
                    <a:cubicBezTo>
                      <a:pt x="633" y="238"/>
                      <a:pt x="602" y="233"/>
                      <a:pt x="587" y="229"/>
                    </a:cubicBezTo>
                    <a:cubicBezTo>
                      <a:pt x="573" y="225"/>
                      <a:pt x="567" y="225"/>
                      <a:pt x="557" y="222"/>
                    </a:cubicBezTo>
                    <a:cubicBezTo>
                      <a:pt x="548" y="218"/>
                      <a:pt x="538" y="213"/>
                      <a:pt x="531" y="207"/>
                    </a:cubicBezTo>
                    <a:cubicBezTo>
                      <a:pt x="524" y="201"/>
                      <a:pt x="517" y="195"/>
                      <a:pt x="514" y="187"/>
                    </a:cubicBezTo>
                    <a:cubicBezTo>
                      <a:pt x="511" y="178"/>
                      <a:pt x="508" y="167"/>
                      <a:pt x="512" y="156"/>
                    </a:cubicBezTo>
                    <a:cubicBezTo>
                      <a:pt x="516" y="145"/>
                      <a:pt x="529" y="129"/>
                      <a:pt x="538" y="118"/>
                    </a:cubicBezTo>
                    <a:cubicBezTo>
                      <a:pt x="547" y="107"/>
                      <a:pt x="561" y="102"/>
                      <a:pt x="569" y="92"/>
                    </a:cubicBezTo>
                    <a:cubicBezTo>
                      <a:pt x="577" y="82"/>
                      <a:pt x="586" y="68"/>
                      <a:pt x="586" y="58"/>
                    </a:cubicBezTo>
                    <a:cubicBezTo>
                      <a:pt x="586" y="48"/>
                      <a:pt x="592" y="38"/>
                      <a:pt x="572" y="30"/>
                    </a:cubicBezTo>
                    <a:cubicBezTo>
                      <a:pt x="552" y="22"/>
                      <a:pt x="506" y="15"/>
                      <a:pt x="467" y="10"/>
                    </a:cubicBezTo>
                    <a:cubicBezTo>
                      <a:pt x="428" y="5"/>
                      <a:pt x="383" y="0"/>
                      <a:pt x="337" y="0"/>
                    </a:cubicBezTo>
                    <a:cubicBezTo>
                      <a:pt x="291" y="0"/>
                      <a:pt x="226" y="5"/>
                      <a:pt x="189" y="12"/>
                    </a:cubicBezTo>
                    <a:cubicBezTo>
                      <a:pt x="152" y="19"/>
                      <a:pt x="127" y="29"/>
                      <a:pt x="117" y="42"/>
                    </a:cubicBezTo>
                    <a:cubicBezTo>
                      <a:pt x="107" y="55"/>
                      <a:pt x="122" y="80"/>
                      <a:pt x="128" y="93"/>
                    </a:cubicBezTo>
                    <a:cubicBezTo>
                      <a:pt x="133" y="107"/>
                      <a:pt x="143" y="114"/>
                      <a:pt x="150" y="123"/>
                    </a:cubicBezTo>
                    <a:cubicBezTo>
                      <a:pt x="158" y="132"/>
                      <a:pt x="169" y="140"/>
                      <a:pt x="175" y="147"/>
                    </a:cubicBezTo>
                    <a:cubicBezTo>
                      <a:pt x="180" y="153"/>
                      <a:pt x="183" y="154"/>
                      <a:pt x="184" y="161"/>
                    </a:cubicBezTo>
                    <a:cubicBezTo>
                      <a:pt x="185" y="168"/>
                      <a:pt x="186" y="179"/>
                      <a:pt x="182" y="187"/>
                    </a:cubicBezTo>
                    <a:cubicBezTo>
                      <a:pt x="179" y="195"/>
                      <a:pt x="173" y="202"/>
                      <a:pt x="163" y="209"/>
                    </a:cubicBezTo>
                    <a:cubicBezTo>
                      <a:pt x="154" y="216"/>
                      <a:pt x="140" y="223"/>
                      <a:pt x="128" y="227"/>
                    </a:cubicBezTo>
                    <a:cubicBezTo>
                      <a:pt x="116" y="231"/>
                      <a:pt x="101" y="232"/>
                      <a:pt x="90" y="23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1ffff"/>
                  </a:gs>
                  <a:gs pos="100000">
                    <a:srgbClr val="00f4ee"/>
                  </a:gs>
                </a:gsLst>
                <a:lin ang="5400000"/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52400" y="4600440"/>
                <a:ext cx="1119240" cy="125280"/>
              </a:xfrm>
              <a:custGeom>
                <a:avLst/>
                <a:gdLst/>
                <a:ahLst/>
                <a:rect l="l" t="t" r="r" b="b"/>
                <a:pathLst>
                  <a:path w="705" h="79">
                    <a:moveTo>
                      <a:pt x="705" y="61"/>
                    </a:moveTo>
                    <a:cubicBezTo>
                      <a:pt x="688" y="54"/>
                      <a:pt x="661" y="29"/>
                      <a:pt x="603" y="19"/>
                    </a:cubicBezTo>
                    <a:cubicBezTo>
                      <a:pt x="545" y="9"/>
                      <a:pt x="434" y="0"/>
                      <a:pt x="354" y="1"/>
                    </a:cubicBezTo>
                    <a:cubicBezTo>
                      <a:pt x="274" y="2"/>
                      <a:pt x="179" y="12"/>
                      <a:pt x="120" y="25"/>
                    </a:cubicBezTo>
                    <a:cubicBezTo>
                      <a:pt x="61" y="38"/>
                      <a:pt x="25" y="68"/>
                      <a:pt x="0" y="79"/>
                    </a:cubicBezTo>
                  </a:path>
                </a:pathLst>
              </a:custGeom>
              <a:noFill/>
              <a:ln w="19080">
                <a:solidFill>
                  <a:srgbClr val="0000d2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917640" y="3213000"/>
                <a:ext cx="753840" cy="163440"/>
              </a:xfrm>
              <a:custGeom>
                <a:avLst/>
                <a:gdLst/>
                <a:ahLst/>
                <a:rect l="l" t="t" r="r" b="b"/>
                <a:pathLst>
                  <a:path w="475" h="103">
                    <a:moveTo>
                      <a:pt x="5" y="57"/>
                    </a:moveTo>
                    <a:cubicBezTo>
                      <a:pt x="0" y="49"/>
                      <a:pt x="8" y="37"/>
                      <a:pt x="25" y="29"/>
                    </a:cubicBezTo>
                    <a:cubicBezTo>
                      <a:pt x="42" y="21"/>
                      <a:pt x="76" y="16"/>
                      <a:pt x="107" y="11"/>
                    </a:cubicBezTo>
                    <a:cubicBezTo>
                      <a:pt x="138" y="6"/>
                      <a:pt x="180" y="2"/>
                      <a:pt x="213" y="1"/>
                    </a:cubicBezTo>
                    <a:cubicBezTo>
                      <a:pt x="246" y="0"/>
                      <a:pt x="279" y="1"/>
                      <a:pt x="307" y="3"/>
                    </a:cubicBezTo>
                    <a:cubicBezTo>
                      <a:pt x="335" y="5"/>
                      <a:pt x="357" y="9"/>
                      <a:pt x="379" y="13"/>
                    </a:cubicBezTo>
                    <a:cubicBezTo>
                      <a:pt x="401" y="17"/>
                      <a:pt x="422" y="19"/>
                      <a:pt x="437" y="25"/>
                    </a:cubicBezTo>
                    <a:cubicBezTo>
                      <a:pt x="452" y="31"/>
                      <a:pt x="471" y="42"/>
                      <a:pt x="473" y="49"/>
                    </a:cubicBezTo>
                    <a:cubicBezTo>
                      <a:pt x="475" y="56"/>
                      <a:pt x="464" y="60"/>
                      <a:pt x="449" y="67"/>
                    </a:cubicBezTo>
                    <a:cubicBezTo>
                      <a:pt x="434" y="74"/>
                      <a:pt x="410" y="83"/>
                      <a:pt x="381" y="89"/>
                    </a:cubicBezTo>
                    <a:cubicBezTo>
                      <a:pt x="352" y="95"/>
                      <a:pt x="316" y="99"/>
                      <a:pt x="277" y="101"/>
                    </a:cubicBezTo>
                    <a:cubicBezTo>
                      <a:pt x="238" y="103"/>
                      <a:pt x="186" y="102"/>
                      <a:pt x="149" y="99"/>
                    </a:cubicBezTo>
                    <a:cubicBezTo>
                      <a:pt x="112" y="96"/>
                      <a:pt x="79" y="87"/>
                      <a:pt x="55" y="80"/>
                    </a:cubicBezTo>
                    <a:cubicBezTo>
                      <a:pt x="31" y="73"/>
                      <a:pt x="11" y="66"/>
                      <a:pt x="5" y="5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1ffff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39800" y="4005000"/>
                <a:ext cx="1143000" cy="287280"/>
              </a:xfrm>
              <a:custGeom>
                <a:avLst/>
                <a:gdLst/>
                <a:ahLst/>
                <a:rect l="l" t="t" r="r" b="b"/>
                <a:pathLst>
                  <a:path w="720" h="181">
                    <a:moveTo>
                      <a:pt x="8" y="87"/>
                    </a:moveTo>
                    <a:cubicBezTo>
                      <a:pt x="0" y="99"/>
                      <a:pt x="15" y="107"/>
                      <a:pt x="33" y="117"/>
                    </a:cubicBezTo>
                    <a:cubicBezTo>
                      <a:pt x="50" y="127"/>
                      <a:pt x="70" y="137"/>
                      <a:pt x="113" y="147"/>
                    </a:cubicBezTo>
                    <a:cubicBezTo>
                      <a:pt x="156" y="157"/>
                      <a:pt x="224" y="173"/>
                      <a:pt x="290" y="177"/>
                    </a:cubicBezTo>
                    <a:cubicBezTo>
                      <a:pt x="356" y="181"/>
                      <a:pt x="459" y="175"/>
                      <a:pt x="510" y="171"/>
                    </a:cubicBezTo>
                    <a:cubicBezTo>
                      <a:pt x="561" y="167"/>
                      <a:pt x="570" y="162"/>
                      <a:pt x="594" y="155"/>
                    </a:cubicBezTo>
                    <a:cubicBezTo>
                      <a:pt x="618" y="148"/>
                      <a:pt x="638" y="141"/>
                      <a:pt x="656" y="131"/>
                    </a:cubicBezTo>
                    <a:cubicBezTo>
                      <a:pt x="674" y="121"/>
                      <a:pt x="693" y="108"/>
                      <a:pt x="702" y="97"/>
                    </a:cubicBezTo>
                    <a:cubicBezTo>
                      <a:pt x="711" y="86"/>
                      <a:pt x="720" y="79"/>
                      <a:pt x="708" y="67"/>
                    </a:cubicBezTo>
                    <a:cubicBezTo>
                      <a:pt x="696" y="55"/>
                      <a:pt x="671" y="35"/>
                      <a:pt x="632" y="24"/>
                    </a:cubicBezTo>
                    <a:cubicBezTo>
                      <a:pt x="593" y="13"/>
                      <a:pt x="530" y="6"/>
                      <a:pt x="473" y="3"/>
                    </a:cubicBezTo>
                    <a:cubicBezTo>
                      <a:pt x="416" y="0"/>
                      <a:pt x="336" y="1"/>
                      <a:pt x="287" y="3"/>
                    </a:cubicBezTo>
                    <a:cubicBezTo>
                      <a:pt x="238" y="5"/>
                      <a:pt x="215" y="9"/>
                      <a:pt x="180" y="15"/>
                    </a:cubicBezTo>
                    <a:cubicBezTo>
                      <a:pt x="146" y="21"/>
                      <a:pt x="108" y="30"/>
                      <a:pt x="79" y="42"/>
                    </a:cubicBezTo>
                    <a:cubicBezTo>
                      <a:pt x="51" y="54"/>
                      <a:pt x="16" y="75"/>
                      <a:pt x="8" y="87"/>
                    </a:cubicBezTo>
                    <a:close/>
                  </a:path>
                </a:pathLst>
              </a:custGeom>
              <a:solidFill>
                <a:srgbClr val="8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41240" y="4130280"/>
                <a:ext cx="1120680" cy="155880"/>
              </a:xfrm>
              <a:custGeom>
                <a:avLst/>
                <a:gdLst/>
                <a:ahLst/>
                <a:rect l="l" t="t" r="r" b="b"/>
                <a:pathLst>
                  <a:path w="706" h="98">
                    <a:moveTo>
                      <a:pt x="0" y="18"/>
                    </a:moveTo>
                    <a:cubicBezTo>
                      <a:pt x="6" y="22"/>
                      <a:pt x="17" y="35"/>
                      <a:pt x="36" y="44"/>
                    </a:cubicBezTo>
                    <a:cubicBezTo>
                      <a:pt x="55" y="53"/>
                      <a:pt x="83" y="64"/>
                      <a:pt x="115" y="72"/>
                    </a:cubicBezTo>
                    <a:cubicBezTo>
                      <a:pt x="147" y="80"/>
                      <a:pt x="189" y="86"/>
                      <a:pt x="230" y="90"/>
                    </a:cubicBezTo>
                    <a:cubicBezTo>
                      <a:pt x="271" y="94"/>
                      <a:pt x="318" y="98"/>
                      <a:pt x="364" y="98"/>
                    </a:cubicBezTo>
                    <a:cubicBezTo>
                      <a:pt x="410" y="98"/>
                      <a:pt x="467" y="96"/>
                      <a:pt x="508" y="90"/>
                    </a:cubicBezTo>
                    <a:cubicBezTo>
                      <a:pt x="549" y="84"/>
                      <a:pt x="582" y="73"/>
                      <a:pt x="610" y="64"/>
                    </a:cubicBezTo>
                    <a:cubicBezTo>
                      <a:pt x="638" y="55"/>
                      <a:pt x="660" y="45"/>
                      <a:pt x="676" y="34"/>
                    </a:cubicBezTo>
                    <a:cubicBezTo>
                      <a:pt x="692" y="23"/>
                      <a:pt x="700" y="7"/>
                      <a:pt x="706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41240" y="4006440"/>
                <a:ext cx="1120680" cy="142920"/>
              </a:xfrm>
              <a:custGeom>
                <a:avLst/>
                <a:gdLst/>
                <a:ahLst/>
                <a:rect l="l" t="t" r="r" b="b"/>
                <a:pathLst>
                  <a:path w="706" h="90">
                    <a:moveTo>
                      <a:pt x="706" y="70"/>
                    </a:moveTo>
                    <a:cubicBezTo>
                      <a:pt x="699" y="65"/>
                      <a:pt x="685" y="49"/>
                      <a:pt x="664" y="40"/>
                    </a:cubicBezTo>
                    <a:cubicBezTo>
                      <a:pt x="643" y="31"/>
                      <a:pt x="611" y="22"/>
                      <a:pt x="580" y="16"/>
                    </a:cubicBezTo>
                    <a:cubicBezTo>
                      <a:pt x="549" y="10"/>
                      <a:pt x="514" y="4"/>
                      <a:pt x="478" y="2"/>
                    </a:cubicBezTo>
                    <a:cubicBezTo>
                      <a:pt x="442" y="0"/>
                      <a:pt x="399" y="1"/>
                      <a:pt x="361" y="1"/>
                    </a:cubicBezTo>
                    <a:cubicBezTo>
                      <a:pt x="323" y="1"/>
                      <a:pt x="286" y="1"/>
                      <a:pt x="252" y="4"/>
                    </a:cubicBezTo>
                    <a:cubicBezTo>
                      <a:pt x="218" y="7"/>
                      <a:pt x="183" y="14"/>
                      <a:pt x="154" y="20"/>
                    </a:cubicBezTo>
                    <a:cubicBezTo>
                      <a:pt x="125" y="26"/>
                      <a:pt x="97" y="34"/>
                      <a:pt x="76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39800" y="3646080"/>
                <a:ext cx="1123920" cy="287640"/>
              </a:xfrm>
              <a:custGeom>
                <a:avLst/>
                <a:gdLst/>
                <a:ahLst/>
                <a:rect l="l" t="t" r="r" b="b"/>
                <a:pathLst>
                  <a:path w="708" h="181">
                    <a:moveTo>
                      <a:pt x="8" y="87"/>
                    </a:moveTo>
                    <a:cubicBezTo>
                      <a:pt x="0" y="99"/>
                      <a:pt x="15" y="107"/>
                      <a:pt x="33" y="117"/>
                    </a:cubicBezTo>
                    <a:cubicBezTo>
                      <a:pt x="50" y="127"/>
                      <a:pt x="71" y="137"/>
                      <a:pt x="114" y="147"/>
                    </a:cubicBezTo>
                    <a:cubicBezTo>
                      <a:pt x="157" y="157"/>
                      <a:pt x="226" y="173"/>
                      <a:pt x="292" y="177"/>
                    </a:cubicBezTo>
                    <a:cubicBezTo>
                      <a:pt x="359" y="181"/>
                      <a:pt x="463" y="175"/>
                      <a:pt x="514" y="171"/>
                    </a:cubicBezTo>
                    <a:cubicBezTo>
                      <a:pt x="566" y="167"/>
                      <a:pt x="575" y="162"/>
                      <a:pt x="599" y="155"/>
                    </a:cubicBezTo>
                    <a:cubicBezTo>
                      <a:pt x="623" y="148"/>
                      <a:pt x="644" y="142"/>
                      <a:pt x="661" y="131"/>
                    </a:cubicBezTo>
                    <a:cubicBezTo>
                      <a:pt x="678" y="120"/>
                      <a:pt x="695" y="99"/>
                      <a:pt x="701" y="89"/>
                    </a:cubicBezTo>
                    <a:cubicBezTo>
                      <a:pt x="707" y="79"/>
                      <a:pt x="708" y="80"/>
                      <a:pt x="697" y="69"/>
                    </a:cubicBezTo>
                    <a:cubicBezTo>
                      <a:pt x="686" y="58"/>
                      <a:pt x="674" y="35"/>
                      <a:pt x="637" y="24"/>
                    </a:cubicBezTo>
                    <a:cubicBezTo>
                      <a:pt x="600" y="13"/>
                      <a:pt x="534" y="6"/>
                      <a:pt x="477" y="3"/>
                    </a:cubicBezTo>
                    <a:cubicBezTo>
                      <a:pt x="419" y="0"/>
                      <a:pt x="339" y="1"/>
                      <a:pt x="289" y="3"/>
                    </a:cubicBezTo>
                    <a:cubicBezTo>
                      <a:pt x="240" y="5"/>
                      <a:pt x="217" y="9"/>
                      <a:pt x="182" y="15"/>
                    </a:cubicBezTo>
                    <a:cubicBezTo>
                      <a:pt x="147" y="21"/>
                      <a:pt x="109" y="30"/>
                      <a:pt x="80" y="42"/>
                    </a:cubicBezTo>
                    <a:cubicBezTo>
                      <a:pt x="51" y="54"/>
                      <a:pt x="16" y="75"/>
                      <a:pt x="8" y="8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1ffff"/>
                  </a:gs>
                  <a:gs pos="100000">
                    <a:srgbClr val="8b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41240" y="3768480"/>
                <a:ext cx="1108080" cy="158760"/>
              </a:xfrm>
              <a:custGeom>
                <a:avLst/>
                <a:gdLst/>
                <a:ahLst/>
                <a:rect l="l" t="t" r="r" b="b"/>
                <a:pathLst>
                  <a:path w="698" h="100">
                    <a:moveTo>
                      <a:pt x="0" y="20"/>
                    </a:moveTo>
                    <a:cubicBezTo>
                      <a:pt x="6" y="24"/>
                      <a:pt x="17" y="37"/>
                      <a:pt x="36" y="46"/>
                    </a:cubicBezTo>
                    <a:cubicBezTo>
                      <a:pt x="55" y="55"/>
                      <a:pt x="84" y="66"/>
                      <a:pt x="116" y="74"/>
                    </a:cubicBezTo>
                    <a:cubicBezTo>
                      <a:pt x="148" y="82"/>
                      <a:pt x="191" y="88"/>
                      <a:pt x="232" y="92"/>
                    </a:cubicBezTo>
                    <a:cubicBezTo>
                      <a:pt x="273" y="96"/>
                      <a:pt x="321" y="100"/>
                      <a:pt x="367" y="100"/>
                    </a:cubicBezTo>
                    <a:cubicBezTo>
                      <a:pt x="413" y="100"/>
                      <a:pt x="471" y="98"/>
                      <a:pt x="512" y="92"/>
                    </a:cubicBezTo>
                    <a:cubicBezTo>
                      <a:pt x="554" y="86"/>
                      <a:pt x="587" y="75"/>
                      <a:pt x="615" y="66"/>
                    </a:cubicBezTo>
                    <a:cubicBezTo>
                      <a:pt x="643" y="57"/>
                      <a:pt x="668" y="47"/>
                      <a:pt x="682" y="36"/>
                    </a:cubicBezTo>
                    <a:cubicBezTo>
                      <a:pt x="696" y="25"/>
                      <a:pt x="695" y="7"/>
                      <a:pt x="698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41240" y="3647880"/>
                <a:ext cx="1104840" cy="142920"/>
              </a:xfrm>
              <a:custGeom>
                <a:avLst/>
                <a:gdLst/>
                <a:ahLst/>
                <a:rect l="l" t="t" r="r" b="b"/>
                <a:pathLst>
                  <a:path w="696" h="90">
                    <a:moveTo>
                      <a:pt x="696" y="68"/>
                    </a:moveTo>
                    <a:cubicBezTo>
                      <a:pt x="691" y="63"/>
                      <a:pt x="688" y="49"/>
                      <a:pt x="670" y="40"/>
                    </a:cubicBezTo>
                    <a:cubicBezTo>
                      <a:pt x="652" y="31"/>
                      <a:pt x="616" y="22"/>
                      <a:pt x="585" y="16"/>
                    </a:cubicBezTo>
                    <a:cubicBezTo>
                      <a:pt x="554" y="10"/>
                      <a:pt x="518" y="4"/>
                      <a:pt x="482" y="2"/>
                    </a:cubicBezTo>
                    <a:cubicBezTo>
                      <a:pt x="446" y="0"/>
                      <a:pt x="402" y="1"/>
                      <a:pt x="364" y="1"/>
                    </a:cubicBezTo>
                    <a:cubicBezTo>
                      <a:pt x="326" y="1"/>
                      <a:pt x="288" y="1"/>
                      <a:pt x="254" y="4"/>
                    </a:cubicBezTo>
                    <a:cubicBezTo>
                      <a:pt x="220" y="7"/>
                      <a:pt x="185" y="14"/>
                      <a:pt x="155" y="20"/>
                    </a:cubicBezTo>
                    <a:cubicBezTo>
                      <a:pt x="126" y="26"/>
                      <a:pt x="98" y="34"/>
                      <a:pt x="77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612720" y="3789360"/>
              <a:ext cx="81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 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3960720" y="2924280"/>
              <a:ext cx="1439640" cy="1934640"/>
              <a:chOff x="3960720" y="2924280"/>
              <a:chExt cx="1439640" cy="1934640"/>
            </a:xfrm>
          </p:grpSpPr>
          <p:sp>
            <p:nvSpPr>
              <p:cNvPr id="129" name=""/>
              <p:cNvSpPr/>
              <p:nvPr/>
            </p:nvSpPr>
            <p:spPr>
              <a:xfrm>
                <a:off x="3960720" y="2924280"/>
                <a:ext cx="1439640" cy="1934640"/>
              </a:xfrm>
              <a:custGeom>
                <a:avLst/>
                <a:gdLst/>
                <a:ahLst/>
                <a:rect l="l" t="t" r="r" b="b"/>
                <a:pathLst>
                  <a:path w="720" h="1037">
                    <a:moveTo>
                      <a:pt x="90" y="235"/>
                    </a:moveTo>
                    <a:cubicBezTo>
                      <a:pt x="79" y="237"/>
                      <a:pt x="73" y="237"/>
                      <a:pt x="62" y="244"/>
                    </a:cubicBezTo>
                    <a:cubicBezTo>
                      <a:pt x="51" y="250"/>
                      <a:pt x="33" y="258"/>
                      <a:pt x="24" y="273"/>
                    </a:cubicBezTo>
                    <a:cubicBezTo>
                      <a:pt x="14" y="288"/>
                      <a:pt x="9" y="289"/>
                      <a:pt x="5" y="335"/>
                    </a:cubicBezTo>
                    <a:cubicBezTo>
                      <a:pt x="1" y="382"/>
                      <a:pt x="2" y="485"/>
                      <a:pt x="1" y="552"/>
                    </a:cubicBezTo>
                    <a:cubicBezTo>
                      <a:pt x="1" y="618"/>
                      <a:pt x="0" y="671"/>
                      <a:pt x="1" y="735"/>
                    </a:cubicBezTo>
                    <a:cubicBezTo>
                      <a:pt x="3" y="798"/>
                      <a:pt x="0" y="890"/>
                      <a:pt x="9" y="933"/>
                    </a:cubicBezTo>
                    <a:cubicBezTo>
                      <a:pt x="18" y="976"/>
                      <a:pt x="22" y="976"/>
                      <a:pt x="54" y="992"/>
                    </a:cubicBezTo>
                    <a:cubicBezTo>
                      <a:pt x="86" y="1008"/>
                      <a:pt x="146" y="1021"/>
                      <a:pt x="204" y="1028"/>
                    </a:cubicBezTo>
                    <a:cubicBezTo>
                      <a:pt x="262" y="1035"/>
                      <a:pt x="340" y="1037"/>
                      <a:pt x="405" y="1034"/>
                    </a:cubicBezTo>
                    <a:cubicBezTo>
                      <a:pt x="470" y="1031"/>
                      <a:pt x="549" y="1022"/>
                      <a:pt x="594" y="1013"/>
                    </a:cubicBezTo>
                    <a:cubicBezTo>
                      <a:pt x="639" y="1004"/>
                      <a:pt x="658" y="993"/>
                      <a:pt x="678" y="977"/>
                    </a:cubicBezTo>
                    <a:cubicBezTo>
                      <a:pt x="698" y="961"/>
                      <a:pt x="708" y="957"/>
                      <a:pt x="714" y="918"/>
                    </a:cubicBezTo>
                    <a:cubicBezTo>
                      <a:pt x="720" y="879"/>
                      <a:pt x="716" y="828"/>
                      <a:pt x="714" y="746"/>
                    </a:cubicBezTo>
                    <a:cubicBezTo>
                      <a:pt x="712" y="663"/>
                      <a:pt x="706" y="498"/>
                      <a:pt x="703" y="423"/>
                    </a:cubicBezTo>
                    <a:cubicBezTo>
                      <a:pt x="699" y="348"/>
                      <a:pt x="697" y="322"/>
                      <a:pt x="691" y="295"/>
                    </a:cubicBezTo>
                    <a:cubicBezTo>
                      <a:pt x="686" y="268"/>
                      <a:pt x="676" y="271"/>
                      <a:pt x="669" y="262"/>
                    </a:cubicBezTo>
                    <a:cubicBezTo>
                      <a:pt x="661" y="253"/>
                      <a:pt x="660" y="249"/>
                      <a:pt x="646" y="244"/>
                    </a:cubicBezTo>
                    <a:cubicBezTo>
                      <a:pt x="633" y="238"/>
                      <a:pt x="602" y="233"/>
                      <a:pt x="587" y="229"/>
                    </a:cubicBezTo>
                    <a:cubicBezTo>
                      <a:pt x="573" y="225"/>
                      <a:pt x="567" y="225"/>
                      <a:pt x="557" y="222"/>
                    </a:cubicBezTo>
                    <a:cubicBezTo>
                      <a:pt x="548" y="218"/>
                      <a:pt x="538" y="213"/>
                      <a:pt x="531" y="207"/>
                    </a:cubicBezTo>
                    <a:cubicBezTo>
                      <a:pt x="524" y="201"/>
                      <a:pt x="517" y="195"/>
                      <a:pt x="514" y="187"/>
                    </a:cubicBezTo>
                    <a:cubicBezTo>
                      <a:pt x="511" y="178"/>
                      <a:pt x="508" y="167"/>
                      <a:pt x="512" y="156"/>
                    </a:cubicBezTo>
                    <a:cubicBezTo>
                      <a:pt x="516" y="145"/>
                      <a:pt x="529" y="129"/>
                      <a:pt x="538" y="118"/>
                    </a:cubicBezTo>
                    <a:cubicBezTo>
                      <a:pt x="547" y="107"/>
                      <a:pt x="561" y="102"/>
                      <a:pt x="569" y="92"/>
                    </a:cubicBezTo>
                    <a:cubicBezTo>
                      <a:pt x="577" y="82"/>
                      <a:pt x="586" y="68"/>
                      <a:pt x="586" y="58"/>
                    </a:cubicBezTo>
                    <a:cubicBezTo>
                      <a:pt x="586" y="48"/>
                      <a:pt x="592" y="38"/>
                      <a:pt x="572" y="30"/>
                    </a:cubicBezTo>
                    <a:cubicBezTo>
                      <a:pt x="552" y="22"/>
                      <a:pt x="506" y="15"/>
                      <a:pt x="467" y="10"/>
                    </a:cubicBezTo>
                    <a:cubicBezTo>
                      <a:pt x="428" y="5"/>
                      <a:pt x="383" y="0"/>
                      <a:pt x="337" y="0"/>
                    </a:cubicBezTo>
                    <a:cubicBezTo>
                      <a:pt x="291" y="0"/>
                      <a:pt x="226" y="5"/>
                      <a:pt x="189" y="12"/>
                    </a:cubicBezTo>
                    <a:cubicBezTo>
                      <a:pt x="152" y="19"/>
                      <a:pt x="127" y="29"/>
                      <a:pt x="117" y="42"/>
                    </a:cubicBezTo>
                    <a:cubicBezTo>
                      <a:pt x="107" y="55"/>
                      <a:pt x="122" y="80"/>
                      <a:pt x="128" y="93"/>
                    </a:cubicBezTo>
                    <a:cubicBezTo>
                      <a:pt x="133" y="107"/>
                      <a:pt x="143" y="114"/>
                      <a:pt x="150" y="123"/>
                    </a:cubicBezTo>
                    <a:cubicBezTo>
                      <a:pt x="158" y="132"/>
                      <a:pt x="169" y="140"/>
                      <a:pt x="175" y="147"/>
                    </a:cubicBezTo>
                    <a:cubicBezTo>
                      <a:pt x="180" y="153"/>
                      <a:pt x="183" y="154"/>
                      <a:pt x="184" y="161"/>
                    </a:cubicBezTo>
                    <a:cubicBezTo>
                      <a:pt x="185" y="168"/>
                      <a:pt x="186" y="179"/>
                      <a:pt x="182" y="187"/>
                    </a:cubicBezTo>
                    <a:cubicBezTo>
                      <a:pt x="179" y="195"/>
                      <a:pt x="173" y="202"/>
                      <a:pt x="163" y="209"/>
                    </a:cubicBezTo>
                    <a:cubicBezTo>
                      <a:pt x="154" y="216"/>
                      <a:pt x="140" y="223"/>
                      <a:pt x="128" y="227"/>
                    </a:cubicBezTo>
                    <a:cubicBezTo>
                      <a:pt x="116" y="231"/>
                      <a:pt x="101" y="232"/>
                      <a:pt x="90" y="23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1ffff"/>
                  </a:gs>
                  <a:gs pos="100000">
                    <a:srgbClr val="00f4ee"/>
                  </a:gs>
                </a:gsLst>
                <a:lin ang="5400000"/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976560" y="4555080"/>
                <a:ext cx="1409760" cy="147240"/>
              </a:xfrm>
              <a:custGeom>
                <a:avLst/>
                <a:gdLst/>
                <a:ahLst/>
                <a:rect l="l" t="t" r="r" b="b"/>
                <a:pathLst>
                  <a:path w="705" h="79">
                    <a:moveTo>
                      <a:pt x="705" y="61"/>
                    </a:moveTo>
                    <a:cubicBezTo>
                      <a:pt x="688" y="54"/>
                      <a:pt x="661" y="29"/>
                      <a:pt x="603" y="19"/>
                    </a:cubicBezTo>
                    <a:cubicBezTo>
                      <a:pt x="545" y="9"/>
                      <a:pt x="434" y="0"/>
                      <a:pt x="354" y="1"/>
                    </a:cubicBezTo>
                    <a:cubicBezTo>
                      <a:pt x="274" y="2"/>
                      <a:pt x="179" y="12"/>
                      <a:pt x="120" y="25"/>
                    </a:cubicBezTo>
                    <a:cubicBezTo>
                      <a:pt x="61" y="38"/>
                      <a:pt x="25" y="68"/>
                      <a:pt x="0" y="79"/>
                    </a:cubicBezTo>
                  </a:path>
                </a:pathLst>
              </a:custGeom>
              <a:noFill/>
              <a:ln w="19080">
                <a:solidFill>
                  <a:srgbClr val="0000d2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184640" y="2924280"/>
                <a:ext cx="949320" cy="191880"/>
              </a:xfrm>
              <a:custGeom>
                <a:avLst/>
                <a:gdLst/>
                <a:ahLst/>
                <a:rect l="l" t="t" r="r" b="b"/>
                <a:pathLst>
                  <a:path w="475" h="103">
                    <a:moveTo>
                      <a:pt x="5" y="57"/>
                    </a:moveTo>
                    <a:cubicBezTo>
                      <a:pt x="0" y="49"/>
                      <a:pt x="8" y="37"/>
                      <a:pt x="25" y="29"/>
                    </a:cubicBezTo>
                    <a:cubicBezTo>
                      <a:pt x="42" y="21"/>
                      <a:pt x="76" y="16"/>
                      <a:pt x="107" y="11"/>
                    </a:cubicBezTo>
                    <a:cubicBezTo>
                      <a:pt x="138" y="6"/>
                      <a:pt x="180" y="2"/>
                      <a:pt x="213" y="1"/>
                    </a:cubicBezTo>
                    <a:cubicBezTo>
                      <a:pt x="246" y="0"/>
                      <a:pt x="279" y="1"/>
                      <a:pt x="307" y="3"/>
                    </a:cubicBezTo>
                    <a:cubicBezTo>
                      <a:pt x="335" y="5"/>
                      <a:pt x="357" y="9"/>
                      <a:pt x="379" y="13"/>
                    </a:cubicBezTo>
                    <a:cubicBezTo>
                      <a:pt x="401" y="17"/>
                      <a:pt x="422" y="19"/>
                      <a:pt x="437" y="25"/>
                    </a:cubicBezTo>
                    <a:cubicBezTo>
                      <a:pt x="452" y="31"/>
                      <a:pt x="471" y="42"/>
                      <a:pt x="473" y="49"/>
                    </a:cubicBezTo>
                    <a:cubicBezTo>
                      <a:pt x="475" y="56"/>
                      <a:pt x="464" y="60"/>
                      <a:pt x="449" y="67"/>
                    </a:cubicBezTo>
                    <a:cubicBezTo>
                      <a:pt x="434" y="74"/>
                      <a:pt x="410" y="83"/>
                      <a:pt x="381" y="89"/>
                    </a:cubicBezTo>
                    <a:cubicBezTo>
                      <a:pt x="352" y="95"/>
                      <a:pt x="316" y="99"/>
                      <a:pt x="277" y="101"/>
                    </a:cubicBezTo>
                    <a:cubicBezTo>
                      <a:pt x="238" y="103"/>
                      <a:pt x="186" y="102"/>
                      <a:pt x="149" y="99"/>
                    </a:cubicBezTo>
                    <a:cubicBezTo>
                      <a:pt x="112" y="96"/>
                      <a:pt x="79" y="87"/>
                      <a:pt x="55" y="80"/>
                    </a:cubicBezTo>
                    <a:cubicBezTo>
                      <a:pt x="31" y="73"/>
                      <a:pt x="11" y="66"/>
                      <a:pt x="5" y="5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1ffff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60720" y="3855240"/>
                <a:ext cx="1439640" cy="337680"/>
              </a:xfrm>
              <a:custGeom>
                <a:avLst/>
                <a:gdLst/>
                <a:ahLst/>
                <a:rect l="l" t="t" r="r" b="b"/>
                <a:pathLst>
                  <a:path w="720" h="181">
                    <a:moveTo>
                      <a:pt x="8" y="87"/>
                    </a:moveTo>
                    <a:cubicBezTo>
                      <a:pt x="0" y="99"/>
                      <a:pt x="15" y="107"/>
                      <a:pt x="33" y="117"/>
                    </a:cubicBezTo>
                    <a:cubicBezTo>
                      <a:pt x="50" y="127"/>
                      <a:pt x="70" y="137"/>
                      <a:pt x="113" y="147"/>
                    </a:cubicBezTo>
                    <a:cubicBezTo>
                      <a:pt x="156" y="157"/>
                      <a:pt x="224" y="173"/>
                      <a:pt x="290" y="177"/>
                    </a:cubicBezTo>
                    <a:cubicBezTo>
                      <a:pt x="356" y="181"/>
                      <a:pt x="459" y="175"/>
                      <a:pt x="510" y="171"/>
                    </a:cubicBezTo>
                    <a:cubicBezTo>
                      <a:pt x="561" y="167"/>
                      <a:pt x="570" y="162"/>
                      <a:pt x="594" y="155"/>
                    </a:cubicBezTo>
                    <a:cubicBezTo>
                      <a:pt x="618" y="148"/>
                      <a:pt x="638" y="141"/>
                      <a:pt x="656" y="131"/>
                    </a:cubicBezTo>
                    <a:cubicBezTo>
                      <a:pt x="674" y="121"/>
                      <a:pt x="693" y="108"/>
                      <a:pt x="702" y="97"/>
                    </a:cubicBezTo>
                    <a:cubicBezTo>
                      <a:pt x="711" y="86"/>
                      <a:pt x="720" y="79"/>
                      <a:pt x="708" y="67"/>
                    </a:cubicBezTo>
                    <a:cubicBezTo>
                      <a:pt x="696" y="55"/>
                      <a:pt x="671" y="35"/>
                      <a:pt x="632" y="24"/>
                    </a:cubicBezTo>
                    <a:cubicBezTo>
                      <a:pt x="593" y="13"/>
                      <a:pt x="530" y="6"/>
                      <a:pt x="473" y="3"/>
                    </a:cubicBezTo>
                    <a:cubicBezTo>
                      <a:pt x="416" y="0"/>
                      <a:pt x="336" y="1"/>
                      <a:pt x="287" y="3"/>
                    </a:cubicBezTo>
                    <a:cubicBezTo>
                      <a:pt x="238" y="5"/>
                      <a:pt x="215" y="9"/>
                      <a:pt x="180" y="15"/>
                    </a:cubicBezTo>
                    <a:cubicBezTo>
                      <a:pt x="146" y="21"/>
                      <a:pt x="108" y="30"/>
                      <a:pt x="79" y="42"/>
                    </a:cubicBezTo>
                    <a:cubicBezTo>
                      <a:pt x="51" y="54"/>
                      <a:pt x="16" y="75"/>
                      <a:pt x="8" y="87"/>
                    </a:cubicBezTo>
                    <a:close/>
                  </a:path>
                </a:pathLst>
              </a:custGeom>
              <a:solidFill>
                <a:srgbClr val="8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62520" y="4002480"/>
                <a:ext cx="1411560" cy="183240"/>
              </a:xfrm>
              <a:custGeom>
                <a:avLst/>
                <a:gdLst/>
                <a:ahLst/>
                <a:rect l="l" t="t" r="r" b="b"/>
                <a:pathLst>
                  <a:path w="706" h="98">
                    <a:moveTo>
                      <a:pt x="0" y="18"/>
                    </a:moveTo>
                    <a:cubicBezTo>
                      <a:pt x="6" y="22"/>
                      <a:pt x="17" y="35"/>
                      <a:pt x="36" y="44"/>
                    </a:cubicBezTo>
                    <a:cubicBezTo>
                      <a:pt x="55" y="53"/>
                      <a:pt x="83" y="64"/>
                      <a:pt x="115" y="72"/>
                    </a:cubicBezTo>
                    <a:cubicBezTo>
                      <a:pt x="147" y="80"/>
                      <a:pt x="189" y="86"/>
                      <a:pt x="230" y="90"/>
                    </a:cubicBezTo>
                    <a:cubicBezTo>
                      <a:pt x="271" y="94"/>
                      <a:pt x="318" y="98"/>
                      <a:pt x="364" y="98"/>
                    </a:cubicBezTo>
                    <a:cubicBezTo>
                      <a:pt x="410" y="98"/>
                      <a:pt x="467" y="96"/>
                      <a:pt x="508" y="90"/>
                    </a:cubicBezTo>
                    <a:cubicBezTo>
                      <a:pt x="549" y="84"/>
                      <a:pt x="582" y="73"/>
                      <a:pt x="610" y="64"/>
                    </a:cubicBezTo>
                    <a:cubicBezTo>
                      <a:pt x="638" y="55"/>
                      <a:pt x="660" y="45"/>
                      <a:pt x="676" y="34"/>
                    </a:cubicBezTo>
                    <a:cubicBezTo>
                      <a:pt x="692" y="23"/>
                      <a:pt x="700" y="7"/>
                      <a:pt x="706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962520" y="3857040"/>
                <a:ext cx="1411560" cy="167760"/>
              </a:xfrm>
              <a:custGeom>
                <a:avLst/>
                <a:gdLst/>
                <a:ahLst/>
                <a:rect l="l" t="t" r="r" b="b"/>
                <a:pathLst>
                  <a:path w="706" h="90">
                    <a:moveTo>
                      <a:pt x="706" y="70"/>
                    </a:moveTo>
                    <a:cubicBezTo>
                      <a:pt x="699" y="65"/>
                      <a:pt x="685" y="49"/>
                      <a:pt x="664" y="40"/>
                    </a:cubicBezTo>
                    <a:cubicBezTo>
                      <a:pt x="643" y="31"/>
                      <a:pt x="611" y="22"/>
                      <a:pt x="580" y="16"/>
                    </a:cubicBezTo>
                    <a:cubicBezTo>
                      <a:pt x="549" y="10"/>
                      <a:pt x="514" y="4"/>
                      <a:pt x="478" y="2"/>
                    </a:cubicBezTo>
                    <a:cubicBezTo>
                      <a:pt x="442" y="0"/>
                      <a:pt x="399" y="1"/>
                      <a:pt x="361" y="1"/>
                    </a:cubicBezTo>
                    <a:cubicBezTo>
                      <a:pt x="323" y="1"/>
                      <a:pt x="286" y="1"/>
                      <a:pt x="252" y="4"/>
                    </a:cubicBezTo>
                    <a:cubicBezTo>
                      <a:pt x="218" y="7"/>
                      <a:pt x="183" y="14"/>
                      <a:pt x="154" y="20"/>
                    </a:cubicBezTo>
                    <a:cubicBezTo>
                      <a:pt x="125" y="26"/>
                      <a:pt x="97" y="34"/>
                      <a:pt x="76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960720" y="3433320"/>
                <a:ext cx="1415520" cy="338040"/>
              </a:xfrm>
              <a:custGeom>
                <a:avLst/>
                <a:gdLst/>
                <a:ahLst/>
                <a:rect l="l" t="t" r="r" b="b"/>
                <a:pathLst>
                  <a:path w="708" h="181">
                    <a:moveTo>
                      <a:pt x="8" y="87"/>
                    </a:moveTo>
                    <a:cubicBezTo>
                      <a:pt x="0" y="99"/>
                      <a:pt x="15" y="107"/>
                      <a:pt x="33" y="117"/>
                    </a:cubicBezTo>
                    <a:cubicBezTo>
                      <a:pt x="50" y="127"/>
                      <a:pt x="71" y="137"/>
                      <a:pt x="114" y="147"/>
                    </a:cubicBezTo>
                    <a:cubicBezTo>
                      <a:pt x="157" y="157"/>
                      <a:pt x="226" y="173"/>
                      <a:pt x="292" y="177"/>
                    </a:cubicBezTo>
                    <a:cubicBezTo>
                      <a:pt x="359" y="181"/>
                      <a:pt x="463" y="175"/>
                      <a:pt x="514" y="171"/>
                    </a:cubicBezTo>
                    <a:cubicBezTo>
                      <a:pt x="566" y="167"/>
                      <a:pt x="575" y="162"/>
                      <a:pt x="599" y="155"/>
                    </a:cubicBezTo>
                    <a:cubicBezTo>
                      <a:pt x="623" y="148"/>
                      <a:pt x="644" y="142"/>
                      <a:pt x="661" y="131"/>
                    </a:cubicBezTo>
                    <a:cubicBezTo>
                      <a:pt x="678" y="120"/>
                      <a:pt x="695" y="99"/>
                      <a:pt x="701" y="89"/>
                    </a:cubicBezTo>
                    <a:cubicBezTo>
                      <a:pt x="707" y="79"/>
                      <a:pt x="708" y="80"/>
                      <a:pt x="697" y="69"/>
                    </a:cubicBezTo>
                    <a:cubicBezTo>
                      <a:pt x="686" y="58"/>
                      <a:pt x="674" y="35"/>
                      <a:pt x="637" y="24"/>
                    </a:cubicBezTo>
                    <a:cubicBezTo>
                      <a:pt x="600" y="13"/>
                      <a:pt x="534" y="6"/>
                      <a:pt x="477" y="3"/>
                    </a:cubicBezTo>
                    <a:cubicBezTo>
                      <a:pt x="419" y="0"/>
                      <a:pt x="339" y="1"/>
                      <a:pt x="289" y="3"/>
                    </a:cubicBezTo>
                    <a:cubicBezTo>
                      <a:pt x="240" y="5"/>
                      <a:pt x="217" y="9"/>
                      <a:pt x="182" y="15"/>
                    </a:cubicBezTo>
                    <a:cubicBezTo>
                      <a:pt x="147" y="21"/>
                      <a:pt x="109" y="30"/>
                      <a:pt x="80" y="42"/>
                    </a:cubicBezTo>
                    <a:cubicBezTo>
                      <a:pt x="51" y="54"/>
                      <a:pt x="16" y="75"/>
                      <a:pt x="8" y="8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1ffff"/>
                  </a:gs>
                  <a:gs pos="100000">
                    <a:srgbClr val="8b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962520" y="3576960"/>
                <a:ext cx="1395720" cy="186480"/>
              </a:xfrm>
              <a:custGeom>
                <a:avLst/>
                <a:gdLst/>
                <a:ahLst/>
                <a:rect l="l" t="t" r="r" b="b"/>
                <a:pathLst>
                  <a:path w="698" h="100">
                    <a:moveTo>
                      <a:pt x="0" y="20"/>
                    </a:moveTo>
                    <a:cubicBezTo>
                      <a:pt x="6" y="24"/>
                      <a:pt x="17" y="37"/>
                      <a:pt x="36" y="46"/>
                    </a:cubicBezTo>
                    <a:cubicBezTo>
                      <a:pt x="55" y="55"/>
                      <a:pt x="84" y="66"/>
                      <a:pt x="116" y="74"/>
                    </a:cubicBezTo>
                    <a:cubicBezTo>
                      <a:pt x="148" y="82"/>
                      <a:pt x="191" y="88"/>
                      <a:pt x="232" y="92"/>
                    </a:cubicBezTo>
                    <a:cubicBezTo>
                      <a:pt x="273" y="96"/>
                      <a:pt x="321" y="100"/>
                      <a:pt x="367" y="100"/>
                    </a:cubicBezTo>
                    <a:cubicBezTo>
                      <a:pt x="413" y="100"/>
                      <a:pt x="471" y="98"/>
                      <a:pt x="512" y="92"/>
                    </a:cubicBezTo>
                    <a:cubicBezTo>
                      <a:pt x="554" y="86"/>
                      <a:pt x="587" y="75"/>
                      <a:pt x="615" y="66"/>
                    </a:cubicBezTo>
                    <a:cubicBezTo>
                      <a:pt x="643" y="57"/>
                      <a:pt x="668" y="47"/>
                      <a:pt x="682" y="36"/>
                    </a:cubicBezTo>
                    <a:cubicBezTo>
                      <a:pt x="696" y="25"/>
                      <a:pt x="695" y="7"/>
                      <a:pt x="698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962520" y="3435480"/>
                <a:ext cx="1391760" cy="167760"/>
              </a:xfrm>
              <a:custGeom>
                <a:avLst/>
                <a:gdLst/>
                <a:ahLst/>
                <a:rect l="l" t="t" r="r" b="b"/>
                <a:pathLst>
                  <a:path w="696" h="90">
                    <a:moveTo>
                      <a:pt x="696" y="68"/>
                    </a:moveTo>
                    <a:cubicBezTo>
                      <a:pt x="691" y="63"/>
                      <a:pt x="688" y="49"/>
                      <a:pt x="670" y="40"/>
                    </a:cubicBezTo>
                    <a:cubicBezTo>
                      <a:pt x="652" y="31"/>
                      <a:pt x="616" y="22"/>
                      <a:pt x="585" y="16"/>
                    </a:cubicBezTo>
                    <a:cubicBezTo>
                      <a:pt x="554" y="10"/>
                      <a:pt x="518" y="4"/>
                      <a:pt x="482" y="2"/>
                    </a:cubicBezTo>
                    <a:cubicBezTo>
                      <a:pt x="446" y="0"/>
                      <a:pt x="402" y="1"/>
                      <a:pt x="364" y="1"/>
                    </a:cubicBezTo>
                    <a:cubicBezTo>
                      <a:pt x="326" y="1"/>
                      <a:pt x="288" y="1"/>
                      <a:pt x="254" y="4"/>
                    </a:cubicBezTo>
                    <a:cubicBezTo>
                      <a:pt x="220" y="7"/>
                      <a:pt x="185" y="14"/>
                      <a:pt x="155" y="20"/>
                    </a:cubicBezTo>
                    <a:cubicBezTo>
                      <a:pt x="126" y="26"/>
                      <a:pt x="98" y="34"/>
                      <a:pt x="77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2367000" y="3213000"/>
              <a:ext cx="1143000" cy="1646280"/>
              <a:chOff x="2367000" y="3213000"/>
              <a:chExt cx="1143000" cy="1646280"/>
            </a:xfrm>
          </p:grpSpPr>
          <p:sp>
            <p:nvSpPr>
              <p:cNvPr id="139" name=""/>
              <p:cNvSpPr/>
              <p:nvPr/>
            </p:nvSpPr>
            <p:spPr>
              <a:xfrm>
                <a:off x="2367000" y="3213000"/>
                <a:ext cx="1143000" cy="1646280"/>
              </a:xfrm>
              <a:custGeom>
                <a:avLst/>
                <a:gdLst/>
                <a:ahLst/>
                <a:rect l="l" t="t" r="r" b="b"/>
                <a:pathLst>
                  <a:path w="720" h="1037">
                    <a:moveTo>
                      <a:pt x="90" y="235"/>
                    </a:moveTo>
                    <a:cubicBezTo>
                      <a:pt x="79" y="237"/>
                      <a:pt x="73" y="237"/>
                      <a:pt x="62" y="244"/>
                    </a:cubicBezTo>
                    <a:cubicBezTo>
                      <a:pt x="51" y="250"/>
                      <a:pt x="33" y="258"/>
                      <a:pt x="24" y="273"/>
                    </a:cubicBezTo>
                    <a:cubicBezTo>
                      <a:pt x="14" y="288"/>
                      <a:pt x="9" y="289"/>
                      <a:pt x="5" y="335"/>
                    </a:cubicBezTo>
                    <a:cubicBezTo>
                      <a:pt x="1" y="382"/>
                      <a:pt x="2" y="485"/>
                      <a:pt x="1" y="552"/>
                    </a:cubicBezTo>
                    <a:cubicBezTo>
                      <a:pt x="1" y="618"/>
                      <a:pt x="0" y="671"/>
                      <a:pt x="1" y="735"/>
                    </a:cubicBezTo>
                    <a:cubicBezTo>
                      <a:pt x="3" y="798"/>
                      <a:pt x="0" y="890"/>
                      <a:pt x="9" y="933"/>
                    </a:cubicBezTo>
                    <a:cubicBezTo>
                      <a:pt x="18" y="976"/>
                      <a:pt x="22" y="976"/>
                      <a:pt x="54" y="992"/>
                    </a:cubicBezTo>
                    <a:cubicBezTo>
                      <a:pt x="86" y="1008"/>
                      <a:pt x="146" y="1021"/>
                      <a:pt x="204" y="1028"/>
                    </a:cubicBezTo>
                    <a:cubicBezTo>
                      <a:pt x="262" y="1035"/>
                      <a:pt x="340" y="1037"/>
                      <a:pt x="405" y="1034"/>
                    </a:cubicBezTo>
                    <a:cubicBezTo>
                      <a:pt x="470" y="1031"/>
                      <a:pt x="549" y="1022"/>
                      <a:pt x="594" y="1013"/>
                    </a:cubicBezTo>
                    <a:cubicBezTo>
                      <a:pt x="639" y="1004"/>
                      <a:pt x="658" y="993"/>
                      <a:pt x="678" y="977"/>
                    </a:cubicBezTo>
                    <a:cubicBezTo>
                      <a:pt x="698" y="961"/>
                      <a:pt x="708" y="957"/>
                      <a:pt x="714" y="918"/>
                    </a:cubicBezTo>
                    <a:cubicBezTo>
                      <a:pt x="720" y="879"/>
                      <a:pt x="716" y="828"/>
                      <a:pt x="714" y="746"/>
                    </a:cubicBezTo>
                    <a:cubicBezTo>
                      <a:pt x="712" y="663"/>
                      <a:pt x="706" y="498"/>
                      <a:pt x="703" y="423"/>
                    </a:cubicBezTo>
                    <a:cubicBezTo>
                      <a:pt x="699" y="348"/>
                      <a:pt x="697" y="322"/>
                      <a:pt x="691" y="295"/>
                    </a:cubicBezTo>
                    <a:cubicBezTo>
                      <a:pt x="686" y="268"/>
                      <a:pt x="676" y="271"/>
                      <a:pt x="669" y="262"/>
                    </a:cubicBezTo>
                    <a:cubicBezTo>
                      <a:pt x="661" y="253"/>
                      <a:pt x="660" y="249"/>
                      <a:pt x="646" y="244"/>
                    </a:cubicBezTo>
                    <a:cubicBezTo>
                      <a:pt x="633" y="238"/>
                      <a:pt x="602" y="233"/>
                      <a:pt x="587" y="229"/>
                    </a:cubicBezTo>
                    <a:cubicBezTo>
                      <a:pt x="573" y="225"/>
                      <a:pt x="567" y="225"/>
                      <a:pt x="557" y="222"/>
                    </a:cubicBezTo>
                    <a:cubicBezTo>
                      <a:pt x="548" y="218"/>
                      <a:pt x="538" y="213"/>
                      <a:pt x="531" y="207"/>
                    </a:cubicBezTo>
                    <a:cubicBezTo>
                      <a:pt x="524" y="201"/>
                      <a:pt x="517" y="195"/>
                      <a:pt x="514" y="187"/>
                    </a:cubicBezTo>
                    <a:cubicBezTo>
                      <a:pt x="511" y="178"/>
                      <a:pt x="508" y="167"/>
                      <a:pt x="512" y="156"/>
                    </a:cubicBezTo>
                    <a:cubicBezTo>
                      <a:pt x="516" y="145"/>
                      <a:pt x="529" y="129"/>
                      <a:pt x="538" y="118"/>
                    </a:cubicBezTo>
                    <a:cubicBezTo>
                      <a:pt x="547" y="107"/>
                      <a:pt x="561" y="102"/>
                      <a:pt x="569" y="92"/>
                    </a:cubicBezTo>
                    <a:cubicBezTo>
                      <a:pt x="577" y="82"/>
                      <a:pt x="586" y="68"/>
                      <a:pt x="586" y="58"/>
                    </a:cubicBezTo>
                    <a:cubicBezTo>
                      <a:pt x="586" y="48"/>
                      <a:pt x="592" y="38"/>
                      <a:pt x="572" y="30"/>
                    </a:cubicBezTo>
                    <a:cubicBezTo>
                      <a:pt x="552" y="22"/>
                      <a:pt x="506" y="15"/>
                      <a:pt x="467" y="10"/>
                    </a:cubicBezTo>
                    <a:cubicBezTo>
                      <a:pt x="428" y="5"/>
                      <a:pt x="383" y="0"/>
                      <a:pt x="337" y="0"/>
                    </a:cubicBezTo>
                    <a:cubicBezTo>
                      <a:pt x="291" y="0"/>
                      <a:pt x="226" y="5"/>
                      <a:pt x="189" y="12"/>
                    </a:cubicBezTo>
                    <a:cubicBezTo>
                      <a:pt x="152" y="19"/>
                      <a:pt x="127" y="29"/>
                      <a:pt x="117" y="42"/>
                    </a:cubicBezTo>
                    <a:cubicBezTo>
                      <a:pt x="107" y="55"/>
                      <a:pt x="122" y="80"/>
                      <a:pt x="128" y="93"/>
                    </a:cubicBezTo>
                    <a:cubicBezTo>
                      <a:pt x="133" y="107"/>
                      <a:pt x="143" y="114"/>
                      <a:pt x="150" y="123"/>
                    </a:cubicBezTo>
                    <a:cubicBezTo>
                      <a:pt x="158" y="132"/>
                      <a:pt x="169" y="140"/>
                      <a:pt x="175" y="147"/>
                    </a:cubicBezTo>
                    <a:cubicBezTo>
                      <a:pt x="180" y="153"/>
                      <a:pt x="183" y="154"/>
                      <a:pt x="184" y="161"/>
                    </a:cubicBezTo>
                    <a:cubicBezTo>
                      <a:pt x="185" y="168"/>
                      <a:pt x="186" y="179"/>
                      <a:pt x="182" y="187"/>
                    </a:cubicBezTo>
                    <a:cubicBezTo>
                      <a:pt x="179" y="195"/>
                      <a:pt x="173" y="202"/>
                      <a:pt x="163" y="209"/>
                    </a:cubicBezTo>
                    <a:cubicBezTo>
                      <a:pt x="154" y="216"/>
                      <a:pt x="140" y="223"/>
                      <a:pt x="128" y="227"/>
                    </a:cubicBezTo>
                    <a:cubicBezTo>
                      <a:pt x="116" y="231"/>
                      <a:pt x="101" y="232"/>
                      <a:pt x="90" y="23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1ffff"/>
                  </a:gs>
                  <a:gs pos="100000">
                    <a:srgbClr val="00f4ee"/>
                  </a:gs>
                </a:gsLst>
                <a:lin ang="5400000"/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379600" y="4600800"/>
                <a:ext cx="1119240" cy="125280"/>
              </a:xfrm>
              <a:custGeom>
                <a:avLst/>
                <a:gdLst/>
                <a:ahLst/>
                <a:rect l="l" t="t" r="r" b="b"/>
                <a:pathLst>
                  <a:path w="705" h="79">
                    <a:moveTo>
                      <a:pt x="705" y="61"/>
                    </a:moveTo>
                    <a:cubicBezTo>
                      <a:pt x="688" y="54"/>
                      <a:pt x="661" y="29"/>
                      <a:pt x="603" y="19"/>
                    </a:cubicBezTo>
                    <a:cubicBezTo>
                      <a:pt x="545" y="9"/>
                      <a:pt x="434" y="0"/>
                      <a:pt x="354" y="1"/>
                    </a:cubicBezTo>
                    <a:cubicBezTo>
                      <a:pt x="274" y="2"/>
                      <a:pt x="179" y="12"/>
                      <a:pt x="120" y="25"/>
                    </a:cubicBezTo>
                    <a:cubicBezTo>
                      <a:pt x="61" y="38"/>
                      <a:pt x="25" y="68"/>
                      <a:pt x="0" y="79"/>
                    </a:cubicBezTo>
                  </a:path>
                </a:pathLst>
              </a:custGeom>
              <a:noFill/>
              <a:ln w="19080">
                <a:solidFill>
                  <a:srgbClr val="0000d2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544840" y="3213000"/>
                <a:ext cx="754200" cy="163800"/>
              </a:xfrm>
              <a:custGeom>
                <a:avLst/>
                <a:gdLst/>
                <a:ahLst/>
                <a:rect l="l" t="t" r="r" b="b"/>
                <a:pathLst>
                  <a:path w="475" h="103">
                    <a:moveTo>
                      <a:pt x="5" y="57"/>
                    </a:moveTo>
                    <a:cubicBezTo>
                      <a:pt x="0" y="49"/>
                      <a:pt x="8" y="37"/>
                      <a:pt x="25" y="29"/>
                    </a:cubicBezTo>
                    <a:cubicBezTo>
                      <a:pt x="42" y="21"/>
                      <a:pt x="76" y="16"/>
                      <a:pt x="107" y="11"/>
                    </a:cubicBezTo>
                    <a:cubicBezTo>
                      <a:pt x="138" y="6"/>
                      <a:pt x="180" y="2"/>
                      <a:pt x="213" y="1"/>
                    </a:cubicBezTo>
                    <a:cubicBezTo>
                      <a:pt x="246" y="0"/>
                      <a:pt x="279" y="1"/>
                      <a:pt x="307" y="3"/>
                    </a:cubicBezTo>
                    <a:cubicBezTo>
                      <a:pt x="335" y="5"/>
                      <a:pt x="357" y="9"/>
                      <a:pt x="379" y="13"/>
                    </a:cubicBezTo>
                    <a:cubicBezTo>
                      <a:pt x="401" y="17"/>
                      <a:pt x="422" y="19"/>
                      <a:pt x="437" y="25"/>
                    </a:cubicBezTo>
                    <a:cubicBezTo>
                      <a:pt x="452" y="31"/>
                      <a:pt x="471" y="42"/>
                      <a:pt x="473" y="49"/>
                    </a:cubicBezTo>
                    <a:cubicBezTo>
                      <a:pt x="475" y="56"/>
                      <a:pt x="464" y="60"/>
                      <a:pt x="449" y="67"/>
                    </a:cubicBezTo>
                    <a:cubicBezTo>
                      <a:pt x="434" y="74"/>
                      <a:pt x="410" y="83"/>
                      <a:pt x="381" y="89"/>
                    </a:cubicBezTo>
                    <a:cubicBezTo>
                      <a:pt x="352" y="95"/>
                      <a:pt x="316" y="99"/>
                      <a:pt x="277" y="101"/>
                    </a:cubicBezTo>
                    <a:cubicBezTo>
                      <a:pt x="238" y="103"/>
                      <a:pt x="186" y="102"/>
                      <a:pt x="149" y="99"/>
                    </a:cubicBezTo>
                    <a:cubicBezTo>
                      <a:pt x="112" y="96"/>
                      <a:pt x="79" y="87"/>
                      <a:pt x="55" y="80"/>
                    </a:cubicBezTo>
                    <a:cubicBezTo>
                      <a:pt x="31" y="73"/>
                      <a:pt x="11" y="66"/>
                      <a:pt x="5" y="5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1ffff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367000" y="3646440"/>
                <a:ext cx="1123920" cy="287280"/>
              </a:xfrm>
              <a:custGeom>
                <a:avLst/>
                <a:gdLst/>
                <a:ahLst/>
                <a:rect l="l" t="t" r="r" b="b"/>
                <a:pathLst>
                  <a:path w="708" h="181">
                    <a:moveTo>
                      <a:pt x="8" y="87"/>
                    </a:moveTo>
                    <a:cubicBezTo>
                      <a:pt x="0" y="99"/>
                      <a:pt x="15" y="107"/>
                      <a:pt x="33" y="117"/>
                    </a:cubicBezTo>
                    <a:cubicBezTo>
                      <a:pt x="50" y="127"/>
                      <a:pt x="71" y="137"/>
                      <a:pt x="114" y="147"/>
                    </a:cubicBezTo>
                    <a:cubicBezTo>
                      <a:pt x="157" y="157"/>
                      <a:pt x="226" y="173"/>
                      <a:pt x="292" y="177"/>
                    </a:cubicBezTo>
                    <a:cubicBezTo>
                      <a:pt x="359" y="181"/>
                      <a:pt x="463" y="175"/>
                      <a:pt x="514" y="171"/>
                    </a:cubicBezTo>
                    <a:cubicBezTo>
                      <a:pt x="566" y="167"/>
                      <a:pt x="575" y="162"/>
                      <a:pt x="599" y="155"/>
                    </a:cubicBezTo>
                    <a:cubicBezTo>
                      <a:pt x="623" y="148"/>
                      <a:pt x="644" y="142"/>
                      <a:pt x="661" y="131"/>
                    </a:cubicBezTo>
                    <a:cubicBezTo>
                      <a:pt x="678" y="120"/>
                      <a:pt x="695" y="99"/>
                      <a:pt x="701" y="89"/>
                    </a:cubicBezTo>
                    <a:cubicBezTo>
                      <a:pt x="707" y="79"/>
                      <a:pt x="708" y="80"/>
                      <a:pt x="697" y="69"/>
                    </a:cubicBezTo>
                    <a:cubicBezTo>
                      <a:pt x="686" y="58"/>
                      <a:pt x="674" y="35"/>
                      <a:pt x="637" y="24"/>
                    </a:cubicBezTo>
                    <a:cubicBezTo>
                      <a:pt x="600" y="13"/>
                      <a:pt x="534" y="6"/>
                      <a:pt x="477" y="3"/>
                    </a:cubicBezTo>
                    <a:cubicBezTo>
                      <a:pt x="419" y="0"/>
                      <a:pt x="339" y="1"/>
                      <a:pt x="289" y="3"/>
                    </a:cubicBezTo>
                    <a:cubicBezTo>
                      <a:pt x="240" y="5"/>
                      <a:pt x="217" y="9"/>
                      <a:pt x="182" y="15"/>
                    </a:cubicBezTo>
                    <a:cubicBezTo>
                      <a:pt x="147" y="21"/>
                      <a:pt x="109" y="30"/>
                      <a:pt x="80" y="42"/>
                    </a:cubicBezTo>
                    <a:cubicBezTo>
                      <a:pt x="51" y="54"/>
                      <a:pt x="16" y="75"/>
                      <a:pt x="8" y="8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1ffff"/>
                  </a:gs>
                  <a:gs pos="100000">
                    <a:srgbClr val="8b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368440" y="3768840"/>
                <a:ext cx="1108080" cy="158760"/>
              </a:xfrm>
              <a:custGeom>
                <a:avLst/>
                <a:gdLst/>
                <a:ahLst/>
                <a:rect l="l" t="t" r="r" b="b"/>
                <a:pathLst>
                  <a:path w="698" h="100">
                    <a:moveTo>
                      <a:pt x="0" y="20"/>
                    </a:moveTo>
                    <a:cubicBezTo>
                      <a:pt x="6" y="24"/>
                      <a:pt x="17" y="37"/>
                      <a:pt x="36" y="46"/>
                    </a:cubicBezTo>
                    <a:cubicBezTo>
                      <a:pt x="55" y="55"/>
                      <a:pt x="84" y="66"/>
                      <a:pt x="116" y="74"/>
                    </a:cubicBezTo>
                    <a:cubicBezTo>
                      <a:pt x="148" y="82"/>
                      <a:pt x="191" y="88"/>
                      <a:pt x="232" y="92"/>
                    </a:cubicBezTo>
                    <a:cubicBezTo>
                      <a:pt x="273" y="96"/>
                      <a:pt x="321" y="100"/>
                      <a:pt x="367" y="100"/>
                    </a:cubicBezTo>
                    <a:cubicBezTo>
                      <a:pt x="413" y="100"/>
                      <a:pt x="471" y="98"/>
                      <a:pt x="512" y="92"/>
                    </a:cubicBezTo>
                    <a:cubicBezTo>
                      <a:pt x="554" y="86"/>
                      <a:pt x="587" y="75"/>
                      <a:pt x="615" y="66"/>
                    </a:cubicBezTo>
                    <a:cubicBezTo>
                      <a:pt x="643" y="57"/>
                      <a:pt x="668" y="47"/>
                      <a:pt x="682" y="36"/>
                    </a:cubicBezTo>
                    <a:cubicBezTo>
                      <a:pt x="696" y="25"/>
                      <a:pt x="695" y="7"/>
                      <a:pt x="698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368440" y="3648240"/>
                <a:ext cx="1105200" cy="142920"/>
              </a:xfrm>
              <a:custGeom>
                <a:avLst/>
                <a:gdLst/>
                <a:ahLst/>
                <a:rect l="l" t="t" r="r" b="b"/>
                <a:pathLst>
                  <a:path w="696" h="90">
                    <a:moveTo>
                      <a:pt x="696" y="68"/>
                    </a:moveTo>
                    <a:cubicBezTo>
                      <a:pt x="691" y="63"/>
                      <a:pt x="688" y="49"/>
                      <a:pt x="670" y="40"/>
                    </a:cubicBezTo>
                    <a:cubicBezTo>
                      <a:pt x="652" y="31"/>
                      <a:pt x="616" y="22"/>
                      <a:pt x="585" y="16"/>
                    </a:cubicBezTo>
                    <a:cubicBezTo>
                      <a:pt x="554" y="10"/>
                      <a:pt x="518" y="4"/>
                      <a:pt x="482" y="2"/>
                    </a:cubicBezTo>
                    <a:cubicBezTo>
                      <a:pt x="446" y="0"/>
                      <a:pt x="402" y="1"/>
                      <a:pt x="364" y="1"/>
                    </a:cubicBezTo>
                    <a:cubicBezTo>
                      <a:pt x="326" y="1"/>
                      <a:pt x="288" y="1"/>
                      <a:pt x="254" y="4"/>
                    </a:cubicBezTo>
                    <a:cubicBezTo>
                      <a:pt x="220" y="7"/>
                      <a:pt x="185" y="14"/>
                      <a:pt x="155" y="20"/>
                    </a:cubicBezTo>
                    <a:cubicBezTo>
                      <a:pt x="126" y="26"/>
                      <a:pt x="98" y="34"/>
                      <a:pt x="77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2584440" y="4005360"/>
              <a:ext cx="66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 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1258920" y="3789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0,6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211640" y="3645000"/>
            <a:ext cx="8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0,6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6156360" y="2997360"/>
                <a:ext cx="2376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(</m:t>
                    </m:r>
                    <m:r>
                      <m:t xml:space="preserve">л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4286520" y="48690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 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476360" y="2781360"/>
            <a:ext cx="5761080" cy="3311640"/>
            <a:chOff x="1476360" y="2781360"/>
            <a:chExt cx="5761080" cy="3311640"/>
          </a:xfrm>
        </p:grpSpPr>
        <p:sp>
          <p:nvSpPr>
            <p:cNvPr id="151" name=""/>
            <p:cNvSpPr/>
            <p:nvPr/>
          </p:nvSpPr>
          <p:spPr>
            <a:xfrm>
              <a:off x="1476360" y="2781360"/>
              <a:ext cx="5761080" cy="3311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65440" y="2847240"/>
              <a:ext cx="172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I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 спосо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843280" y="3141720"/>
                <a:ext cx="2844720" cy="13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195640" y="4292640"/>
                <a:ext cx="493236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⋅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3059280" y="544500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Ответ: 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50920" y="2565360"/>
            <a:ext cx="8641800" cy="3527640"/>
            <a:chOff x="250920" y="2565360"/>
            <a:chExt cx="8641800" cy="3527640"/>
          </a:xfrm>
        </p:grpSpPr>
        <p:sp>
          <p:nvSpPr>
            <p:cNvPr id="157" name=""/>
            <p:cNvSpPr/>
            <p:nvPr/>
          </p:nvSpPr>
          <p:spPr>
            <a:xfrm>
              <a:off x="250920" y="2565360"/>
              <a:ext cx="8641800" cy="3527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371040" y="2635200"/>
              <a:ext cx="207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II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 спосо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468360" y="3068640"/>
            <a:ext cx="8209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бъем раствора увеличился в 2,4 раз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было 5 л., стало 12 л. 12:5 = 2,4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одержание вещества не изменилось, поэт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роцентная концентрация получившего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раствора уменьшилась в 2,4 ра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12:2,4=5(%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551664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Ответ: 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6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9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8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1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24000" y="333360"/>
            <a:ext cx="8496000" cy="172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Сколько литров воды нужно добавить в 2 л вод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раствора, содержащего 60% кислоты, чтоб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получить 20 процентный раствор кислот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8459640" y="6165720"/>
            <a:ext cx="505080" cy="5382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760 h 538200"/>
              <a:gd name="textAreaBottom" fmla="*/ 505800 h 538200"/>
            </a:gdLst>
            <a:ahLst/>
            <a:rect l="textAreaLeft" t="textAreaTop" r="textAreaRight" b="textAreaBottom"/>
            <a:pathLst>
              <a:path w="21600" h="23015">
                <a:moveTo>
                  <a:pt x="0" y="0"/>
                </a:moveTo>
                <a:lnTo>
                  <a:pt x="21600" y="0"/>
                </a:lnTo>
                <a:lnTo>
                  <a:pt x="21600" y="23015"/>
                </a:lnTo>
                <a:lnTo>
                  <a:pt x="0" y="23015"/>
                </a:lnTo>
                <a:close/>
              </a:path>
              <a:path fill="lightenLess" w="21600" h="230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15">
                <a:moveTo>
                  <a:pt x="21600" y="0"/>
                </a:moveTo>
                <a:lnTo>
                  <a:pt x="21600" y="23015"/>
                </a:lnTo>
                <a:lnTo>
                  <a:pt x="20200" y="21615"/>
                </a:lnTo>
                <a:lnTo>
                  <a:pt x="20200" y="1400"/>
                </a:lnTo>
                <a:close/>
              </a:path>
              <a:path fill="darkenLess" w="21600" h="23015">
                <a:moveTo>
                  <a:pt x="21600" y="23015"/>
                </a:moveTo>
                <a:lnTo>
                  <a:pt x="0" y="23015"/>
                </a:lnTo>
                <a:lnTo>
                  <a:pt x="1400" y="21615"/>
                </a:lnTo>
                <a:lnTo>
                  <a:pt x="20200" y="21615"/>
                </a:lnTo>
                <a:close/>
              </a:path>
              <a:path fill="lighten" w="21600" h="23015">
                <a:moveTo>
                  <a:pt x="0" y="230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15"/>
                </a:lnTo>
                <a:close/>
              </a:path>
              <a:path fill="darken" w="21600" h="23015">
                <a:moveTo>
                  <a:pt x="3794" y="4501"/>
                </a:moveTo>
                <a:lnTo>
                  <a:pt x="17806" y="11508"/>
                </a:lnTo>
                <a:lnTo>
                  <a:pt x="3794" y="1851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6165720"/>
            <a:ext cx="1873080" cy="476280"/>
          </a:xfrm>
          <a:custGeom>
            <a:avLst/>
            <a:gdLst>
              <a:gd name="textAreaLeft" fmla="*/ 30600 w 1873080"/>
              <a:gd name="textAreaRight" fmla="*/ 1842480 w 1873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84899" h="21600">
                <a:moveTo>
                  <a:pt x="0" y="0"/>
                </a:moveTo>
                <a:lnTo>
                  <a:pt x="84899" y="0"/>
                </a:lnTo>
                <a:lnTo>
                  <a:pt x="84899" y="21600"/>
                </a:lnTo>
                <a:lnTo>
                  <a:pt x="0" y="21600"/>
                </a:lnTo>
                <a:close/>
              </a:path>
              <a:path fill="lightenLess" w="84899" h="21600">
                <a:moveTo>
                  <a:pt x="0" y="0"/>
                </a:moveTo>
                <a:lnTo>
                  <a:pt x="84899" y="0"/>
                </a:lnTo>
                <a:lnTo>
                  <a:pt x="83499" y="1400"/>
                </a:lnTo>
                <a:lnTo>
                  <a:pt x="1400" y="1400"/>
                </a:lnTo>
                <a:close/>
              </a:path>
              <a:path fill="darken" w="84899" h="21600">
                <a:moveTo>
                  <a:pt x="84899" y="0"/>
                </a:moveTo>
                <a:lnTo>
                  <a:pt x="84899" y="21600"/>
                </a:lnTo>
                <a:lnTo>
                  <a:pt x="83499" y="20200"/>
                </a:lnTo>
                <a:lnTo>
                  <a:pt x="83499" y="1400"/>
                </a:lnTo>
                <a:close/>
              </a:path>
              <a:path fill="darkenLess" w="84899" h="21600">
                <a:moveTo>
                  <a:pt x="848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3499" y="20200"/>
                </a:lnTo>
                <a:close/>
              </a:path>
              <a:path fill="lighten" w="848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lackadder ITC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0920" y="2637000"/>
            <a:ext cx="8642160" cy="32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5280" y="2708280"/>
            <a:ext cx="820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бъем чистой кислоты в растворе не меняет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оцентное содержание кислоты в раство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меньшится в 3 раза (60:20=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4000" y="400536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бъем раствора увеличится в 3раза: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=6(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8360" y="450864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6 – 2 = 4 (л) воды нужно доб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515772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4 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142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50920" y="333360"/>
            <a:ext cx="8640720" cy="172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Смешали 4 литра 15 процентного водного раств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с 6 литрами 25 процентного водного раство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этого же вещества. Сколько процентов составля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концентрация получившегося раствор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332000" y="2708280"/>
            <a:ext cx="6408720" cy="338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0920" y="6165720"/>
            <a:ext cx="1873080" cy="476280"/>
          </a:xfrm>
          <a:custGeom>
            <a:avLst/>
            <a:gdLst>
              <a:gd name="textAreaLeft" fmla="*/ 30600 w 1873080"/>
              <a:gd name="textAreaRight" fmla="*/ 1842480 w 1873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84899" h="21600">
                <a:moveTo>
                  <a:pt x="0" y="0"/>
                </a:moveTo>
                <a:lnTo>
                  <a:pt x="84899" y="0"/>
                </a:lnTo>
                <a:lnTo>
                  <a:pt x="84899" y="21600"/>
                </a:lnTo>
                <a:lnTo>
                  <a:pt x="0" y="21600"/>
                </a:lnTo>
                <a:close/>
              </a:path>
              <a:path fill="lightenLess" w="84899" h="21600">
                <a:moveTo>
                  <a:pt x="0" y="0"/>
                </a:moveTo>
                <a:lnTo>
                  <a:pt x="84899" y="0"/>
                </a:lnTo>
                <a:lnTo>
                  <a:pt x="83499" y="1400"/>
                </a:lnTo>
                <a:lnTo>
                  <a:pt x="1400" y="1400"/>
                </a:lnTo>
                <a:close/>
              </a:path>
              <a:path fill="darken" w="84899" h="21600">
                <a:moveTo>
                  <a:pt x="84899" y="0"/>
                </a:moveTo>
                <a:lnTo>
                  <a:pt x="84899" y="21600"/>
                </a:lnTo>
                <a:lnTo>
                  <a:pt x="83499" y="20200"/>
                </a:lnTo>
                <a:lnTo>
                  <a:pt x="83499" y="1400"/>
                </a:lnTo>
                <a:close/>
              </a:path>
              <a:path fill="darkenLess" w="84899" h="21600">
                <a:moveTo>
                  <a:pt x="848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3499" y="20200"/>
                </a:lnTo>
                <a:close/>
              </a:path>
              <a:path fill="lighten" w="848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lackadder ITC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" action="ppaction://hlinkshowjump?jump=nextslide"/>
          </p:cNvPr>
          <p:cNvSpPr/>
          <p:nvPr/>
        </p:nvSpPr>
        <p:spPr>
          <a:xfrm>
            <a:off x="8459640" y="6165720"/>
            <a:ext cx="505080" cy="5382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760 h 538200"/>
              <a:gd name="textAreaBottom" fmla="*/ 505800 h 538200"/>
            </a:gdLst>
            <a:ahLst/>
            <a:rect l="textAreaLeft" t="textAreaTop" r="textAreaRight" b="textAreaBottom"/>
            <a:pathLst>
              <a:path w="21600" h="23015">
                <a:moveTo>
                  <a:pt x="0" y="0"/>
                </a:moveTo>
                <a:lnTo>
                  <a:pt x="21600" y="0"/>
                </a:lnTo>
                <a:lnTo>
                  <a:pt x="21600" y="23015"/>
                </a:lnTo>
                <a:lnTo>
                  <a:pt x="0" y="23015"/>
                </a:lnTo>
                <a:close/>
              </a:path>
              <a:path fill="lightenLess" w="21600" h="230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15">
                <a:moveTo>
                  <a:pt x="21600" y="0"/>
                </a:moveTo>
                <a:lnTo>
                  <a:pt x="21600" y="23015"/>
                </a:lnTo>
                <a:lnTo>
                  <a:pt x="20200" y="21615"/>
                </a:lnTo>
                <a:lnTo>
                  <a:pt x="20200" y="1400"/>
                </a:lnTo>
                <a:close/>
              </a:path>
              <a:path fill="darkenLess" w="21600" h="23015">
                <a:moveTo>
                  <a:pt x="21600" y="23015"/>
                </a:moveTo>
                <a:lnTo>
                  <a:pt x="0" y="23015"/>
                </a:lnTo>
                <a:lnTo>
                  <a:pt x="1400" y="21615"/>
                </a:lnTo>
                <a:lnTo>
                  <a:pt x="20200" y="21615"/>
                </a:lnTo>
                <a:close/>
              </a:path>
              <a:path fill="lighten" w="21600" h="23015">
                <a:moveTo>
                  <a:pt x="0" y="230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15"/>
                </a:lnTo>
                <a:close/>
              </a:path>
              <a:path fill="darken" w="21600" h="23015">
                <a:moveTo>
                  <a:pt x="3794" y="4501"/>
                </a:moveTo>
                <a:lnTo>
                  <a:pt x="17806" y="11508"/>
                </a:lnTo>
                <a:lnTo>
                  <a:pt x="3794" y="1851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843280" y="2781360"/>
                <a:ext cx="2844720" cy="13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692360" y="4076640"/>
                <a:ext cx="558144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⋅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⋅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3348000" y="551664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4 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324000" y="2708280"/>
            <a:ext cx="5184720" cy="3384720"/>
            <a:chOff x="324000" y="2708280"/>
            <a:chExt cx="5184720" cy="3384720"/>
          </a:xfrm>
        </p:grpSpPr>
        <p:sp>
          <p:nvSpPr>
            <p:cNvPr id="177" name=""/>
            <p:cNvSpPr/>
            <p:nvPr/>
          </p:nvSpPr>
          <p:spPr>
            <a:xfrm>
              <a:off x="324000" y="2708280"/>
              <a:ext cx="5184720" cy="3384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468360" y="3645000"/>
              <a:ext cx="1150560" cy="1645920"/>
              <a:chOff x="468360" y="3645000"/>
              <a:chExt cx="1150560" cy="1645920"/>
            </a:xfrm>
          </p:grpSpPr>
          <p:sp>
            <p:nvSpPr>
              <p:cNvPr id="179" name=""/>
              <p:cNvSpPr/>
              <p:nvPr/>
            </p:nvSpPr>
            <p:spPr>
              <a:xfrm>
                <a:off x="468360" y="3645000"/>
                <a:ext cx="1150560" cy="1645920"/>
              </a:xfrm>
              <a:custGeom>
                <a:avLst/>
                <a:gdLst/>
                <a:ahLst/>
                <a:rect l="l" t="t" r="r" b="b"/>
                <a:pathLst>
                  <a:path w="720" h="1037">
                    <a:moveTo>
                      <a:pt x="90" y="235"/>
                    </a:moveTo>
                    <a:cubicBezTo>
                      <a:pt x="79" y="237"/>
                      <a:pt x="73" y="237"/>
                      <a:pt x="62" y="244"/>
                    </a:cubicBezTo>
                    <a:cubicBezTo>
                      <a:pt x="51" y="250"/>
                      <a:pt x="33" y="258"/>
                      <a:pt x="24" y="273"/>
                    </a:cubicBezTo>
                    <a:cubicBezTo>
                      <a:pt x="14" y="288"/>
                      <a:pt x="9" y="289"/>
                      <a:pt x="5" y="335"/>
                    </a:cubicBezTo>
                    <a:cubicBezTo>
                      <a:pt x="1" y="382"/>
                      <a:pt x="2" y="485"/>
                      <a:pt x="1" y="552"/>
                    </a:cubicBezTo>
                    <a:cubicBezTo>
                      <a:pt x="1" y="618"/>
                      <a:pt x="0" y="671"/>
                      <a:pt x="1" y="735"/>
                    </a:cubicBezTo>
                    <a:cubicBezTo>
                      <a:pt x="3" y="798"/>
                      <a:pt x="0" y="890"/>
                      <a:pt x="9" y="933"/>
                    </a:cubicBezTo>
                    <a:cubicBezTo>
                      <a:pt x="18" y="976"/>
                      <a:pt x="22" y="976"/>
                      <a:pt x="54" y="992"/>
                    </a:cubicBezTo>
                    <a:cubicBezTo>
                      <a:pt x="86" y="1008"/>
                      <a:pt x="146" y="1021"/>
                      <a:pt x="204" y="1028"/>
                    </a:cubicBezTo>
                    <a:cubicBezTo>
                      <a:pt x="262" y="1035"/>
                      <a:pt x="340" y="1037"/>
                      <a:pt x="405" y="1034"/>
                    </a:cubicBezTo>
                    <a:cubicBezTo>
                      <a:pt x="470" y="1031"/>
                      <a:pt x="549" y="1022"/>
                      <a:pt x="594" y="1013"/>
                    </a:cubicBezTo>
                    <a:cubicBezTo>
                      <a:pt x="639" y="1004"/>
                      <a:pt x="658" y="993"/>
                      <a:pt x="678" y="977"/>
                    </a:cubicBezTo>
                    <a:cubicBezTo>
                      <a:pt x="698" y="961"/>
                      <a:pt x="708" y="957"/>
                      <a:pt x="714" y="918"/>
                    </a:cubicBezTo>
                    <a:cubicBezTo>
                      <a:pt x="720" y="879"/>
                      <a:pt x="716" y="828"/>
                      <a:pt x="714" y="746"/>
                    </a:cubicBezTo>
                    <a:cubicBezTo>
                      <a:pt x="712" y="663"/>
                      <a:pt x="706" y="498"/>
                      <a:pt x="703" y="423"/>
                    </a:cubicBezTo>
                    <a:cubicBezTo>
                      <a:pt x="699" y="348"/>
                      <a:pt x="697" y="322"/>
                      <a:pt x="691" y="295"/>
                    </a:cubicBezTo>
                    <a:cubicBezTo>
                      <a:pt x="686" y="268"/>
                      <a:pt x="676" y="271"/>
                      <a:pt x="669" y="262"/>
                    </a:cubicBezTo>
                    <a:cubicBezTo>
                      <a:pt x="661" y="253"/>
                      <a:pt x="660" y="249"/>
                      <a:pt x="646" y="244"/>
                    </a:cubicBezTo>
                    <a:cubicBezTo>
                      <a:pt x="633" y="238"/>
                      <a:pt x="602" y="233"/>
                      <a:pt x="587" y="229"/>
                    </a:cubicBezTo>
                    <a:cubicBezTo>
                      <a:pt x="573" y="225"/>
                      <a:pt x="567" y="225"/>
                      <a:pt x="557" y="222"/>
                    </a:cubicBezTo>
                    <a:cubicBezTo>
                      <a:pt x="548" y="218"/>
                      <a:pt x="538" y="213"/>
                      <a:pt x="531" y="207"/>
                    </a:cubicBezTo>
                    <a:cubicBezTo>
                      <a:pt x="524" y="201"/>
                      <a:pt x="517" y="195"/>
                      <a:pt x="514" y="187"/>
                    </a:cubicBezTo>
                    <a:cubicBezTo>
                      <a:pt x="511" y="178"/>
                      <a:pt x="508" y="167"/>
                      <a:pt x="512" y="156"/>
                    </a:cubicBezTo>
                    <a:cubicBezTo>
                      <a:pt x="516" y="145"/>
                      <a:pt x="529" y="129"/>
                      <a:pt x="538" y="118"/>
                    </a:cubicBezTo>
                    <a:cubicBezTo>
                      <a:pt x="547" y="107"/>
                      <a:pt x="561" y="102"/>
                      <a:pt x="569" y="92"/>
                    </a:cubicBezTo>
                    <a:cubicBezTo>
                      <a:pt x="577" y="82"/>
                      <a:pt x="586" y="68"/>
                      <a:pt x="586" y="58"/>
                    </a:cubicBezTo>
                    <a:cubicBezTo>
                      <a:pt x="586" y="48"/>
                      <a:pt x="592" y="38"/>
                      <a:pt x="572" y="30"/>
                    </a:cubicBezTo>
                    <a:cubicBezTo>
                      <a:pt x="552" y="22"/>
                      <a:pt x="506" y="15"/>
                      <a:pt x="467" y="10"/>
                    </a:cubicBezTo>
                    <a:cubicBezTo>
                      <a:pt x="428" y="5"/>
                      <a:pt x="383" y="0"/>
                      <a:pt x="337" y="0"/>
                    </a:cubicBezTo>
                    <a:cubicBezTo>
                      <a:pt x="291" y="0"/>
                      <a:pt x="226" y="5"/>
                      <a:pt x="189" y="12"/>
                    </a:cubicBezTo>
                    <a:cubicBezTo>
                      <a:pt x="152" y="19"/>
                      <a:pt x="127" y="29"/>
                      <a:pt x="117" y="42"/>
                    </a:cubicBezTo>
                    <a:cubicBezTo>
                      <a:pt x="107" y="55"/>
                      <a:pt x="122" y="80"/>
                      <a:pt x="128" y="93"/>
                    </a:cubicBezTo>
                    <a:cubicBezTo>
                      <a:pt x="133" y="107"/>
                      <a:pt x="143" y="114"/>
                      <a:pt x="150" y="123"/>
                    </a:cubicBezTo>
                    <a:cubicBezTo>
                      <a:pt x="158" y="132"/>
                      <a:pt x="169" y="140"/>
                      <a:pt x="175" y="147"/>
                    </a:cubicBezTo>
                    <a:cubicBezTo>
                      <a:pt x="180" y="153"/>
                      <a:pt x="183" y="154"/>
                      <a:pt x="184" y="161"/>
                    </a:cubicBezTo>
                    <a:cubicBezTo>
                      <a:pt x="185" y="168"/>
                      <a:pt x="186" y="179"/>
                      <a:pt x="182" y="187"/>
                    </a:cubicBezTo>
                    <a:cubicBezTo>
                      <a:pt x="179" y="195"/>
                      <a:pt x="173" y="202"/>
                      <a:pt x="163" y="209"/>
                    </a:cubicBezTo>
                    <a:cubicBezTo>
                      <a:pt x="154" y="216"/>
                      <a:pt x="140" y="223"/>
                      <a:pt x="128" y="227"/>
                    </a:cubicBezTo>
                    <a:cubicBezTo>
                      <a:pt x="116" y="231"/>
                      <a:pt x="101" y="232"/>
                      <a:pt x="90" y="23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1ffff"/>
                  </a:gs>
                  <a:gs pos="100000">
                    <a:srgbClr val="00f4ee"/>
                  </a:gs>
                </a:gsLst>
                <a:lin ang="5400000"/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80960" y="5032440"/>
                <a:ext cx="1126800" cy="125280"/>
              </a:xfrm>
              <a:custGeom>
                <a:avLst/>
                <a:gdLst/>
                <a:ahLst/>
                <a:rect l="l" t="t" r="r" b="b"/>
                <a:pathLst>
                  <a:path w="705" h="79">
                    <a:moveTo>
                      <a:pt x="705" y="61"/>
                    </a:moveTo>
                    <a:cubicBezTo>
                      <a:pt x="688" y="54"/>
                      <a:pt x="661" y="29"/>
                      <a:pt x="603" y="19"/>
                    </a:cubicBezTo>
                    <a:cubicBezTo>
                      <a:pt x="545" y="9"/>
                      <a:pt x="434" y="0"/>
                      <a:pt x="354" y="1"/>
                    </a:cubicBezTo>
                    <a:cubicBezTo>
                      <a:pt x="274" y="2"/>
                      <a:pt x="179" y="12"/>
                      <a:pt x="120" y="25"/>
                    </a:cubicBezTo>
                    <a:cubicBezTo>
                      <a:pt x="61" y="38"/>
                      <a:pt x="25" y="68"/>
                      <a:pt x="0" y="79"/>
                    </a:cubicBezTo>
                  </a:path>
                </a:pathLst>
              </a:custGeom>
              <a:noFill/>
              <a:ln w="19080">
                <a:solidFill>
                  <a:srgbClr val="0000d2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47280" y="3645000"/>
                <a:ext cx="758880" cy="163440"/>
              </a:xfrm>
              <a:custGeom>
                <a:avLst/>
                <a:gdLst/>
                <a:ahLst/>
                <a:rect l="l" t="t" r="r" b="b"/>
                <a:pathLst>
                  <a:path w="475" h="103">
                    <a:moveTo>
                      <a:pt x="5" y="57"/>
                    </a:moveTo>
                    <a:cubicBezTo>
                      <a:pt x="0" y="49"/>
                      <a:pt x="8" y="37"/>
                      <a:pt x="25" y="29"/>
                    </a:cubicBezTo>
                    <a:cubicBezTo>
                      <a:pt x="42" y="21"/>
                      <a:pt x="76" y="16"/>
                      <a:pt x="107" y="11"/>
                    </a:cubicBezTo>
                    <a:cubicBezTo>
                      <a:pt x="138" y="6"/>
                      <a:pt x="180" y="2"/>
                      <a:pt x="213" y="1"/>
                    </a:cubicBezTo>
                    <a:cubicBezTo>
                      <a:pt x="246" y="0"/>
                      <a:pt x="279" y="1"/>
                      <a:pt x="307" y="3"/>
                    </a:cubicBezTo>
                    <a:cubicBezTo>
                      <a:pt x="335" y="5"/>
                      <a:pt x="357" y="9"/>
                      <a:pt x="379" y="13"/>
                    </a:cubicBezTo>
                    <a:cubicBezTo>
                      <a:pt x="401" y="17"/>
                      <a:pt x="422" y="19"/>
                      <a:pt x="437" y="25"/>
                    </a:cubicBezTo>
                    <a:cubicBezTo>
                      <a:pt x="452" y="31"/>
                      <a:pt x="471" y="42"/>
                      <a:pt x="473" y="49"/>
                    </a:cubicBezTo>
                    <a:cubicBezTo>
                      <a:pt x="475" y="56"/>
                      <a:pt x="464" y="60"/>
                      <a:pt x="449" y="67"/>
                    </a:cubicBezTo>
                    <a:cubicBezTo>
                      <a:pt x="434" y="74"/>
                      <a:pt x="410" y="83"/>
                      <a:pt x="381" y="89"/>
                    </a:cubicBezTo>
                    <a:cubicBezTo>
                      <a:pt x="352" y="95"/>
                      <a:pt x="316" y="99"/>
                      <a:pt x="277" y="101"/>
                    </a:cubicBezTo>
                    <a:cubicBezTo>
                      <a:pt x="238" y="103"/>
                      <a:pt x="186" y="102"/>
                      <a:pt x="149" y="99"/>
                    </a:cubicBezTo>
                    <a:cubicBezTo>
                      <a:pt x="112" y="96"/>
                      <a:pt x="79" y="87"/>
                      <a:pt x="55" y="80"/>
                    </a:cubicBezTo>
                    <a:cubicBezTo>
                      <a:pt x="31" y="73"/>
                      <a:pt x="11" y="66"/>
                      <a:pt x="5" y="5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1ffff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68360" y="4437000"/>
                <a:ext cx="1150560" cy="287280"/>
              </a:xfrm>
              <a:custGeom>
                <a:avLst/>
                <a:gdLst/>
                <a:ahLst/>
                <a:rect l="l" t="t" r="r" b="b"/>
                <a:pathLst>
                  <a:path w="720" h="181">
                    <a:moveTo>
                      <a:pt x="8" y="87"/>
                    </a:moveTo>
                    <a:cubicBezTo>
                      <a:pt x="0" y="99"/>
                      <a:pt x="15" y="107"/>
                      <a:pt x="33" y="117"/>
                    </a:cubicBezTo>
                    <a:cubicBezTo>
                      <a:pt x="50" y="127"/>
                      <a:pt x="70" y="137"/>
                      <a:pt x="113" y="147"/>
                    </a:cubicBezTo>
                    <a:cubicBezTo>
                      <a:pt x="156" y="157"/>
                      <a:pt x="224" y="173"/>
                      <a:pt x="290" y="177"/>
                    </a:cubicBezTo>
                    <a:cubicBezTo>
                      <a:pt x="356" y="181"/>
                      <a:pt x="459" y="175"/>
                      <a:pt x="510" y="171"/>
                    </a:cubicBezTo>
                    <a:cubicBezTo>
                      <a:pt x="561" y="167"/>
                      <a:pt x="570" y="162"/>
                      <a:pt x="594" y="155"/>
                    </a:cubicBezTo>
                    <a:cubicBezTo>
                      <a:pt x="618" y="148"/>
                      <a:pt x="638" y="141"/>
                      <a:pt x="656" y="131"/>
                    </a:cubicBezTo>
                    <a:cubicBezTo>
                      <a:pt x="674" y="121"/>
                      <a:pt x="693" y="108"/>
                      <a:pt x="702" y="97"/>
                    </a:cubicBezTo>
                    <a:cubicBezTo>
                      <a:pt x="711" y="86"/>
                      <a:pt x="720" y="79"/>
                      <a:pt x="708" y="67"/>
                    </a:cubicBezTo>
                    <a:cubicBezTo>
                      <a:pt x="696" y="55"/>
                      <a:pt x="671" y="35"/>
                      <a:pt x="632" y="24"/>
                    </a:cubicBezTo>
                    <a:cubicBezTo>
                      <a:pt x="593" y="13"/>
                      <a:pt x="530" y="6"/>
                      <a:pt x="473" y="3"/>
                    </a:cubicBezTo>
                    <a:cubicBezTo>
                      <a:pt x="416" y="0"/>
                      <a:pt x="336" y="1"/>
                      <a:pt x="287" y="3"/>
                    </a:cubicBezTo>
                    <a:cubicBezTo>
                      <a:pt x="238" y="5"/>
                      <a:pt x="215" y="9"/>
                      <a:pt x="180" y="15"/>
                    </a:cubicBezTo>
                    <a:cubicBezTo>
                      <a:pt x="146" y="21"/>
                      <a:pt x="108" y="30"/>
                      <a:pt x="79" y="42"/>
                    </a:cubicBezTo>
                    <a:cubicBezTo>
                      <a:pt x="51" y="54"/>
                      <a:pt x="16" y="75"/>
                      <a:pt x="8" y="87"/>
                    </a:cubicBezTo>
                    <a:close/>
                  </a:path>
                </a:pathLst>
              </a:custGeom>
              <a:solidFill>
                <a:srgbClr val="8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69800" y="4562280"/>
                <a:ext cx="1128240" cy="155880"/>
              </a:xfrm>
              <a:custGeom>
                <a:avLst/>
                <a:gdLst/>
                <a:ahLst/>
                <a:rect l="l" t="t" r="r" b="b"/>
                <a:pathLst>
                  <a:path w="706" h="98">
                    <a:moveTo>
                      <a:pt x="0" y="18"/>
                    </a:moveTo>
                    <a:cubicBezTo>
                      <a:pt x="6" y="22"/>
                      <a:pt x="17" y="35"/>
                      <a:pt x="36" y="44"/>
                    </a:cubicBezTo>
                    <a:cubicBezTo>
                      <a:pt x="55" y="53"/>
                      <a:pt x="83" y="64"/>
                      <a:pt x="115" y="72"/>
                    </a:cubicBezTo>
                    <a:cubicBezTo>
                      <a:pt x="147" y="80"/>
                      <a:pt x="189" y="86"/>
                      <a:pt x="230" y="90"/>
                    </a:cubicBezTo>
                    <a:cubicBezTo>
                      <a:pt x="271" y="94"/>
                      <a:pt x="318" y="98"/>
                      <a:pt x="364" y="98"/>
                    </a:cubicBezTo>
                    <a:cubicBezTo>
                      <a:pt x="410" y="98"/>
                      <a:pt x="467" y="96"/>
                      <a:pt x="508" y="90"/>
                    </a:cubicBezTo>
                    <a:cubicBezTo>
                      <a:pt x="549" y="84"/>
                      <a:pt x="582" y="73"/>
                      <a:pt x="610" y="64"/>
                    </a:cubicBezTo>
                    <a:cubicBezTo>
                      <a:pt x="638" y="55"/>
                      <a:pt x="660" y="45"/>
                      <a:pt x="676" y="34"/>
                    </a:cubicBezTo>
                    <a:cubicBezTo>
                      <a:pt x="692" y="23"/>
                      <a:pt x="700" y="7"/>
                      <a:pt x="706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69800" y="4438440"/>
                <a:ext cx="1128240" cy="142920"/>
              </a:xfrm>
              <a:custGeom>
                <a:avLst/>
                <a:gdLst/>
                <a:ahLst/>
                <a:rect l="l" t="t" r="r" b="b"/>
                <a:pathLst>
                  <a:path w="706" h="90">
                    <a:moveTo>
                      <a:pt x="706" y="70"/>
                    </a:moveTo>
                    <a:cubicBezTo>
                      <a:pt x="699" y="65"/>
                      <a:pt x="685" y="49"/>
                      <a:pt x="664" y="40"/>
                    </a:cubicBezTo>
                    <a:cubicBezTo>
                      <a:pt x="643" y="31"/>
                      <a:pt x="611" y="22"/>
                      <a:pt x="580" y="16"/>
                    </a:cubicBezTo>
                    <a:cubicBezTo>
                      <a:pt x="549" y="10"/>
                      <a:pt x="514" y="4"/>
                      <a:pt x="478" y="2"/>
                    </a:cubicBezTo>
                    <a:cubicBezTo>
                      <a:pt x="442" y="0"/>
                      <a:pt x="399" y="1"/>
                      <a:pt x="361" y="1"/>
                    </a:cubicBezTo>
                    <a:cubicBezTo>
                      <a:pt x="323" y="1"/>
                      <a:pt x="286" y="1"/>
                      <a:pt x="252" y="4"/>
                    </a:cubicBezTo>
                    <a:cubicBezTo>
                      <a:pt x="218" y="7"/>
                      <a:pt x="183" y="14"/>
                      <a:pt x="154" y="20"/>
                    </a:cubicBezTo>
                    <a:cubicBezTo>
                      <a:pt x="125" y="26"/>
                      <a:pt x="97" y="34"/>
                      <a:pt x="76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68360" y="4078080"/>
                <a:ext cx="1131480" cy="287640"/>
              </a:xfrm>
              <a:custGeom>
                <a:avLst/>
                <a:gdLst/>
                <a:ahLst/>
                <a:rect l="l" t="t" r="r" b="b"/>
                <a:pathLst>
                  <a:path w="708" h="181">
                    <a:moveTo>
                      <a:pt x="8" y="87"/>
                    </a:moveTo>
                    <a:cubicBezTo>
                      <a:pt x="0" y="99"/>
                      <a:pt x="15" y="107"/>
                      <a:pt x="33" y="117"/>
                    </a:cubicBezTo>
                    <a:cubicBezTo>
                      <a:pt x="50" y="127"/>
                      <a:pt x="71" y="137"/>
                      <a:pt x="114" y="147"/>
                    </a:cubicBezTo>
                    <a:cubicBezTo>
                      <a:pt x="157" y="157"/>
                      <a:pt x="226" y="173"/>
                      <a:pt x="292" y="177"/>
                    </a:cubicBezTo>
                    <a:cubicBezTo>
                      <a:pt x="359" y="181"/>
                      <a:pt x="463" y="175"/>
                      <a:pt x="514" y="171"/>
                    </a:cubicBezTo>
                    <a:cubicBezTo>
                      <a:pt x="566" y="167"/>
                      <a:pt x="575" y="162"/>
                      <a:pt x="599" y="155"/>
                    </a:cubicBezTo>
                    <a:cubicBezTo>
                      <a:pt x="623" y="148"/>
                      <a:pt x="644" y="142"/>
                      <a:pt x="661" y="131"/>
                    </a:cubicBezTo>
                    <a:cubicBezTo>
                      <a:pt x="678" y="120"/>
                      <a:pt x="695" y="99"/>
                      <a:pt x="701" y="89"/>
                    </a:cubicBezTo>
                    <a:cubicBezTo>
                      <a:pt x="707" y="79"/>
                      <a:pt x="708" y="80"/>
                      <a:pt x="697" y="69"/>
                    </a:cubicBezTo>
                    <a:cubicBezTo>
                      <a:pt x="686" y="58"/>
                      <a:pt x="674" y="35"/>
                      <a:pt x="637" y="24"/>
                    </a:cubicBezTo>
                    <a:cubicBezTo>
                      <a:pt x="600" y="13"/>
                      <a:pt x="534" y="6"/>
                      <a:pt x="477" y="3"/>
                    </a:cubicBezTo>
                    <a:cubicBezTo>
                      <a:pt x="419" y="0"/>
                      <a:pt x="339" y="1"/>
                      <a:pt x="289" y="3"/>
                    </a:cubicBezTo>
                    <a:cubicBezTo>
                      <a:pt x="240" y="5"/>
                      <a:pt x="217" y="9"/>
                      <a:pt x="182" y="15"/>
                    </a:cubicBezTo>
                    <a:cubicBezTo>
                      <a:pt x="147" y="21"/>
                      <a:pt x="109" y="30"/>
                      <a:pt x="80" y="42"/>
                    </a:cubicBezTo>
                    <a:cubicBezTo>
                      <a:pt x="51" y="54"/>
                      <a:pt x="16" y="75"/>
                      <a:pt x="8" y="8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1ffff"/>
                  </a:gs>
                  <a:gs pos="100000">
                    <a:srgbClr val="8b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69800" y="4200480"/>
                <a:ext cx="1115640" cy="158760"/>
              </a:xfrm>
              <a:custGeom>
                <a:avLst/>
                <a:gdLst/>
                <a:ahLst/>
                <a:rect l="l" t="t" r="r" b="b"/>
                <a:pathLst>
                  <a:path w="698" h="100">
                    <a:moveTo>
                      <a:pt x="0" y="20"/>
                    </a:moveTo>
                    <a:cubicBezTo>
                      <a:pt x="6" y="24"/>
                      <a:pt x="17" y="37"/>
                      <a:pt x="36" y="46"/>
                    </a:cubicBezTo>
                    <a:cubicBezTo>
                      <a:pt x="55" y="55"/>
                      <a:pt x="84" y="66"/>
                      <a:pt x="116" y="74"/>
                    </a:cubicBezTo>
                    <a:cubicBezTo>
                      <a:pt x="148" y="82"/>
                      <a:pt x="191" y="88"/>
                      <a:pt x="232" y="92"/>
                    </a:cubicBezTo>
                    <a:cubicBezTo>
                      <a:pt x="273" y="96"/>
                      <a:pt x="321" y="100"/>
                      <a:pt x="367" y="100"/>
                    </a:cubicBezTo>
                    <a:cubicBezTo>
                      <a:pt x="413" y="100"/>
                      <a:pt x="471" y="98"/>
                      <a:pt x="512" y="92"/>
                    </a:cubicBezTo>
                    <a:cubicBezTo>
                      <a:pt x="554" y="86"/>
                      <a:pt x="587" y="75"/>
                      <a:pt x="615" y="66"/>
                    </a:cubicBezTo>
                    <a:cubicBezTo>
                      <a:pt x="643" y="57"/>
                      <a:pt x="668" y="47"/>
                      <a:pt x="682" y="36"/>
                    </a:cubicBezTo>
                    <a:cubicBezTo>
                      <a:pt x="696" y="25"/>
                      <a:pt x="695" y="7"/>
                      <a:pt x="698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69800" y="4079880"/>
                <a:ext cx="1112400" cy="142920"/>
              </a:xfrm>
              <a:custGeom>
                <a:avLst/>
                <a:gdLst/>
                <a:ahLst/>
                <a:rect l="l" t="t" r="r" b="b"/>
                <a:pathLst>
                  <a:path w="696" h="90">
                    <a:moveTo>
                      <a:pt x="696" y="68"/>
                    </a:moveTo>
                    <a:cubicBezTo>
                      <a:pt x="691" y="63"/>
                      <a:pt x="688" y="49"/>
                      <a:pt x="670" y="40"/>
                    </a:cubicBezTo>
                    <a:cubicBezTo>
                      <a:pt x="652" y="31"/>
                      <a:pt x="616" y="22"/>
                      <a:pt x="585" y="16"/>
                    </a:cubicBezTo>
                    <a:cubicBezTo>
                      <a:pt x="554" y="10"/>
                      <a:pt x="518" y="4"/>
                      <a:pt x="482" y="2"/>
                    </a:cubicBezTo>
                    <a:cubicBezTo>
                      <a:pt x="446" y="0"/>
                      <a:pt x="402" y="1"/>
                      <a:pt x="364" y="1"/>
                    </a:cubicBezTo>
                    <a:cubicBezTo>
                      <a:pt x="326" y="1"/>
                      <a:pt x="288" y="1"/>
                      <a:pt x="254" y="4"/>
                    </a:cubicBezTo>
                    <a:cubicBezTo>
                      <a:pt x="220" y="7"/>
                      <a:pt x="185" y="14"/>
                      <a:pt x="155" y="20"/>
                    </a:cubicBezTo>
                    <a:cubicBezTo>
                      <a:pt x="126" y="26"/>
                      <a:pt x="98" y="34"/>
                      <a:pt x="77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2050920" y="3429000"/>
              <a:ext cx="1225440" cy="1861920"/>
              <a:chOff x="2050920" y="3429000"/>
              <a:chExt cx="1225440" cy="1861920"/>
            </a:xfrm>
          </p:grpSpPr>
          <p:sp>
            <p:nvSpPr>
              <p:cNvPr id="189" name=""/>
              <p:cNvSpPr/>
              <p:nvPr/>
            </p:nvSpPr>
            <p:spPr>
              <a:xfrm>
                <a:off x="2050920" y="3429000"/>
                <a:ext cx="1225440" cy="1861920"/>
              </a:xfrm>
              <a:custGeom>
                <a:avLst/>
                <a:gdLst/>
                <a:ahLst/>
                <a:rect l="l" t="t" r="r" b="b"/>
                <a:pathLst>
                  <a:path w="720" h="1037">
                    <a:moveTo>
                      <a:pt x="90" y="235"/>
                    </a:moveTo>
                    <a:cubicBezTo>
                      <a:pt x="79" y="237"/>
                      <a:pt x="73" y="237"/>
                      <a:pt x="62" y="244"/>
                    </a:cubicBezTo>
                    <a:cubicBezTo>
                      <a:pt x="51" y="250"/>
                      <a:pt x="33" y="258"/>
                      <a:pt x="24" y="273"/>
                    </a:cubicBezTo>
                    <a:cubicBezTo>
                      <a:pt x="14" y="288"/>
                      <a:pt x="9" y="289"/>
                      <a:pt x="5" y="335"/>
                    </a:cubicBezTo>
                    <a:cubicBezTo>
                      <a:pt x="1" y="382"/>
                      <a:pt x="2" y="485"/>
                      <a:pt x="1" y="552"/>
                    </a:cubicBezTo>
                    <a:cubicBezTo>
                      <a:pt x="1" y="618"/>
                      <a:pt x="0" y="671"/>
                      <a:pt x="1" y="735"/>
                    </a:cubicBezTo>
                    <a:cubicBezTo>
                      <a:pt x="3" y="798"/>
                      <a:pt x="0" y="890"/>
                      <a:pt x="9" y="933"/>
                    </a:cubicBezTo>
                    <a:cubicBezTo>
                      <a:pt x="18" y="976"/>
                      <a:pt x="22" y="976"/>
                      <a:pt x="54" y="992"/>
                    </a:cubicBezTo>
                    <a:cubicBezTo>
                      <a:pt x="86" y="1008"/>
                      <a:pt x="146" y="1021"/>
                      <a:pt x="204" y="1028"/>
                    </a:cubicBezTo>
                    <a:cubicBezTo>
                      <a:pt x="262" y="1035"/>
                      <a:pt x="340" y="1037"/>
                      <a:pt x="405" y="1034"/>
                    </a:cubicBezTo>
                    <a:cubicBezTo>
                      <a:pt x="470" y="1031"/>
                      <a:pt x="549" y="1022"/>
                      <a:pt x="594" y="1013"/>
                    </a:cubicBezTo>
                    <a:cubicBezTo>
                      <a:pt x="639" y="1004"/>
                      <a:pt x="658" y="993"/>
                      <a:pt x="678" y="977"/>
                    </a:cubicBezTo>
                    <a:cubicBezTo>
                      <a:pt x="698" y="961"/>
                      <a:pt x="708" y="957"/>
                      <a:pt x="714" y="918"/>
                    </a:cubicBezTo>
                    <a:cubicBezTo>
                      <a:pt x="720" y="879"/>
                      <a:pt x="716" y="828"/>
                      <a:pt x="714" y="746"/>
                    </a:cubicBezTo>
                    <a:cubicBezTo>
                      <a:pt x="712" y="663"/>
                      <a:pt x="706" y="498"/>
                      <a:pt x="703" y="423"/>
                    </a:cubicBezTo>
                    <a:cubicBezTo>
                      <a:pt x="699" y="348"/>
                      <a:pt x="697" y="322"/>
                      <a:pt x="691" y="295"/>
                    </a:cubicBezTo>
                    <a:cubicBezTo>
                      <a:pt x="686" y="268"/>
                      <a:pt x="676" y="271"/>
                      <a:pt x="669" y="262"/>
                    </a:cubicBezTo>
                    <a:cubicBezTo>
                      <a:pt x="661" y="253"/>
                      <a:pt x="660" y="249"/>
                      <a:pt x="646" y="244"/>
                    </a:cubicBezTo>
                    <a:cubicBezTo>
                      <a:pt x="633" y="238"/>
                      <a:pt x="602" y="233"/>
                      <a:pt x="587" y="229"/>
                    </a:cubicBezTo>
                    <a:cubicBezTo>
                      <a:pt x="573" y="225"/>
                      <a:pt x="567" y="225"/>
                      <a:pt x="557" y="222"/>
                    </a:cubicBezTo>
                    <a:cubicBezTo>
                      <a:pt x="548" y="218"/>
                      <a:pt x="538" y="213"/>
                      <a:pt x="531" y="207"/>
                    </a:cubicBezTo>
                    <a:cubicBezTo>
                      <a:pt x="524" y="201"/>
                      <a:pt x="517" y="195"/>
                      <a:pt x="514" y="187"/>
                    </a:cubicBezTo>
                    <a:cubicBezTo>
                      <a:pt x="511" y="178"/>
                      <a:pt x="508" y="167"/>
                      <a:pt x="512" y="156"/>
                    </a:cubicBezTo>
                    <a:cubicBezTo>
                      <a:pt x="516" y="145"/>
                      <a:pt x="529" y="129"/>
                      <a:pt x="538" y="118"/>
                    </a:cubicBezTo>
                    <a:cubicBezTo>
                      <a:pt x="547" y="107"/>
                      <a:pt x="561" y="102"/>
                      <a:pt x="569" y="92"/>
                    </a:cubicBezTo>
                    <a:cubicBezTo>
                      <a:pt x="577" y="82"/>
                      <a:pt x="586" y="68"/>
                      <a:pt x="586" y="58"/>
                    </a:cubicBezTo>
                    <a:cubicBezTo>
                      <a:pt x="586" y="48"/>
                      <a:pt x="592" y="38"/>
                      <a:pt x="572" y="30"/>
                    </a:cubicBezTo>
                    <a:cubicBezTo>
                      <a:pt x="552" y="22"/>
                      <a:pt x="506" y="15"/>
                      <a:pt x="467" y="10"/>
                    </a:cubicBezTo>
                    <a:cubicBezTo>
                      <a:pt x="428" y="5"/>
                      <a:pt x="383" y="0"/>
                      <a:pt x="337" y="0"/>
                    </a:cubicBezTo>
                    <a:cubicBezTo>
                      <a:pt x="291" y="0"/>
                      <a:pt x="226" y="5"/>
                      <a:pt x="189" y="12"/>
                    </a:cubicBezTo>
                    <a:cubicBezTo>
                      <a:pt x="152" y="19"/>
                      <a:pt x="127" y="29"/>
                      <a:pt x="117" y="42"/>
                    </a:cubicBezTo>
                    <a:cubicBezTo>
                      <a:pt x="107" y="55"/>
                      <a:pt x="122" y="80"/>
                      <a:pt x="128" y="93"/>
                    </a:cubicBezTo>
                    <a:cubicBezTo>
                      <a:pt x="133" y="107"/>
                      <a:pt x="143" y="114"/>
                      <a:pt x="150" y="123"/>
                    </a:cubicBezTo>
                    <a:cubicBezTo>
                      <a:pt x="158" y="132"/>
                      <a:pt x="169" y="140"/>
                      <a:pt x="175" y="147"/>
                    </a:cubicBezTo>
                    <a:cubicBezTo>
                      <a:pt x="180" y="153"/>
                      <a:pt x="183" y="154"/>
                      <a:pt x="184" y="161"/>
                    </a:cubicBezTo>
                    <a:cubicBezTo>
                      <a:pt x="185" y="168"/>
                      <a:pt x="186" y="179"/>
                      <a:pt x="182" y="187"/>
                    </a:cubicBezTo>
                    <a:cubicBezTo>
                      <a:pt x="179" y="195"/>
                      <a:pt x="173" y="202"/>
                      <a:pt x="163" y="209"/>
                    </a:cubicBezTo>
                    <a:cubicBezTo>
                      <a:pt x="154" y="216"/>
                      <a:pt x="140" y="223"/>
                      <a:pt x="128" y="227"/>
                    </a:cubicBezTo>
                    <a:cubicBezTo>
                      <a:pt x="116" y="231"/>
                      <a:pt x="101" y="232"/>
                      <a:pt x="90" y="23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1ffff"/>
                  </a:gs>
                  <a:gs pos="100000">
                    <a:srgbClr val="00f4ee"/>
                  </a:gs>
                </a:gsLst>
                <a:lin ang="5400000"/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064240" y="4998600"/>
                <a:ext cx="1200240" cy="141480"/>
              </a:xfrm>
              <a:custGeom>
                <a:avLst/>
                <a:gdLst/>
                <a:ahLst/>
                <a:rect l="l" t="t" r="r" b="b"/>
                <a:pathLst>
                  <a:path w="705" h="79">
                    <a:moveTo>
                      <a:pt x="705" y="61"/>
                    </a:moveTo>
                    <a:cubicBezTo>
                      <a:pt x="688" y="54"/>
                      <a:pt x="661" y="29"/>
                      <a:pt x="603" y="19"/>
                    </a:cubicBezTo>
                    <a:cubicBezTo>
                      <a:pt x="545" y="9"/>
                      <a:pt x="434" y="0"/>
                      <a:pt x="354" y="1"/>
                    </a:cubicBezTo>
                    <a:cubicBezTo>
                      <a:pt x="274" y="2"/>
                      <a:pt x="179" y="12"/>
                      <a:pt x="120" y="25"/>
                    </a:cubicBezTo>
                    <a:cubicBezTo>
                      <a:pt x="61" y="38"/>
                      <a:pt x="25" y="68"/>
                      <a:pt x="0" y="79"/>
                    </a:cubicBezTo>
                  </a:path>
                </a:pathLst>
              </a:custGeom>
              <a:noFill/>
              <a:ln w="19080">
                <a:solidFill>
                  <a:srgbClr val="0000d2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241360" y="3429000"/>
                <a:ext cx="808200" cy="184680"/>
              </a:xfrm>
              <a:custGeom>
                <a:avLst/>
                <a:gdLst/>
                <a:ahLst/>
                <a:rect l="l" t="t" r="r" b="b"/>
                <a:pathLst>
                  <a:path w="475" h="103">
                    <a:moveTo>
                      <a:pt x="5" y="57"/>
                    </a:moveTo>
                    <a:cubicBezTo>
                      <a:pt x="0" y="49"/>
                      <a:pt x="8" y="37"/>
                      <a:pt x="25" y="29"/>
                    </a:cubicBezTo>
                    <a:cubicBezTo>
                      <a:pt x="42" y="21"/>
                      <a:pt x="76" y="16"/>
                      <a:pt x="107" y="11"/>
                    </a:cubicBezTo>
                    <a:cubicBezTo>
                      <a:pt x="138" y="6"/>
                      <a:pt x="180" y="2"/>
                      <a:pt x="213" y="1"/>
                    </a:cubicBezTo>
                    <a:cubicBezTo>
                      <a:pt x="246" y="0"/>
                      <a:pt x="279" y="1"/>
                      <a:pt x="307" y="3"/>
                    </a:cubicBezTo>
                    <a:cubicBezTo>
                      <a:pt x="335" y="5"/>
                      <a:pt x="357" y="9"/>
                      <a:pt x="379" y="13"/>
                    </a:cubicBezTo>
                    <a:cubicBezTo>
                      <a:pt x="401" y="17"/>
                      <a:pt x="422" y="19"/>
                      <a:pt x="437" y="25"/>
                    </a:cubicBezTo>
                    <a:cubicBezTo>
                      <a:pt x="452" y="31"/>
                      <a:pt x="471" y="42"/>
                      <a:pt x="473" y="49"/>
                    </a:cubicBezTo>
                    <a:cubicBezTo>
                      <a:pt x="475" y="56"/>
                      <a:pt x="464" y="60"/>
                      <a:pt x="449" y="67"/>
                    </a:cubicBezTo>
                    <a:cubicBezTo>
                      <a:pt x="434" y="74"/>
                      <a:pt x="410" y="83"/>
                      <a:pt x="381" y="89"/>
                    </a:cubicBezTo>
                    <a:cubicBezTo>
                      <a:pt x="352" y="95"/>
                      <a:pt x="316" y="99"/>
                      <a:pt x="277" y="101"/>
                    </a:cubicBezTo>
                    <a:cubicBezTo>
                      <a:pt x="238" y="103"/>
                      <a:pt x="186" y="102"/>
                      <a:pt x="149" y="99"/>
                    </a:cubicBezTo>
                    <a:cubicBezTo>
                      <a:pt x="112" y="96"/>
                      <a:pt x="79" y="87"/>
                      <a:pt x="55" y="80"/>
                    </a:cubicBezTo>
                    <a:cubicBezTo>
                      <a:pt x="31" y="73"/>
                      <a:pt x="11" y="66"/>
                      <a:pt x="5" y="5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1ffff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050920" y="4325040"/>
                <a:ext cx="1225440" cy="324720"/>
              </a:xfrm>
              <a:custGeom>
                <a:avLst/>
                <a:gdLst/>
                <a:ahLst/>
                <a:rect l="l" t="t" r="r" b="b"/>
                <a:pathLst>
                  <a:path w="720" h="181">
                    <a:moveTo>
                      <a:pt x="8" y="87"/>
                    </a:moveTo>
                    <a:cubicBezTo>
                      <a:pt x="0" y="99"/>
                      <a:pt x="15" y="107"/>
                      <a:pt x="33" y="117"/>
                    </a:cubicBezTo>
                    <a:cubicBezTo>
                      <a:pt x="50" y="127"/>
                      <a:pt x="70" y="137"/>
                      <a:pt x="113" y="147"/>
                    </a:cubicBezTo>
                    <a:cubicBezTo>
                      <a:pt x="156" y="157"/>
                      <a:pt x="224" y="173"/>
                      <a:pt x="290" y="177"/>
                    </a:cubicBezTo>
                    <a:cubicBezTo>
                      <a:pt x="356" y="181"/>
                      <a:pt x="459" y="175"/>
                      <a:pt x="510" y="171"/>
                    </a:cubicBezTo>
                    <a:cubicBezTo>
                      <a:pt x="561" y="167"/>
                      <a:pt x="570" y="162"/>
                      <a:pt x="594" y="155"/>
                    </a:cubicBezTo>
                    <a:cubicBezTo>
                      <a:pt x="618" y="148"/>
                      <a:pt x="638" y="141"/>
                      <a:pt x="656" y="131"/>
                    </a:cubicBezTo>
                    <a:cubicBezTo>
                      <a:pt x="674" y="121"/>
                      <a:pt x="693" y="108"/>
                      <a:pt x="702" y="97"/>
                    </a:cubicBezTo>
                    <a:cubicBezTo>
                      <a:pt x="711" y="86"/>
                      <a:pt x="720" y="79"/>
                      <a:pt x="708" y="67"/>
                    </a:cubicBezTo>
                    <a:cubicBezTo>
                      <a:pt x="696" y="55"/>
                      <a:pt x="671" y="35"/>
                      <a:pt x="632" y="24"/>
                    </a:cubicBezTo>
                    <a:cubicBezTo>
                      <a:pt x="593" y="13"/>
                      <a:pt x="530" y="6"/>
                      <a:pt x="473" y="3"/>
                    </a:cubicBezTo>
                    <a:cubicBezTo>
                      <a:pt x="416" y="0"/>
                      <a:pt x="336" y="1"/>
                      <a:pt x="287" y="3"/>
                    </a:cubicBezTo>
                    <a:cubicBezTo>
                      <a:pt x="238" y="5"/>
                      <a:pt x="215" y="9"/>
                      <a:pt x="180" y="15"/>
                    </a:cubicBezTo>
                    <a:cubicBezTo>
                      <a:pt x="146" y="21"/>
                      <a:pt x="108" y="30"/>
                      <a:pt x="79" y="42"/>
                    </a:cubicBezTo>
                    <a:cubicBezTo>
                      <a:pt x="51" y="54"/>
                      <a:pt x="16" y="75"/>
                      <a:pt x="8" y="87"/>
                    </a:cubicBezTo>
                    <a:close/>
                  </a:path>
                </a:pathLst>
              </a:custGeom>
              <a:solidFill>
                <a:srgbClr val="8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052360" y="4466520"/>
                <a:ext cx="1201680" cy="176040"/>
              </a:xfrm>
              <a:custGeom>
                <a:avLst/>
                <a:gdLst/>
                <a:ahLst/>
                <a:rect l="l" t="t" r="r" b="b"/>
                <a:pathLst>
                  <a:path w="706" h="98">
                    <a:moveTo>
                      <a:pt x="0" y="18"/>
                    </a:moveTo>
                    <a:cubicBezTo>
                      <a:pt x="6" y="22"/>
                      <a:pt x="17" y="35"/>
                      <a:pt x="36" y="44"/>
                    </a:cubicBezTo>
                    <a:cubicBezTo>
                      <a:pt x="55" y="53"/>
                      <a:pt x="83" y="64"/>
                      <a:pt x="115" y="72"/>
                    </a:cubicBezTo>
                    <a:cubicBezTo>
                      <a:pt x="147" y="80"/>
                      <a:pt x="189" y="86"/>
                      <a:pt x="230" y="90"/>
                    </a:cubicBezTo>
                    <a:cubicBezTo>
                      <a:pt x="271" y="94"/>
                      <a:pt x="318" y="98"/>
                      <a:pt x="364" y="98"/>
                    </a:cubicBezTo>
                    <a:cubicBezTo>
                      <a:pt x="410" y="98"/>
                      <a:pt x="467" y="96"/>
                      <a:pt x="508" y="90"/>
                    </a:cubicBezTo>
                    <a:cubicBezTo>
                      <a:pt x="549" y="84"/>
                      <a:pt x="582" y="73"/>
                      <a:pt x="610" y="64"/>
                    </a:cubicBezTo>
                    <a:cubicBezTo>
                      <a:pt x="638" y="55"/>
                      <a:pt x="660" y="45"/>
                      <a:pt x="676" y="34"/>
                    </a:cubicBezTo>
                    <a:cubicBezTo>
                      <a:pt x="692" y="23"/>
                      <a:pt x="700" y="7"/>
                      <a:pt x="706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052360" y="4326480"/>
                <a:ext cx="1201680" cy="161640"/>
              </a:xfrm>
              <a:custGeom>
                <a:avLst/>
                <a:gdLst/>
                <a:ahLst/>
                <a:rect l="l" t="t" r="r" b="b"/>
                <a:pathLst>
                  <a:path w="706" h="90">
                    <a:moveTo>
                      <a:pt x="706" y="70"/>
                    </a:moveTo>
                    <a:cubicBezTo>
                      <a:pt x="699" y="65"/>
                      <a:pt x="685" y="49"/>
                      <a:pt x="664" y="40"/>
                    </a:cubicBezTo>
                    <a:cubicBezTo>
                      <a:pt x="643" y="31"/>
                      <a:pt x="611" y="22"/>
                      <a:pt x="580" y="16"/>
                    </a:cubicBezTo>
                    <a:cubicBezTo>
                      <a:pt x="549" y="10"/>
                      <a:pt x="514" y="4"/>
                      <a:pt x="478" y="2"/>
                    </a:cubicBezTo>
                    <a:cubicBezTo>
                      <a:pt x="442" y="0"/>
                      <a:pt x="399" y="1"/>
                      <a:pt x="361" y="1"/>
                    </a:cubicBezTo>
                    <a:cubicBezTo>
                      <a:pt x="323" y="1"/>
                      <a:pt x="286" y="1"/>
                      <a:pt x="252" y="4"/>
                    </a:cubicBezTo>
                    <a:cubicBezTo>
                      <a:pt x="218" y="7"/>
                      <a:pt x="183" y="14"/>
                      <a:pt x="154" y="20"/>
                    </a:cubicBezTo>
                    <a:cubicBezTo>
                      <a:pt x="125" y="26"/>
                      <a:pt x="97" y="34"/>
                      <a:pt x="76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050920" y="3918960"/>
                <a:ext cx="1205280" cy="325440"/>
              </a:xfrm>
              <a:custGeom>
                <a:avLst/>
                <a:gdLst/>
                <a:ahLst/>
                <a:rect l="l" t="t" r="r" b="b"/>
                <a:pathLst>
                  <a:path w="708" h="181">
                    <a:moveTo>
                      <a:pt x="8" y="87"/>
                    </a:moveTo>
                    <a:cubicBezTo>
                      <a:pt x="0" y="99"/>
                      <a:pt x="15" y="107"/>
                      <a:pt x="33" y="117"/>
                    </a:cubicBezTo>
                    <a:cubicBezTo>
                      <a:pt x="50" y="127"/>
                      <a:pt x="71" y="137"/>
                      <a:pt x="114" y="147"/>
                    </a:cubicBezTo>
                    <a:cubicBezTo>
                      <a:pt x="157" y="157"/>
                      <a:pt x="226" y="173"/>
                      <a:pt x="292" y="177"/>
                    </a:cubicBezTo>
                    <a:cubicBezTo>
                      <a:pt x="359" y="181"/>
                      <a:pt x="463" y="175"/>
                      <a:pt x="514" y="171"/>
                    </a:cubicBezTo>
                    <a:cubicBezTo>
                      <a:pt x="566" y="167"/>
                      <a:pt x="575" y="162"/>
                      <a:pt x="599" y="155"/>
                    </a:cubicBezTo>
                    <a:cubicBezTo>
                      <a:pt x="623" y="148"/>
                      <a:pt x="644" y="142"/>
                      <a:pt x="661" y="131"/>
                    </a:cubicBezTo>
                    <a:cubicBezTo>
                      <a:pt x="678" y="120"/>
                      <a:pt x="695" y="99"/>
                      <a:pt x="701" y="89"/>
                    </a:cubicBezTo>
                    <a:cubicBezTo>
                      <a:pt x="707" y="79"/>
                      <a:pt x="708" y="80"/>
                      <a:pt x="697" y="69"/>
                    </a:cubicBezTo>
                    <a:cubicBezTo>
                      <a:pt x="686" y="58"/>
                      <a:pt x="674" y="35"/>
                      <a:pt x="637" y="24"/>
                    </a:cubicBezTo>
                    <a:cubicBezTo>
                      <a:pt x="600" y="13"/>
                      <a:pt x="534" y="6"/>
                      <a:pt x="477" y="3"/>
                    </a:cubicBezTo>
                    <a:cubicBezTo>
                      <a:pt x="419" y="0"/>
                      <a:pt x="339" y="1"/>
                      <a:pt x="289" y="3"/>
                    </a:cubicBezTo>
                    <a:cubicBezTo>
                      <a:pt x="240" y="5"/>
                      <a:pt x="217" y="9"/>
                      <a:pt x="182" y="15"/>
                    </a:cubicBezTo>
                    <a:cubicBezTo>
                      <a:pt x="147" y="21"/>
                      <a:pt x="109" y="30"/>
                      <a:pt x="80" y="42"/>
                    </a:cubicBezTo>
                    <a:cubicBezTo>
                      <a:pt x="51" y="54"/>
                      <a:pt x="16" y="75"/>
                      <a:pt x="8" y="8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1ffff"/>
                  </a:gs>
                  <a:gs pos="100000">
                    <a:srgbClr val="8b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052360" y="4057200"/>
                <a:ext cx="1188000" cy="179280"/>
              </a:xfrm>
              <a:custGeom>
                <a:avLst/>
                <a:gdLst/>
                <a:ahLst/>
                <a:rect l="l" t="t" r="r" b="b"/>
                <a:pathLst>
                  <a:path w="698" h="100">
                    <a:moveTo>
                      <a:pt x="0" y="20"/>
                    </a:moveTo>
                    <a:cubicBezTo>
                      <a:pt x="6" y="24"/>
                      <a:pt x="17" y="37"/>
                      <a:pt x="36" y="46"/>
                    </a:cubicBezTo>
                    <a:cubicBezTo>
                      <a:pt x="55" y="55"/>
                      <a:pt x="84" y="66"/>
                      <a:pt x="116" y="74"/>
                    </a:cubicBezTo>
                    <a:cubicBezTo>
                      <a:pt x="148" y="82"/>
                      <a:pt x="191" y="88"/>
                      <a:pt x="232" y="92"/>
                    </a:cubicBezTo>
                    <a:cubicBezTo>
                      <a:pt x="273" y="96"/>
                      <a:pt x="321" y="100"/>
                      <a:pt x="367" y="100"/>
                    </a:cubicBezTo>
                    <a:cubicBezTo>
                      <a:pt x="413" y="100"/>
                      <a:pt x="471" y="98"/>
                      <a:pt x="512" y="92"/>
                    </a:cubicBezTo>
                    <a:cubicBezTo>
                      <a:pt x="554" y="86"/>
                      <a:pt x="587" y="75"/>
                      <a:pt x="615" y="66"/>
                    </a:cubicBezTo>
                    <a:cubicBezTo>
                      <a:pt x="643" y="57"/>
                      <a:pt x="668" y="47"/>
                      <a:pt x="682" y="36"/>
                    </a:cubicBezTo>
                    <a:cubicBezTo>
                      <a:pt x="696" y="25"/>
                      <a:pt x="695" y="7"/>
                      <a:pt x="698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052360" y="3920760"/>
                <a:ext cx="1184760" cy="161640"/>
              </a:xfrm>
              <a:custGeom>
                <a:avLst/>
                <a:gdLst/>
                <a:ahLst/>
                <a:rect l="l" t="t" r="r" b="b"/>
                <a:pathLst>
                  <a:path w="696" h="90">
                    <a:moveTo>
                      <a:pt x="696" y="68"/>
                    </a:moveTo>
                    <a:cubicBezTo>
                      <a:pt x="691" y="63"/>
                      <a:pt x="688" y="49"/>
                      <a:pt x="670" y="40"/>
                    </a:cubicBezTo>
                    <a:cubicBezTo>
                      <a:pt x="652" y="31"/>
                      <a:pt x="616" y="22"/>
                      <a:pt x="585" y="16"/>
                    </a:cubicBezTo>
                    <a:cubicBezTo>
                      <a:pt x="554" y="10"/>
                      <a:pt x="518" y="4"/>
                      <a:pt x="482" y="2"/>
                    </a:cubicBezTo>
                    <a:cubicBezTo>
                      <a:pt x="446" y="0"/>
                      <a:pt x="402" y="1"/>
                      <a:pt x="364" y="1"/>
                    </a:cubicBezTo>
                    <a:cubicBezTo>
                      <a:pt x="326" y="1"/>
                      <a:pt x="288" y="1"/>
                      <a:pt x="254" y="4"/>
                    </a:cubicBezTo>
                    <a:cubicBezTo>
                      <a:pt x="220" y="7"/>
                      <a:pt x="185" y="14"/>
                      <a:pt x="155" y="20"/>
                    </a:cubicBezTo>
                    <a:cubicBezTo>
                      <a:pt x="126" y="26"/>
                      <a:pt x="98" y="34"/>
                      <a:pt x="77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1620720" y="414972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05080" y="414972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3635280" y="3068640"/>
              <a:ext cx="1584000" cy="2293560"/>
              <a:chOff x="3635280" y="3068640"/>
              <a:chExt cx="1584000" cy="2293560"/>
            </a:xfrm>
          </p:grpSpPr>
          <p:sp>
            <p:nvSpPr>
              <p:cNvPr id="201" name=""/>
              <p:cNvSpPr/>
              <p:nvPr/>
            </p:nvSpPr>
            <p:spPr>
              <a:xfrm>
                <a:off x="3635280" y="3068640"/>
                <a:ext cx="1584000" cy="2293560"/>
              </a:xfrm>
              <a:custGeom>
                <a:avLst/>
                <a:gdLst/>
                <a:ahLst/>
                <a:rect l="l" t="t" r="r" b="b"/>
                <a:pathLst>
                  <a:path w="720" h="1037">
                    <a:moveTo>
                      <a:pt x="90" y="235"/>
                    </a:moveTo>
                    <a:cubicBezTo>
                      <a:pt x="79" y="237"/>
                      <a:pt x="73" y="237"/>
                      <a:pt x="62" y="244"/>
                    </a:cubicBezTo>
                    <a:cubicBezTo>
                      <a:pt x="51" y="250"/>
                      <a:pt x="33" y="258"/>
                      <a:pt x="24" y="273"/>
                    </a:cubicBezTo>
                    <a:cubicBezTo>
                      <a:pt x="14" y="288"/>
                      <a:pt x="9" y="289"/>
                      <a:pt x="5" y="335"/>
                    </a:cubicBezTo>
                    <a:cubicBezTo>
                      <a:pt x="1" y="382"/>
                      <a:pt x="2" y="485"/>
                      <a:pt x="1" y="552"/>
                    </a:cubicBezTo>
                    <a:cubicBezTo>
                      <a:pt x="1" y="618"/>
                      <a:pt x="0" y="671"/>
                      <a:pt x="1" y="735"/>
                    </a:cubicBezTo>
                    <a:cubicBezTo>
                      <a:pt x="3" y="798"/>
                      <a:pt x="0" y="890"/>
                      <a:pt x="9" y="933"/>
                    </a:cubicBezTo>
                    <a:cubicBezTo>
                      <a:pt x="18" y="976"/>
                      <a:pt x="22" y="976"/>
                      <a:pt x="54" y="992"/>
                    </a:cubicBezTo>
                    <a:cubicBezTo>
                      <a:pt x="86" y="1008"/>
                      <a:pt x="146" y="1021"/>
                      <a:pt x="204" y="1028"/>
                    </a:cubicBezTo>
                    <a:cubicBezTo>
                      <a:pt x="262" y="1035"/>
                      <a:pt x="340" y="1037"/>
                      <a:pt x="405" y="1034"/>
                    </a:cubicBezTo>
                    <a:cubicBezTo>
                      <a:pt x="470" y="1031"/>
                      <a:pt x="549" y="1022"/>
                      <a:pt x="594" y="1013"/>
                    </a:cubicBezTo>
                    <a:cubicBezTo>
                      <a:pt x="639" y="1004"/>
                      <a:pt x="658" y="993"/>
                      <a:pt x="678" y="977"/>
                    </a:cubicBezTo>
                    <a:cubicBezTo>
                      <a:pt x="698" y="961"/>
                      <a:pt x="708" y="957"/>
                      <a:pt x="714" y="918"/>
                    </a:cubicBezTo>
                    <a:cubicBezTo>
                      <a:pt x="720" y="879"/>
                      <a:pt x="716" y="828"/>
                      <a:pt x="714" y="746"/>
                    </a:cubicBezTo>
                    <a:cubicBezTo>
                      <a:pt x="712" y="663"/>
                      <a:pt x="706" y="498"/>
                      <a:pt x="703" y="423"/>
                    </a:cubicBezTo>
                    <a:cubicBezTo>
                      <a:pt x="699" y="348"/>
                      <a:pt x="697" y="322"/>
                      <a:pt x="691" y="295"/>
                    </a:cubicBezTo>
                    <a:cubicBezTo>
                      <a:pt x="686" y="268"/>
                      <a:pt x="676" y="271"/>
                      <a:pt x="669" y="262"/>
                    </a:cubicBezTo>
                    <a:cubicBezTo>
                      <a:pt x="661" y="253"/>
                      <a:pt x="660" y="249"/>
                      <a:pt x="646" y="244"/>
                    </a:cubicBezTo>
                    <a:cubicBezTo>
                      <a:pt x="633" y="238"/>
                      <a:pt x="602" y="233"/>
                      <a:pt x="587" y="229"/>
                    </a:cubicBezTo>
                    <a:cubicBezTo>
                      <a:pt x="573" y="225"/>
                      <a:pt x="567" y="225"/>
                      <a:pt x="557" y="222"/>
                    </a:cubicBezTo>
                    <a:cubicBezTo>
                      <a:pt x="548" y="218"/>
                      <a:pt x="538" y="213"/>
                      <a:pt x="531" y="207"/>
                    </a:cubicBezTo>
                    <a:cubicBezTo>
                      <a:pt x="524" y="201"/>
                      <a:pt x="517" y="195"/>
                      <a:pt x="514" y="187"/>
                    </a:cubicBezTo>
                    <a:cubicBezTo>
                      <a:pt x="511" y="178"/>
                      <a:pt x="508" y="167"/>
                      <a:pt x="512" y="156"/>
                    </a:cubicBezTo>
                    <a:cubicBezTo>
                      <a:pt x="516" y="145"/>
                      <a:pt x="529" y="129"/>
                      <a:pt x="538" y="118"/>
                    </a:cubicBezTo>
                    <a:cubicBezTo>
                      <a:pt x="547" y="107"/>
                      <a:pt x="561" y="102"/>
                      <a:pt x="569" y="92"/>
                    </a:cubicBezTo>
                    <a:cubicBezTo>
                      <a:pt x="577" y="82"/>
                      <a:pt x="586" y="68"/>
                      <a:pt x="586" y="58"/>
                    </a:cubicBezTo>
                    <a:cubicBezTo>
                      <a:pt x="586" y="48"/>
                      <a:pt x="592" y="38"/>
                      <a:pt x="572" y="30"/>
                    </a:cubicBezTo>
                    <a:cubicBezTo>
                      <a:pt x="552" y="22"/>
                      <a:pt x="506" y="15"/>
                      <a:pt x="467" y="10"/>
                    </a:cubicBezTo>
                    <a:cubicBezTo>
                      <a:pt x="428" y="5"/>
                      <a:pt x="383" y="0"/>
                      <a:pt x="337" y="0"/>
                    </a:cubicBezTo>
                    <a:cubicBezTo>
                      <a:pt x="291" y="0"/>
                      <a:pt x="226" y="5"/>
                      <a:pt x="189" y="12"/>
                    </a:cubicBezTo>
                    <a:cubicBezTo>
                      <a:pt x="152" y="19"/>
                      <a:pt x="127" y="29"/>
                      <a:pt x="117" y="42"/>
                    </a:cubicBezTo>
                    <a:cubicBezTo>
                      <a:pt x="107" y="55"/>
                      <a:pt x="122" y="80"/>
                      <a:pt x="128" y="93"/>
                    </a:cubicBezTo>
                    <a:cubicBezTo>
                      <a:pt x="133" y="107"/>
                      <a:pt x="143" y="114"/>
                      <a:pt x="150" y="123"/>
                    </a:cubicBezTo>
                    <a:cubicBezTo>
                      <a:pt x="158" y="132"/>
                      <a:pt x="169" y="140"/>
                      <a:pt x="175" y="147"/>
                    </a:cubicBezTo>
                    <a:cubicBezTo>
                      <a:pt x="180" y="153"/>
                      <a:pt x="183" y="154"/>
                      <a:pt x="184" y="161"/>
                    </a:cubicBezTo>
                    <a:cubicBezTo>
                      <a:pt x="185" y="168"/>
                      <a:pt x="186" y="179"/>
                      <a:pt x="182" y="187"/>
                    </a:cubicBezTo>
                    <a:cubicBezTo>
                      <a:pt x="179" y="195"/>
                      <a:pt x="173" y="202"/>
                      <a:pt x="163" y="209"/>
                    </a:cubicBezTo>
                    <a:cubicBezTo>
                      <a:pt x="154" y="216"/>
                      <a:pt x="140" y="223"/>
                      <a:pt x="128" y="227"/>
                    </a:cubicBezTo>
                    <a:cubicBezTo>
                      <a:pt x="116" y="231"/>
                      <a:pt x="101" y="232"/>
                      <a:pt x="90" y="23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1ffff"/>
                  </a:gs>
                  <a:gs pos="100000">
                    <a:srgbClr val="00f4ee"/>
                  </a:gs>
                </a:gsLst>
                <a:lin ang="5400000"/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652560" y="5001840"/>
                <a:ext cx="1551240" cy="174240"/>
              </a:xfrm>
              <a:custGeom>
                <a:avLst/>
                <a:gdLst/>
                <a:ahLst/>
                <a:rect l="l" t="t" r="r" b="b"/>
                <a:pathLst>
                  <a:path w="705" h="79">
                    <a:moveTo>
                      <a:pt x="705" y="61"/>
                    </a:moveTo>
                    <a:cubicBezTo>
                      <a:pt x="688" y="54"/>
                      <a:pt x="661" y="29"/>
                      <a:pt x="603" y="19"/>
                    </a:cubicBezTo>
                    <a:cubicBezTo>
                      <a:pt x="545" y="9"/>
                      <a:pt x="434" y="0"/>
                      <a:pt x="354" y="1"/>
                    </a:cubicBezTo>
                    <a:cubicBezTo>
                      <a:pt x="274" y="2"/>
                      <a:pt x="179" y="12"/>
                      <a:pt x="120" y="25"/>
                    </a:cubicBezTo>
                    <a:cubicBezTo>
                      <a:pt x="61" y="38"/>
                      <a:pt x="25" y="68"/>
                      <a:pt x="0" y="79"/>
                    </a:cubicBezTo>
                  </a:path>
                </a:pathLst>
              </a:custGeom>
              <a:noFill/>
              <a:ln w="19080">
                <a:solidFill>
                  <a:srgbClr val="0000d2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881520" y="3068640"/>
                <a:ext cx="1044720" cy="227520"/>
              </a:xfrm>
              <a:custGeom>
                <a:avLst/>
                <a:gdLst/>
                <a:ahLst/>
                <a:rect l="l" t="t" r="r" b="b"/>
                <a:pathLst>
                  <a:path w="475" h="103">
                    <a:moveTo>
                      <a:pt x="5" y="57"/>
                    </a:moveTo>
                    <a:cubicBezTo>
                      <a:pt x="0" y="49"/>
                      <a:pt x="8" y="37"/>
                      <a:pt x="25" y="29"/>
                    </a:cubicBezTo>
                    <a:cubicBezTo>
                      <a:pt x="42" y="21"/>
                      <a:pt x="76" y="16"/>
                      <a:pt x="107" y="11"/>
                    </a:cubicBezTo>
                    <a:cubicBezTo>
                      <a:pt x="138" y="6"/>
                      <a:pt x="180" y="2"/>
                      <a:pt x="213" y="1"/>
                    </a:cubicBezTo>
                    <a:cubicBezTo>
                      <a:pt x="246" y="0"/>
                      <a:pt x="279" y="1"/>
                      <a:pt x="307" y="3"/>
                    </a:cubicBezTo>
                    <a:cubicBezTo>
                      <a:pt x="335" y="5"/>
                      <a:pt x="357" y="9"/>
                      <a:pt x="379" y="13"/>
                    </a:cubicBezTo>
                    <a:cubicBezTo>
                      <a:pt x="401" y="17"/>
                      <a:pt x="422" y="19"/>
                      <a:pt x="437" y="25"/>
                    </a:cubicBezTo>
                    <a:cubicBezTo>
                      <a:pt x="452" y="31"/>
                      <a:pt x="471" y="42"/>
                      <a:pt x="473" y="49"/>
                    </a:cubicBezTo>
                    <a:cubicBezTo>
                      <a:pt x="475" y="56"/>
                      <a:pt x="464" y="60"/>
                      <a:pt x="449" y="67"/>
                    </a:cubicBezTo>
                    <a:cubicBezTo>
                      <a:pt x="434" y="74"/>
                      <a:pt x="410" y="83"/>
                      <a:pt x="381" y="89"/>
                    </a:cubicBezTo>
                    <a:cubicBezTo>
                      <a:pt x="352" y="95"/>
                      <a:pt x="316" y="99"/>
                      <a:pt x="277" y="101"/>
                    </a:cubicBezTo>
                    <a:cubicBezTo>
                      <a:pt x="238" y="103"/>
                      <a:pt x="186" y="102"/>
                      <a:pt x="149" y="99"/>
                    </a:cubicBezTo>
                    <a:cubicBezTo>
                      <a:pt x="112" y="96"/>
                      <a:pt x="79" y="87"/>
                      <a:pt x="55" y="80"/>
                    </a:cubicBezTo>
                    <a:cubicBezTo>
                      <a:pt x="31" y="73"/>
                      <a:pt x="11" y="66"/>
                      <a:pt x="5" y="5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1ffff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635280" y="4172040"/>
                <a:ext cx="1584000" cy="400320"/>
              </a:xfrm>
              <a:custGeom>
                <a:avLst/>
                <a:gdLst/>
                <a:ahLst/>
                <a:rect l="l" t="t" r="r" b="b"/>
                <a:pathLst>
                  <a:path w="720" h="181">
                    <a:moveTo>
                      <a:pt x="8" y="87"/>
                    </a:moveTo>
                    <a:cubicBezTo>
                      <a:pt x="0" y="99"/>
                      <a:pt x="15" y="107"/>
                      <a:pt x="33" y="117"/>
                    </a:cubicBezTo>
                    <a:cubicBezTo>
                      <a:pt x="50" y="127"/>
                      <a:pt x="70" y="137"/>
                      <a:pt x="113" y="147"/>
                    </a:cubicBezTo>
                    <a:cubicBezTo>
                      <a:pt x="156" y="157"/>
                      <a:pt x="224" y="173"/>
                      <a:pt x="290" y="177"/>
                    </a:cubicBezTo>
                    <a:cubicBezTo>
                      <a:pt x="356" y="181"/>
                      <a:pt x="459" y="175"/>
                      <a:pt x="510" y="171"/>
                    </a:cubicBezTo>
                    <a:cubicBezTo>
                      <a:pt x="561" y="167"/>
                      <a:pt x="570" y="162"/>
                      <a:pt x="594" y="155"/>
                    </a:cubicBezTo>
                    <a:cubicBezTo>
                      <a:pt x="618" y="148"/>
                      <a:pt x="638" y="141"/>
                      <a:pt x="656" y="131"/>
                    </a:cubicBezTo>
                    <a:cubicBezTo>
                      <a:pt x="674" y="121"/>
                      <a:pt x="693" y="108"/>
                      <a:pt x="702" y="97"/>
                    </a:cubicBezTo>
                    <a:cubicBezTo>
                      <a:pt x="711" y="86"/>
                      <a:pt x="720" y="79"/>
                      <a:pt x="708" y="67"/>
                    </a:cubicBezTo>
                    <a:cubicBezTo>
                      <a:pt x="696" y="55"/>
                      <a:pt x="671" y="35"/>
                      <a:pt x="632" y="24"/>
                    </a:cubicBezTo>
                    <a:cubicBezTo>
                      <a:pt x="593" y="13"/>
                      <a:pt x="530" y="6"/>
                      <a:pt x="473" y="3"/>
                    </a:cubicBezTo>
                    <a:cubicBezTo>
                      <a:pt x="416" y="0"/>
                      <a:pt x="336" y="1"/>
                      <a:pt x="287" y="3"/>
                    </a:cubicBezTo>
                    <a:cubicBezTo>
                      <a:pt x="238" y="5"/>
                      <a:pt x="215" y="9"/>
                      <a:pt x="180" y="15"/>
                    </a:cubicBezTo>
                    <a:cubicBezTo>
                      <a:pt x="146" y="21"/>
                      <a:pt x="108" y="30"/>
                      <a:pt x="79" y="42"/>
                    </a:cubicBezTo>
                    <a:cubicBezTo>
                      <a:pt x="51" y="54"/>
                      <a:pt x="16" y="75"/>
                      <a:pt x="8" y="87"/>
                    </a:cubicBezTo>
                    <a:close/>
                  </a:path>
                </a:pathLst>
              </a:custGeom>
              <a:solidFill>
                <a:srgbClr val="8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637080" y="4346640"/>
                <a:ext cx="1553040" cy="217080"/>
              </a:xfrm>
              <a:custGeom>
                <a:avLst/>
                <a:gdLst/>
                <a:ahLst/>
                <a:rect l="l" t="t" r="r" b="b"/>
                <a:pathLst>
                  <a:path w="706" h="98">
                    <a:moveTo>
                      <a:pt x="0" y="18"/>
                    </a:moveTo>
                    <a:cubicBezTo>
                      <a:pt x="6" y="22"/>
                      <a:pt x="17" y="35"/>
                      <a:pt x="36" y="44"/>
                    </a:cubicBezTo>
                    <a:cubicBezTo>
                      <a:pt x="55" y="53"/>
                      <a:pt x="83" y="64"/>
                      <a:pt x="115" y="72"/>
                    </a:cubicBezTo>
                    <a:cubicBezTo>
                      <a:pt x="147" y="80"/>
                      <a:pt x="189" y="86"/>
                      <a:pt x="230" y="90"/>
                    </a:cubicBezTo>
                    <a:cubicBezTo>
                      <a:pt x="271" y="94"/>
                      <a:pt x="318" y="98"/>
                      <a:pt x="364" y="98"/>
                    </a:cubicBezTo>
                    <a:cubicBezTo>
                      <a:pt x="410" y="98"/>
                      <a:pt x="467" y="96"/>
                      <a:pt x="508" y="90"/>
                    </a:cubicBezTo>
                    <a:cubicBezTo>
                      <a:pt x="549" y="84"/>
                      <a:pt x="582" y="73"/>
                      <a:pt x="610" y="64"/>
                    </a:cubicBezTo>
                    <a:cubicBezTo>
                      <a:pt x="638" y="55"/>
                      <a:pt x="660" y="45"/>
                      <a:pt x="676" y="34"/>
                    </a:cubicBezTo>
                    <a:cubicBezTo>
                      <a:pt x="692" y="23"/>
                      <a:pt x="700" y="7"/>
                      <a:pt x="706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637080" y="4174200"/>
                <a:ext cx="1553040" cy="199080"/>
              </a:xfrm>
              <a:custGeom>
                <a:avLst/>
                <a:gdLst/>
                <a:ahLst/>
                <a:rect l="l" t="t" r="r" b="b"/>
                <a:pathLst>
                  <a:path w="706" h="90">
                    <a:moveTo>
                      <a:pt x="706" y="70"/>
                    </a:moveTo>
                    <a:cubicBezTo>
                      <a:pt x="699" y="65"/>
                      <a:pt x="685" y="49"/>
                      <a:pt x="664" y="40"/>
                    </a:cubicBezTo>
                    <a:cubicBezTo>
                      <a:pt x="643" y="31"/>
                      <a:pt x="611" y="22"/>
                      <a:pt x="580" y="16"/>
                    </a:cubicBezTo>
                    <a:cubicBezTo>
                      <a:pt x="549" y="10"/>
                      <a:pt x="514" y="4"/>
                      <a:pt x="478" y="2"/>
                    </a:cubicBezTo>
                    <a:cubicBezTo>
                      <a:pt x="442" y="0"/>
                      <a:pt x="399" y="1"/>
                      <a:pt x="361" y="1"/>
                    </a:cubicBezTo>
                    <a:cubicBezTo>
                      <a:pt x="323" y="1"/>
                      <a:pt x="286" y="1"/>
                      <a:pt x="252" y="4"/>
                    </a:cubicBezTo>
                    <a:cubicBezTo>
                      <a:pt x="218" y="7"/>
                      <a:pt x="183" y="14"/>
                      <a:pt x="154" y="20"/>
                    </a:cubicBezTo>
                    <a:cubicBezTo>
                      <a:pt x="125" y="26"/>
                      <a:pt x="97" y="34"/>
                      <a:pt x="76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635280" y="3672000"/>
                <a:ext cx="1557720" cy="400680"/>
              </a:xfrm>
              <a:custGeom>
                <a:avLst/>
                <a:gdLst/>
                <a:ahLst/>
                <a:rect l="l" t="t" r="r" b="b"/>
                <a:pathLst>
                  <a:path w="708" h="181">
                    <a:moveTo>
                      <a:pt x="8" y="87"/>
                    </a:moveTo>
                    <a:cubicBezTo>
                      <a:pt x="0" y="99"/>
                      <a:pt x="15" y="107"/>
                      <a:pt x="33" y="117"/>
                    </a:cubicBezTo>
                    <a:cubicBezTo>
                      <a:pt x="50" y="127"/>
                      <a:pt x="71" y="137"/>
                      <a:pt x="114" y="147"/>
                    </a:cubicBezTo>
                    <a:cubicBezTo>
                      <a:pt x="157" y="157"/>
                      <a:pt x="226" y="173"/>
                      <a:pt x="292" y="177"/>
                    </a:cubicBezTo>
                    <a:cubicBezTo>
                      <a:pt x="359" y="181"/>
                      <a:pt x="463" y="175"/>
                      <a:pt x="514" y="171"/>
                    </a:cubicBezTo>
                    <a:cubicBezTo>
                      <a:pt x="566" y="167"/>
                      <a:pt x="575" y="162"/>
                      <a:pt x="599" y="155"/>
                    </a:cubicBezTo>
                    <a:cubicBezTo>
                      <a:pt x="623" y="148"/>
                      <a:pt x="644" y="142"/>
                      <a:pt x="661" y="131"/>
                    </a:cubicBezTo>
                    <a:cubicBezTo>
                      <a:pt x="678" y="120"/>
                      <a:pt x="695" y="99"/>
                      <a:pt x="701" y="89"/>
                    </a:cubicBezTo>
                    <a:cubicBezTo>
                      <a:pt x="707" y="79"/>
                      <a:pt x="708" y="80"/>
                      <a:pt x="697" y="69"/>
                    </a:cubicBezTo>
                    <a:cubicBezTo>
                      <a:pt x="686" y="58"/>
                      <a:pt x="674" y="35"/>
                      <a:pt x="637" y="24"/>
                    </a:cubicBezTo>
                    <a:cubicBezTo>
                      <a:pt x="600" y="13"/>
                      <a:pt x="534" y="6"/>
                      <a:pt x="477" y="3"/>
                    </a:cubicBezTo>
                    <a:cubicBezTo>
                      <a:pt x="419" y="0"/>
                      <a:pt x="339" y="1"/>
                      <a:pt x="289" y="3"/>
                    </a:cubicBezTo>
                    <a:cubicBezTo>
                      <a:pt x="240" y="5"/>
                      <a:pt x="217" y="9"/>
                      <a:pt x="182" y="15"/>
                    </a:cubicBezTo>
                    <a:cubicBezTo>
                      <a:pt x="147" y="21"/>
                      <a:pt x="109" y="30"/>
                      <a:pt x="80" y="42"/>
                    </a:cubicBezTo>
                    <a:cubicBezTo>
                      <a:pt x="51" y="54"/>
                      <a:pt x="16" y="75"/>
                      <a:pt x="8" y="8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1ffff"/>
                  </a:gs>
                  <a:gs pos="100000">
                    <a:srgbClr val="8b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637080" y="3842640"/>
                <a:ext cx="1535760" cy="221040"/>
              </a:xfrm>
              <a:custGeom>
                <a:avLst/>
                <a:gdLst/>
                <a:ahLst/>
                <a:rect l="l" t="t" r="r" b="b"/>
                <a:pathLst>
                  <a:path w="698" h="100">
                    <a:moveTo>
                      <a:pt x="0" y="20"/>
                    </a:moveTo>
                    <a:cubicBezTo>
                      <a:pt x="6" y="24"/>
                      <a:pt x="17" y="37"/>
                      <a:pt x="36" y="46"/>
                    </a:cubicBezTo>
                    <a:cubicBezTo>
                      <a:pt x="55" y="55"/>
                      <a:pt x="84" y="66"/>
                      <a:pt x="116" y="74"/>
                    </a:cubicBezTo>
                    <a:cubicBezTo>
                      <a:pt x="148" y="82"/>
                      <a:pt x="191" y="88"/>
                      <a:pt x="232" y="92"/>
                    </a:cubicBezTo>
                    <a:cubicBezTo>
                      <a:pt x="273" y="96"/>
                      <a:pt x="321" y="100"/>
                      <a:pt x="367" y="100"/>
                    </a:cubicBezTo>
                    <a:cubicBezTo>
                      <a:pt x="413" y="100"/>
                      <a:pt x="471" y="98"/>
                      <a:pt x="512" y="92"/>
                    </a:cubicBezTo>
                    <a:cubicBezTo>
                      <a:pt x="554" y="86"/>
                      <a:pt x="587" y="75"/>
                      <a:pt x="615" y="66"/>
                    </a:cubicBezTo>
                    <a:cubicBezTo>
                      <a:pt x="643" y="57"/>
                      <a:pt x="668" y="47"/>
                      <a:pt x="682" y="36"/>
                    </a:cubicBezTo>
                    <a:cubicBezTo>
                      <a:pt x="696" y="25"/>
                      <a:pt x="695" y="7"/>
                      <a:pt x="698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637080" y="3674520"/>
                <a:ext cx="1531080" cy="199080"/>
              </a:xfrm>
              <a:custGeom>
                <a:avLst/>
                <a:gdLst/>
                <a:ahLst/>
                <a:rect l="l" t="t" r="r" b="b"/>
                <a:pathLst>
                  <a:path w="696" h="90">
                    <a:moveTo>
                      <a:pt x="696" y="68"/>
                    </a:moveTo>
                    <a:cubicBezTo>
                      <a:pt x="691" y="63"/>
                      <a:pt x="688" y="49"/>
                      <a:pt x="670" y="40"/>
                    </a:cubicBezTo>
                    <a:cubicBezTo>
                      <a:pt x="652" y="31"/>
                      <a:pt x="616" y="22"/>
                      <a:pt x="585" y="16"/>
                    </a:cubicBezTo>
                    <a:cubicBezTo>
                      <a:pt x="554" y="10"/>
                      <a:pt x="518" y="4"/>
                      <a:pt x="482" y="2"/>
                    </a:cubicBezTo>
                    <a:cubicBezTo>
                      <a:pt x="446" y="0"/>
                      <a:pt x="402" y="1"/>
                      <a:pt x="364" y="1"/>
                    </a:cubicBezTo>
                    <a:cubicBezTo>
                      <a:pt x="326" y="1"/>
                      <a:pt x="288" y="1"/>
                      <a:pt x="254" y="4"/>
                    </a:cubicBezTo>
                    <a:cubicBezTo>
                      <a:pt x="220" y="7"/>
                      <a:pt x="185" y="14"/>
                      <a:pt x="155" y="20"/>
                    </a:cubicBezTo>
                    <a:cubicBezTo>
                      <a:pt x="126" y="26"/>
                      <a:pt x="98" y="34"/>
                      <a:pt x="77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2268360" y="5229360"/>
              <a:ext cx="63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6л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84360" y="5229360"/>
              <a:ext cx="63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4л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95280" y="4221000"/>
              <a:ext cx="84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15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979640" y="4149720"/>
              <a:ext cx="84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25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971640" y="4221000"/>
            <a:ext cx="8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0,6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556000" y="4149720"/>
            <a:ext cx="8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1,5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95640" y="4005360"/>
            <a:ext cx="8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2,1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775480" y="4818240"/>
            <a:ext cx="239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651640" y="2708280"/>
            <a:ext cx="3205080" cy="3384720"/>
          </a:xfrm>
          <a:custGeom>
            <a:avLst/>
            <a:gdLst>
              <a:gd name="textAreaLeft" fmla="*/ 156240 w 3205080"/>
              <a:gd name="textAreaRight" fmla="*/ 3048840 w 3205080"/>
              <a:gd name="textAreaTop" fmla="*/ 156240 h 3384720"/>
              <a:gd name="textAreaBottom" fmla="*/ 3228480 h 3384720"/>
            </a:gdLst>
            <a:ahLst/>
            <a:rect l="textAreaLeft" t="textAreaTop" r="textAreaRight" b="textAreaBottom"/>
            <a:pathLst>
              <a:path w="21600" h="22811">
                <a:moveTo>
                  <a:pt x="3600" y="0"/>
                </a:moveTo>
                <a:arcTo wR="3600" hR="3600" stAng="16200000" swAng="-5400000"/>
                <a:lnTo>
                  <a:pt x="0" y="19211"/>
                </a:lnTo>
                <a:arcTo wR="3600" hR="3600" stAng="10800000" swAng="-5400000"/>
                <a:lnTo>
                  <a:pt x="18000" y="228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6084720" y="2708280"/>
                <a:ext cx="204660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(</m:t>
                    </m:r>
                    <m:r>
                      <m:t xml:space="preserve">л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6156360" y="5589720"/>
                <a:ext cx="21193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твет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3924360" y="537372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10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5940360" y="3141720"/>
                <a:ext cx="244944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,6</m:t>
                    </m:r>
                    <m:r>
                      <m:t xml:space="preserve">(</m:t>
                    </m:r>
                    <m:r>
                      <m:t xml:space="preserve">л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5940360" y="3645000"/>
                <a:ext cx="237672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⋅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1,5</m:t>
                    </m:r>
                    <m:r>
                      <m:t xml:space="preserve">(</m:t>
                    </m:r>
                    <m:r>
                      <m:t xml:space="preserve">л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5940360" y="4149720"/>
                <a:ext cx="25210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6</m:t>
                    </m:r>
                    <m:r>
                      <m:t xml:space="preserve">+</m:t>
                    </m:r>
                    <m:r>
                      <m:t xml:space="preserve">1,5</m:t>
                    </m:r>
                    <m:r>
                      <m:t xml:space="preserve">=</m:t>
                    </m:r>
                    <m:r>
                      <m:t xml:space="preserve">2,1</m:t>
                    </m:r>
                    <m:r>
                      <m:t xml:space="preserve">(</m:t>
                    </m:r>
                    <m:r>
                      <m:t xml:space="preserve">л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6012000" y="4581360"/>
                <a:ext cx="230508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,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70" dur="indefinite" restart="never" nodeType="tmRoot">
          <p:childTnLst>
            <p:seq>
              <p:cTn id="171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9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9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0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0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3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24000" y="333360"/>
            <a:ext cx="8497800" cy="215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Влажность сухой цементной смеси на склад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составляет 18%. Во время перевозки из-за дожд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влажность смеси повысилась на 2%. Найди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массу привезенной смеси, если со склада бы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отправлено 400 к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356000" y="2997360"/>
            <a:ext cx="4464000" cy="316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643280" y="3213000"/>
                <a:ext cx="40165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0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кг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воды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4716360" y="3645000"/>
                <a:ext cx="384336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8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кг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цем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4716360" y="4149720"/>
                <a:ext cx="381312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28</m:t>
                    </m:r>
                    <m:r>
                      <m:rPr>
                        <m:lit/>
                        <m:nor/>
                      </m:rPr>
                      <m:t xml:space="preserve">кг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31" name=""/>
          <p:cNvGrpSpPr/>
          <p:nvPr/>
        </p:nvGrpSpPr>
        <p:grpSpPr>
          <a:xfrm>
            <a:off x="4643280" y="4653000"/>
            <a:ext cx="4149720" cy="851040"/>
            <a:chOff x="4643280" y="4653000"/>
            <a:chExt cx="4149720" cy="851040"/>
          </a:xfrm>
        </p:grpSpPr>
        <mc:AlternateContent>
          <mc:Choice xmlns:a14="http://schemas.microsoft.com/office/drawing/2010/main" Requires="a14">
            <p:sp>
              <p:nvSpPr>
                <p:cNvPr id="232" name=""/>
                <p:cNvSpPr txBox="1"/>
                <p:nvPr/>
              </p:nvSpPr>
              <p:spPr>
                <a:xfrm>
                  <a:off x="4643280" y="4653000"/>
                  <a:ext cx="4149720" cy="52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328</m:t>
                      </m:r>
                      <m:r>
                        <m:t xml:space="preserve">:</m:t>
                      </m:r>
                      <m:r>
                        <m:t xml:space="preserve">0,8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410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кг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масса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3" name=""/>
                <p:cNvSpPr txBox="1"/>
                <p:nvPr/>
              </p:nvSpPr>
              <p:spPr>
                <a:xfrm>
                  <a:off x="7164360" y="5085000"/>
                  <a:ext cx="1038240" cy="35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смеси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4" name=""/>
                <p:cNvSpPr txBox="1"/>
                <p:nvPr/>
              </p:nvSpPr>
              <p:spPr>
                <a:xfrm>
                  <a:off x="4714560" y="5013360"/>
                  <a:ext cx="2448000" cy="49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проивезенной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5292720" y="5516640"/>
                <a:ext cx="25923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твет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410</m:t>
                    </m:r>
                    <m:r>
                      <m:rPr>
                        <m:lit/>
                        <m:nor/>
                      </m:rPr>
                      <m:t xml:space="preserve">кг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250920" y="6165720"/>
            <a:ext cx="1873080" cy="476280"/>
          </a:xfrm>
          <a:custGeom>
            <a:avLst/>
            <a:gdLst>
              <a:gd name="textAreaLeft" fmla="*/ 30600 w 1873080"/>
              <a:gd name="textAreaRight" fmla="*/ 1842480 w 1873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84899" h="21600">
                <a:moveTo>
                  <a:pt x="0" y="0"/>
                </a:moveTo>
                <a:lnTo>
                  <a:pt x="84899" y="0"/>
                </a:lnTo>
                <a:lnTo>
                  <a:pt x="84899" y="21600"/>
                </a:lnTo>
                <a:lnTo>
                  <a:pt x="0" y="21600"/>
                </a:lnTo>
                <a:close/>
              </a:path>
              <a:path fill="lightenLess" w="84899" h="21600">
                <a:moveTo>
                  <a:pt x="0" y="0"/>
                </a:moveTo>
                <a:lnTo>
                  <a:pt x="84899" y="0"/>
                </a:lnTo>
                <a:lnTo>
                  <a:pt x="83499" y="1400"/>
                </a:lnTo>
                <a:lnTo>
                  <a:pt x="1400" y="1400"/>
                </a:lnTo>
                <a:close/>
              </a:path>
              <a:path fill="darken" w="84899" h="21600">
                <a:moveTo>
                  <a:pt x="84899" y="0"/>
                </a:moveTo>
                <a:lnTo>
                  <a:pt x="84899" y="21600"/>
                </a:lnTo>
                <a:lnTo>
                  <a:pt x="83499" y="20200"/>
                </a:lnTo>
                <a:lnTo>
                  <a:pt x="83499" y="1400"/>
                </a:lnTo>
                <a:close/>
              </a:path>
              <a:path fill="darkenLess" w="84899" h="21600">
                <a:moveTo>
                  <a:pt x="848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3499" y="20200"/>
                </a:lnTo>
                <a:close/>
              </a:path>
              <a:path fill="lighten" w="848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lackadder ITC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395280" y="2997360"/>
            <a:ext cx="3816360" cy="3095640"/>
            <a:chOff x="395280" y="2997360"/>
            <a:chExt cx="3816360" cy="3095640"/>
          </a:xfrm>
        </p:grpSpPr>
        <p:grpSp>
          <p:nvGrpSpPr>
            <p:cNvPr id="238" name=""/>
            <p:cNvGrpSpPr/>
            <p:nvPr/>
          </p:nvGrpSpPr>
          <p:grpSpPr>
            <a:xfrm>
              <a:off x="395280" y="2997360"/>
              <a:ext cx="3816360" cy="3095640"/>
              <a:chOff x="395280" y="2997360"/>
              <a:chExt cx="3816360" cy="309564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395280" y="2997360"/>
                <a:ext cx="3816360" cy="3095640"/>
                <a:chOff x="395280" y="2997360"/>
                <a:chExt cx="3816360" cy="3095640"/>
              </a:xfrm>
            </p:grpSpPr>
            <p:grpSp>
              <p:nvGrpSpPr>
                <p:cNvPr id="240" name=""/>
                <p:cNvGrpSpPr/>
                <p:nvPr/>
              </p:nvGrpSpPr>
              <p:grpSpPr>
                <a:xfrm>
                  <a:off x="395280" y="2997360"/>
                  <a:ext cx="3816360" cy="3095640"/>
                  <a:chOff x="395280" y="2997360"/>
                  <a:chExt cx="3816360" cy="3095640"/>
                </a:xfrm>
              </p:grpSpPr>
              <p:sp>
                <p:nvSpPr>
                  <p:cNvPr id="241" name=""/>
                  <p:cNvSpPr/>
                  <p:nvPr/>
                </p:nvSpPr>
                <p:spPr>
                  <a:xfrm>
                    <a:off x="395280" y="2997360"/>
                    <a:ext cx="3816360" cy="309564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3816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42" name=""/>
                  <p:cNvGrpSpPr/>
                  <p:nvPr/>
                </p:nvGrpSpPr>
                <p:grpSpPr>
                  <a:xfrm>
                    <a:off x="606600" y="3573360"/>
                    <a:ext cx="1584360" cy="1958760"/>
                    <a:chOff x="606600" y="3573360"/>
                    <a:chExt cx="1584360" cy="1958760"/>
                  </a:xfrm>
                </p:grpSpPr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606600" y="3573360"/>
                      <a:ext cx="1584360" cy="19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13" h="1234">
                          <a:moveTo>
                            <a:pt x="27" y="53"/>
                          </a:moveTo>
                          <a:cubicBezTo>
                            <a:pt x="11" y="67"/>
                            <a:pt x="41" y="100"/>
                            <a:pt x="52" y="130"/>
                          </a:cubicBezTo>
                          <a:cubicBezTo>
                            <a:pt x="63" y="160"/>
                            <a:pt x="85" y="197"/>
                            <a:pt x="96" y="234"/>
                          </a:cubicBezTo>
                          <a:cubicBezTo>
                            <a:pt x="107" y="271"/>
                            <a:pt x="111" y="276"/>
                            <a:pt x="116" y="350"/>
                          </a:cubicBezTo>
                          <a:cubicBezTo>
                            <a:pt x="121" y="424"/>
                            <a:pt x="128" y="574"/>
                            <a:pt x="124" y="678"/>
                          </a:cubicBezTo>
                          <a:cubicBezTo>
                            <a:pt x="120" y="782"/>
                            <a:pt x="103" y="905"/>
                            <a:pt x="94" y="973"/>
                          </a:cubicBezTo>
                          <a:cubicBezTo>
                            <a:pt x="85" y="1041"/>
                            <a:pt x="85" y="1052"/>
                            <a:pt x="72" y="1086"/>
                          </a:cubicBezTo>
                          <a:cubicBezTo>
                            <a:pt x="59" y="1120"/>
                            <a:pt x="0" y="1161"/>
                            <a:pt x="16" y="1178"/>
                          </a:cubicBezTo>
                          <a:cubicBezTo>
                            <a:pt x="32" y="1195"/>
                            <a:pt x="111" y="1182"/>
                            <a:pt x="171" y="1190"/>
                          </a:cubicBezTo>
                          <a:cubicBezTo>
                            <a:pt x="231" y="1198"/>
                            <a:pt x="298" y="1223"/>
                            <a:pt x="376" y="1229"/>
                          </a:cubicBezTo>
                          <a:cubicBezTo>
                            <a:pt x="455" y="1234"/>
                            <a:pt x="572" y="1233"/>
                            <a:pt x="640" y="1222"/>
                          </a:cubicBezTo>
                          <a:cubicBezTo>
                            <a:pt x="709" y="1212"/>
                            <a:pt x="756" y="1184"/>
                            <a:pt x="788" y="1167"/>
                          </a:cubicBezTo>
                          <a:cubicBezTo>
                            <a:pt x="820" y="1150"/>
                            <a:pt x="824" y="1133"/>
                            <a:pt x="832" y="1118"/>
                          </a:cubicBezTo>
                          <a:cubicBezTo>
                            <a:pt x="840" y="1103"/>
                            <a:pt x="841" y="1103"/>
                            <a:pt x="837" y="1074"/>
                          </a:cubicBezTo>
                          <a:cubicBezTo>
                            <a:pt x="833" y="1045"/>
                            <a:pt x="816" y="1008"/>
                            <a:pt x="808" y="942"/>
                          </a:cubicBezTo>
                          <a:cubicBezTo>
                            <a:pt x="800" y="876"/>
                            <a:pt x="788" y="776"/>
                            <a:pt x="788" y="678"/>
                          </a:cubicBezTo>
                          <a:cubicBezTo>
                            <a:pt x="788" y="580"/>
                            <a:pt x="802" y="432"/>
                            <a:pt x="811" y="356"/>
                          </a:cubicBezTo>
                          <a:cubicBezTo>
                            <a:pt x="819" y="279"/>
                            <a:pt x="821" y="273"/>
                            <a:pt x="837" y="219"/>
                          </a:cubicBezTo>
                          <a:cubicBezTo>
                            <a:pt x="853" y="165"/>
                            <a:pt x="913" y="58"/>
                            <a:pt x="907" y="29"/>
                          </a:cubicBezTo>
                          <a:cubicBezTo>
                            <a:pt x="901" y="0"/>
                            <a:pt x="846" y="38"/>
                            <a:pt x="803" y="45"/>
                          </a:cubicBezTo>
                          <a:cubicBezTo>
                            <a:pt x="760" y="52"/>
                            <a:pt x="708" y="66"/>
                            <a:pt x="647" y="73"/>
                          </a:cubicBezTo>
                          <a:cubicBezTo>
                            <a:pt x="586" y="80"/>
                            <a:pt x="494" y="84"/>
                            <a:pt x="435" y="85"/>
                          </a:cubicBezTo>
                          <a:cubicBezTo>
                            <a:pt x="376" y="86"/>
                            <a:pt x="339" y="80"/>
                            <a:pt x="291" y="77"/>
                          </a:cubicBezTo>
                          <a:cubicBezTo>
                            <a:pt x="243" y="74"/>
                            <a:pt x="191" y="69"/>
                            <a:pt x="147" y="65"/>
                          </a:cubicBezTo>
                          <a:cubicBezTo>
                            <a:pt x="103" y="61"/>
                            <a:pt x="52" y="55"/>
                            <a:pt x="27" y="5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"/>
                      <a:srcRect/>
                      <a:tile tx="0" ty="0" sx="100000" sy="100000" algn="ctr"/>
                    </a:blipFill>
                    <a:ln w="28440">
                      <a:solidFill>
                        <a:srgbClr val="99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751320" y="3884400"/>
                      <a:ext cx="1309680" cy="8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25" h="51">
                          <a:moveTo>
                            <a:pt x="0" y="0"/>
                          </a:moveTo>
                          <a:cubicBezTo>
                            <a:pt x="21" y="4"/>
                            <a:pt x="83" y="14"/>
                            <a:pt x="129" y="22"/>
                          </a:cubicBezTo>
                          <a:cubicBezTo>
                            <a:pt x="175" y="30"/>
                            <a:pt x="228" y="41"/>
                            <a:pt x="278" y="46"/>
                          </a:cubicBezTo>
                          <a:cubicBezTo>
                            <a:pt x="329" y="51"/>
                            <a:pt x="380" y="51"/>
                            <a:pt x="431" y="50"/>
                          </a:cubicBezTo>
                          <a:cubicBezTo>
                            <a:pt x="483" y="49"/>
                            <a:pt x="535" y="43"/>
                            <a:pt x="584" y="38"/>
                          </a:cubicBezTo>
                          <a:cubicBezTo>
                            <a:pt x="634" y="33"/>
                            <a:pt x="689" y="28"/>
                            <a:pt x="729" y="22"/>
                          </a:cubicBezTo>
                          <a:cubicBezTo>
                            <a:pt x="769" y="16"/>
                            <a:pt x="805" y="7"/>
                            <a:pt x="825" y="3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99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714600" y="5314680"/>
                      <a:ext cx="14616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83">
                          <a:moveTo>
                            <a:pt x="0" y="0"/>
                          </a:moveTo>
                          <a:cubicBezTo>
                            <a:pt x="5" y="7"/>
                            <a:pt x="20" y="26"/>
                            <a:pt x="35" y="40"/>
                          </a:cubicBezTo>
                          <a:cubicBezTo>
                            <a:pt x="50" y="54"/>
                            <a:pt x="80" y="74"/>
                            <a:pt x="92" y="83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99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676440" y="3873240"/>
                      <a:ext cx="73080" cy="30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192">
                          <a:moveTo>
                            <a:pt x="42" y="0"/>
                          </a:moveTo>
                          <a:cubicBezTo>
                            <a:pt x="37" y="6"/>
                            <a:pt x="21" y="18"/>
                            <a:pt x="14" y="36"/>
                          </a:cubicBezTo>
                          <a:cubicBezTo>
                            <a:pt x="7" y="54"/>
                            <a:pt x="4" y="82"/>
                            <a:pt x="2" y="108"/>
                          </a:cubicBezTo>
                          <a:cubicBezTo>
                            <a:pt x="0" y="134"/>
                            <a:pt x="2" y="175"/>
                            <a:pt x="2" y="192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99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2059200" y="3882960"/>
                      <a:ext cx="82800" cy="21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" h="136">
                          <a:moveTo>
                            <a:pt x="0" y="0"/>
                          </a:moveTo>
                          <a:cubicBezTo>
                            <a:pt x="5" y="5"/>
                            <a:pt x="25" y="15"/>
                            <a:pt x="33" y="30"/>
                          </a:cubicBezTo>
                          <a:cubicBezTo>
                            <a:pt x="41" y="45"/>
                            <a:pt x="44" y="72"/>
                            <a:pt x="46" y="90"/>
                          </a:cubicBezTo>
                          <a:cubicBezTo>
                            <a:pt x="48" y="108"/>
                            <a:pt x="46" y="128"/>
                            <a:pt x="46" y="136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99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>
                      <a:off x="822600" y="4416120"/>
                      <a:ext cx="1150920" cy="10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4" h="63">
                          <a:moveTo>
                            <a:pt x="0" y="20"/>
                          </a:moveTo>
                          <a:cubicBezTo>
                            <a:pt x="20" y="25"/>
                            <a:pt x="71" y="43"/>
                            <a:pt x="114" y="50"/>
                          </a:cubicBezTo>
                          <a:cubicBezTo>
                            <a:pt x="157" y="57"/>
                            <a:pt x="205" y="61"/>
                            <a:pt x="258" y="62"/>
                          </a:cubicBezTo>
                          <a:cubicBezTo>
                            <a:pt x="311" y="63"/>
                            <a:pt x="382" y="63"/>
                            <a:pt x="435" y="58"/>
                          </a:cubicBezTo>
                          <a:cubicBezTo>
                            <a:pt x="488" y="53"/>
                            <a:pt x="540" y="44"/>
                            <a:pt x="578" y="34"/>
                          </a:cubicBezTo>
                          <a:cubicBezTo>
                            <a:pt x="616" y="24"/>
                            <a:pt x="646" y="7"/>
                            <a:pt x="664" y="0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99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49" name=""/>
                <p:cNvGrpSpPr/>
                <p:nvPr/>
              </p:nvGrpSpPr>
              <p:grpSpPr>
                <a:xfrm>
                  <a:off x="2482920" y="3573360"/>
                  <a:ext cx="1584360" cy="1958760"/>
                  <a:chOff x="2482920" y="3573360"/>
                  <a:chExt cx="1584360" cy="1958760"/>
                </a:xfrm>
              </p:grpSpPr>
              <p:grpSp>
                <p:nvGrpSpPr>
                  <p:cNvPr id="250" name=""/>
                  <p:cNvGrpSpPr/>
                  <p:nvPr/>
                </p:nvGrpSpPr>
                <p:grpSpPr>
                  <a:xfrm>
                    <a:off x="2482920" y="3573360"/>
                    <a:ext cx="1584360" cy="1958760"/>
                    <a:chOff x="2482920" y="3573360"/>
                    <a:chExt cx="1584360" cy="1958760"/>
                  </a:xfrm>
                </p:grpSpPr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482920" y="3573360"/>
                      <a:ext cx="1584360" cy="19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13" h="1234">
                          <a:moveTo>
                            <a:pt x="27" y="53"/>
                          </a:moveTo>
                          <a:cubicBezTo>
                            <a:pt x="11" y="67"/>
                            <a:pt x="41" y="100"/>
                            <a:pt x="52" y="130"/>
                          </a:cubicBezTo>
                          <a:cubicBezTo>
                            <a:pt x="63" y="160"/>
                            <a:pt x="85" y="197"/>
                            <a:pt x="96" y="234"/>
                          </a:cubicBezTo>
                          <a:cubicBezTo>
                            <a:pt x="107" y="271"/>
                            <a:pt x="111" y="276"/>
                            <a:pt x="116" y="350"/>
                          </a:cubicBezTo>
                          <a:cubicBezTo>
                            <a:pt x="121" y="424"/>
                            <a:pt x="128" y="574"/>
                            <a:pt x="124" y="678"/>
                          </a:cubicBezTo>
                          <a:cubicBezTo>
                            <a:pt x="120" y="782"/>
                            <a:pt x="103" y="905"/>
                            <a:pt x="94" y="973"/>
                          </a:cubicBezTo>
                          <a:cubicBezTo>
                            <a:pt x="85" y="1041"/>
                            <a:pt x="85" y="1052"/>
                            <a:pt x="72" y="1086"/>
                          </a:cubicBezTo>
                          <a:cubicBezTo>
                            <a:pt x="59" y="1120"/>
                            <a:pt x="0" y="1161"/>
                            <a:pt x="16" y="1178"/>
                          </a:cubicBezTo>
                          <a:cubicBezTo>
                            <a:pt x="32" y="1195"/>
                            <a:pt x="111" y="1182"/>
                            <a:pt x="171" y="1190"/>
                          </a:cubicBezTo>
                          <a:cubicBezTo>
                            <a:pt x="231" y="1198"/>
                            <a:pt x="298" y="1223"/>
                            <a:pt x="376" y="1229"/>
                          </a:cubicBezTo>
                          <a:cubicBezTo>
                            <a:pt x="455" y="1234"/>
                            <a:pt x="572" y="1233"/>
                            <a:pt x="640" y="1222"/>
                          </a:cubicBezTo>
                          <a:cubicBezTo>
                            <a:pt x="709" y="1212"/>
                            <a:pt x="756" y="1184"/>
                            <a:pt x="788" y="1167"/>
                          </a:cubicBezTo>
                          <a:cubicBezTo>
                            <a:pt x="820" y="1150"/>
                            <a:pt x="824" y="1133"/>
                            <a:pt x="832" y="1118"/>
                          </a:cubicBezTo>
                          <a:cubicBezTo>
                            <a:pt x="840" y="1103"/>
                            <a:pt x="841" y="1103"/>
                            <a:pt x="837" y="1074"/>
                          </a:cubicBezTo>
                          <a:cubicBezTo>
                            <a:pt x="833" y="1045"/>
                            <a:pt x="816" y="1008"/>
                            <a:pt x="808" y="942"/>
                          </a:cubicBezTo>
                          <a:cubicBezTo>
                            <a:pt x="800" y="876"/>
                            <a:pt x="788" y="776"/>
                            <a:pt x="788" y="678"/>
                          </a:cubicBezTo>
                          <a:cubicBezTo>
                            <a:pt x="788" y="580"/>
                            <a:pt x="802" y="432"/>
                            <a:pt x="811" y="356"/>
                          </a:cubicBezTo>
                          <a:cubicBezTo>
                            <a:pt x="819" y="279"/>
                            <a:pt x="821" y="273"/>
                            <a:pt x="837" y="219"/>
                          </a:cubicBezTo>
                          <a:cubicBezTo>
                            <a:pt x="853" y="165"/>
                            <a:pt x="913" y="58"/>
                            <a:pt x="907" y="29"/>
                          </a:cubicBezTo>
                          <a:cubicBezTo>
                            <a:pt x="901" y="0"/>
                            <a:pt x="846" y="38"/>
                            <a:pt x="803" y="45"/>
                          </a:cubicBezTo>
                          <a:cubicBezTo>
                            <a:pt x="760" y="52"/>
                            <a:pt x="708" y="66"/>
                            <a:pt x="647" y="73"/>
                          </a:cubicBezTo>
                          <a:cubicBezTo>
                            <a:pt x="586" y="80"/>
                            <a:pt x="494" y="84"/>
                            <a:pt x="435" y="85"/>
                          </a:cubicBezTo>
                          <a:cubicBezTo>
                            <a:pt x="376" y="86"/>
                            <a:pt x="339" y="80"/>
                            <a:pt x="291" y="77"/>
                          </a:cubicBezTo>
                          <a:cubicBezTo>
                            <a:pt x="243" y="74"/>
                            <a:pt x="191" y="69"/>
                            <a:pt x="147" y="65"/>
                          </a:cubicBezTo>
                          <a:cubicBezTo>
                            <a:pt x="103" y="61"/>
                            <a:pt x="52" y="55"/>
                            <a:pt x="27" y="5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"/>
                      <a:srcRect/>
                      <a:tile tx="0" ty="0" sx="100000" sy="100000" algn="ctr"/>
                    </a:blipFill>
                    <a:ln w="28440">
                      <a:solidFill>
                        <a:srgbClr val="99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2632320" y="3875040"/>
                      <a:ext cx="1305000" cy="90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22" h="57">
                          <a:moveTo>
                            <a:pt x="0" y="0"/>
                          </a:moveTo>
                          <a:cubicBezTo>
                            <a:pt x="19" y="5"/>
                            <a:pt x="68" y="19"/>
                            <a:pt x="111" y="28"/>
                          </a:cubicBezTo>
                          <a:cubicBezTo>
                            <a:pt x="154" y="37"/>
                            <a:pt x="210" y="47"/>
                            <a:pt x="260" y="52"/>
                          </a:cubicBezTo>
                          <a:cubicBezTo>
                            <a:pt x="311" y="57"/>
                            <a:pt x="362" y="57"/>
                            <a:pt x="413" y="56"/>
                          </a:cubicBezTo>
                          <a:cubicBezTo>
                            <a:pt x="465" y="55"/>
                            <a:pt x="517" y="49"/>
                            <a:pt x="566" y="44"/>
                          </a:cubicBezTo>
                          <a:cubicBezTo>
                            <a:pt x="616" y="39"/>
                            <a:pt x="668" y="33"/>
                            <a:pt x="711" y="28"/>
                          </a:cubicBezTo>
                          <a:cubicBezTo>
                            <a:pt x="754" y="23"/>
                            <a:pt x="799" y="18"/>
                            <a:pt x="822" y="15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99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560" bIns="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2584440" y="5332320"/>
                      <a:ext cx="127080" cy="118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0" h="75">
                          <a:moveTo>
                            <a:pt x="0" y="0"/>
                          </a:moveTo>
                          <a:cubicBezTo>
                            <a:pt x="4" y="5"/>
                            <a:pt x="11" y="17"/>
                            <a:pt x="24" y="29"/>
                          </a:cubicBezTo>
                          <a:cubicBezTo>
                            <a:pt x="37" y="41"/>
                            <a:pt x="68" y="66"/>
                            <a:pt x="80" y="75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99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2529000" y="3875040"/>
                      <a:ext cx="8892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191">
                          <a:moveTo>
                            <a:pt x="56" y="0"/>
                          </a:moveTo>
                          <a:cubicBezTo>
                            <a:pt x="51" y="6"/>
                            <a:pt x="24" y="17"/>
                            <a:pt x="15" y="35"/>
                          </a:cubicBezTo>
                          <a:cubicBezTo>
                            <a:pt x="6" y="53"/>
                            <a:pt x="4" y="81"/>
                            <a:pt x="2" y="107"/>
                          </a:cubicBezTo>
                          <a:cubicBezTo>
                            <a:pt x="0" y="133"/>
                            <a:pt x="2" y="174"/>
                            <a:pt x="2" y="191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99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3937320" y="3893760"/>
                      <a:ext cx="56880" cy="20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129">
                          <a:moveTo>
                            <a:pt x="0" y="0"/>
                          </a:moveTo>
                          <a:cubicBezTo>
                            <a:pt x="3" y="4"/>
                            <a:pt x="14" y="9"/>
                            <a:pt x="20" y="23"/>
                          </a:cubicBezTo>
                          <a:cubicBezTo>
                            <a:pt x="26" y="37"/>
                            <a:pt x="32" y="65"/>
                            <a:pt x="34" y="83"/>
                          </a:cubicBezTo>
                          <a:cubicBezTo>
                            <a:pt x="36" y="101"/>
                            <a:pt x="34" y="121"/>
                            <a:pt x="34" y="129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99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56" name=""/>
                  <p:cNvSpPr/>
                  <p:nvPr/>
                </p:nvSpPr>
                <p:spPr>
                  <a:xfrm>
                    <a:off x="2698920" y="4365720"/>
                    <a:ext cx="115740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729" h="71">
                        <a:moveTo>
                          <a:pt x="0" y="30"/>
                        </a:moveTo>
                        <a:cubicBezTo>
                          <a:pt x="19" y="35"/>
                          <a:pt x="65" y="51"/>
                          <a:pt x="109" y="58"/>
                        </a:cubicBezTo>
                        <a:cubicBezTo>
                          <a:pt x="153" y="65"/>
                          <a:pt x="209" y="69"/>
                          <a:pt x="267" y="70"/>
                        </a:cubicBezTo>
                        <a:cubicBezTo>
                          <a:pt x="325" y="71"/>
                          <a:pt x="402" y="71"/>
                          <a:pt x="460" y="66"/>
                        </a:cubicBezTo>
                        <a:cubicBezTo>
                          <a:pt x="518" y="61"/>
                          <a:pt x="571" y="53"/>
                          <a:pt x="616" y="42"/>
                        </a:cubicBezTo>
                        <a:cubicBezTo>
                          <a:pt x="661" y="31"/>
                          <a:pt x="705" y="9"/>
                          <a:pt x="729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99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7" name=""/>
              <p:cNvSpPr/>
              <p:nvPr/>
            </p:nvSpPr>
            <p:spPr>
              <a:xfrm>
                <a:off x="3059280" y="5430960"/>
                <a:ext cx="360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3300"/>
                    </a:solidFill>
                    <a:latin typeface="Times New Roman"/>
                  </a:rPr>
                  <a:t>?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973080" y="3213360"/>
                <a:ext cx="895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3300"/>
                    </a:solidFill>
                    <a:latin typeface="Times New Roman"/>
                  </a:rPr>
                  <a:t>Был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701800" y="3213360"/>
                <a:ext cx="1082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3300"/>
                    </a:solidFill>
                    <a:latin typeface="Times New Roman"/>
                  </a:rPr>
                  <a:t>Стал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900000" y="5589720"/>
                <a:ext cx="100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3300"/>
                    </a:solidFill>
                    <a:latin typeface="Times New Roman"/>
                  </a:rPr>
                  <a:t>400кг.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682560" y="400680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00"/>
                  </a:solidFill>
                  <a:latin typeface="Times New Roman"/>
                </a:rPr>
                <a:t>18%</a:t>
              </a: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911320" y="400536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00"/>
                  </a:solidFill>
                  <a:latin typeface="Times New Roman"/>
                </a:rPr>
                <a:t>20%</a:t>
              </a: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2771640" y="450864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80%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900000" y="4797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328к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700360" y="48690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328к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258920" y="4005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72к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>
            <a:hlinkClick r:id="rId4" action="ppaction://hlinksldjump"/>
          </p:cNvPr>
          <p:cNvSpPr/>
          <p:nvPr/>
        </p:nvSpPr>
        <p:spPr>
          <a:xfrm>
            <a:off x="8388360" y="6093000"/>
            <a:ext cx="574560" cy="576000"/>
          </a:xfrm>
          <a:custGeom>
            <a:avLst/>
            <a:gdLst>
              <a:gd name="textAreaLeft" fmla="*/ 37080 w 574560"/>
              <a:gd name="textAreaRight" fmla="*/ 537480 w 5745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00" h="21654">
                <a:moveTo>
                  <a:pt x="0" y="0"/>
                </a:moveTo>
                <a:lnTo>
                  <a:pt x="21600" y="0"/>
                </a:lnTo>
                <a:lnTo>
                  <a:pt x="21600" y="21654"/>
                </a:lnTo>
                <a:lnTo>
                  <a:pt x="0" y="21654"/>
                </a:lnTo>
                <a:close/>
              </a:path>
              <a:path fill="lightenLess" w="21600" h="216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54">
                <a:moveTo>
                  <a:pt x="21600" y="0"/>
                </a:moveTo>
                <a:lnTo>
                  <a:pt x="21600" y="21654"/>
                </a:lnTo>
                <a:lnTo>
                  <a:pt x="20200" y="20254"/>
                </a:lnTo>
                <a:lnTo>
                  <a:pt x="20200" y="1400"/>
                </a:lnTo>
                <a:close/>
              </a:path>
              <a:path fill="darkenLess" w="21600" h="21654">
                <a:moveTo>
                  <a:pt x="21600" y="21654"/>
                </a:moveTo>
                <a:lnTo>
                  <a:pt x="0" y="21654"/>
                </a:lnTo>
                <a:lnTo>
                  <a:pt x="1400" y="20254"/>
                </a:lnTo>
                <a:lnTo>
                  <a:pt x="20200" y="20254"/>
                </a:lnTo>
                <a:close/>
              </a:path>
              <a:path fill="lighten" w="21600" h="21654">
                <a:moveTo>
                  <a:pt x="0" y="216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54"/>
                </a:lnTo>
                <a:close/>
              </a:path>
              <a:path fill="darken" w="21600" h="21654">
                <a:moveTo>
                  <a:pt x="3794" y="10827"/>
                </a:moveTo>
                <a:lnTo>
                  <a:pt x="17806" y="3821"/>
                </a:lnTo>
                <a:lnTo>
                  <a:pt x="17806" y="1783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71640" y="3716280"/>
            <a:ext cx="84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27640" y="5013360"/>
            <a:ext cx="13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Це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843280" y="3716280"/>
            <a:ext cx="84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27640" y="5084640"/>
            <a:ext cx="13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Це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265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500"/>
                            </p:stCondLst>
                            <p:childTnLst>
                              <p:par>
                                <p:cTn id="2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3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1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6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5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0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250920" y="6165720"/>
            <a:ext cx="1873080" cy="476280"/>
          </a:xfrm>
          <a:custGeom>
            <a:avLst/>
            <a:gdLst>
              <a:gd name="textAreaLeft" fmla="*/ 30600 w 1873080"/>
              <a:gd name="textAreaRight" fmla="*/ 1842480 w 1873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84899" h="21600">
                <a:moveTo>
                  <a:pt x="0" y="0"/>
                </a:moveTo>
                <a:lnTo>
                  <a:pt x="84899" y="0"/>
                </a:lnTo>
                <a:lnTo>
                  <a:pt x="84899" y="21600"/>
                </a:lnTo>
                <a:lnTo>
                  <a:pt x="0" y="21600"/>
                </a:lnTo>
                <a:close/>
              </a:path>
              <a:path fill="lightenLess" w="84899" h="21600">
                <a:moveTo>
                  <a:pt x="0" y="0"/>
                </a:moveTo>
                <a:lnTo>
                  <a:pt x="84899" y="0"/>
                </a:lnTo>
                <a:lnTo>
                  <a:pt x="83499" y="1400"/>
                </a:lnTo>
                <a:lnTo>
                  <a:pt x="1400" y="1400"/>
                </a:lnTo>
                <a:close/>
              </a:path>
              <a:path fill="darken" w="84899" h="21600">
                <a:moveTo>
                  <a:pt x="84899" y="0"/>
                </a:moveTo>
                <a:lnTo>
                  <a:pt x="84899" y="21600"/>
                </a:lnTo>
                <a:lnTo>
                  <a:pt x="83499" y="20200"/>
                </a:lnTo>
                <a:lnTo>
                  <a:pt x="83499" y="1400"/>
                </a:lnTo>
                <a:close/>
              </a:path>
              <a:path fill="darkenLess" w="84899" h="21600">
                <a:moveTo>
                  <a:pt x="848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3499" y="20200"/>
                </a:lnTo>
                <a:close/>
              </a:path>
              <a:path fill="lighten" w="848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lackadder ITC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>
            <a:hlinkClick r:id="" action="ppaction://hlinkshowjump?jump=nextslide"/>
          </p:cNvPr>
          <p:cNvSpPr/>
          <p:nvPr/>
        </p:nvSpPr>
        <p:spPr>
          <a:xfrm>
            <a:off x="8459640" y="6165720"/>
            <a:ext cx="505080" cy="5382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760 h 538200"/>
              <a:gd name="textAreaBottom" fmla="*/ 505800 h 538200"/>
            </a:gdLst>
            <a:ahLst/>
            <a:rect l="textAreaLeft" t="textAreaTop" r="textAreaRight" b="textAreaBottom"/>
            <a:pathLst>
              <a:path w="21600" h="23015">
                <a:moveTo>
                  <a:pt x="0" y="0"/>
                </a:moveTo>
                <a:lnTo>
                  <a:pt x="21600" y="0"/>
                </a:lnTo>
                <a:lnTo>
                  <a:pt x="21600" y="23015"/>
                </a:lnTo>
                <a:lnTo>
                  <a:pt x="0" y="23015"/>
                </a:lnTo>
                <a:close/>
              </a:path>
              <a:path fill="lightenLess" w="21600" h="230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15">
                <a:moveTo>
                  <a:pt x="21600" y="0"/>
                </a:moveTo>
                <a:lnTo>
                  <a:pt x="21600" y="23015"/>
                </a:lnTo>
                <a:lnTo>
                  <a:pt x="20200" y="21615"/>
                </a:lnTo>
                <a:lnTo>
                  <a:pt x="20200" y="1400"/>
                </a:lnTo>
                <a:close/>
              </a:path>
              <a:path fill="darkenLess" w="21600" h="23015">
                <a:moveTo>
                  <a:pt x="21600" y="23015"/>
                </a:moveTo>
                <a:lnTo>
                  <a:pt x="0" y="23015"/>
                </a:lnTo>
                <a:lnTo>
                  <a:pt x="1400" y="21615"/>
                </a:lnTo>
                <a:lnTo>
                  <a:pt x="20200" y="21615"/>
                </a:lnTo>
                <a:close/>
              </a:path>
              <a:path fill="lighten" w="21600" h="23015">
                <a:moveTo>
                  <a:pt x="0" y="230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15"/>
                </a:lnTo>
                <a:close/>
              </a:path>
              <a:path fill="darken" w="21600" h="23015">
                <a:moveTo>
                  <a:pt x="3794" y="4501"/>
                </a:moveTo>
                <a:lnTo>
                  <a:pt x="17806" y="11508"/>
                </a:lnTo>
                <a:lnTo>
                  <a:pt x="3794" y="1851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95280" y="260280"/>
            <a:ext cx="8426520" cy="1584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Сколько надо взять 5 процентного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25 процентного раствора кислоты, чтоб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получить 4 л 10 процентного  раствора кислоты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95280" y="1989000"/>
            <a:ext cx="8424720" cy="4104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684360" y="2276640"/>
            <a:ext cx="1079280" cy="1439640"/>
            <a:chOff x="684360" y="2276640"/>
            <a:chExt cx="1079280" cy="1439640"/>
          </a:xfrm>
        </p:grpSpPr>
        <p:grpSp>
          <p:nvGrpSpPr>
            <p:cNvPr id="277" name=""/>
            <p:cNvGrpSpPr/>
            <p:nvPr/>
          </p:nvGrpSpPr>
          <p:grpSpPr>
            <a:xfrm>
              <a:off x="768240" y="2276640"/>
              <a:ext cx="995400" cy="1439640"/>
              <a:chOff x="768240" y="2276640"/>
              <a:chExt cx="995400" cy="1439640"/>
            </a:xfrm>
          </p:grpSpPr>
          <p:sp>
            <p:nvSpPr>
              <p:cNvPr id="278" name=""/>
              <p:cNvSpPr/>
              <p:nvPr/>
            </p:nvSpPr>
            <p:spPr>
              <a:xfrm>
                <a:off x="768240" y="2276640"/>
                <a:ext cx="992520" cy="1439640"/>
              </a:xfrm>
              <a:custGeom>
                <a:avLst/>
                <a:gdLst/>
                <a:ahLst/>
                <a:rect l="l" t="t" r="r" b="b"/>
                <a:pathLst>
                  <a:path w="977" h="1445">
                    <a:moveTo>
                      <a:pt x="125" y="327"/>
                    </a:moveTo>
                    <a:cubicBezTo>
                      <a:pt x="110" y="330"/>
                      <a:pt x="101" y="330"/>
                      <a:pt x="86" y="340"/>
                    </a:cubicBezTo>
                    <a:cubicBezTo>
                      <a:pt x="71" y="348"/>
                      <a:pt x="46" y="360"/>
                      <a:pt x="33" y="380"/>
                    </a:cubicBezTo>
                    <a:cubicBezTo>
                      <a:pt x="19" y="401"/>
                      <a:pt x="12" y="403"/>
                      <a:pt x="7" y="467"/>
                    </a:cubicBezTo>
                    <a:cubicBezTo>
                      <a:pt x="1" y="532"/>
                      <a:pt x="3" y="676"/>
                      <a:pt x="1" y="769"/>
                    </a:cubicBezTo>
                    <a:cubicBezTo>
                      <a:pt x="1" y="861"/>
                      <a:pt x="0" y="935"/>
                      <a:pt x="1" y="1024"/>
                    </a:cubicBezTo>
                    <a:cubicBezTo>
                      <a:pt x="4" y="1112"/>
                      <a:pt x="0" y="1240"/>
                      <a:pt x="12" y="1300"/>
                    </a:cubicBezTo>
                    <a:cubicBezTo>
                      <a:pt x="25" y="1360"/>
                      <a:pt x="30" y="1360"/>
                      <a:pt x="75" y="1382"/>
                    </a:cubicBezTo>
                    <a:cubicBezTo>
                      <a:pt x="119" y="1405"/>
                      <a:pt x="202" y="1423"/>
                      <a:pt x="283" y="1432"/>
                    </a:cubicBezTo>
                    <a:cubicBezTo>
                      <a:pt x="363" y="1442"/>
                      <a:pt x="471" y="1445"/>
                      <a:pt x="561" y="1441"/>
                    </a:cubicBezTo>
                    <a:cubicBezTo>
                      <a:pt x="651" y="1437"/>
                      <a:pt x="761" y="1424"/>
                      <a:pt x="823" y="1412"/>
                    </a:cubicBezTo>
                    <a:cubicBezTo>
                      <a:pt x="886" y="1399"/>
                      <a:pt x="915" y="1382"/>
                      <a:pt x="940" y="1361"/>
                    </a:cubicBezTo>
                    <a:cubicBezTo>
                      <a:pt x="965" y="1340"/>
                      <a:pt x="964" y="1339"/>
                      <a:pt x="970" y="1284"/>
                    </a:cubicBezTo>
                    <a:cubicBezTo>
                      <a:pt x="976" y="1229"/>
                      <a:pt x="973" y="1148"/>
                      <a:pt x="974" y="1032"/>
                    </a:cubicBezTo>
                    <a:cubicBezTo>
                      <a:pt x="975" y="916"/>
                      <a:pt x="977" y="692"/>
                      <a:pt x="974" y="589"/>
                    </a:cubicBezTo>
                    <a:cubicBezTo>
                      <a:pt x="971" y="486"/>
                      <a:pt x="966" y="449"/>
                      <a:pt x="958" y="411"/>
                    </a:cubicBezTo>
                    <a:cubicBezTo>
                      <a:pt x="951" y="373"/>
                      <a:pt x="937" y="378"/>
                      <a:pt x="927" y="365"/>
                    </a:cubicBezTo>
                    <a:cubicBezTo>
                      <a:pt x="916" y="353"/>
                      <a:pt x="915" y="347"/>
                      <a:pt x="895" y="340"/>
                    </a:cubicBezTo>
                    <a:cubicBezTo>
                      <a:pt x="877" y="332"/>
                      <a:pt x="834" y="325"/>
                      <a:pt x="814" y="319"/>
                    </a:cubicBezTo>
                    <a:cubicBezTo>
                      <a:pt x="794" y="314"/>
                      <a:pt x="786" y="314"/>
                      <a:pt x="772" y="309"/>
                    </a:cubicBezTo>
                    <a:cubicBezTo>
                      <a:pt x="760" y="304"/>
                      <a:pt x="746" y="297"/>
                      <a:pt x="736" y="288"/>
                    </a:cubicBezTo>
                    <a:cubicBezTo>
                      <a:pt x="726" y="280"/>
                      <a:pt x="717" y="272"/>
                      <a:pt x="712" y="261"/>
                    </a:cubicBezTo>
                    <a:cubicBezTo>
                      <a:pt x="708" y="248"/>
                      <a:pt x="704" y="233"/>
                      <a:pt x="710" y="217"/>
                    </a:cubicBezTo>
                    <a:cubicBezTo>
                      <a:pt x="715" y="202"/>
                      <a:pt x="733" y="180"/>
                      <a:pt x="746" y="164"/>
                    </a:cubicBezTo>
                    <a:cubicBezTo>
                      <a:pt x="758" y="149"/>
                      <a:pt x="778" y="142"/>
                      <a:pt x="789" y="128"/>
                    </a:cubicBezTo>
                    <a:cubicBezTo>
                      <a:pt x="800" y="114"/>
                      <a:pt x="812" y="95"/>
                      <a:pt x="812" y="81"/>
                    </a:cubicBezTo>
                    <a:cubicBezTo>
                      <a:pt x="812" y="67"/>
                      <a:pt x="821" y="53"/>
                      <a:pt x="793" y="42"/>
                    </a:cubicBezTo>
                    <a:cubicBezTo>
                      <a:pt x="765" y="31"/>
                      <a:pt x="701" y="21"/>
                      <a:pt x="647" y="14"/>
                    </a:cubicBezTo>
                    <a:cubicBezTo>
                      <a:pt x="593" y="7"/>
                      <a:pt x="531" y="0"/>
                      <a:pt x="467" y="0"/>
                    </a:cubicBezTo>
                    <a:cubicBezTo>
                      <a:pt x="403" y="0"/>
                      <a:pt x="313" y="7"/>
                      <a:pt x="262" y="17"/>
                    </a:cubicBezTo>
                    <a:cubicBezTo>
                      <a:pt x="211" y="26"/>
                      <a:pt x="176" y="40"/>
                      <a:pt x="162" y="59"/>
                    </a:cubicBezTo>
                    <a:cubicBezTo>
                      <a:pt x="148" y="77"/>
                      <a:pt x="169" y="111"/>
                      <a:pt x="177" y="130"/>
                    </a:cubicBezTo>
                    <a:cubicBezTo>
                      <a:pt x="184" y="149"/>
                      <a:pt x="198" y="159"/>
                      <a:pt x="208" y="171"/>
                    </a:cubicBezTo>
                    <a:cubicBezTo>
                      <a:pt x="219" y="184"/>
                      <a:pt x="234" y="195"/>
                      <a:pt x="243" y="205"/>
                    </a:cubicBezTo>
                    <a:cubicBezTo>
                      <a:pt x="250" y="213"/>
                      <a:pt x="254" y="215"/>
                      <a:pt x="255" y="224"/>
                    </a:cubicBezTo>
                    <a:cubicBezTo>
                      <a:pt x="256" y="234"/>
                      <a:pt x="258" y="249"/>
                      <a:pt x="252" y="261"/>
                    </a:cubicBezTo>
                    <a:cubicBezTo>
                      <a:pt x="248" y="272"/>
                      <a:pt x="240" y="281"/>
                      <a:pt x="226" y="291"/>
                    </a:cubicBezTo>
                    <a:cubicBezTo>
                      <a:pt x="213" y="301"/>
                      <a:pt x="194" y="311"/>
                      <a:pt x="177" y="316"/>
                    </a:cubicBezTo>
                    <a:cubicBezTo>
                      <a:pt x="161" y="322"/>
                      <a:pt x="140" y="323"/>
                      <a:pt x="125" y="32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1ffff"/>
                  </a:gs>
                  <a:gs pos="100000">
                    <a:srgbClr val="00f4ee"/>
                  </a:gs>
                </a:gsLst>
                <a:lin ang="5400000"/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81920" y="3495600"/>
                <a:ext cx="963360" cy="92520"/>
              </a:xfrm>
              <a:custGeom>
                <a:avLst/>
                <a:gdLst/>
                <a:ahLst/>
                <a:rect l="l" t="t" r="r" b="b"/>
                <a:pathLst>
                  <a:path w="948" h="92">
                    <a:moveTo>
                      <a:pt x="948" y="80"/>
                    </a:moveTo>
                    <a:cubicBezTo>
                      <a:pt x="926" y="71"/>
                      <a:pt x="900" y="39"/>
                      <a:pt x="822" y="26"/>
                    </a:cubicBezTo>
                    <a:cubicBezTo>
                      <a:pt x="744" y="13"/>
                      <a:pt x="587" y="0"/>
                      <a:pt x="477" y="1"/>
                    </a:cubicBezTo>
                    <a:cubicBezTo>
                      <a:pt x="366" y="3"/>
                      <a:pt x="231" y="20"/>
                      <a:pt x="152" y="35"/>
                    </a:cubicBezTo>
                    <a:cubicBezTo>
                      <a:pt x="73" y="50"/>
                      <a:pt x="32" y="80"/>
                      <a:pt x="0" y="92"/>
                    </a:cubicBezTo>
                  </a:path>
                </a:pathLst>
              </a:custGeom>
              <a:noFill/>
              <a:ln w="19080">
                <a:solidFill>
                  <a:srgbClr val="0000d2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925560" y="2276640"/>
                <a:ext cx="670320" cy="143640"/>
              </a:xfrm>
              <a:custGeom>
                <a:avLst/>
                <a:gdLst/>
                <a:ahLst/>
                <a:rect l="l" t="t" r="r" b="b"/>
                <a:pathLst>
                  <a:path w="475" h="103">
                    <a:moveTo>
                      <a:pt x="5" y="57"/>
                    </a:moveTo>
                    <a:cubicBezTo>
                      <a:pt x="0" y="49"/>
                      <a:pt x="8" y="37"/>
                      <a:pt x="25" y="29"/>
                    </a:cubicBezTo>
                    <a:cubicBezTo>
                      <a:pt x="42" y="21"/>
                      <a:pt x="76" y="16"/>
                      <a:pt x="107" y="11"/>
                    </a:cubicBezTo>
                    <a:cubicBezTo>
                      <a:pt x="138" y="6"/>
                      <a:pt x="180" y="2"/>
                      <a:pt x="213" y="1"/>
                    </a:cubicBezTo>
                    <a:cubicBezTo>
                      <a:pt x="246" y="0"/>
                      <a:pt x="279" y="1"/>
                      <a:pt x="307" y="3"/>
                    </a:cubicBezTo>
                    <a:cubicBezTo>
                      <a:pt x="335" y="5"/>
                      <a:pt x="357" y="9"/>
                      <a:pt x="379" y="13"/>
                    </a:cubicBezTo>
                    <a:cubicBezTo>
                      <a:pt x="401" y="17"/>
                      <a:pt x="422" y="19"/>
                      <a:pt x="437" y="25"/>
                    </a:cubicBezTo>
                    <a:cubicBezTo>
                      <a:pt x="452" y="31"/>
                      <a:pt x="471" y="42"/>
                      <a:pt x="473" y="49"/>
                    </a:cubicBezTo>
                    <a:cubicBezTo>
                      <a:pt x="475" y="56"/>
                      <a:pt x="464" y="60"/>
                      <a:pt x="449" y="67"/>
                    </a:cubicBezTo>
                    <a:cubicBezTo>
                      <a:pt x="434" y="74"/>
                      <a:pt x="410" y="83"/>
                      <a:pt x="381" y="89"/>
                    </a:cubicBezTo>
                    <a:cubicBezTo>
                      <a:pt x="352" y="95"/>
                      <a:pt x="316" y="99"/>
                      <a:pt x="277" y="101"/>
                    </a:cubicBezTo>
                    <a:cubicBezTo>
                      <a:pt x="238" y="103"/>
                      <a:pt x="186" y="102"/>
                      <a:pt x="149" y="99"/>
                    </a:cubicBezTo>
                    <a:cubicBezTo>
                      <a:pt x="112" y="96"/>
                      <a:pt x="79" y="87"/>
                      <a:pt x="55" y="80"/>
                    </a:cubicBezTo>
                    <a:cubicBezTo>
                      <a:pt x="31" y="73"/>
                      <a:pt x="11" y="66"/>
                      <a:pt x="5" y="5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1ffff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8240" y="3296160"/>
                <a:ext cx="995400" cy="137160"/>
              </a:xfrm>
              <a:custGeom>
                <a:avLst/>
                <a:gdLst/>
                <a:ahLst/>
                <a:rect l="l" t="t" r="r" b="b"/>
                <a:pathLst>
                  <a:path w="706" h="98">
                    <a:moveTo>
                      <a:pt x="0" y="18"/>
                    </a:moveTo>
                    <a:cubicBezTo>
                      <a:pt x="6" y="22"/>
                      <a:pt x="17" y="35"/>
                      <a:pt x="36" y="44"/>
                    </a:cubicBezTo>
                    <a:cubicBezTo>
                      <a:pt x="55" y="53"/>
                      <a:pt x="83" y="64"/>
                      <a:pt x="115" y="72"/>
                    </a:cubicBezTo>
                    <a:cubicBezTo>
                      <a:pt x="147" y="80"/>
                      <a:pt x="189" y="86"/>
                      <a:pt x="230" y="90"/>
                    </a:cubicBezTo>
                    <a:cubicBezTo>
                      <a:pt x="271" y="94"/>
                      <a:pt x="318" y="98"/>
                      <a:pt x="364" y="98"/>
                    </a:cubicBezTo>
                    <a:cubicBezTo>
                      <a:pt x="410" y="98"/>
                      <a:pt x="467" y="96"/>
                      <a:pt x="508" y="90"/>
                    </a:cubicBezTo>
                    <a:cubicBezTo>
                      <a:pt x="549" y="84"/>
                      <a:pt x="582" y="73"/>
                      <a:pt x="610" y="64"/>
                    </a:cubicBezTo>
                    <a:cubicBezTo>
                      <a:pt x="638" y="55"/>
                      <a:pt x="660" y="45"/>
                      <a:pt x="676" y="34"/>
                    </a:cubicBezTo>
                    <a:cubicBezTo>
                      <a:pt x="692" y="23"/>
                      <a:pt x="700" y="7"/>
                      <a:pt x="706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68240" y="3175920"/>
                <a:ext cx="995400" cy="123840"/>
              </a:xfrm>
              <a:custGeom>
                <a:avLst/>
                <a:gdLst/>
                <a:ahLst/>
                <a:rect l="l" t="t" r="r" b="b"/>
                <a:pathLst>
                  <a:path w="706" h="90">
                    <a:moveTo>
                      <a:pt x="706" y="70"/>
                    </a:moveTo>
                    <a:cubicBezTo>
                      <a:pt x="699" y="65"/>
                      <a:pt x="685" y="49"/>
                      <a:pt x="664" y="40"/>
                    </a:cubicBezTo>
                    <a:cubicBezTo>
                      <a:pt x="643" y="31"/>
                      <a:pt x="611" y="22"/>
                      <a:pt x="580" y="16"/>
                    </a:cubicBezTo>
                    <a:cubicBezTo>
                      <a:pt x="549" y="10"/>
                      <a:pt x="514" y="4"/>
                      <a:pt x="478" y="2"/>
                    </a:cubicBezTo>
                    <a:cubicBezTo>
                      <a:pt x="442" y="0"/>
                      <a:pt x="399" y="1"/>
                      <a:pt x="361" y="1"/>
                    </a:cubicBezTo>
                    <a:cubicBezTo>
                      <a:pt x="323" y="1"/>
                      <a:pt x="286" y="1"/>
                      <a:pt x="252" y="4"/>
                    </a:cubicBezTo>
                    <a:cubicBezTo>
                      <a:pt x="218" y="7"/>
                      <a:pt x="183" y="14"/>
                      <a:pt x="154" y="20"/>
                    </a:cubicBezTo>
                    <a:cubicBezTo>
                      <a:pt x="125" y="26"/>
                      <a:pt x="97" y="34"/>
                      <a:pt x="76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68240" y="2773080"/>
                <a:ext cx="983880" cy="138600"/>
              </a:xfrm>
              <a:custGeom>
                <a:avLst/>
                <a:gdLst/>
                <a:ahLst/>
                <a:rect l="l" t="t" r="r" b="b"/>
                <a:pathLst>
                  <a:path w="698" h="100">
                    <a:moveTo>
                      <a:pt x="0" y="20"/>
                    </a:moveTo>
                    <a:cubicBezTo>
                      <a:pt x="6" y="24"/>
                      <a:pt x="17" y="37"/>
                      <a:pt x="36" y="46"/>
                    </a:cubicBezTo>
                    <a:cubicBezTo>
                      <a:pt x="55" y="55"/>
                      <a:pt x="84" y="66"/>
                      <a:pt x="116" y="74"/>
                    </a:cubicBezTo>
                    <a:cubicBezTo>
                      <a:pt x="148" y="82"/>
                      <a:pt x="191" y="88"/>
                      <a:pt x="232" y="92"/>
                    </a:cubicBezTo>
                    <a:cubicBezTo>
                      <a:pt x="273" y="96"/>
                      <a:pt x="321" y="100"/>
                      <a:pt x="367" y="100"/>
                    </a:cubicBezTo>
                    <a:cubicBezTo>
                      <a:pt x="413" y="100"/>
                      <a:pt x="471" y="98"/>
                      <a:pt x="512" y="92"/>
                    </a:cubicBezTo>
                    <a:cubicBezTo>
                      <a:pt x="554" y="86"/>
                      <a:pt x="587" y="75"/>
                      <a:pt x="615" y="66"/>
                    </a:cubicBezTo>
                    <a:cubicBezTo>
                      <a:pt x="643" y="57"/>
                      <a:pt x="668" y="47"/>
                      <a:pt x="682" y="36"/>
                    </a:cubicBezTo>
                    <a:cubicBezTo>
                      <a:pt x="696" y="25"/>
                      <a:pt x="695" y="7"/>
                      <a:pt x="698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69320" y="2667240"/>
                <a:ext cx="979920" cy="125280"/>
              </a:xfrm>
              <a:custGeom>
                <a:avLst/>
                <a:gdLst/>
                <a:ahLst/>
                <a:rect l="l" t="t" r="r" b="b"/>
                <a:pathLst>
                  <a:path w="696" h="90">
                    <a:moveTo>
                      <a:pt x="696" y="68"/>
                    </a:moveTo>
                    <a:cubicBezTo>
                      <a:pt x="691" y="63"/>
                      <a:pt x="688" y="49"/>
                      <a:pt x="670" y="40"/>
                    </a:cubicBezTo>
                    <a:cubicBezTo>
                      <a:pt x="652" y="31"/>
                      <a:pt x="616" y="22"/>
                      <a:pt x="585" y="16"/>
                    </a:cubicBezTo>
                    <a:cubicBezTo>
                      <a:pt x="554" y="10"/>
                      <a:pt x="518" y="4"/>
                      <a:pt x="482" y="2"/>
                    </a:cubicBezTo>
                    <a:cubicBezTo>
                      <a:pt x="446" y="0"/>
                      <a:pt x="402" y="1"/>
                      <a:pt x="364" y="1"/>
                    </a:cubicBezTo>
                    <a:cubicBezTo>
                      <a:pt x="326" y="1"/>
                      <a:pt x="288" y="1"/>
                      <a:pt x="254" y="4"/>
                    </a:cubicBezTo>
                    <a:cubicBezTo>
                      <a:pt x="220" y="7"/>
                      <a:pt x="185" y="14"/>
                      <a:pt x="155" y="20"/>
                    </a:cubicBezTo>
                    <a:cubicBezTo>
                      <a:pt x="126" y="26"/>
                      <a:pt x="98" y="34"/>
                      <a:pt x="77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684360" y="2779560"/>
              <a:ext cx="91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5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3780000" y="2060640"/>
            <a:ext cx="1150560" cy="1658880"/>
            <a:chOff x="3780000" y="2060640"/>
            <a:chExt cx="1150560" cy="1658880"/>
          </a:xfrm>
        </p:grpSpPr>
        <p:grpSp>
          <p:nvGrpSpPr>
            <p:cNvPr id="287" name=""/>
            <p:cNvGrpSpPr/>
            <p:nvPr/>
          </p:nvGrpSpPr>
          <p:grpSpPr>
            <a:xfrm>
              <a:off x="3780000" y="2060640"/>
              <a:ext cx="1150560" cy="1658880"/>
              <a:chOff x="3780000" y="2060640"/>
              <a:chExt cx="1150560" cy="1658880"/>
            </a:xfrm>
          </p:grpSpPr>
          <p:sp>
            <p:nvSpPr>
              <p:cNvPr id="288" name=""/>
              <p:cNvSpPr/>
              <p:nvPr/>
            </p:nvSpPr>
            <p:spPr>
              <a:xfrm>
                <a:off x="3780000" y="2060640"/>
                <a:ext cx="1147320" cy="1658880"/>
              </a:xfrm>
              <a:custGeom>
                <a:avLst/>
                <a:gdLst/>
                <a:ahLst/>
                <a:rect l="l" t="t" r="r" b="b"/>
                <a:pathLst>
                  <a:path w="977" h="1445">
                    <a:moveTo>
                      <a:pt x="125" y="327"/>
                    </a:moveTo>
                    <a:cubicBezTo>
                      <a:pt x="110" y="330"/>
                      <a:pt x="101" y="330"/>
                      <a:pt x="86" y="340"/>
                    </a:cubicBezTo>
                    <a:cubicBezTo>
                      <a:pt x="71" y="348"/>
                      <a:pt x="46" y="360"/>
                      <a:pt x="33" y="380"/>
                    </a:cubicBezTo>
                    <a:cubicBezTo>
                      <a:pt x="19" y="401"/>
                      <a:pt x="12" y="403"/>
                      <a:pt x="7" y="467"/>
                    </a:cubicBezTo>
                    <a:cubicBezTo>
                      <a:pt x="1" y="532"/>
                      <a:pt x="3" y="676"/>
                      <a:pt x="1" y="769"/>
                    </a:cubicBezTo>
                    <a:cubicBezTo>
                      <a:pt x="1" y="861"/>
                      <a:pt x="0" y="935"/>
                      <a:pt x="1" y="1024"/>
                    </a:cubicBezTo>
                    <a:cubicBezTo>
                      <a:pt x="4" y="1112"/>
                      <a:pt x="0" y="1240"/>
                      <a:pt x="12" y="1300"/>
                    </a:cubicBezTo>
                    <a:cubicBezTo>
                      <a:pt x="25" y="1360"/>
                      <a:pt x="30" y="1360"/>
                      <a:pt x="75" y="1382"/>
                    </a:cubicBezTo>
                    <a:cubicBezTo>
                      <a:pt x="119" y="1405"/>
                      <a:pt x="202" y="1423"/>
                      <a:pt x="283" y="1432"/>
                    </a:cubicBezTo>
                    <a:cubicBezTo>
                      <a:pt x="363" y="1442"/>
                      <a:pt x="471" y="1445"/>
                      <a:pt x="561" y="1441"/>
                    </a:cubicBezTo>
                    <a:cubicBezTo>
                      <a:pt x="651" y="1437"/>
                      <a:pt x="761" y="1424"/>
                      <a:pt x="823" y="1412"/>
                    </a:cubicBezTo>
                    <a:cubicBezTo>
                      <a:pt x="886" y="1399"/>
                      <a:pt x="915" y="1382"/>
                      <a:pt x="940" y="1361"/>
                    </a:cubicBezTo>
                    <a:cubicBezTo>
                      <a:pt x="965" y="1340"/>
                      <a:pt x="964" y="1339"/>
                      <a:pt x="970" y="1284"/>
                    </a:cubicBezTo>
                    <a:cubicBezTo>
                      <a:pt x="976" y="1229"/>
                      <a:pt x="973" y="1148"/>
                      <a:pt x="974" y="1032"/>
                    </a:cubicBezTo>
                    <a:cubicBezTo>
                      <a:pt x="975" y="916"/>
                      <a:pt x="977" y="692"/>
                      <a:pt x="974" y="589"/>
                    </a:cubicBezTo>
                    <a:cubicBezTo>
                      <a:pt x="971" y="486"/>
                      <a:pt x="966" y="449"/>
                      <a:pt x="958" y="411"/>
                    </a:cubicBezTo>
                    <a:cubicBezTo>
                      <a:pt x="951" y="373"/>
                      <a:pt x="937" y="378"/>
                      <a:pt x="927" y="365"/>
                    </a:cubicBezTo>
                    <a:cubicBezTo>
                      <a:pt x="916" y="353"/>
                      <a:pt x="915" y="347"/>
                      <a:pt x="895" y="340"/>
                    </a:cubicBezTo>
                    <a:cubicBezTo>
                      <a:pt x="877" y="332"/>
                      <a:pt x="834" y="325"/>
                      <a:pt x="814" y="319"/>
                    </a:cubicBezTo>
                    <a:cubicBezTo>
                      <a:pt x="794" y="314"/>
                      <a:pt x="786" y="314"/>
                      <a:pt x="772" y="309"/>
                    </a:cubicBezTo>
                    <a:cubicBezTo>
                      <a:pt x="760" y="304"/>
                      <a:pt x="746" y="297"/>
                      <a:pt x="736" y="288"/>
                    </a:cubicBezTo>
                    <a:cubicBezTo>
                      <a:pt x="726" y="280"/>
                      <a:pt x="717" y="272"/>
                      <a:pt x="712" y="261"/>
                    </a:cubicBezTo>
                    <a:cubicBezTo>
                      <a:pt x="708" y="248"/>
                      <a:pt x="704" y="233"/>
                      <a:pt x="710" y="217"/>
                    </a:cubicBezTo>
                    <a:cubicBezTo>
                      <a:pt x="715" y="202"/>
                      <a:pt x="733" y="180"/>
                      <a:pt x="746" y="164"/>
                    </a:cubicBezTo>
                    <a:cubicBezTo>
                      <a:pt x="758" y="149"/>
                      <a:pt x="778" y="142"/>
                      <a:pt x="789" y="128"/>
                    </a:cubicBezTo>
                    <a:cubicBezTo>
                      <a:pt x="800" y="114"/>
                      <a:pt x="812" y="95"/>
                      <a:pt x="812" y="81"/>
                    </a:cubicBezTo>
                    <a:cubicBezTo>
                      <a:pt x="812" y="67"/>
                      <a:pt x="821" y="53"/>
                      <a:pt x="793" y="42"/>
                    </a:cubicBezTo>
                    <a:cubicBezTo>
                      <a:pt x="765" y="31"/>
                      <a:pt x="701" y="21"/>
                      <a:pt x="647" y="14"/>
                    </a:cubicBezTo>
                    <a:cubicBezTo>
                      <a:pt x="593" y="7"/>
                      <a:pt x="531" y="0"/>
                      <a:pt x="467" y="0"/>
                    </a:cubicBezTo>
                    <a:cubicBezTo>
                      <a:pt x="403" y="0"/>
                      <a:pt x="313" y="7"/>
                      <a:pt x="262" y="17"/>
                    </a:cubicBezTo>
                    <a:cubicBezTo>
                      <a:pt x="211" y="26"/>
                      <a:pt x="176" y="40"/>
                      <a:pt x="162" y="59"/>
                    </a:cubicBezTo>
                    <a:cubicBezTo>
                      <a:pt x="148" y="77"/>
                      <a:pt x="169" y="111"/>
                      <a:pt x="177" y="130"/>
                    </a:cubicBezTo>
                    <a:cubicBezTo>
                      <a:pt x="184" y="149"/>
                      <a:pt x="198" y="159"/>
                      <a:pt x="208" y="171"/>
                    </a:cubicBezTo>
                    <a:cubicBezTo>
                      <a:pt x="219" y="184"/>
                      <a:pt x="234" y="195"/>
                      <a:pt x="243" y="205"/>
                    </a:cubicBezTo>
                    <a:cubicBezTo>
                      <a:pt x="250" y="213"/>
                      <a:pt x="254" y="215"/>
                      <a:pt x="255" y="224"/>
                    </a:cubicBezTo>
                    <a:cubicBezTo>
                      <a:pt x="256" y="234"/>
                      <a:pt x="258" y="249"/>
                      <a:pt x="252" y="261"/>
                    </a:cubicBezTo>
                    <a:cubicBezTo>
                      <a:pt x="248" y="272"/>
                      <a:pt x="240" y="281"/>
                      <a:pt x="226" y="291"/>
                    </a:cubicBezTo>
                    <a:cubicBezTo>
                      <a:pt x="213" y="301"/>
                      <a:pt x="194" y="311"/>
                      <a:pt x="177" y="316"/>
                    </a:cubicBezTo>
                    <a:cubicBezTo>
                      <a:pt x="161" y="322"/>
                      <a:pt x="140" y="323"/>
                      <a:pt x="125" y="32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1ffff"/>
                  </a:gs>
                  <a:gs pos="100000">
                    <a:srgbClr val="00f4ee"/>
                  </a:gs>
                </a:gsLst>
                <a:lin ang="5400000"/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795840" y="3465360"/>
                <a:ext cx="1113840" cy="106560"/>
              </a:xfrm>
              <a:custGeom>
                <a:avLst/>
                <a:gdLst/>
                <a:ahLst/>
                <a:rect l="l" t="t" r="r" b="b"/>
                <a:pathLst>
                  <a:path w="948" h="92">
                    <a:moveTo>
                      <a:pt x="948" y="80"/>
                    </a:moveTo>
                    <a:cubicBezTo>
                      <a:pt x="926" y="71"/>
                      <a:pt x="900" y="39"/>
                      <a:pt x="822" y="26"/>
                    </a:cubicBezTo>
                    <a:cubicBezTo>
                      <a:pt x="744" y="13"/>
                      <a:pt x="587" y="0"/>
                      <a:pt x="477" y="1"/>
                    </a:cubicBezTo>
                    <a:cubicBezTo>
                      <a:pt x="366" y="3"/>
                      <a:pt x="231" y="20"/>
                      <a:pt x="152" y="35"/>
                    </a:cubicBezTo>
                    <a:cubicBezTo>
                      <a:pt x="73" y="50"/>
                      <a:pt x="32" y="80"/>
                      <a:pt x="0" y="92"/>
                    </a:cubicBezTo>
                  </a:path>
                </a:pathLst>
              </a:custGeom>
              <a:noFill/>
              <a:ln w="19080">
                <a:solidFill>
                  <a:srgbClr val="0000d2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961800" y="2060640"/>
                <a:ext cx="775080" cy="165600"/>
              </a:xfrm>
              <a:custGeom>
                <a:avLst/>
                <a:gdLst/>
                <a:ahLst/>
                <a:rect l="l" t="t" r="r" b="b"/>
                <a:pathLst>
                  <a:path w="475" h="103">
                    <a:moveTo>
                      <a:pt x="5" y="57"/>
                    </a:moveTo>
                    <a:cubicBezTo>
                      <a:pt x="0" y="49"/>
                      <a:pt x="8" y="37"/>
                      <a:pt x="25" y="29"/>
                    </a:cubicBezTo>
                    <a:cubicBezTo>
                      <a:pt x="42" y="21"/>
                      <a:pt x="76" y="16"/>
                      <a:pt x="107" y="11"/>
                    </a:cubicBezTo>
                    <a:cubicBezTo>
                      <a:pt x="138" y="6"/>
                      <a:pt x="180" y="2"/>
                      <a:pt x="213" y="1"/>
                    </a:cubicBezTo>
                    <a:cubicBezTo>
                      <a:pt x="246" y="0"/>
                      <a:pt x="279" y="1"/>
                      <a:pt x="307" y="3"/>
                    </a:cubicBezTo>
                    <a:cubicBezTo>
                      <a:pt x="335" y="5"/>
                      <a:pt x="357" y="9"/>
                      <a:pt x="379" y="13"/>
                    </a:cubicBezTo>
                    <a:cubicBezTo>
                      <a:pt x="401" y="17"/>
                      <a:pt x="422" y="19"/>
                      <a:pt x="437" y="25"/>
                    </a:cubicBezTo>
                    <a:cubicBezTo>
                      <a:pt x="452" y="31"/>
                      <a:pt x="471" y="42"/>
                      <a:pt x="473" y="49"/>
                    </a:cubicBezTo>
                    <a:cubicBezTo>
                      <a:pt x="475" y="56"/>
                      <a:pt x="464" y="60"/>
                      <a:pt x="449" y="67"/>
                    </a:cubicBezTo>
                    <a:cubicBezTo>
                      <a:pt x="434" y="74"/>
                      <a:pt x="410" y="83"/>
                      <a:pt x="381" y="89"/>
                    </a:cubicBezTo>
                    <a:cubicBezTo>
                      <a:pt x="352" y="95"/>
                      <a:pt x="316" y="99"/>
                      <a:pt x="277" y="101"/>
                    </a:cubicBezTo>
                    <a:cubicBezTo>
                      <a:pt x="238" y="103"/>
                      <a:pt x="186" y="102"/>
                      <a:pt x="149" y="99"/>
                    </a:cubicBezTo>
                    <a:cubicBezTo>
                      <a:pt x="112" y="96"/>
                      <a:pt x="79" y="87"/>
                      <a:pt x="55" y="80"/>
                    </a:cubicBezTo>
                    <a:cubicBezTo>
                      <a:pt x="31" y="73"/>
                      <a:pt x="11" y="66"/>
                      <a:pt x="5" y="5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1ffff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780000" y="3235320"/>
                <a:ext cx="1150560" cy="158400"/>
              </a:xfrm>
              <a:custGeom>
                <a:avLst/>
                <a:gdLst/>
                <a:ahLst/>
                <a:rect l="l" t="t" r="r" b="b"/>
                <a:pathLst>
                  <a:path w="706" h="98">
                    <a:moveTo>
                      <a:pt x="0" y="18"/>
                    </a:moveTo>
                    <a:cubicBezTo>
                      <a:pt x="6" y="22"/>
                      <a:pt x="17" y="35"/>
                      <a:pt x="36" y="44"/>
                    </a:cubicBezTo>
                    <a:cubicBezTo>
                      <a:pt x="55" y="53"/>
                      <a:pt x="83" y="64"/>
                      <a:pt x="115" y="72"/>
                    </a:cubicBezTo>
                    <a:cubicBezTo>
                      <a:pt x="147" y="80"/>
                      <a:pt x="189" y="86"/>
                      <a:pt x="230" y="90"/>
                    </a:cubicBezTo>
                    <a:cubicBezTo>
                      <a:pt x="271" y="94"/>
                      <a:pt x="318" y="98"/>
                      <a:pt x="364" y="98"/>
                    </a:cubicBezTo>
                    <a:cubicBezTo>
                      <a:pt x="410" y="98"/>
                      <a:pt x="467" y="96"/>
                      <a:pt x="508" y="90"/>
                    </a:cubicBezTo>
                    <a:cubicBezTo>
                      <a:pt x="549" y="84"/>
                      <a:pt x="582" y="73"/>
                      <a:pt x="610" y="64"/>
                    </a:cubicBezTo>
                    <a:cubicBezTo>
                      <a:pt x="638" y="55"/>
                      <a:pt x="660" y="45"/>
                      <a:pt x="676" y="34"/>
                    </a:cubicBezTo>
                    <a:cubicBezTo>
                      <a:pt x="692" y="23"/>
                      <a:pt x="700" y="7"/>
                      <a:pt x="706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780000" y="3097080"/>
                <a:ext cx="1150560" cy="142560"/>
              </a:xfrm>
              <a:custGeom>
                <a:avLst/>
                <a:gdLst/>
                <a:ahLst/>
                <a:rect l="l" t="t" r="r" b="b"/>
                <a:pathLst>
                  <a:path w="706" h="90">
                    <a:moveTo>
                      <a:pt x="706" y="70"/>
                    </a:moveTo>
                    <a:cubicBezTo>
                      <a:pt x="699" y="65"/>
                      <a:pt x="685" y="49"/>
                      <a:pt x="664" y="40"/>
                    </a:cubicBezTo>
                    <a:cubicBezTo>
                      <a:pt x="643" y="31"/>
                      <a:pt x="611" y="22"/>
                      <a:pt x="580" y="16"/>
                    </a:cubicBezTo>
                    <a:cubicBezTo>
                      <a:pt x="549" y="10"/>
                      <a:pt x="514" y="4"/>
                      <a:pt x="478" y="2"/>
                    </a:cubicBezTo>
                    <a:cubicBezTo>
                      <a:pt x="442" y="0"/>
                      <a:pt x="399" y="1"/>
                      <a:pt x="361" y="1"/>
                    </a:cubicBezTo>
                    <a:cubicBezTo>
                      <a:pt x="323" y="1"/>
                      <a:pt x="286" y="1"/>
                      <a:pt x="252" y="4"/>
                    </a:cubicBezTo>
                    <a:cubicBezTo>
                      <a:pt x="218" y="7"/>
                      <a:pt x="183" y="14"/>
                      <a:pt x="154" y="20"/>
                    </a:cubicBezTo>
                    <a:cubicBezTo>
                      <a:pt x="125" y="26"/>
                      <a:pt x="97" y="34"/>
                      <a:pt x="76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780000" y="2632680"/>
                <a:ext cx="1137600" cy="159480"/>
              </a:xfrm>
              <a:custGeom>
                <a:avLst/>
                <a:gdLst/>
                <a:ahLst/>
                <a:rect l="l" t="t" r="r" b="b"/>
                <a:pathLst>
                  <a:path w="698" h="100">
                    <a:moveTo>
                      <a:pt x="0" y="20"/>
                    </a:moveTo>
                    <a:cubicBezTo>
                      <a:pt x="6" y="24"/>
                      <a:pt x="17" y="37"/>
                      <a:pt x="36" y="46"/>
                    </a:cubicBezTo>
                    <a:cubicBezTo>
                      <a:pt x="55" y="55"/>
                      <a:pt x="84" y="66"/>
                      <a:pt x="116" y="74"/>
                    </a:cubicBezTo>
                    <a:cubicBezTo>
                      <a:pt x="148" y="82"/>
                      <a:pt x="191" y="88"/>
                      <a:pt x="232" y="92"/>
                    </a:cubicBezTo>
                    <a:cubicBezTo>
                      <a:pt x="273" y="96"/>
                      <a:pt x="321" y="100"/>
                      <a:pt x="367" y="100"/>
                    </a:cubicBezTo>
                    <a:cubicBezTo>
                      <a:pt x="413" y="100"/>
                      <a:pt x="471" y="98"/>
                      <a:pt x="512" y="92"/>
                    </a:cubicBezTo>
                    <a:cubicBezTo>
                      <a:pt x="554" y="86"/>
                      <a:pt x="587" y="75"/>
                      <a:pt x="615" y="66"/>
                    </a:cubicBezTo>
                    <a:cubicBezTo>
                      <a:pt x="643" y="57"/>
                      <a:pt x="668" y="47"/>
                      <a:pt x="682" y="36"/>
                    </a:cubicBezTo>
                    <a:cubicBezTo>
                      <a:pt x="696" y="25"/>
                      <a:pt x="695" y="7"/>
                      <a:pt x="698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781440" y="2511000"/>
                <a:ext cx="1132920" cy="144360"/>
              </a:xfrm>
              <a:custGeom>
                <a:avLst/>
                <a:gdLst/>
                <a:ahLst/>
                <a:rect l="l" t="t" r="r" b="b"/>
                <a:pathLst>
                  <a:path w="696" h="90">
                    <a:moveTo>
                      <a:pt x="696" y="68"/>
                    </a:moveTo>
                    <a:cubicBezTo>
                      <a:pt x="691" y="63"/>
                      <a:pt x="688" y="49"/>
                      <a:pt x="670" y="40"/>
                    </a:cubicBezTo>
                    <a:cubicBezTo>
                      <a:pt x="652" y="31"/>
                      <a:pt x="616" y="22"/>
                      <a:pt x="585" y="16"/>
                    </a:cubicBezTo>
                    <a:cubicBezTo>
                      <a:pt x="554" y="10"/>
                      <a:pt x="518" y="4"/>
                      <a:pt x="482" y="2"/>
                    </a:cubicBezTo>
                    <a:cubicBezTo>
                      <a:pt x="446" y="0"/>
                      <a:pt x="402" y="1"/>
                      <a:pt x="364" y="1"/>
                    </a:cubicBezTo>
                    <a:cubicBezTo>
                      <a:pt x="326" y="1"/>
                      <a:pt x="288" y="1"/>
                      <a:pt x="254" y="4"/>
                    </a:cubicBezTo>
                    <a:cubicBezTo>
                      <a:pt x="220" y="7"/>
                      <a:pt x="185" y="14"/>
                      <a:pt x="155" y="20"/>
                    </a:cubicBezTo>
                    <a:cubicBezTo>
                      <a:pt x="126" y="26"/>
                      <a:pt x="98" y="34"/>
                      <a:pt x="77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5" name=""/>
            <p:cNvSpPr/>
            <p:nvPr/>
          </p:nvSpPr>
          <p:spPr>
            <a:xfrm>
              <a:off x="3780000" y="242100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1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1763640" y="28526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349800" y="285264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2195640" y="2276640"/>
            <a:ext cx="1079280" cy="1439640"/>
            <a:chOff x="2195640" y="2276640"/>
            <a:chExt cx="1079280" cy="1439640"/>
          </a:xfrm>
        </p:grpSpPr>
        <p:grpSp>
          <p:nvGrpSpPr>
            <p:cNvPr id="299" name=""/>
            <p:cNvGrpSpPr/>
            <p:nvPr/>
          </p:nvGrpSpPr>
          <p:grpSpPr>
            <a:xfrm>
              <a:off x="2279520" y="2276640"/>
              <a:ext cx="995400" cy="1439640"/>
              <a:chOff x="2279520" y="2276640"/>
              <a:chExt cx="995400" cy="1439640"/>
            </a:xfrm>
          </p:grpSpPr>
          <p:sp>
            <p:nvSpPr>
              <p:cNvPr id="300" name=""/>
              <p:cNvSpPr/>
              <p:nvPr/>
            </p:nvSpPr>
            <p:spPr>
              <a:xfrm>
                <a:off x="2279520" y="2276640"/>
                <a:ext cx="992520" cy="1439640"/>
              </a:xfrm>
              <a:custGeom>
                <a:avLst/>
                <a:gdLst/>
                <a:ahLst/>
                <a:rect l="l" t="t" r="r" b="b"/>
                <a:pathLst>
                  <a:path w="977" h="1445">
                    <a:moveTo>
                      <a:pt x="125" y="327"/>
                    </a:moveTo>
                    <a:cubicBezTo>
                      <a:pt x="110" y="330"/>
                      <a:pt x="101" y="330"/>
                      <a:pt x="86" y="340"/>
                    </a:cubicBezTo>
                    <a:cubicBezTo>
                      <a:pt x="71" y="348"/>
                      <a:pt x="46" y="360"/>
                      <a:pt x="33" y="380"/>
                    </a:cubicBezTo>
                    <a:cubicBezTo>
                      <a:pt x="19" y="401"/>
                      <a:pt x="12" y="403"/>
                      <a:pt x="7" y="467"/>
                    </a:cubicBezTo>
                    <a:cubicBezTo>
                      <a:pt x="1" y="532"/>
                      <a:pt x="3" y="676"/>
                      <a:pt x="1" y="769"/>
                    </a:cubicBezTo>
                    <a:cubicBezTo>
                      <a:pt x="1" y="861"/>
                      <a:pt x="0" y="935"/>
                      <a:pt x="1" y="1024"/>
                    </a:cubicBezTo>
                    <a:cubicBezTo>
                      <a:pt x="4" y="1112"/>
                      <a:pt x="0" y="1240"/>
                      <a:pt x="12" y="1300"/>
                    </a:cubicBezTo>
                    <a:cubicBezTo>
                      <a:pt x="25" y="1360"/>
                      <a:pt x="30" y="1360"/>
                      <a:pt x="75" y="1382"/>
                    </a:cubicBezTo>
                    <a:cubicBezTo>
                      <a:pt x="119" y="1405"/>
                      <a:pt x="202" y="1423"/>
                      <a:pt x="283" y="1432"/>
                    </a:cubicBezTo>
                    <a:cubicBezTo>
                      <a:pt x="363" y="1442"/>
                      <a:pt x="471" y="1445"/>
                      <a:pt x="561" y="1441"/>
                    </a:cubicBezTo>
                    <a:cubicBezTo>
                      <a:pt x="651" y="1437"/>
                      <a:pt x="761" y="1424"/>
                      <a:pt x="823" y="1412"/>
                    </a:cubicBezTo>
                    <a:cubicBezTo>
                      <a:pt x="886" y="1399"/>
                      <a:pt x="915" y="1382"/>
                      <a:pt x="940" y="1361"/>
                    </a:cubicBezTo>
                    <a:cubicBezTo>
                      <a:pt x="965" y="1340"/>
                      <a:pt x="964" y="1339"/>
                      <a:pt x="970" y="1284"/>
                    </a:cubicBezTo>
                    <a:cubicBezTo>
                      <a:pt x="976" y="1229"/>
                      <a:pt x="973" y="1148"/>
                      <a:pt x="974" y="1032"/>
                    </a:cubicBezTo>
                    <a:cubicBezTo>
                      <a:pt x="975" y="916"/>
                      <a:pt x="977" y="692"/>
                      <a:pt x="974" y="589"/>
                    </a:cubicBezTo>
                    <a:cubicBezTo>
                      <a:pt x="971" y="486"/>
                      <a:pt x="966" y="449"/>
                      <a:pt x="958" y="411"/>
                    </a:cubicBezTo>
                    <a:cubicBezTo>
                      <a:pt x="951" y="373"/>
                      <a:pt x="937" y="378"/>
                      <a:pt x="927" y="365"/>
                    </a:cubicBezTo>
                    <a:cubicBezTo>
                      <a:pt x="916" y="353"/>
                      <a:pt x="915" y="347"/>
                      <a:pt x="895" y="340"/>
                    </a:cubicBezTo>
                    <a:cubicBezTo>
                      <a:pt x="877" y="332"/>
                      <a:pt x="834" y="325"/>
                      <a:pt x="814" y="319"/>
                    </a:cubicBezTo>
                    <a:cubicBezTo>
                      <a:pt x="794" y="314"/>
                      <a:pt x="786" y="314"/>
                      <a:pt x="772" y="309"/>
                    </a:cubicBezTo>
                    <a:cubicBezTo>
                      <a:pt x="760" y="304"/>
                      <a:pt x="746" y="297"/>
                      <a:pt x="736" y="288"/>
                    </a:cubicBezTo>
                    <a:cubicBezTo>
                      <a:pt x="726" y="280"/>
                      <a:pt x="717" y="272"/>
                      <a:pt x="712" y="261"/>
                    </a:cubicBezTo>
                    <a:cubicBezTo>
                      <a:pt x="708" y="248"/>
                      <a:pt x="704" y="233"/>
                      <a:pt x="710" y="217"/>
                    </a:cubicBezTo>
                    <a:cubicBezTo>
                      <a:pt x="715" y="202"/>
                      <a:pt x="733" y="180"/>
                      <a:pt x="746" y="164"/>
                    </a:cubicBezTo>
                    <a:cubicBezTo>
                      <a:pt x="758" y="149"/>
                      <a:pt x="778" y="142"/>
                      <a:pt x="789" y="128"/>
                    </a:cubicBezTo>
                    <a:cubicBezTo>
                      <a:pt x="800" y="114"/>
                      <a:pt x="812" y="95"/>
                      <a:pt x="812" y="81"/>
                    </a:cubicBezTo>
                    <a:cubicBezTo>
                      <a:pt x="812" y="67"/>
                      <a:pt x="821" y="53"/>
                      <a:pt x="793" y="42"/>
                    </a:cubicBezTo>
                    <a:cubicBezTo>
                      <a:pt x="765" y="31"/>
                      <a:pt x="701" y="21"/>
                      <a:pt x="647" y="14"/>
                    </a:cubicBezTo>
                    <a:cubicBezTo>
                      <a:pt x="593" y="7"/>
                      <a:pt x="531" y="0"/>
                      <a:pt x="467" y="0"/>
                    </a:cubicBezTo>
                    <a:cubicBezTo>
                      <a:pt x="403" y="0"/>
                      <a:pt x="313" y="7"/>
                      <a:pt x="262" y="17"/>
                    </a:cubicBezTo>
                    <a:cubicBezTo>
                      <a:pt x="211" y="26"/>
                      <a:pt x="176" y="40"/>
                      <a:pt x="162" y="59"/>
                    </a:cubicBezTo>
                    <a:cubicBezTo>
                      <a:pt x="148" y="77"/>
                      <a:pt x="169" y="111"/>
                      <a:pt x="177" y="130"/>
                    </a:cubicBezTo>
                    <a:cubicBezTo>
                      <a:pt x="184" y="149"/>
                      <a:pt x="198" y="159"/>
                      <a:pt x="208" y="171"/>
                    </a:cubicBezTo>
                    <a:cubicBezTo>
                      <a:pt x="219" y="184"/>
                      <a:pt x="234" y="195"/>
                      <a:pt x="243" y="205"/>
                    </a:cubicBezTo>
                    <a:cubicBezTo>
                      <a:pt x="250" y="213"/>
                      <a:pt x="254" y="215"/>
                      <a:pt x="255" y="224"/>
                    </a:cubicBezTo>
                    <a:cubicBezTo>
                      <a:pt x="256" y="234"/>
                      <a:pt x="258" y="249"/>
                      <a:pt x="252" y="261"/>
                    </a:cubicBezTo>
                    <a:cubicBezTo>
                      <a:pt x="248" y="272"/>
                      <a:pt x="240" y="281"/>
                      <a:pt x="226" y="291"/>
                    </a:cubicBezTo>
                    <a:cubicBezTo>
                      <a:pt x="213" y="301"/>
                      <a:pt x="194" y="311"/>
                      <a:pt x="177" y="316"/>
                    </a:cubicBezTo>
                    <a:cubicBezTo>
                      <a:pt x="161" y="322"/>
                      <a:pt x="140" y="323"/>
                      <a:pt x="125" y="32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1ffff"/>
                  </a:gs>
                  <a:gs pos="100000">
                    <a:srgbClr val="00f4ee"/>
                  </a:gs>
                </a:gsLst>
                <a:lin ang="5400000"/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293200" y="3495600"/>
                <a:ext cx="963360" cy="92520"/>
              </a:xfrm>
              <a:custGeom>
                <a:avLst/>
                <a:gdLst/>
                <a:ahLst/>
                <a:rect l="l" t="t" r="r" b="b"/>
                <a:pathLst>
                  <a:path w="948" h="92">
                    <a:moveTo>
                      <a:pt x="948" y="80"/>
                    </a:moveTo>
                    <a:cubicBezTo>
                      <a:pt x="926" y="71"/>
                      <a:pt x="900" y="39"/>
                      <a:pt x="822" y="26"/>
                    </a:cubicBezTo>
                    <a:cubicBezTo>
                      <a:pt x="744" y="13"/>
                      <a:pt x="587" y="0"/>
                      <a:pt x="477" y="1"/>
                    </a:cubicBezTo>
                    <a:cubicBezTo>
                      <a:pt x="366" y="3"/>
                      <a:pt x="231" y="20"/>
                      <a:pt x="152" y="35"/>
                    </a:cubicBezTo>
                    <a:cubicBezTo>
                      <a:pt x="73" y="50"/>
                      <a:pt x="32" y="80"/>
                      <a:pt x="0" y="92"/>
                    </a:cubicBezTo>
                  </a:path>
                </a:pathLst>
              </a:custGeom>
              <a:noFill/>
              <a:ln w="19080">
                <a:solidFill>
                  <a:srgbClr val="0000d2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436840" y="2276640"/>
                <a:ext cx="670320" cy="143640"/>
              </a:xfrm>
              <a:custGeom>
                <a:avLst/>
                <a:gdLst/>
                <a:ahLst/>
                <a:rect l="l" t="t" r="r" b="b"/>
                <a:pathLst>
                  <a:path w="475" h="103">
                    <a:moveTo>
                      <a:pt x="5" y="57"/>
                    </a:moveTo>
                    <a:cubicBezTo>
                      <a:pt x="0" y="49"/>
                      <a:pt x="8" y="37"/>
                      <a:pt x="25" y="29"/>
                    </a:cubicBezTo>
                    <a:cubicBezTo>
                      <a:pt x="42" y="21"/>
                      <a:pt x="76" y="16"/>
                      <a:pt x="107" y="11"/>
                    </a:cubicBezTo>
                    <a:cubicBezTo>
                      <a:pt x="138" y="6"/>
                      <a:pt x="180" y="2"/>
                      <a:pt x="213" y="1"/>
                    </a:cubicBezTo>
                    <a:cubicBezTo>
                      <a:pt x="246" y="0"/>
                      <a:pt x="279" y="1"/>
                      <a:pt x="307" y="3"/>
                    </a:cubicBezTo>
                    <a:cubicBezTo>
                      <a:pt x="335" y="5"/>
                      <a:pt x="357" y="9"/>
                      <a:pt x="379" y="13"/>
                    </a:cubicBezTo>
                    <a:cubicBezTo>
                      <a:pt x="401" y="17"/>
                      <a:pt x="422" y="19"/>
                      <a:pt x="437" y="25"/>
                    </a:cubicBezTo>
                    <a:cubicBezTo>
                      <a:pt x="452" y="31"/>
                      <a:pt x="471" y="42"/>
                      <a:pt x="473" y="49"/>
                    </a:cubicBezTo>
                    <a:cubicBezTo>
                      <a:pt x="475" y="56"/>
                      <a:pt x="464" y="60"/>
                      <a:pt x="449" y="67"/>
                    </a:cubicBezTo>
                    <a:cubicBezTo>
                      <a:pt x="434" y="74"/>
                      <a:pt x="410" y="83"/>
                      <a:pt x="381" y="89"/>
                    </a:cubicBezTo>
                    <a:cubicBezTo>
                      <a:pt x="352" y="95"/>
                      <a:pt x="316" y="99"/>
                      <a:pt x="277" y="101"/>
                    </a:cubicBezTo>
                    <a:cubicBezTo>
                      <a:pt x="238" y="103"/>
                      <a:pt x="186" y="102"/>
                      <a:pt x="149" y="99"/>
                    </a:cubicBezTo>
                    <a:cubicBezTo>
                      <a:pt x="112" y="96"/>
                      <a:pt x="79" y="87"/>
                      <a:pt x="55" y="80"/>
                    </a:cubicBezTo>
                    <a:cubicBezTo>
                      <a:pt x="31" y="73"/>
                      <a:pt x="11" y="66"/>
                      <a:pt x="5" y="5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1ffff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79520" y="3296160"/>
                <a:ext cx="995400" cy="137160"/>
              </a:xfrm>
              <a:custGeom>
                <a:avLst/>
                <a:gdLst/>
                <a:ahLst/>
                <a:rect l="l" t="t" r="r" b="b"/>
                <a:pathLst>
                  <a:path w="706" h="98">
                    <a:moveTo>
                      <a:pt x="0" y="18"/>
                    </a:moveTo>
                    <a:cubicBezTo>
                      <a:pt x="6" y="22"/>
                      <a:pt x="17" y="35"/>
                      <a:pt x="36" y="44"/>
                    </a:cubicBezTo>
                    <a:cubicBezTo>
                      <a:pt x="55" y="53"/>
                      <a:pt x="83" y="64"/>
                      <a:pt x="115" y="72"/>
                    </a:cubicBezTo>
                    <a:cubicBezTo>
                      <a:pt x="147" y="80"/>
                      <a:pt x="189" y="86"/>
                      <a:pt x="230" y="90"/>
                    </a:cubicBezTo>
                    <a:cubicBezTo>
                      <a:pt x="271" y="94"/>
                      <a:pt x="318" y="98"/>
                      <a:pt x="364" y="98"/>
                    </a:cubicBezTo>
                    <a:cubicBezTo>
                      <a:pt x="410" y="98"/>
                      <a:pt x="467" y="96"/>
                      <a:pt x="508" y="90"/>
                    </a:cubicBezTo>
                    <a:cubicBezTo>
                      <a:pt x="549" y="84"/>
                      <a:pt x="582" y="73"/>
                      <a:pt x="610" y="64"/>
                    </a:cubicBezTo>
                    <a:cubicBezTo>
                      <a:pt x="638" y="55"/>
                      <a:pt x="660" y="45"/>
                      <a:pt x="676" y="34"/>
                    </a:cubicBezTo>
                    <a:cubicBezTo>
                      <a:pt x="692" y="23"/>
                      <a:pt x="700" y="7"/>
                      <a:pt x="706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279520" y="3175920"/>
                <a:ext cx="995400" cy="123840"/>
              </a:xfrm>
              <a:custGeom>
                <a:avLst/>
                <a:gdLst/>
                <a:ahLst/>
                <a:rect l="l" t="t" r="r" b="b"/>
                <a:pathLst>
                  <a:path w="706" h="90">
                    <a:moveTo>
                      <a:pt x="706" y="70"/>
                    </a:moveTo>
                    <a:cubicBezTo>
                      <a:pt x="699" y="65"/>
                      <a:pt x="685" y="49"/>
                      <a:pt x="664" y="40"/>
                    </a:cubicBezTo>
                    <a:cubicBezTo>
                      <a:pt x="643" y="31"/>
                      <a:pt x="611" y="22"/>
                      <a:pt x="580" y="16"/>
                    </a:cubicBezTo>
                    <a:cubicBezTo>
                      <a:pt x="549" y="10"/>
                      <a:pt x="514" y="4"/>
                      <a:pt x="478" y="2"/>
                    </a:cubicBezTo>
                    <a:cubicBezTo>
                      <a:pt x="442" y="0"/>
                      <a:pt x="399" y="1"/>
                      <a:pt x="361" y="1"/>
                    </a:cubicBezTo>
                    <a:cubicBezTo>
                      <a:pt x="323" y="1"/>
                      <a:pt x="286" y="1"/>
                      <a:pt x="252" y="4"/>
                    </a:cubicBezTo>
                    <a:cubicBezTo>
                      <a:pt x="218" y="7"/>
                      <a:pt x="183" y="14"/>
                      <a:pt x="154" y="20"/>
                    </a:cubicBezTo>
                    <a:cubicBezTo>
                      <a:pt x="125" y="26"/>
                      <a:pt x="97" y="34"/>
                      <a:pt x="76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279520" y="2773080"/>
                <a:ext cx="983880" cy="138600"/>
              </a:xfrm>
              <a:custGeom>
                <a:avLst/>
                <a:gdLst/>
                <a:ahLst/>
                <a:rect l="l" t="t" r="r" b="b"/>
                <a:pathLst>
                  <a:path w="698" h="100">
                    <a:moveTo>
                      <a:pt x="0" y="20"/>
                    </a:moveTo>
                    <a:cubicBezTo>
                      <a:pt x="6" y="24"/>
                      <a:pt x="17" y="37"/>
                      <a:pt x="36" y="46"/>
                    </a:cubicBezTo>
                    <a:cubicBezTo>
                      <a:pt x="55" y="55"/>
                      <a:pt x="84" y="66"/>
                      <a:pt x="116" y="74"/>
                    </a:cubicBezTo>
                    <a:cubicBezTo>
                      <a:pt x="148" y="82"/>
                      <a:pt x="191" y="88"/>
                      <a:pt x="232" y="92"/>
                    </a:cubicBezTo>
                    <a:cubicBezTo>
                      <a:pt x="273" y="96"/>
                      <a:pt x="321" y="100"/>
                      <a:pt x="367" y="100"/>
                    </a:cubicBezTo>
                    <a:cubicBezTo>
                      <a:pt x="413" y="100"/>
                      <a:pt x="471" y="98"/>
                      <a:pt x="512" y="92"/>
                    </a:cubicBezTo>
                    <a:cubicBezTo>
                      <a:pt x="554" y="86"/>
                      <a:pt x="587" y="75"/>
                      <a:pt x="615" y="66"/>
                    </a:cubicBezTo>
                    <a:cubicBezTo>
                      <a:pt x="643" y="57"/>
                      <a:pt x="668" y="47"/>
                      <a:pt x="682" y="36"/>
                    </a:cubicBezTo>
                    <a:cubicBezTo>
                      <a:pt x="696" y="25"/>
                      <a:pt x="695" y="7"/>
                      <a:pt x="698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280600" y="2667240"/>
                <a:ext cx="979920" cy="125280"/>
              </a:xfrm>
              <a:custGeom>
                <a:avLst/>
                <a:gdLst/>
                <a:ahLst/>
                <a:rect l="l" t="t" r="r" b="b"/>
                <a:pathLst>
                  <a:path w="696" h="90">
                    <a:moveTo>
                      <a:pt x="696" y="68"/>
                    </a:moveTo>
                    <a:cubicBezTo>
                      <a:pt x="691" y="63"/>
                      <a:pt x="688" y="49"/>
                      <a:pt x="670" y="40"/>
                    </a:cubicBezTo>
                    <a:cubicBezTo>
                      <a:pt x="652" y="31"/>
                      <a:pt x="616" y="22"/>
                      <a:pt x="585" y="16"/>
                    </a:cubicBezTo>
                    <a:cubicBezTo>
                      <a:pt x="554" y="10"/>
                      <a:pt x="518" y="4"/>
                      <a:pt x="482" y="2"/>
                    </a:cubicBezTo>
                    <a:cubicBezTo>
                      <a:pt x="446" y="0"/>
                      <a:pt x="402" y="1"/>
                      <a:pt x="364" y="1"/>
                    </a:cubicBezTo>
                    <a:cubicBezTo>
                      <a:pt x="326" y="1"/>
                      <a:pt x="288" y="1"/>
                      <a:pt x="254" y="4"/>
                    </a:cubicBezTo>
                    <a:cubicBezTo>
                      <a:pt x="220" y="7"/>
                      <a:pt x="185" y="14"/>
                      <a:pt x="155" y="20"/>
                    </a:cubicBezTo>
                    <a:cubicBezTo>
                      <a:pt x="126" y="26"/>
                      <a:pt x="98" y="34"/>
                      <a:pt x="77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7" name=""/>
            <p:cNvSpPr/>
            <p:nvPr/>
          </p:nvSpPr>
          <p:spPr>
            <a:xfrm>
              <a:off x="2195640" y="2779560"/>
              <a:ext cx="91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25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971640" y="3645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х 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476360" y="4437000"/>
            <a:ext cx="64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0,25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4 - х) л – кислоты во втором раств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995640" y="3645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4 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268360" y="3645000"/>
            <a:ext cx="11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4-х) 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924360" y="263700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0,4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635280" y="2924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(1-0,2х)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55640" y="2997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0,05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050920" y="2997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0,25(4-х)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763640" y="4437000"/>
            <a:ext cx="56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05 х ( л )– кислоты в первом раств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116000" y="443700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0,1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 = 0,4 л – кислоты в полученном раств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8360" y="443700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0,05+0,25(4-х)=(1- 0,2х)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 – кислоты в полученном раств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340000" y="400536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им уравнение 1 - 2х = 0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148360" y="4292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63640" y="465300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л – надо взять 5процентного раствор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27280" y="501336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– 3 = 1(л) – 25 процент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348000" y="551664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твет: 1л; 3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337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4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7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0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3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6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8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9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1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2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5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9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2000"/>
                            </p:stCondLst>
                            <p:childTnLst>
                              <p:par>
                                <p:cTn id="45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4500720" y="2852640"/>
            <a:ext cx="4392360" cy="324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50920" y="6237360"/>
            <a:ext cx="1800000" cy="404640"/>
          </a:xfrm>
          <a:custGeom>
            <a:avLst/>
            <a:gdLst>
              <a:gd name="textAreaLeft" fmla="*/ 25920 w 1800000"/>
              <a:gd name="textAreaRight" fmla="*/ 1774080 w 1800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96019" h="21600">
                <a:moveTo>
                  <a:pt x="0" y="0"/>
                </a:moveTo>
                <a:lnTo>
                  <a:pt x="96019" y="0"/>
                </a:lnTo>
                <a:lnTo>
                  <a:pt x="96019" y="21600"/>
                </a:lnTo>
                <a:lnTo>
                  <a:pt x="0" y="21600"/>
                </a:lnTo>
                <a:close/>
              </a:path>
              <a:path fill="lightenLess" w="96019" h="21600">
                <a:moveTo>
                  <a:pt x="0" y="0"/>
                </a:moveTo>
                <a:lnTo>
                  <a:pt x="96019" y="0"/>
                </a:lnTo>
                <a:lnTo>
                  <a:pt x="94619" y="1400"/>
                </a:lnTo>
                <a:lnTo>
                  <a:pt x="1400" y="1400"/>
                </a:lnTo>
                <a:close/>
              </a:path>
              <a:path fill="darken" w="96019" h="21600">
                <a:moveTo>
                  <a:pt x="96019" y="0"/>
                </a:moveTo>
                <a:lnTo>
                  <a:pt x="96019" y="21600"/>
                </a:lnTo>
                <a:lnTo>
                  <a:pt x="94619" y="20200"/>
                </a:lnTo>
                <a:lnTo>
                  <a:pt x="94619" y="1400"/>
                </a:lnTo>
                <a:close/>
              </a:path>
              <a:path fill="darkenLess" w="96019" h="21600">
                <a:moveTo>
                  <a:pt x="96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4619" y="20200"/>
                </a:lnTo>
                <a:close/>
              </a:path>
              <a:path fill="lighten" w="96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lackadder ITC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>
            <a:hlinkClick r:id="" action="ppaction://hlinkshowjump?jump=nextslide"/>
          </p:cNvPr>
          <p:cNvSpPr/>
          <p:nvPr/>
        </p:nvSpPr>
        <p:spPr>
          <a:xfrm>
            <a:off x="8459640" y="6165720"/>
            <a:ext cx="505080" cy="5382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760 h 538200"/>
              <a:gd name="textAreaBottom" fmla="*/ 505800 h 538200"/>
            </a:gdLst>
            <a:ahLst/>
            <a:rect l="textAreaLeft" t="textAreaTop" r="textAreaRight" b="textAreaBottom"/>
            <a:pathLst>
              <a:path w="21600" h="23015">
                <a:moveTo>
                  <a:pt x="0" y="0"/>
                </a:moveTo>
                <a:lnTo>
                  <a:pt x="21600" y="0"/>
                </a:lnTo>
                <a:lnTo>
                  <a:pt x="21600" y="23015"/>
                </a:lnTo>
                <a:lnTo>
                  <a:pt x="0" y="23015"/>
                </a:lnTo>
                <a:close/>
              </a:path>
              <a:path fill="lightenLess" w="21600" h="230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15">
                <a:moveTo>
                  <a:pt x="21600" y="0"/>
                </a:moveTo>
                <a:lnTo>
                  <a:pt x="21600" y="23015"/>
                </a:lnTo>
                <a:lnTo>
                  <a:pt x="20200" y="21615"/>
                </a:lnTo>
                <a:lnTo>
                  <a:pt x="20200" y="1400"/>
                </a:lnTo>
                <a:close/>
              </a:path>
              <a:path fill="darkenLess" w="21600" h="23015">
                <a:moveTo>
                  <a:pt x="21600" y="23015"/>
                </a:moveTo>
                <a:lnTo>
                  <a:pt x="0" y="23015"/>
                </a:lnTo>
                <a:lnTo>
                  <a:pt x="1400" y="21615"/>
                </a:lnTo>
                <a:lnTo>
                  <a:pt x="20200" y="21615"/>
                </a:lnTo>
                <a:close/>
              </a:path>
              <a:path fill="lighten" w="21600" h="23015">
                <a:moveTo>
                  <a:pt x="0" y="230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15"/>
                </a:lnTo>
                <a:close/>
              </a:path>
              <a:path fill="darken" w="21600" h="23015">
                <a:moveTo>
                  <a:pt x="3794" y="4501"/>
                </a:moveTo>
                <a:lnTo>
                  <a:pt x="17806" y="11508"/>
                </a:lnTo>
                <a:lnTo>
                  <a:pt x="3794" y="1851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79280" y="260280"/>
            <a:ext cx="8713800" cy="252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В сосуд емкостью 6л налито 4л 70% раствора сер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кислоты. Во второй сосуд той же емкости налито 3л 9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раствора серной кислоты. Сколько литров раствора нуж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перелить из второго сосуда в первый, чтобы в нем получил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74% раствор серной кислоты? Найдите все допустим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значения процентного содержания раствора серной кисл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в 6л раствора в первом сосу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50920" y="2852640"/>
            <a:ext cx="4176720" cy="3313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332000" y="37162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557800" y="371628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39640" y="44370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4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835280" y="4437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3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835280" y="436572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1619280" y="3141720"/>
            <a:ext cx="936360" cy="1439640"/>
            <a:chOff x="1619280" y="3141720"/>
            <a:chExt cx="936360" cy="1439640"/>
          </a:xfrm>
        </p:grpSpPr>
        <p:grpSp>
          <p:nvGrpSpPr>
            <p:cNvPr id="335" name=""/>
            <p:cNvGrpSpPr/>
            <p:nvPr/>
          </p:nvGrpSpPr>
          <p:grpSpPr>
            <a:xfrm>
              <a:off x="1692360" y="3141720"/>
              <a:ext cx="863280" cy="1439640"/>
              <a:chOff x="1692360" y="3141720"/>
              <a:chExt cx="863280" cy="1439640"/>
            </a:xfrm>
          </p:grpSpPr>
          <p:sp>
            <p:nvSpPr>
              <p:cNvPr id="336" name=""/>
              <p:cNvSpPr/>
              <p:nvPr/>
            </p:nvSpPr>
            <p:spPr>
              <a:xfrm>
                <a:off x="1698120" y="3141720"/>
                <a:ext cx="857520" cy="1439640"/>
              </a:xfrm>
              <a:custGeom>
                <a:avLst/>
                <a:gdLst/>
                <a:ahLst/>
                <a:rect l="l" t="t" r="r" b="b"/>
                <a:pathLst>
                  <a:path w="977" h="1445">
                    <a:moveTo>
                      <a:pt x="125" y="327"/>
                    </a:moveTo>
                    <a:cubicBezTo>
                      <a:pt x="110" y="330"/>
                      <a:pt x="101" y="330"/>
                      <a:pt x="86" y="340"/>
                    </a:cubicBezTo>
                    <a:cubicBezTo>
                      <a:pt x="71" y="348"/>
                      <a:pt x="46" y="360"/>
                      <a:pt x="33" y="380"/>
                    </a:cubicBezTo>
                    <a:cubicBezTo>
                      <a:pt x="19" y="401"/>
                      <a:pt x="12" y="403"/>
                      <a:pt x="7" y="467"/>
                    </a:cubicBezTo>
                    <a:cubicBezTo>
                      <a:pt x="1" y="532"/>
                      <a:pt x="3" y="676"/>
                      <a:pt x="1" y="769"/>
                    </a:cubicBezTo>
                    <a:cubicBezTo>
                      <a:pt x="1" y="861"/>
                      <a:pt x="0" y="935"/>
                      <a:pt x="1" y="1024"/>
                    </a:cubicBezTo>
                    <a:cubicBezTo>
                      <a:pt x="4" y="1112"/>
                      <a:pt x="0" y="1240"/>
                      <a:pt x="12" y="1300"/>
                    </a:cubicBezTo>
                    <a:cubicBezTo>
                      <a:pt x="25" y="1360"/>
                      <a:pt x="30" y="1360"/>
                      <a:pt x="75" y="1382"/>
                    </a:cubicBezTo>
                    <a:cubicBezTo>
                      <a:pt x="119" y="1405"/>
                      <a:pt x="202" y="1423"/>
                      <a:pt x="283" y="1432"/>
                    </a:cubicBezTo>
                    <a:cubicBezTo>
                      <a:pt x="363" y="1442"/>
                      <a:pt x="471" y="1445"/>
                      <a:pt x="561" y="1441"/>
                    </a:cubicBezTo>
                    <a:cubicBezTo>
                      <a:pt x="651" y="1437"/>
                      <a:pt x="761" y="1424"/>
                      <a:pt x="823" y="1412"/>
                    </a:cubicBezTo>
                    <a:cubicBezTo>
                      <a:pt x="886" y="1399"/>
                      <a:pt x="915" y="1382"/>
                      <a:pt x="940" y="1361"/>
                    </a:cubicBezTo>
                    <a:cubicBezTo>
                      <a:pt x="965" y="1340"/>
                      <a:pt x="964" y="1339"/>
                      <a:pt x="970" y="1284"/>
                    </a:cubicBezTo>
                    <a:cubicBezTo>
                      <a:pt x="976" y="1229"/>
                      <a:pt x="973" y="1148"/>
                      <a:pt x="974" y="1032"/>
                    </a:cubicBezTo>
                    <a:cubicBezTo>
                      <a:pt x="975" y="916"/>
                      <a:pt x="977" y="692"/>
                      <a:pt x="974" y="589"/>
                    </a:cubicBezTo>
                    <a:cubicBezTo>
                      <a:pt x="971" y="486"/>
                      <a:pt x="966" y="449"/>
                      <a:pt x="958" y="411"/>
                    </a:cubicBezTo>
                    <a:cubicBezTo>
                      <a:pt x="951" y="373"/>
                      <a:pt x="937" y="378"/>
                      <a:pt x="927" y="365"/>
                    </a:cubicBezTo>
                    <a:cubicBezTo>
                      <a:pt x="916" y="353"/>
                      <a:pt x="915" y="347"/>
                      <a:pt x="895" y="340"/>
                    </a:cubicBezTo>
                    <a:cubicBezTo>
                      <a:pt x="877" y="332"/>
                      <a:pt x="834" y="325"/>
                      <a:pt x="814" y="319"/>
                    </a:cubicBezTo>
                    <a:cubicBezTo>
                      <a:pt x="794" y="314"/>
                      <a:pt x="786" y="314"/>
                      <a:pt x="772" y="309"/>
                    </a:cubicBezTo>
                    <a:cubicBezTo>
                      <a:pt x="760" y="304"/>
                      <a:pt x="746" y="297"/>
                      <a:pt x="736" y="288"/>
                    </a:cubicBezTo>
                    <a:cubicBezTo>
                      <a:pt x="726" y="280"/>
                      <a:pt x="717" y="272"/>
                      <a:pt x="712" y="261"/>
                    </a:cubicBezTo>
                    <a:cubicBezTo>
                      <a:pt x="708" y="248"/>
                      <a:pt x="704" y="233"/>
                      <a:pt x="710" y="217"/>
                    </a:cubicBezTo>
                    <a:cubicBezTo>
                      <a:pt x="715" y="202"/>
                      <a:pt x="733" y="180"/>
                      <a:pt x="746" y="164"/>
                    </a:cubicBezTo>
                    <a:cubicBezTo>
                      <a:pt x="758" y="149"/>
                      <a:pt x="778" y="142"/>
                      <a:pt x="789" y="128"/>
                    </a:cubicBezTo>
                    <a:cubicBezTo>
                      <a:pt x="800" y="114"/>
                      <a:pt x="812" y="95"/>
                      <a:pt x="812" y="81"/>
                    </a:cubicBezTo>
                    <a:cubicBezTo>
                      <a:pt x="812" y="67"/>
                      <a:pt x="821" y="53"/>
                      <a:pt x="793" y="42"/>
                    </a:cubicBezTo>
                    <a:cubicBezTo>
                      <a:pt x="765" y="31"/>
                      <a:pt x="701" y="21"/>
                      <a:pt x="647" y="14"/>
                    </a:cubicBezTo>
                    <a:cubicBezTo>
                      <a:pt x="593" y="7"/>
                      <a:pt x="531" y="0"/>
                      <a:pt x="467" y="0"/>
                    </a:cubicBezTo>
                    <a:cubicBezTo>
                      <a:pt x="403" y="0"/>
                      <a:pt x="313" y="7"/>
                      <a:pt x="262" y="17"/>
                    </a:cubicBezTo>
                    <a:cubicBezTo>
                      <a:pt x="211" y="26"/>
                      <a:pt x="176" y="40"/>
                      <a:pt x="162" y="59"/>
                    </a:cubicBezTo>
                    <a:cubicBezTo>
                      <a:pt x="148" y="77"/>
                      <a:pt x="169" y="111"/>
                      <a:pt x="177" y="130"/>
                    </a:cubicBezTo>
                    <a:cubicBezTo>
                      <a:pt x="184" y="149"/>
                      <a:pt x="198" y="159"/>
                      <a:pt x="208" y="171"/>
                    </a:cubicBezTo>
                    <a:cubicBezTo>
                      <a:pt x="219" y="184"/>
                      <a:pt x="234" y="195"/>
                      <a:pt x="243" y="205"/>
                    </a:cubicBezTo>
                    <a:cubicBezTo>
                      <a:pt x="250" y="213"/>
                      <a:pt x="254" y="215"/>
                      <a:pt x="255" y="224"/>
                    </a:cubicBezTo>
                    <a:cubicBezTo>
                      <a:pt x="256" y="234"/>
                      <a:pt x="258" y="249"/>
                      <a:pt x="252" y="261"/>
                    </a:cubicBezTo>
                    <a:cubicBezTo>
                      <a:pt x="248" y="272"/>
                      <a:pt x="240" y="281"/>
                      <a:pt x="226" y="291"/>
                    </a:cubicBezTo>
                    <a:cubicBezTo>
                      <a:pt x="213" y="301"/>
                      <a:pt x="194" y="311"/>
                      <a:pt x="177" y="316"/>
                    </a:cubicBezTo>
                    <a:cubicBezTo>
                      <a:pt x="161" y="322"/>
                      <a:pt x="140" y="323"/>
                      <a:pt x="125" y="32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1ffff"/>
                  </a:gs>
                  <a:gs pos="100000">
                    <a:srgbClr val="00f4ee"/>
                  </a:gs>
                </a:gsLst>
                <a:lin ang="5400000"/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834560" y="3141720"/>
                <a:ext cx="579240" cy="143640"/>
              </a:xfrm>
              <a:custGeom>
                <a:avLst/>
                <a:gdLst/>
                <a:ahLst/>
                <a:rect l="l" t="t" r="r" b="b"/>
                <a:pathLst>
                  <a:path w="475" h="103">
                    <a:moveTo>
                      <a:pt x="5" y="57"/>
                    </a:moveTo>
                    <a:cubicBezTo>
                      <a:pt x="0" y="49"/>
                      <a:pt x="8" y="37"/>
                      <a:pt x="25" y="29"/>
                    </a:cubicBezTo>
                    <a:cubicBezTo>
                      <a:pt x="42" y="21"/>
                      <a:pt x="76" y="16"/>
                      <a:pt x="107" y="11"/>
                    </a:cubicBezTo>
                    <a:cubicBezTo>
                      <a:pt x="138" y="6"/>
                      <a:pt x="180" y="2"/>
                      <a:pt x="213" y="1"/>
                    </a:cubicBezTo>
                    <a:cubicBezTo>
                      <a:pt x="246" y="0"/>
                      <a:pt x="279" y="1"/>
                      <a:pt x="307" y="3"/>
                    </a:cubicBezTo>
                    <a:cubicBezTo>
                      <a:pt x="335" y="5"/>
                      <a:pt x="357" y="9"/>
                      <a:pt x="379" y="13"/>
                    </a:cubicBezTo>
                    <a:cubicBezTo>
                      <a:pt x="401" y="17"/>
                      <a:pt x="422" y="19"/>
                      <a:pt x="437" y="25"/>
                    </a:cubicBezTo>
                    <a:cubicBezTo>
                      <a:pt x="452" y="31"/>
                      <a:pt x="471" y="42"/>
                      <a:pt x="473" y="49"/>
                    </a:cubicBezTo>
                    <a:cubicBezTo>
                      <a:pt x="475" y="56"/>
                      <a:pt x="464" y="60"/>
                      <a:pt x="449" y="67"/>
                    </a:cubicBezTo>
                    <a:cubicBezTo>
                      <a:pt x="434" y="74"/>
                      <a:pt x="410" y="83"/>
                      <a:pt x="381" y="89"/>
                    </a:cubicBezTo>
                    <a:cubicBezTo>
                      <a:pt x="352" y="95"/>
                      <a:pt x="316" y="99"/>
                      <a:pt x="277" y="101"/>
                    </a:cubicBezTo>
                    <a:cubicBezTo>
                      <a:pt x="238" y="103"/>
                      <a:pt x="186" y="102"/>
                      <a:pt x="149" y="99"/>
                    </a:cubicBezTo>
                    <a:cubicBezTo>
                      <a:pt x="112" y="96"/>
                      <a:pt x="79" y="87"/>
                      <a:pt x="55" y="80"/>
                    </a:cubicBezTo>
                    <a:cubicBezTo>
                      <a:pt x="31" y="73"/>
                      <a:pt x="11" y="66"/>
                      <a:pt x="5" y="5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1ffff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698120" y="4272120"/>
                <a:ext cx="851760" cy="144000"/>
              </a:xfrm>
              <a:custGeom>
                <a:avLst/>
                <a:gdLst/>
                <a:ahLst/>
                <a:rect l="l" t="t" r="r" b="b"/>
                <a:pathLst>
                  <a:path w="713" h="109">
                    <a:moveTo>
                      <a:pt x="0" y="24"/>
                    </a:moveTo>
                    <a:cubicBezTo>
                      <a:pt x="6" y="28"/>
                      <a:pt x="17" y="42"/>
                      <a:pt x="37" y="52"/>
                    </a:cubicBezTo>
                    <a:cubicBezTo>
                      <a:pt x="56" y="61"/>
                      <a:pt x="85" y="73"/>
                      <a:pt x="117" y="81"/>
                    </a:cubicBezTo>
                    <a:cubicBezTo>
                      <a:pt x="150" y="90"/>
                      <a:pt x="193" y="96"/>
                      <a:pt x="235" y="101"/>
                    </a:cubicBezTo>
                    <a:cubicBezTo>
                      <a:pt x="276" y="105"/>
                      <a:pt x="324" y="109"/>
                      <a:pt x="371" y="109"/>
                    </a:cubicBezTo>
                    <a:cubicBezTo>
                      <a:pt x="418" y="109"/>
                      <a:pt x="477" y="106"/>
                      <a:pt x="518" y="101"/>
                    </a:cubicBezTo>
                    <a:cubicBezTo>
                      <a:pt x="559" y="96"/>
                      <a:pt x="592" y="91"/>
                      <a:pt x="620" y="81"/>
                    </a:cubicBezTo>
                    <a:cubicBezTo>
                      <a:pt x="648" y="71"/>
                      <a:pt x="674" y="55"/>
                      <a:pt x="689" y="41"/>
                    </a:cubicBezTo>
                    <a:cubicBezTo>
                      <a:pt x="704" y="27"/>
                      <a:pt x="708" y="9"/>
                      <a:pt x="713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692360" y="3779280"/>
                <a:ext cx="850680" cy="138600"/>
              </a:xfrm>
              <a:custGeom>
                <a:avLst/>
                <a:gdLst/>
                <a:ahLst/>
                <a:rect l="l" t="t" r="r" b="b"/>
                <a:pathLst>
                  <a:path w="712" h="105">
                    <a:moveTo>
                      <a:pt x="0" y="21"/>
                    </a:moveTo>
                    <a:cubicBezTo>
                      <a:pt x="6" y="25"/>
                      <a:pt x="17" y="39"/>
                      <a:pt x="37" y="48"/>
                    </a:cubicBezTo>
                    <a:cubicBezTo>
                      <a:pt x="56" y="58"/>
                      <a:pt x="86" y="69"/>
                      <a:pt x="118" y="78"/>
                    </a:cubicBezTo>
                    <a:cubicBezTo>
                      <a:pt x="151" y="86"/>
                      <a:pt x="195" y="92"/>
                      <a:pt x="237" y="97"/>
                    </a:cubicBezTo>
                    <a:cubicBezTo>
                      <a:pt x="278" y="101"/>
                      <a:pt x="327" y="105"/>
                      <a:pt x="374" y="105"/>
                    </a:cubicBezTo>
                    <a:cubicBezTo>
                      <a:pt x="421" y="105"/>
                      <a:pt x="480" y="103"/>
                      <a:pt x="522" y="97"/>
                    </a:cubicBezTo>
                    <a:cubicBezTo>
                      <a:pt x="565" y="90"/>
                      <a:pt x="599" y="79"/>
                      <a:pt x="627" y="69"/>
                    </a:cubicBezTo>
                    <a:cubicBezTo>
                      <a:pt x="655" y="59"/>
                      <a:pt x="675" y="45"/>
                      <a:pt x="689" y="34"/>
                    </a:cubicBezTo>
                    <a:cubicBezTo>
                      <a:pt x="703" y="23"/>
                      <a:pt x="707" y="7"/>
                      <a:pt x="712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692360" y="3661920"/>
                <a:ext cx="842040" cy="126360"/>
              </a:xfrm>
              <a:custGeom>
                <a:avLst/>
                <a:gdLst/>
                <a:ahLst/>
                <a:rect l="l" t="t" r="r" b="b"/>
                <a:pathLst>
                  <a:path w="705" h="96">
                    <a:moveTo>
                      <a:pt x="705" y="72"/>
                    </a:moveTo>
                    <a:cubicBezTo>
                      <a:pt x="693" y="66"/>
                      <a:pt x="655" y="45"/>
                      <a:pt x="630" y="36"/>
                    </a:cubicBezTo>
                    <a:cubicBezTo>
                      <a:pt x="605" y="27"/>
                      <a:pt x="583" y="26"/>
                      <a:pt x="555" y="21"/>
                    </a:cubicBezTo>
                    <a:cubicBezTo>
                      <a:pt x="527" y="16"/>
                      <a:pt x="491" y="9"/>
                      <a:pt x="459" y="6"/>
                    </a:cubicBezTo>
                    <a:cubicBezTo>
                      <a:pt x="427" y="3"/>
                      <a:pt x="393" y="0"/>
                      <a:pt x="360" y="0"/>
                    </a:cubicBezTo>
                    <a:cubicBezTo>
                      <a:pt x="327" y="0"/>
                      <a:pt x="292" y="4"/>
                      <a:pt x="261" y="6"/>
                    </a:cubicBezTo>
                    <a:cubicBezTo>
                      <a:pt x="230" y="8"/>
                      <a:pt x="200" y="11"/>
                      <a:pt x="171" y="15"/>
                    </a:cubicBezTo>
                    <a:cubicBezTo>
                      <a:pt x="142" y="19"/>
                      <a:pt x="110" y="26"/>
                      <a:pt x="87" y="33"/>
                    </a:cubicBezTo>
                    <a:cubicBezTo>
                      <a:pt x="64" y="40"/>
                      <a:pt x="44" y="47"/>
                      <a:pt x="30" y="57"/>
                    </a:cubicBezTo>
                    <a:cubicBezTo>
                      <a:pt x="16" y="67"/>
                      <a:pt x="6" y="88"/>
                      <a:pt x="0" y="96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692360" y="3678840"/>
                <a:ext cx="846720" cy="237600"/>
              </a:xfrm>
              <a:custGeom>
                <a:avLst/>
                <a:gdLst/>
                <a:ahLst/>
                <a:rect l="l" t="t" r="r" b="b"/>
                <a:pathLst>
                  <a:path w="709" h="180">
                    <a:moveTo>
                      <a:pt x="3" y="93"/>
                    </a:moveTo>
                    <a:cubicBezTo>
                      <a:pt x="0" y="103"/>
                      <a:pt x="18" y="108"/>
                      <a:pt x="36" y="117"/>
                    </a:cubicBezTo>
                    <a:cubicBezTo>
                      <a:pt x="54" y="126"/>
                      <a:pt x="80" y="141"/>
                      <a:pt x="114" y="150"/>
                    </a:cubicBezTo>
                    <a:cubicBezTo>
                      <a:pt x="148" y="159"/>
                      <a:pt x="195" y="166"/>
                      <a:pt x="240" y="171"/>
                    </a:cubicBezTo>
                    <a:cubicBezTo>
                      <a:pt x="285" y="176"/>
                      <a:pt x="342" y="180"/>
                      <a:pt x="387" y="180"/>
                    </a:cubicBezTo>
                    <a:cubicBezTo>
                      <a:pt x="432" y="180"/>
                      <a:pt x="475" y="178"/>
                      <a:pt x="510" y="174"/>
                    </a:cubicBezTo>
                    <a:cubicBezTo>
                      <a:pt x="545" y="170"/>
                      <a:pt x="572" y="161"/>
                      <a:pt x="597" y="153"/>
                    </a:cubicBezTo>
                    <a:cubicBezTo>
                      <a:pt x="622" y="145"/>
                      <a:pt x="646" y="136"/>
                      <a:pt x="663" y="126"/>
                    </a:cubicBezTo>
                    <a:cubicBezTo>
                      <a:pt x="680" y="116"/>
                      <a:pt x="696" y="99"/>
                      <a:pt x="702" y="90"/>
                    </a:cubicBezTo>
                    <a:cubicBezTo>
                      <a:pt x="708" y="81"/>
                      <a:pt x="709" y="81"/>
                      <a:pt x="699" y="72"/>
                    </a:cubicBezTo>
                    <a:cubicBezTo>
                      <a:pt x="689" y="63"/>
                      <a:pt x="675" y="46"/>
                      <a:pt x="642" y="36"/>
                    </a:cubicBezTo>
                    <a:cubicBezTo>
                      <a:pt x="609" y="26"/>
                      <a:pt x="543" y="14"/>
                      <a:pt x="501" y="9"/>
                    </a:cubicBezTo>
                    <a:cubicBezTo>
                      <a:pt x="459" y="4"/>
                      <a:pt x="427" y="4"/>
                      <a:pt x="387" y="3"/>
                    </a:cubicBezTo>
                    <a:cubicBezTo>
                      <a:pt x="347" y="2"/>
                      <a:pt x="300" y="0"/>
                      <a:pt x="258" y="3"/>
                    </a:cubicBezTo>
                    <a:cubicBezTo>
                      <a:pt x="216" y="6"/>
                      <a:pt x="171" y="13"/>
                      <a:pt x="135" y="21"/>
                    </a:cubicBezTo>
                    <a:cubicBezTo>
                      <a:pt x="99" y="29"/>
                      <a:pt x="64" y="39"/>
                      <a:pt x="42" y="51"/>
                    </a:cubicBezTo>
                    <a:cubicBezTo>
                      <a:pt x="20" y="63"/>
                      <a:pt x="11" y="84"/>
                      <a:pt x="3" y="9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7ffff"/>
                  </a:gs>
                  <a:gs pos="100000">
                    <a:srgbClr val="01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698120" y="4158720"/>
                <a:ext cx="852840" cy="245520"/>
              </a:xfrm>
              <a:custGeom>
                <a:avLst/>
                <a:gdLst/>
                <a:ahLst/>
                <a:rect l="l" t="t" r="r" b="b"/>
                <a:pathLst>
                  <a:path w="714" h="186">
                    <a:moveTo>
                      <a:pt x="8" y="89"/>
                    </a:moveTo>
                    <a:cubicBezTo>
                      <a:pt x="0" y="101"/>
                      <a:pt x="18" y="110"/>
                      <a:pt x="34" y="121"/>
                    </a:cubicBezTo>
                    <a:cubicBezTo>
                      <a:pt x="50" y="132"/>
                      <a:pt x="63" y="145"/>
                      <a:pt x="107" y="155"/>
                    </a:cubicBezTo>
                    <a:cubicBezTo>
                      <a:pt x="151" y="165"/>
                      <a:pt x="228" y="180"/>
                      <a:pt x="296" y="183"/>
                    </a:cubicBezTo>
                    <a:cubicBezTo>
                      <a:pt x="364" y="186"/>
                      <a:pt x="464" y="181"/>
                      <a:pt x="515" y="176"/>
                    </a:cubicBezTo>
                    <a:cubicBezTo>
                      <a:pt x="566" y="171"/>
                      <a:pt x="577" y="162"/>
                      <a:pt x="602" y="155"/>
                    </a:cubicBezTo>
                    <a:cubicBezTo>
                      <a:pt x="627" y="148"/>
                      <a:pt x="647" y="143"/>
                      <a:pt x="665" y="131"/>
                    </a:cubicBezTo>
                    <a:cubicBezTo>
                      <a:pt x="683" y="119"/>
                      <a:pt x="700" y="96"/>
                      <a:pt x="707" y="86"/>
                    </a:cubicBezTo>
                    <a:cubicBezTo>
                      <a:pt x="714" y="76"/>
                      <a:pt x="714" y="77"/>
                      <a:pt x="704" y="68"/>
                    </a:cubicBezTo>
                    <a:cubicBezTo>
                      <a:pt x="694" y="59"/>
                      <a:pt x="680" y="42"/>
                      <a:pt x="647" y="32"/>
                    </a:cubicBezTo>
                    <a:cubicBezTo>
                      <a:pt x="614" y="22"/>
                      <a:pt x="549" y="10"/>
                      <a:pt x="506" y="5"/>
                    </a:cubicBezTo>
                    <a:cubicBezTo>
                      <a:pt x="463" y="0"/>
                      <a:pt x="429" y="2"/>
                      <a:pt x="389" y="2"/>
                    </a:cubicBezTo>
                    <a:cubicBezTo>
                      <a:pt x="349" y="2"/>
                      <a:pt x="305" y="1"/>
                      <a:pt x="263" y="5"/>
                    </a:cubicBezTo>
                    <a:cubicBezTo>
                      <a:pt x="221" y="9"/>
                      <a:pt x="171" y="21"/>
                      <a:pt x="137" y="29"/>
                    </a:cubicBezTo>
                    <a:cubicBezTo>
                      <a:pt x="103" y="37"/>
                      <a:pt x="77" y="43"/>
                      <a:pt x="56" y="53"/>
                    </a:cubicBezTo>
                    <a:cubicBezTo>
                      <a:pt x="35" y="63"/>
                      <a:pt x="18" y="82"/>
                      <a:pt x="8" y="8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7ffff"/>
                  </a:gs>
                  <a:gs pos="100000">
                    <a:srgbClr val="00f8f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698120" y="4158720"/>
                <a:ext cx="842040" cy="117720"/>
              </a:xfrm>
              <a:custGeom>
                <a:avLst/>
                <a:gdLst/>
                <a:ahLst/>
                <a:rect l="l" t="t" r="r" b="b"/>
                <a:pathLst>
                  <a:path w="705" h="89">
                    <a:moveTo>
                      <a:pt x="705" y="68"/>
                    </a:moveTo>
                    <a:cubicBezTo>
                      <a:pt x="698" y="63"/>
                      <a:pt x="692" y="50"/>
                      <a:pt x="672" y="42"/>
                    </a:cubicBezTo>
                    <a:cubicBezTo>
                      <a:pt x="652" y="34"/>
                      <a:pt x="618" y="23"/>
                      <a:pt x="587" y="17"/>
                    </a:cubicBezTo>
                    <a:cubicBezTo>
                      <a:pt x="555" y="10"/>
                      <a:pt x="519" y="4"/>
                      <a:pt x="482" y="2"/>
                    </a:cubicBezTo>
                    <a:cubicBezTo>
                      <a:pt x="446" y="0"/>
                      <a:pt x="402" y="1"/>
                      <a:pt x="363" y="1"/>
                    </a:cubicBezTo>
                    <a:cubicBezTo>
                      <a:pt x="324" y="1"/>
                      <a:pt x="287" y="1"/>
                      <a:pt x="252" y="4"/>
                    </a:cubicBezTo>
                    <a:cubicBezTo>
                      <a:pt x="217" y="7"/>
                      <a:pt x="182" y="12"/>
                      <a:pt x="153" y="17"/>
                    </a:cubicBezTo>
                    <a:cubicBezTo>
                      <a:pt x="124" y="22"/>
                      <a:pt x="97" y="28"/>
                      <a:pt x="75" y="35"/>
                    </a:cubicBezTo>
                    <a:cubicBezTo>
                      <a:pt x="53" y="42"/>
                      <a:pt x="30" y="53"/>
                      <a:pt x="18" y="62"/>
                    </a:cubicBezTo>
                    <a:cubicBezTo>
                      <a:pt x="6" y="71"/>
                      <a:pt x="4" y="84"/>
                      <a:pt x="0" y="89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698120" y="4339440"/>
                <a:ext cx="832680" cy="92520"/>
              </a:xfrm>
              <a:custGeom>
                <a:avLst/>
                <a:gdLst/>
                <a:ahLst/>
                <a:rect l="l" t="t" r="r" b="b"/>
                <a:pathLst>
                  <a:path w="948" h="92">
                    <a:moveTo>
                      <a:pt x="948" y="80"/>
                    </a:moveTo>
                    <a:cubicBezTo>
                      <a:pt x="926" y="71"/>
                      <a:pt x="900" y="39"/>
                      <a:pt x="822" y="26"/>
                    </a:cubicBezTo>
                    <a:cubicBezTo>
                      <a:pt x="744" y="13"/>
                      <a:pt x="587" y="0"/>
                      <a:pt x="477" y="1"/>
                    </a:cubicBezTo>
                    <a:cubicBezTo>
                      <a:pt x="366" y="3"/>
                      <a:pt x="231" y="20"/>
                      <a:pt x="152" y="35"/>
                    </a:cubicBezTo>
                    <a:cubicBezTo>
                      <a:pt x="73" y="50"/>
                      <a:pt x="32" y="80"/>
                      <a:pt x="0" y="92"/>
                    </a:cubicBezTo>
                  </a:path>
                </a:pathLst>
              </a:custGeom>
              <a:noFill/>
              <a:ln w="19080">
                <a:solidFill>
                  <a:srgbClr val="0000d2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5" name=""/>
            <p:cNvSpPr/>
            <p:nvPr/>
          </p:nvSpPr>
          <p:spPr>
            <a:xfrm>
              <a:off x="1619280" y="3789360"/>
              <a:ext cx="82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9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2916360" y="2924280"/>
            <a:ext cx="1150560" cy="1658880"/>
            <a:chOff x="2916360" y="2924280"/>
            <a:chExt cx="1150560" cy="1658880"/>
          </a:xfrm>
        </p:grpSpPr>
        <p:grpSp>
          <p:nvGrpSpPr>
            <p:cNvPr id="347" name=""/>
            <p:cNvGrpSpPr/>
            <p:nvPr/>
          </p:nvGrpSpPr>
          <p:grpSpPr>
            <a:xfrm>
              <a:off x="2916360" y="2924280"/>
              <a:ext cx="1150560" cy="1658880"/>
              <a:chOff x="2916360" y="2924280"/>
              <a:chExt cx="1150560" cy="1658880"/>
            </a:xfrm>
          </p:grpSpPr>
          <p:sp>
            <p:nvSpPr>
              <p:cNvPr id="348" name=""/>
              <p:cNvSpPr/>
              <p:nvPr/>
            </p:nvSpPr>
            <p:spPr>
              <a:xfrm>
                <a:off x="2916360" y="2924280"/>
                <a:ext cx="1147320" cy="1658880"/>
              </a:xfrm>
              <a:custGeom>
                <a:avLst/>
                <a:gdLst/>
                <a:ahLst/>
                <a:rect l="l" t="t" r="r" b="b"/>
                <a:pathLst>
                  <a:path w="977" h="1445">
                    <a:moveTo>
                      <a:pt x="125" y="327"/>
                    </a:moveTo>
                    <a:cubicBezTo>
                      <a:pt x="110" y="330"/>
                      <a:pt x="101" y="330"/>
                      <a:pt x="86" y="340"/>
                    </a:cubicBezTo>
                    <a:cubicBezTo>
                      <a:pt x="71" y="348"/>
                      <a:pt x="46" y="360"/>
                      <a:pt x="33" y="380"/>
                    </a:cubicBezTo>
                    <a:cubicBezTo>
                      <a:pt x="19" y="401"/>
                      <a:pt x="12" y="403"/>
                      <a:pt x="7" y="467"/>
                    </a:cubicBezTo>
                    <a:cubicBezTo>
                      <a:pt x="1" y="532"/>
                      <a:pt x="3" y="676"/>
                      <a:pt x="1" y="769"/>
                    </a:cubicBezTo>
                    <a:cubicBezTo>
                      <a:pt x="1" y="861"/>
                      <a:pt x="0" y="935"/>
                      <a:pt x="1" y="1024"/>
                    </a:cubicBezTo>
                    <a:cubicBezTo>
                      <a:pt x="4" y="1112"/>
                      <a:pt x="0" y="1240"/>
                      <a:pt x="12" y="1300"/>
                    </a:cubicBezTo>
                    <a:cubicBezTo>
                      <a:pt x="25" y="1360"/>
                      <a:pt x="30" y="1360"/>
                      <a:pt x="75" y="1382"/>
                    </a:cubicBezTo>
                    <a:cubicBezTo>
                      <a:pt x="119" y="1405"/>
                      <a:pt x="202" y="1423"/>
                      <a:pt x="283" y="1432"/>
                    </a:cubicBezTo>
                    <a:cubicBezTo>
                      <a:pt x="363" y="1442"/>
                      <a:pt x="471" y="1445"/>
                      <a:pt x="561" y="1441"/>
                    </a:cubicBezTo>
                    <a:cubicBezTo>
                      <a:pt x="651" y="1437"/>
                      <a:pt x="761" y="1424"/>
                      <a:pt x="823" y="1412"/>
                    </a:cubicBezTo>
                    <a:cubicBezTo>
                      <a:pt x="886" y="1399"/>
                      <a:pt x="915" y="1382"/>
                      <a:pt x="940" y="1361"/>
                    </a:cubicBezTo>
                    <a:cubicBezTo>
                      <a:pt x="965" y="1340"/>
                      <a:pt x="964" y="1339"/>
                      <a:pt x="970" y="1284"/>
                    </a:cubicBezTo>
                    <a:cubicBezTo>
                      <a:pt x="976" y="1229"/>
                      <a:pt x="973" y="1148"/>
                      <a:pt x="974" y="1032"/>
                    </a:cubicBezTo>
                    <a:cubicBezTo>
                      <a:pt x="975" y="916"/>
                      <a:pt x="977" y="692"/>
                      <a:pt x="974" y="589"/>
                    </a:cubicBezTo>
                    <a:cubicBezTo>
                      <a:pt x="971" y="486"/>
                      <a:pt x="966" y="449"/>
                      <a:pt x="958" y="411"/>
                    </a:cubicBezTo>
                    <a:cubicBezTo>
                      <a:pt x="951" y="373"/>
                      <a:pt x="937" y="378"/>
                      <a:pt x="927" y="365"/>
                    </a:cubicBezTo>
                    <a:cubicBezTo>
                      <a:pt x="916" y="353"/>
                      <a:pt x="915" y="347"/>
                      <a:pt x="895" y="340"/>
                    </a:cubicBezTo>
                    <a:cubicBezTo>
                      <a:pt x="877" y="332"/>
                      <a:pt x="834" y="325"/>
                      <a:pt x="814" y="319"/>
                    </a:cubicBezTo>
                    <a:cubicBezTo>
                      <a:pt x="794" y="314"/>
                      <a:pt x="786" y="314"/>
                      <a:pt x="772" y="309"/>
                    </a:cubicBezTo>
                    <a:cubicBezTo>
                      <a:pt x="760" y="304"/>
                      <a:pt x="746" y="297"/>
                      <a:pt x="736" y="288"/>
                    </a:cubicBezTo>
                    <a:cubicBezTo>
                      <a:pt x="726" y="280"/>
                      <a:pt x="717" y="272"/>
                      <a:pt x="712" y="261"/>
                    </a:cubicBezTo>
                    <a:cubicBezTo>
                      <a:pt x="708" y="248"/>
                      <a:pt x="704" y="233"/>
                      <a:pt x="710" y="217"/>
                    </a:cubicBezTo>
                    <a:cubicBezTo>
                      <a:pt x="715" y="202"/>
                      <a:pt x="733" y="180"/>
                      <a:pt x="746" y="164"/>
                    </a:cubicBezTo>
                    <a:cubicBezTo>
                      <a:pt x="758" y="149"/>
                      <a:pt x="778" y="142"/>
                      <a:pt x="789" y="128"/>
                    </a:cubicBezTo>
                    <a:cubicBezTo>
                      <a:pt x="800" y="114"/>
                      <a:pt x="812" y="95"/>
                      <a:pt x="812" y="81"/>
                    </a:cubicBezTo>
                    <a:cubicBezTo>
                      <a:pt x="812" y="67"/>
                      <a:pt x="821" y="53"/>
                      <a:pt x="793" y="42"/>
                    </a:cubicBezTo>
                    <a:cubicBezTo>
                      <a:pt x="765" y="31"/>
                      <a:pt x="701" y="21"/>
                      <a:pt x="647" y="14"/>
                    </a:cubicBezTo>
                    <a:cubicBezTo>
                      <a:pt x="593" y="7"/>
                      <a:pt x="531" y="0"/>
                      <a:pt x="467" y="0"/>
                    </a:cubicBezTo>
                    <a:cubicBezTo>
                      <a:pt x="403" y="0"/>
                      <a:pt x="313" y="7"/>
                      <a:pt x="262" y="17"/>
                    </a:cubicBezTo>
                    <a:cubicBezTo>
                      <a:pt x="211" y="26"/>
                      <a:pt x="176" y="40"/>
                      <a:pt x="162" y="59"/>
                    </a:cubicBezTo>
                    <a:cubicBezTo>
                      <a:pt x="148" y="77"/>
                      <a:pt x="169" y="111"/>
                      <a:pt x="177" y="130"/>
                    </a:cubicBezTo>
                    <a:cubicBezTo>
                      <a:pt x="184" y="149"/>
                      <a:pt x="198" y="159"/>
                      <a:pt x="208" y="171"/>
                    </a:cubicBezTo>
                    <a:cubicBezTo>
                      <a:pt x="219" y="184"/>
                      <a:pt x="234" y="195"/>
                      <a:pt x="243" y="205"/>
                    </a:cubicBezTo>
                    <a:cubicBezTo>
                      <a:pt x="250" y="213"/>
                      <a:pt x="254" y="215"/>
                      <a:pt x="255" y="224"/>
                    </a:cubicBezTo>
                    <a:cubicBezTo>
                      <a:pt x="256" y="234"/>
                      <a:pt x="258" y="249"/>
                      <a:pt x="252" y="261"/>
                    </a:cubicBezTo>
                    <a:cubicBezTo>
                      <a:pt x="248" y="272"/>
                      <a:pt x="240" y="281"/>
                      <a:pt x="226" y="291"/>
                    </a:cubicBezTo>
                    <a:cubicBezTo>
                      <a:pt x="213" y="301"/>
                      <a:pt x="194" y="311"/>
                      <a:pt x="177" y="316"/>
                    </a:cubicBezTo>
                    <a:cubicBezTo>
                      <a:pt x="161" y="322"/>
                      <a:pt x="140" y="323"/>
                      <a:pt x="125" y="32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1ffff"/>
                  </a:gs>
                  <a:gs pos="100000">
                    <a:srgbClr val="00f4ee"/>
                  </a:gs>
                </a:gsLst>
                <a:lin ang="5400000"/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932200" y="4329000"/>
                <a:ext cx="1113840" cy="106560"/>
              </a:xfrm>
              <a:custGeom>
                <a:avLst/>
                <a:gdLst/>
                <a:ahLst/>
                <a:rect l="l" t="t" r="r" b="b"/>
                <a:pathLst>
                  <a:path w="948" h="92">
                    <a:moveTo>
                      <a:pt x="948" y="80"/>
                    </a:moveTo>
                    <a:cubicBezTo>
                      <a:pt x="926" y="71"/>
                      <a:pt x="900" y="39"/>
                      <a:pt x="822" y="26"/>
                    </a:cubicBezTo>
                    <a:cubicBezTo>
                      <a:pt x="744" y="13"/>
                      <a:pt x="587" y="0"/>
                      <a:pt x="477" y="1"/>
                    </a:cubicBezTo>
                    <a:cubicBezTo>
                      <a:pt x="366" y="3"/>
                      <a:pt x="231" y="20"/>
                      <a:pt x="152" y="35"/>
                    </a:cubicBezTo>
                    <a:cubicBezTo>
                      <a:pt x="73" y="50"/>
                      <a:pt x="32" y="80"/>
                      <a:pt x="0" y="92"/>
                    </a:cubicBezTo>
                  </a:path>
                </a:pathLst>
              </a:custGeom>
              <a:noFill/>
              <a:ln w="19080">
                <a:solidFill>
                  <a:srgbClr val="0000d2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98160" y="2924280"/>
                <a:ext cx="775080" cy="165600"/>
              </a:xfrm>
              <a:custGeom>
                <a:avLst/>
                <a:gdLst/>
                <a:ahLst/>
                <a:rect l="l" t="t" r="r" b="b"/>
                <a:pathLst>
                  <a:path w="475" h="103">
                    <a:moveTo>
                      <a:pt x="5" y="57"/>
                    </a:moveTo>
                    <a:cubicBezTo>
                      <a:pt x="0" y="49"/>
                      <a:pt x="8" y="37"/>
                      <a:pt x="25" y="29"/>
                    </a:cubicBezTo>
                    <a:cubicBezTo>
                      <a:pt x="42" y="21"/>
                      <a:pt x="76" y="16"/>
                      <a:pt x="107" y="11"/>
                    </a:cubicBezTo>
                    <a:cubicBezTo>
                      <a:pt x="138" y="6"/>
                      <a:pt x="180" y="2"/>
                      <a:pt x="213" y="1"/>
                    </a:cubicBezTo>
                    <a:cubicBezTo>
                      <a:pt x="246" y="0"/>
                      <a:pt x="279" y="1"/>
                      <a:pt x="307" y="3"/>
                    </a:cubicBezTo>
                    <a:cubicBezTo>
                      <a:pt x="335" y="5"/>
                      <a:pt x="357" y="9"/>
                      <a:pt x="379" y="13"/>
                    </a:cubicBezTo>
                    <a:cubicBezTo>
                      <a:pt x="401" y="17"/>
                      <a:pt x="422" y="19"/>
                      <a:pt x="437" y="25"/>
                    </a:cubicBezTo>
                    <a:cubicBezTo>
                      <a:pt x="452" y="31"/>
                      <a:pt x="471" y="42"/>
                      <a:pt x="473" y="49"/>
                    </a:cubicBezTo>
                    <a:cubicBezTo>
                      <a:pt x="475" y="56"/>
                      <a:pt x="464" y="60"/>
                      <a:pt x="449" y="67"/>
                    </a:cubicBezTo>
                    <a:cubicBezTo>
                      <a:pt x="434" y="74"/>
                      <a:pt x="410" y="83"/>
                      <a:pt x="381" y="89"/>
                    </a:cubicBezTo>
                    <a:cubicBezTo>
                      <a:pt x="352" y="95"/>
                      <a:pt x="316" y="99"/>
                      <a:pt x="277" y="101"/>
                    </a:cubicBezTo>
                    <a:cubicBezTo>
                      <a:pt x="238" y="103"/>
                      <a:pt x="186" y="102"/>
                      <a:pt x="149" y="99"/>
                    </a:cubicBezTo>
                    <a:cubicBezTo>
                      <a:pt x="112" y="96"/>
                      <a:pt x="79" y="87"/>
                      <a:pt x="55" y="80"/>
                    </a:cubicBezTo>
                    <a:cubicBezTo>
                      <a:pt x="31" y="73"/>
                      <a:pt x="11" y="66"/>
                      <a:pt x="5" y="5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1ffff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916360" y="4098960"/>
                <a:ext cx="1150560" cy="158400"/>
              </a:xfrm>
              <a:custGeom>
                <a:avLst/>
                <a:gdLst/>
                <a:ahLst/>
                <a:rect l="l" t="t" r="r" b="b"/>
                <a:pathLst>
                  <a:path w="706" h="98">
                    <a:moveTo>
                      <a:pt x="0" y="18"/>
                    </a:moveTo>
                    <a:cubicBezTo>
                      <a:pt x="6" y="22"/>
                      <a:pt x="17" y="35"/>
                      <a:pt x="36" y="44"/>
                    </a:cubicBezTo>
                    <a:cubicBezTo>
                      <a:pt x="55" y="53"/>
                      <a:pt x="83" y="64"/>
                      <a:pt x="115" y="72"/>
                    </a:cubicBezTo>
                    <a:cubicBezTo>
                      <a:pt x="147" y="80"/>
                      <a:pt x="189" y="86"/>
                      <a:pt x="230" y="90"/>
                    </a:cubicBezTo>
                    <a:cubicBezTo>
                      <a:pt x="271" y="94"/>
                      <a:pt x="318" y="98"/>
                      <a:pt x="364" y="98"/>
                    </a:cubicBezTo>
                    <a:cubicBezTo>
                      <a:pt x="410" y="98"/>
                      <a:pt x="467" y="96"/>
                      <a:pt x="508" y="90"/>
                    </a:cubicBezTo>
                    <a:cubicBezTo>
                      <a:pt x="549" y="84"/>
                      <a:pt x="582" y="73"/>
                      <a:pt x="610" y="64"/>
                    </a:cubicBezTo>
                    <a:cubicBezTo>
                      <a:pt x="638" y="55"/>
                      <a:pt x="660" y="45"/>
                      <a:pt x="676" y="34"/>
                    </a:cubicBezTo>
                    <a:cubicBezTo>
                      <a:pt x="692" y="23"/>
                      <a:pt x="700" y="7"/>
                      <a:pt x="706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916360" y="3960720"/>
                <a:ext cx="1150560" cy="142560"/>
              </a:xfrm>
              <a:custGeom>
                <a:avLst/>
                <a:gdLst/>
                <a:ahLst/>
                <a:rect l="l" t="t" r="r" b="b"/>
                <a:pathLst>
                  <a:path w="706" h="90">
                    <a:moveTo>
                      <a:pt x="706" y="70"/>
                    </a:moveTo>
                    <a:cubicBezTo>
                      <a:pt x="699" y="65"/>
                      <a:pt x="685" y="49"/>
                      <a:pt x="664" y="40"/>
                    </a:cubicBezTo>
                    <a:cubicBezTo>
                      <a:pt x="643" y="31"/>
                      <a:pt x="611" y="22"/>
                      <a:pt x="580" y="16"/>
                    </a:cubicBezTo>
                    <a:cubicBezTo>
                      <a:pt x="549" y="10"/>
                      <a:pt x="514" y="4"/>
                      <a:pt x="478" y="2"/>
                    </a:cubicBezTo>
                    <a:cubicBezTo>
                      <a:pt x="442" y="0"/>
                      <a:pt x="399" y="1"/>
                      <a:pt x="361" y="1"/>
                    </a:cubicBezTo>
                    <a:cubicBezTo>
                      <a:pt x="323" y="1"/>
                      <a:pt x="286" y="1"/>
                      <a:pt x="252" y="4"/>
                    </a:cubicBezTo>
                    <a:cubicBezTo>
                      <a:pt x="218" y="7"/>
                      <a:pt x="183" y="14"/>
                      <a:pt x="154" y="20"/>
                    </a:cubicBezTo>
                    <a:cubicBezTo>
                      <a:pt x="125" y="26"/>
                      <a:pt x="97" y="34"/>
                      <a:pt x="76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916360" y="3496320"/>
                <a:ext cx="1137600" cy="159480"/>
              </a:xfrm>
              <a:custGeom>
                <a:avLst/>
                <a:gdLst/>
                <a:ahLst/>
                <a:rect l="l" t="t" r="r" b="b"/>
                <a:pathLst>
                  <a:path w="698" h="100">
                    <a:moveTo>
                      <a:pt x="0" y="20"/>
                    </a:moveTo>
                    <a:cubicBezTo>
                      <a:pt x="6" y="24"/>
                      <a:pt x="17" y="37"/>
                      <a:pt x="36" y="46"/>
                    </a:cubicBezTo>
                    <a:cubicBezTo>
                      <a:pt x="55" y="55"/>
                      <a:pt x="84" y="66"/>
                      <a:pt x="116" y="74"/>
                    </a:cubicBezTo>
                    <a:cubicBezTo>
                      <a:pt x="148" y="82"/>
                      <a:pt x="191" y="88"/>
                      <a:pt x="232" y="92"/>
                    </a:cubicBezTo>
                    <a:cubicBezTo>
                      <a:pt x="273" y="96"/>
                      <a:pt x="321" y="100"/>
                      <a:pt x="367" y="100"/>
                    </a:cubicBezTo>
                    <a:cubicBezTo>
                      <a:pt x="413" y="100"/>
                      <a:pt x="471" y="98"/>
                      <a:pt x="512" y="92"/>
                    </a:cubicBezTo>
                    <a:cubicBezTo>
                      <a:pt x="554" y="86"/>
                      <a:pt x="587" y="75"/>
                      <a:pt x="615" y="66"/>
                    </a:cubicBezTo>
                    <a:cubicBezTo>
                      <a:pt x="643" y="57"/>
                      <a:pt x="668" y="47"/>
                      <a:pt x="682" y="36"/>
                    </a:cubicBezTo>
                    <a:cubicBezTo>
                      <a:pt x="696" y="25"/>
                      <a:pt x="695" y="7"/>
                      <a:pt x="698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917800" y="3374640"/>
                <a:ext cx="1132920" cy="144360"/>
              </a:xfrm>
              <a:custGeom>
                <a:avLst/>
                <a:gdLst/>
                <a:ahLst/>
                <a:rect l="l" t="t" r="r" b="b"/>
                <a:pathLst>
                  <a:path w="696" h="90">
                    <a:moveTo>
                      <a:pt x="696" y="68"/>
                    </a:moveTo>
                    <a:cubicBezTo>
                      <a:pt x="691" y="63"/>
                      <a:pt x="688" y="49"/>
                      <a:pt x="670" y="40"/>
                    </a:cubicBezTo>
                    <a:cubicBezTo>
                      <a:pt x="652" y="31"/>
                      <a:pt x="616" y="22"/>
                      <a:pt x="585" y="16"/>
                    </a:cubicBezTo>
                    <a:cubicBezTo>
                      <a:pt x="554" y="10"/>
                      <a:pt x="518" y="4"/>
                      <a:pt x="482" y="2"/>
                    </a:cubicBezTo>
                    <a:cubicBezTo>
                      <a:pt x="446" y="0"/>
                      <a:pt x="402" y="1"/>
                      <a:pt x="364" y="1"/>
                    </a:cubicBezTo>
                    <a:cubicBezTo>
                      <a:pt x="326" y="1"/>
                      <a:pt x="288" y="1"/>
                      <a:pt x="254" y="4"/>
                    </a:cubicBezTo>
                    <a:cubicBezTo>
                      <a:pt x="220" y="7"/>
                      <a:pt x="185" y="14"/>
                      <a:pt x="155" y="20"/>
                    </a:cubicBezTo>
                    <a:cubicBezTo>
                      <a:pt x="126" y="26"/>
                      <a:pt x="98" y="34"/>
                      <a:pt x="77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>
              <a:off x="2916360" y="328464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74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395280" y="3141720"/>
            <a:ext cx="936720" cy="1439640"/>
            <a:chOff x="395280" y="3141720"/>
            <a:chExt cx="936720" cy="1439640"/>
          </a:xfrm>
        </p:grpSpPr>
        <p:grpSp>
          <p:nvGrpSpPr>
            <p:cNvPr id="357" name=""/>
            <p:cNvGrpSpPr/>
            <p:nvPr/>
          </p:nvGrpSpPr>
          <p:grpSpPr>
            <a:xfrm>
              <a:off x="468360" y="3141720"/>
              <a:ext cx="863640" cy="1439640"/>
              <a:chOff x="468360" y="3141720"/>
              <a:chExt cx="863640" cy="1439640"/>
            </a:xfrm>
          </p:grpSpPr>
          <p:sp>
            <p:nvSpPr>
              <p:cNvPr id="358" name=""/>
              <p:cNvSpPr/>
              <p:nvPr/>
            </p:nvSpPr>
            <p:spPr>
              <a:xfrm>
                <a:off x="468360" y="3141720"/>
                <a:ext cx="861120" cy="1439640"/>
              </a:xfrm>
              <a:custGeom>
                <a:avLst/>
                <a:gdLst/>
                <a:ahLst/>
                <a:rect l="l" t="t" r="r" b="b"/>
                <a:pathLst>
                  <a:path w="977" h="1445">
                    <a:moveTo>
                      <a:pt x="125" y="327"/>
                    </a:moveTo>
                    <a:cubicBezTo>
                      <a:pt x="110" y="330"/>
                      <a:pt x="101" y="330"/>
                      <a:pt x="86" y="340"/>
                    </a:cubicBezTo>
                    <a:cubicBezTo>
                      <a:pt x="71" y="348"/>
                      <a:pt x="46" y="360"/>
                      <a:pt x="33" y="380"/>
                    </a:cubicBezTo>
                    <a:cubicBezTo>
                      <a:pt x="19" y="401"/>
                      <a:pt x="12" y="403"/>
                      <a:pt x="7" y="467"/>
                    </a:cubicBezTo>
                    <a:cubicBezTo>
                      <a:pt x="1" y="532"/>
                      <a:pt x="3" y="676"/>
                      <a:pt x="1" y="769"/>
                    </a:cubicBezTo>
                    <a:cubicBezTo>
                      <a:pt x="1" y="861"/>
                      <a:pt x="0" y="935"/>
                      <a:pt x="1" y="1024"/>
                    </a:cubicBezTo>
                    <a:cubicBezTo>
                      <a:pt x="4" y="1112"/>
                      <a:pt x="0" y="1240"/>
                      <a:pt x="12" y="1300"/>
                    </a:cubicBezTo>
                    <a:cubicBezTo>
                      <a:pt x="25" y="1360"/>
                      <a:pt x="30" y="1360"/>
                      <a:pt x="75" y="1382"/>
                    </a:cubicBezTo>
                    <a:cubicBezTo>
                      <a:pt x="119" y="1405"/>
                      <a:pt x="202" y="1423"/>
                      <a:pt x="283" y="1432"/>
                    </a:cubicBezTo>
                    <a:cubicBezTo>
                      <a:pt x="363" y="1442"/>
                      <a:pt x="471" y="1445"/>
                      <a:pt x="561" y="1441"/>
                    </a:cubicBezTo>
                    <a:cubicBezTo>
                      <a:pt x="651" y="1437"/>
                      <a:pt x="761" y="1424"/>
                      <a:pt x="823" y="1412"/>
                    </a:cubicBezTo>
                    <a:cubicBezTo>
                      <a:pt x="886" y="1399"/>
                      <a:pt x="915" y="1382"/>
                      <a:pt x="940" y="1361"/>
                    </a:cubicBezTo>
                    <a:cubicBezTo>
                      <a:pt x="965" y="1340"/>
                      <a:pt x="964" y="1339"/>
                      <a:pt x="970" y="1284"/>
                    </a:cubicBezTo>
                    <a:cubicBezTo>
                      <a:pt x="976" y="1229"/>
                      <a:pt x="973" y="1148"/>
                      <a:pt x="974" y="1032"/>
                    </a:cubicBezTo>
                    <a:cubicBezTo>
                      <a:pt x="975" y="916"/>
                      <a:pt x="977" y="692"/>
                      <a:pt x="974" y="589"/>
                    </a:cubicBezTo>
                    <a:cubicBezTo>
                      <a:pt x="971" y="486"/>
                      <a:pt x="966" y="449"/>
                      <a:pt x="958" y="411"/>
                    </a:cubicBezTo>
                    <a:cubicBezTo>
                      <a:pt x="951" y="373"/>
                      <a:pt x="937" y="378"/>
                      <a:pt x="927" y="365"/>
                    </a:cubicBezTo>
                    <a:cubicBezTo>
                      <a:pt x="916" y="353"/>
                      <a:pt x="915" y="347"/>
                      <a:pt x="895" y="340"/>
                    </a:cubicBezTo>
                    <a:cubicBezTo>
                      <a:pt x="877" y="332"/>
                      <a:pt x="834" y="325"/>
                      <a:pt x="814" y="319"/>
                    </a:cubicBezTo>
                    <a:cubicBezTo>
                      <a:pt x="794" y="314"/>
                      <a:pt x="786" y="314"/>
                      <a:pt x="772" y="309"/>
                    </a:cubicBezTo>
                    <a:cubicBezTo>
                      <a:pt x="760" y="304"/>
                      <a:pt x="746" y="297"/>
                      <a:pt x="736" y="288"/>
                    </a:cubicBezTo>
                    <a:cubicBezTo>
                      <a:pt x="726" y="280"/>
                      <a:pt x="717" y="272"/>
                      <a:pt x="712" y="261"/>
                    </a:cubicBezTo>
                    <a:cubicBezTo>
                      <a:pt x="708" y="248"/>
                      <a:pt x="704" y="233"/>
                      <a:pt x="710" y="217"/>
                    </a:cubicBezTo>
                    <a:cubicBezTo>
                      <a:pt x="715" y="202"/>
                      <a:pt x="733" y="180"/>
                      <a:pt x="746" y="164"/>
                    </a:cubicBezTo>
                    <a:cubicBezTo>
                      <a:pt x="758" y="149"/>
                      <a:pt x="778" y="142"/>
                      <a:pt x="789" y="128"/>
                    </a:cubicBezTo>
                    <a:cubicBezTo>
                      <a:pt x="800" y="114"/>
                      <a:pt x="812" y="95"/>
                      <a:pt x="812" y="81"/>
                    </a:cubicBezTo>
                    <a:cubicBezTo>
                      <a:pt x="812" y="67"/>
                      <a:pt x="821" y="53"/>
                      <a:pt x="793" y="42"/>
                    </a:cubicBezTo>
                    <a:cubicBezTo>
                      <a:pt x="765" y="31"/>
                      <a:pt x="701" y="21"/>
                      <a:pt x="647" y="14"/>
                    </a:cubicBezTo>
                    <a:cubicBezTo>
                      <a:pt x="593" y="7"/>
                      <a:pt x="531" y="0"/>
                      <a:pt x="467" y="0"/>
                    </a:cubicBezTo>
                    <a:cubicBezTo>
                      <a:pt x="403" y="0"/>
                      <a:pt x="313" y="7"/>
                      <a:pt x="262" y="17"/>
                    </a:cubicBezTo>
                    <a:cubicBezTo>
                      <a:pt x="211" y="26"/>
                      <a:pt x="176" y="40"/>
                      <a:pt x="162" y="59"/>
                    </a:cubicBezTo>
                    <a:cubicBezTo>
                      <a:pt x="148" y="77"/>
                      <a:pt x="169" y="111"/>
                      <a:pt x="177" y="130"/>
                    </a:cubicBezTo>
                    <a:cubicBezTo>
                      <a:pt x="184" y="149"/>
                      <a:pt x="198" y="159"/>
                      <a:pt x="208" y="171"/>
                    </a:cubicBezTo>
                    <a:cubicBezTo>
                      <a:pt x="219" y="184"/>
                      <a:pt x="234" y="195"/>
                      <a:pt x="243" y="205"/>
                    </a:cubicBezTo>
                    <a:cubicBezTo>
                      <a:pt x="250" y="213"/>
                      <a:pt x="254" y="215"/>
                      <a:pt x="255" y="224"/>
                    </a:cubicBezTo>
                    <a:cubicBezTo>
                      <a:pt x="256" y="234"/>
                      <a:pt x="258" y="249"/>
                      <a:pt x="252" y="261"/>
                    </a:cubicBezTo>
                    <a:cubicBezTo>
                      <a:pt x="248" y="272"/>
                      <a:pt x="240" y="281"/>
                      <a:pt x="226" y="291"/>
                    </a:cubicBezTo>
                    <a:cubicBezTo>
                      <a:pt x="213" y="301"/>
                      <a:pt x="194" y="311"/>
                      <a:pt x="177" y="316"/>
                    </a:cubicBezTo>
                    <a:cubicBezTo>
                      <a:pt x="161" y="322"/>
                      <a:pt x="140" y="323"/>
                      <a:pt x="125" y="32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1ffff"/>
                  </a:gs>
                  <a:gs pos="100000">
                    <a:srgbClr val="00f4ee"/>
                  </a:gs>
                </a:gsLst>
                <a:lin ang="5400000"/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80240" y="4360680"/>
                <a:ext cx="835920" cy="92520"/>
              </a:xfrm>
              <a:custGeom>
                <a:avLst/>
                <a:gdLst/>
                <a:ahLst/>
                <a:rect l="l" t="t" r="r" b="b"/>
                <a:pathLst>
                  <a:path w="948" h="92">
                    <a:moveTo>
                      <a:pt x="948" y="80"/>
                    </a:moveTo>
                    <a:cubicBezTo>
                      <a:pt x="926" y="71"/>
                      <a:pt x="900" y="39"/>
                      <a:pt x="822" y="26"/>
                    </a:cubicBezTo>
                    <a:cubicBezTo>
                      <a:pt x="744" y="13"/>
                      <a:pt x="587" y="0"/>
                      <a:pt x="477" y="1"/>
                    </a:cubicBezTo>
                    <a:cubicBezTo>
                      <a:pt x="366" y="3"/>
                      <a:pt x="231" y="20"/>
                      <a:pt x="152" y="35"/>
                    </a:cubicBezTo>
                    <a:cubicBezTo>
                      <a:pt x="73" y="50"/>
                      <a:pt x="32" y="80"/>
                      <a:pt x="0" y="92"/>
                    </a:cubicBezTo>
                  </a:path>
                </a:pathLst>
              </a:custGeom>
              <a:noFill/>
              <a:ln w="19080">
                <a:solidFill>
                  <a:srgbClr val="0000d2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04800" y="3141720"/>
                <a:ext cx="581760" cy="143640"/>
              </a:xfrm>
              <a:custGeom>
                <a:avLst/>
                <a:gdLst/>
                <a:ahLst/>
                <a:rect l="l" t="t" r="r" b="b"/>
                <a:pathLst>
                  <a:path w="475" h="103">
                    <a:moveTo>
                      <a:pt x="5" y="57"/>
                    </a:moveTo>
                    <a:cubicBezTo>
                      <a:pt x="0" y="49"/>
                      <a:pt x="8" y="37"/>
                      <a:pt x="25" y="29"/>
                    </a:cubicBezTo>
                    <a:cubicBezTo>
                      <a:pt x="42" y="21"/>
                      <a:pt x="76" y="16"/>
                      <a:pt x="107" y="11"/>
                    </a:cubicBezTo>
                    <a:cubicBezTo>
                      <a:pt x="138" y="6"/>
                      <a:pt x="180" y="2"/>
                      <a:pt x="213" y="1"/>
                    </a:cubicBezTo>
                    <a:cubicBezTo>
                      <a:pt x="246" y="0"/>
                      <a:pt x="279" y="1"/>
                      <a:pt x="307" y="3"/>
                    </a:cubicBezTo>
                    <a:cubicBezTo>
                      <a:pt x="335" y="5"/>
                      <a:pt x="357" y="9"/>
                      <a:pt x="379" y="13"/>
                    </a:cubicBezTo>
                    <a:cubicBezTo>
                      <a:pt x="401" y="17"/>
                      <a:pt x="422" y="19"/>
                      <a:pt x="437" y="25"/>
                    </a:cubicBezTo>
                    <a:cubicBezTo>
                      <a:pt x="452" y="31"/>
                      <a:pt x="471" y="42"/>
                      <a:pt x="473" y="49"/>
                    </a:cubicBezTo>
                    <a:cubicBezTo>
                      <a:pt x="475" y="56"/>
                      <a:pt x="464" y="60"/>
                      <a:pt x="449" y="67"/>
                    </a:cubicBezTo>
                    <a:cubicBezTo>
                      <a:pt x="434" y="74"/>
                      <a:pt x="410" y="83"/>
                      <a:pt x="381" y="89"/>
                    </a:cubicBezTo>
                    <a:cubicBezTo>
                      <a:pt x="352" y="95"/>
                      <a:pt x="316" y="99"/>
                      <a:pt x="277" y="101"/>
                    </a:cubicBezTo>
                    <a:cubicBezTo>
                      <a:pt x="238" y="103"/>
                      <a:pt x="186" y="102"/>
                      <a:pt x="149" y="99"/>
                    </a:cubicBezTo>
                    <a:cubicBezTo>
                      <a:pt x="112" y="96"/>
                      <a:pt x="79" y="87"/>
                      <a:pt x="55" y="80"/>
                    </a:cubicBezTo>
                    <a:cubicBezTo>
                      <a:pt x="31" y="73"/>
                      <a:pt x="11" y="66"/>
                      <a:pt x="5" y="5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1ffff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68360" y="4161240"/>
                <a:ext cx="863640" cy="137160"/>
              </a:xfrm>
              <a:custGeom>
                <a:avLst/>
                <a:gdLst/>
                <a:ahLst/>
                <a:rect l="l" t="t" r="r" b="b"/>
                <a:pathLst>
                  <a:path w="706" h="98">
                    <a:moveTo>
                      <a:pt x="0" y="18"/>
                    </a:moveTo>
                    <a:cubicBezTo>
                      <a:pt x="6" y="22"/>
                      <a:pt x="17" y="35"/>
                      <a:pt x="36" y="44"/>
                    </a:cubicBezTo>
                    <a:cubicBezTo>
                      <a:pt x="55" y="53"/>
                      <a:pt x="83" y="64"/>
                      <a:pt x="115" y="72"/>
                    </a:cubicBezTo>
                    <a:cubicBezTo>
                      <a:pt x="147" y="80"/>
                      <a:pt x="189" y="86"/>
                      <a:pt x="230" y="90"/>
                    </a:cubicBezTo>
                    <a:cubicBezTo>
                      <a:pt x="271" y="94"/>
                      <a:pt x="318" y="98"/>
                      <a:pt x="364" y="98"/>
                    </a:cubicBezTo>
                    <a:cubicBezTo>
                      <a:pt x="410" y="98"/>
                      <a:pt x="467" y="96"/>
                      <a:pt x="508" y="90"/>
                    </a:cubicBezTo>
                    <a:cubicBezTo>
                      <a:pt x="549" y="84"/>
                      <a:pt x="582" y="73"/>
                      <a:pt x="610" y="64"/>
                    </a:cubicBezTo>
                    <a:cubicBezTo>
                      <a:pt x="638" y="55"/>
                      <a:pt x="660" y="45"/>
                      <a:pt x="676" y="34"/>
                    </a:cubicBezTo>
                    <a:cubicBezTo>
                      <a:pt x="692" y="23"/>
                      <a:pt x="700" y="7"/>
                      <a:pt x="706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68360" y="4041000"/>
                <a:ext cx="863640" cy="123840"/>
              </a:xfrm>
              <a:custGeom>
                <a:avLst/>
                <a:gdLst/>
                <a:ahLst/>
                <a:rect l="l" t="t" r="r" b="b"/>
                <a:pathLst>
                  <a:path w="706" h="90">
                    <a:moveTo>
                      <a:pt x="706" y="70"/>
                    </a:moveTo>
                    <a:cubicBezTo>
                      <a:pt x="699" y="65"/>
                      <a:pt x="685" y="49"/>
                      <a:pt x="664" y="40"/>
                    </a:cubicBezTo>
                    <a:cubicBezTo>
                      <a:pt x="643" y="31"/>
                      <a:pt x="611" y="22"/>
                      <a:pt x="580" y="16"/>
                    </a:cubicBezTo>
                    <a:cubicBezTo>
                      <a:pt x="549" y="10"/>
                      <a:pt x="514" y="4"/>
                      <a:pt x="478" y="2"/>
                    </a:cubicBezTo>
                    <a:cubicBezTo>
                      <a:pt x="442" y="0"/>
                      <a:pt x="399" y="1"/>
                      <a:pt x="361" y="1"/>
                    </a:cubicBezTo>
                    <a:cubicBezTo>
                      <a:pt x="323" y="1"/>
                      <a:pt x="286" y="1"/>
                      <a:pt x="252" y="4"/>
                    </a:cubicBezTo>
                    <a:cubicBezTo>
                      <a:pt x="218" y="7"/>
                      <a:pt x="183" y="14"/>
                      <a:pt x="154" y="20"/>
                    </a:cubicBezTo>
                    <a:cubicBezTo>
                      <a:pt x="125" y="26"/>
                      <a:pt x="97" y="34"/>
                      <a:pt x="76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68360" y="3638160"/>
                <a:ext cx="853920" cy="138600"/>
              </a:xfrm>
              <a:custGeom>
                <a:avLst/>
                <a:gdLst/>
                <a:ahLst/>
                <a:rect l="l" t="t" r="r" b="b"/>
                <a:pathLst>
                  <a:path w="698" h="100">
                    <a:moveTo>
                      <a:pt x="0" y="20"/>
                    </a:moveTo>
                    <a:cubicBezTo>
                      <a:pt x="6" y="24"/>
                      <a:pt x="17" y="37"/>
                      <a:pt x="36" y="46"/>
                    </a:cubicBezTo>
                    <a:cubicBezTo>
                      <a:pt x="55" y="55"/>
                      <a:pt x="84" y="66"/>
                      <a:pt x="116" y="74"/>
                    </a:cubicBezTo>
                    <a:cubicBezTo>
                      <a:pt x="148" y="82"/>
                      <a:pt x="191" y="88"/>
                      <a:pt x="232" y="92"/>
                    </a:cubicBezTo>
                    <a:cubicBezTo>
                      <a:pt x="273" y="96"/>
                      <a:pt x="321" y="100"/>
                      <a:pt x="367" y="100"/>
                    </a:cubicBezTo>
                    <a:cubicBezTo>
                      <a:pt x="413" y="100"/>
                      <a:pt x="471" y="98"/>
                      <a:pt x="512" y="92"/>
                    </a:cubicBezTo>
                    <a:cubicBezTo>
                      <a:pt x="554" y="86"/>
                      <a:pt x="587" y="75"/>
                      <a:pt x="615" y="66"/>
                    </a:cubicBezTo>
                    <a:cubicBezTo>
                      <a:pt x="643" y="57"/>
                      <a:pt x="668" y="47"/>
                      <a:pt x="682" y="36"/>
                    </a:cubicBezTo>
                    <a:cubicBezTo>
                      <a:pt x="696" y="25"/>
                      <a:pt x="695" y="7"/>
                      <a:pt x="698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69440" y="3532320"/>
                <a:ext cx="850320" cy="125280"/>
              </a:xfrm>
              <a:custGeom>
                <a:avLst/>
                <a:gdLst/>
                <a:ahLst/>
                <a:rect l="l" t="t" r="r" b="b"/>
                <a:pathLst>
                  <a:path w="696" h="90">
                    <a:moveTo>
                      <a:pt x="696" y="68"/>
                    </a:moveTo>
                    <a:cubicBezTo>
                      <a:pt x="691" y="63"/>
                      <a:pt x="688" y="49"/>
                      <a:pt x="670" y="40"/>
                    </a:cubicBezTo>
                    <a:cubicBezTo>
                      <a:pt x="652" y="31"/>
                      <a:pt x="616" y="22"/>
                      <a:pt x="585" y="16"/>
                    </a:cubicBezTo>
                    <a:cubicBezTo>
                      <a:pt x="554" y="10"/>
                      <a:pt x="518" y="4"/>
                      <a:pt x="482" y="2"/>
                    </a:cubicBezTo>
                    <a:cubicBezTo>
                      <a:pt x="446" y="0"/>
                      <a:pt x="402" y="1"/>
                      <a:pt x="364" y="1"/>
                    </a:cubicBezTo>
                    <a:cubicBezTo>
                      <a:pt x="326" y="1"/>
                      <a:pt x="288" y="1"/>
                      <a:pt x="254" y="4"/>
                    </a:cubicBezTo>
                    <a:cubicBezTo>
                      <a:pt x="220" y="7"/>
                      <a:pt x="185" y="14"/>
                      <a:pt x="155" y="20"/>
                    </a:cubicBezTo>
                    <a:cubicBezTo>
                      <a:pt x="126" y="26"/>
                      <a:pt x="98" y="34"/>
                      <a:pt x="77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5" name=""/>
            <p:cNvSpPr/>
            <p:nvPr/>
          </p:nvSpPr>
          <p:spPr>
            <a:xfrm>
              <a:off x="395280" y="364500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7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324000" y="4797360"/>
            <a:ext cx="4176720" cy="422280"/>
            <a:chOff x="324000" y="4797360"/>
            <a:chExt cx="4176720" cy="422280"/>
          </a:xfrm>
        </p:grpSpPr>
        <mc:AlternateContent>
          <mc:Choice xmlns:a14="http://schemas.microsoft.com/office/drawing/2010/main" Requires="a14">
            <p:sp>
              <p:nvSpPr>
                <p:cNvPr id="367" name=""/>
                <p:cNvSpPr txBox="1"/>
                <p:nvPr/>
              </p:nvSpPr>
              <p:spPr>
                <a:xfrm>
                  <a:off x="324000" y="4797360"/>
                  <a:ext cx="1873080" cy="42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⋅</m:t>
                      </m:r>
                      <m:r>
                        <m:t xml:space="preserve">0,7</m:t>
                      </m:r>
                      <m:r>
                        <m:t xml:space="preserve">=</m:t>
                      </m:r>
                      <m:r>
                        <m:t xml:space="preserve">2,8</m:t>
                      </m:r>
                      <m:r>
                        <m:t xml:space="preserve">(</m:t>
                      </m:r>
                      <m:r>
                        <m:t xml:space="preserve">л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68" name=""/>
            <p:cNvSpPr/>
            <p:nvPr/>
          </p:nvSpPr>
          <p:spPr>
            <a:xfrm>
              <a:off x="2124000" y="4797360"/>
              <a:ext cx="237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кислоты в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сосуд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539640" y="3860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2,8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692360" y="4005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0,9х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250920" y="5157720"/>
            <a:ext cx="4176720" cy="703800"/>
            <a:chOff x="250920" y="5157720"/>
            <a:chExt cx="4176720" cy="703800"/>
          </a:xfrm>
        </p:grpSpPr>
        <mc:AlternateContent>
          <mc:Choice xmlns:a14="http://schemas.microsoft.com/office/drawing/2010/main" Requires="a14">
            <p:sp>
              <p:nvSpPr>
                <p:cNvPr id="372" name=""/>
                <p:cNvSpPr txBox="1"/>
                <p:nvPr/>
              </p:nvSpPr>
              <p:spPr>
                <a:xfrm>
                  <a:off x="250920" y="5157720"/>
                  <a:ext cx="1123920" cy="42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,9</m:t>
                      </m:r>
                      <m:r>
                        <m:t xml:space="preserve">х</m:t>
                      </m:r>
                      <m:r>
                        <m:t xml:space="preserve">(</m:t>
                      </m:r>
                      <m:r>
                        <m:t xml:space="preserve">л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73" name=""/>
            <p:cNvSpPr/>
            <p:nvPr/>
          </p:nvSpPr>
          <p:spPr>
            <a:xfrm>
              <a:off x="1258920" y="5157720"/>
              <a:ext cx="3168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кислоты нужно перели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324000" y="5516640"/>
            <a:ext cx="4390920" cy="703800"/>
            <a:chOff x="324000" y="5516640"/>
            <a:chExt cx="4390920" cy="703800"/>
          </a:xfrm>
        </p:grpSpPr>
        <mc:AlternateContent>
          <mc:Choice xmlns:a14="http://schemas.microsoft.com/office/drawing/2010/main" Requires="a14">
            <p:sp>
              <p:nvSpPr>
                <p:cNvPr id="375" name=""/>
                <p:cNvSpPr txBox="1"/>
                <p:nvPr/>
              </p:nvSpPr>
              <p:spPr>
                <a:xfrm>
                  <a:off x="324000" y="5516640"/>
                  <a:ext cx="1814400" cy="43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2,8</m:t>
                          </m:r>
                          <m:r>
                            <m:t xml:space="preserve">+</m:t>
                          </m:r>
                          <m:r>
                            <m:t xml:space="preserve">0,9</m:t>
                          </m:r>
                          <m:r>
                            <m:t xml:space="preserve">х</m:t>
                          </m:r>
                        </m:e>
                      </m:d>
                      <m:r>
                        <m:t xml:space="preserve">(</m:t>
                      </m:r>
                      <m:r>
                        <m:t xml:space="preserve">л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76" name=""/>
            <p:cNvSpPr/>
            <p:nvPr/>
          </p:nvSpPr>
          <p:spPr>
            <a:xfrm>
              <a:off x="2050920" y="5516640"/>
              <a:ext cx="2664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кислоты в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новом раствор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2771640" y="3500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(2,8+0,9х)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987640" y="443700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4+х)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771640" y="3789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0,74(4+х)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250920" y="4797360"/>
            <a:ext cx="4424400" cy="703800"/>
            <a:chOff x="250920" y="4797360"/>
            <a:chExt cx="4424400" cy="703800"/>
          </a:xfrm>
        </p:grpSpPr>
        <mc:AlternateContent>
          <mc:Choice xmlns:a14="http://schemas.microsoft.com/office/drawing/2010/main" Requires="a14">
            <p:sp>
              <p:nvSpPr>
                <p:cNvPr id="381" name=""/>
                <p:cNvSpPr txBox="1"/>
                <p:nvPr/>
              </p:nvSpPr>
              <p:spPr>
                <a:xfrm>
                  <a:off x="250920" y="4797360"/>
                  <a:ext cx="1882800" cy="43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74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4</m:t>
                          </m:r>
                          <m:r>
                            <m:t xml:space="preserve">+</m:t>
                          </m:r>
                          <m:r>
                            <m:t xml:space="preserve">х</m:t>
                          </m:r>
                        </m:e>
                      </m:d>
                      <m:r>
                        <m:t xml:space="preserve">(</m:t>
                      </m:r>
                      <m:r>
                        <m:t xml:space="preserve">л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82" name=""/>
            <p:cNvSpPr/>
            <p:nvPr/>
          </p:nvSpPr>
          <p:spPr>
            <a:xfrm>
              <a:off x="2011320" y="4797360"/>
              <a:ext cx="2664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кислоты в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новом раствор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5487840" y="3305160"/>
            <a:ext cx="268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79280" y="5373720"/>
            <a:ext cx="28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Получим урав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395280" y="5734080"/>
                <a:ext cx="237492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,8</m:t>
                    </m:r>
                    <m:r>
                      <m:t xml:space="preserve">+</m:t>
                    </m:r>
                    <m:r>
                      <m:t xml:space="preserve">0,9</m:t>
                    </m:r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4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х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3203640" y="5661000"/>
                <a:ext cx="65880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7" name=""/>
          <p:cNvGrpSpPr/>
          <p:nvPr/>
        </p:nvGrpSpPr>
        <p:grpSpPr>
          <a:xfrm>
            <a:off x="4643280" y="3141720"/>
            <a:ext cx="936720" cy="1439640"/>
            <a:chOff x="4643280" y="3141720"/>
            <a:chExt cx="936720" cy="1439640"/>
          </a:xfrm>
        </p:grpSpPr>
        <p:grpSp>
          <p:nvGrpSpPr>
            <p:cNvPr id="388" name=""/>
            <p:cNvGrpSpPr/>
            <p:nvPr/>
          </p:nvGrpSpPr>
          <p:grpSpPr>
            <a:xfrm>
              <a:off x="4716360" y="3141720"/>
              <a:ext cx="863640" cy="1439640"/>
              <a:chOff x="4716360" y="3141720"/>
              <a:chExt cx="863640" cy="1439640"/>
            </a:xfrm>
          </p:grpSpPr>
          <p:sp>
            <p:nvSpPr>
              <p:cNvPr id="389" name=""/>
              <p:cNvSpPr/>
              <p:nvPr/>
            </p:nvSpPr>
            <p:spPr>
              <a:xfrm>
                <a:off x="4716360" y="3141720"/>
                <a:ext cx="861120" cy="1439640"/>
              </a:xfrm>
              <a:custGeom>
                <a:avLst/>
                <a:gdLst/>
                <a:ahLst/>
                <a:rect l="l" t="t" r="r" b="b"/>
                <a:pathLst>
                  <a:path w="977" h="1445">
                    <a:moveTo>
                      <a:pt x="125" y="327"/>
                    </a:moveTo>
                    <a:cubicBezTo>
                      <a:pt x="110" y="330"/>
                      <a:pt x="101" y="330"/>
                      <a:pt x="86" y="340"/>
                    </a:cubicBezTo>
                    <a:cubicBezTo>
                      <a:pt x="71" y="348"/>
                      <a:pt x="46" y="360"/>
                      <a:pt x="33" y="380"/>
                    </a:cubicBezTo>
                    <a:cubicBezTo>
                      <a:pt x="19" y="401"/>
                      <a:pt x="12" y="403"/>
                      <a:pt x="7" y="467"/>
                    </a:cubicBezTo>
                    <a:cubicBezTo>
                      <a:pt x="1" y="532"/>
                      <a:pt x="3" y="676"/>
                      <a:pt x="1" y="769"/>
                    </a:cubicBezTo>
                    <a:cubicBezTo>
                      <a:pt x="1" y="861"/>
                      <a:pt x="0" y="935"/>
                      <a:pt x="1" y="1024"/>
                    </a:cubicBezTo>
                    <a:cubicBezTo>
                      <a:pt x="4" y="1112"/>
                      <a:pt x="0" y="1240"/>
                      <a:pt x="12" y="1300"/>
                    </a:cubicBezTo>
                    <a:cubicBezTo>
                      <a:pt x="25" y="1360"/>
                      <a:pt x="30" y="1360"/>
                      <a:pt x="75" y="1382"/>
                    </a:cubicBezTo>
                    <a:cubicBezTo>
                      <a:pt x="119" y="1405"/>
                      <a:pt x="202" y="1423"/>
                      <a:pt x="283" y="1432"/>
                    </a:cubicBezTo>
                    <a:cubicBezTo>
                      <a:pt x="363" y="1442"/>
                      <a:pt x="471" y="1445"/>
                      <a:pt x="561" y="1441"/>
                    </a:cubicBezTo>
                    <a:cubicBezTo>
                      <a:pt x="651" y="1437"/>
                      <a:pt x="761" y="1424"/>
                      <a:pt x="823" y="1412"/>
                    </a:cubicBezTo>
                    <a:cubicBezTo>
                      <a:pt x="886" y="1399"/>
                      <a:pt x="915" y="1382"/>
                      <a:pt x="940" y="1361"/>
                    </a:cubicBezTo>
                    <a:cubicBezTo>
                      <a:pt x="965" y="1340"/>
                      <a:pt x="964" y="1339"/>
                      <a:pt x="970" y="1284"/>
                    </a:cubicBezTo>
                    <a:cubicBezTo>
                      <a:pt x="976" y="1229"/>
                      <a:pt x="973" y="1148"/>
                      <a:pt x="974" y="1032"/>
                    </a:cubicBezTo>
                    <a:cubicBezTo>
                      <a:pt x="975" y="916"/>
                      <a:pt x="977" y="692"/>
                      <a:pt x="974" y="589"/>
                    </a:cubicBezTo>
                    <a:cubicBezTo>
                      <a:pt x="971" y="486"/>
                      <a:pt x="966" y="449"/>
                      <a:pt x="958" y="411"/>
                    </a:cubicBezTo>
                    <a:cubicBezTo>
                      <a:pt x="951" y="373"/>
                      <a:pt x="937" y="378"/>
                      <a:pt x="927" y="365"/>
                    </a:cubicBezTo>
                    <a:cubicBezTo>
                      <a:pt x="916" y="353"/>
                      <a:pt x="915" y="347"/>
                      <a:pt x="895" y="340"/>
                    </a:cubicBezTo>
                    <a:cubicBezTo>
                      <a:pt x="877" y="332"/>
                      <a:pt x="834" y="325"/>
                      <a:pt x="814" y="319"/>
                    </a:cubicBezTo>
                    <a:cubicBezTo>
                      <a:pt x="794" y="314"/>
                      <a:pt x="786" y="314"/>
                      <a:pt x="772" y="309"/>
                    </a:cubicBezTo>
                    <a:cubicBezTo>
                      <a:pt x="760" y="304"/>
                      <a:pt x="746" y="297"/>
                      <a:pt x="736" y="288"/>
                    </a:cubicBezTo>
                    <a:cubicBezTo>
                      <a:pt x="726" y="280"/>
                      <a:pt x="717" y="272"/>
                      <a:pt x="712" y="261"/>
                    </a:cubicBezTo>
                    <a:cubicBezTo>
                      <a:pt x="708" y="248"/>
                      <a:pt x="704" y="233"/>
                      <a:pt x="710" y="217"/>
                    </a:cubicBezTo>
                    <a:cubicBezTo>
                      <a:pt x="715" y="202"/>
                      <a:pt x="733" y="180"/>
                      <a:pt x="746" y="164"/>
                    </a:cubicBezTo>
                    <a:cubicBezTo>
                      <a:pt x="758" y="149"/>
                      <a:pt x="778" y="142"/>
                      <a:pt x="789" y="128"/>
                    </a:cubicBezTo>
                    <a:cubicBezTo>
                      <a:pt x="800" y="114"/>
                      <a:pt x="812" y="95"/>
                      <a:pt x="812" y="81"/>
                    </a:cubicBezTo>
                    <a:cubicBezTo>
                      <a:pt x="812" y="67"/>
                      <a:pt x="821" y="53"/>
                      <a:pt x="793" y="42"/>
                    </a:cubicBezTo>
                    <a:cubicBezTo>
                      <a:pt x="765" y="31"/>
                      <a:pt x="701" y="21"/>
                      <a:pt x="647" y="14"/>
                    </a:cubicBezTo>
                    <a:cubicBezTo>
                      <a:pt x="593" y="7"/>
                      <a:pt x="531" y="0"/>
                      <a:pt x="467" y="0"/>
                    </a:cubicBezTo>
                    <a:cubicBezTo>
                      <a:pt x="403" y="0"/>
                      <a:pt x="313" y="7"/>
                      <a:pt x="262" y="17"/>
                    </a:cubicBezTo>
                    <a:cubicBezTo>
                      <a:pt x="211" y="26"/>
                      <a:pt x="176" y="40"/>
                      <a:pt x="162" y="59"/>
                    </a:cubicBezTo>
                    <a:cubicBezTo>
                      <a:pt x="148" y="77"/>
                      <a:pt x="169" y="111"/>
                      <a:pt x="177" y="130"/>
                    </a:cubicBezTo>
                    <a:cubicBezTo>
                      <a:pt x="184" y="149"/>
                      <a:pt x="198" y="159"/>
                      <a:pt x="208" y="171"/>
                    </a:cubicBezTo>
                    <a:cubicBezTo>
                      <a:pt x="219" y="184"/>
                      <a:pt x="234" y="195"/>
                      <a:pt x="243" y="205"/>
                    </a:cubicBezTo>
                    <a:cubicBezTo>
                      <a:pt x="250" y="213"/>
                      <a:pt x="254" y="215"/>
                      <a:pt x="255" y="224"/>
                    </a:cubicBezTo>
                    <a:cubicBezTo>
                      <a:pt x="256" y="234"/>
                      <a:pt x="258" y="249"/>
                      <a:pt x="252" y="261"/>
                    </a:cubicBezTo>
                    <a:cubicBezTo>
                      <a:pt x="248" y="272"/>
                      <a:pt x="240" y="281"/>
                      <a:pt x="226" y="291"/>
                    </a:cubicBezTo>
                    <a:cubicBezTo>
                      <a:pt x="213" y="301"/>
                      <a:pt x="194" y="311"/>
                      <a:pt x="177" y="316"/>
                    </a:cubicBezTo>
                    <a:cubicBezTo>
                      <a:pt x="161" y="322"/>
                      <a:pt x="140" y="323"/>
                      <a:pt x="125" y="32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1ffff"/>
                  </a:gs>
                  <a:gs pos="100000">
                    <a:srgbClr val="00f4ee"/>
                  </a:gs>
                </a:gsLst>
                <a:lin ang="5400000"/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728240" y="4360680"/>
                <a:ext cx="835920" cy="92520"/>
              </a:xfrm>
              <a:custGeom>
                <a:avLst/>
                <a:gdLst/>
                <a:ahLst/>
                <a:rect l="l" t="t" r="r" b="b"/>
                <a:pathLst>
                  <a:path w="948" h="92">
                    <a:moveTo>
                      <a:pt x="948" y="80"/>
                    </a:moveTo>
                    <a:cubicBezTo>
                      <a:pt x="926" y="71"/>
                      <a:pt x="900" y="39"/>
                      <a:pt x="822" y="26"/>
                    </a:cubicBezTo>
                    <a:cubicBezTo>
                      <a:pt x="744" y="13"/>
                      <a:pt x="587" y="0"/>
                      <a:pt x="477" y="1"/>
                    </a:cubicBezTo>
                    <a:cubicBezTo>
                      <a:pt x="366" y="3"/>
                      <a:pt x="231" y="20"/>
                      <a:pt x="152" y="35"/>
                    </a:cubicBezTo>
                    <a:cubicBezTo>
                      <a:pt x="73" y="50"/>
                      <a:pt x="32" y="80"/>
                      <a:pt x="0" y="92"/>
                    </a:cubicBezTo>
                  </a:path>
                </a:pathLst>
              </a:custGeom>
              <a:noFill/>
              <a:ln w="19080">
                <a:solidFill>
                  <a:srgbClr val="0000d2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852800" y="3141720"/>
                <a:ext cx="581760" cy="143640"/>
              </a:xfrm>
              <a:custGeom>
                <a:avLst/>
                <a:gdLst/>
                <a:ahLst/>
                <a:rect l="l" t="t" r="r" b="b"/>
                <a:pathLst>
                  <a:path w="475" h="103">
                    <a:moveTo>
                      <a:pt x="5" y="57"/>
                    </a:moveTo>
                    <a:cubicBezTo>
                      <a:pt x="0" y="49"/>
                      <a:pt x="8" y="37"/>
                      <a:pt x="25" y="29"/>
                    </a:cubicBezTo>
                    <a:cubicBezTo>
                      <a:pt x="42" y="21"/>
                      <a:pt x="76" y="16"/>
                      <a:pt x="107" y="11"/>
                    </a:cubicBezTo>
                    <a:cubicBezTo>
                      <a:pt x="138" y="6"/>
                      <a:pt x="180" y="2"/>
                      <a:pt x="213" y="1"/>
                    </a:cubicBezTo>
                    <a:cubicBezTo>
                      <a:pt x="246" y="0"/>
                      <a:pt x="279" y="1"/>
                      <a:pt x="307" y="3"/>
                    </a:cubicBezTo>
                    <a:cubicBezTo>
                      <a:pt x="335" y="5"/>
                      <a:pt x="357" y="9"/>
                      <a:pt x="379" y="13"/>
                    </a:cubicBezTo>
                    <a:cubicBezTo>
                      <a:pt x="401" y="17"/>
                      <a:pt x="422" y="19"/>
                      <a:pt x="437" y="25"/>
                    </a:cubicBezTo>
                    <a:cubicBezTo>
                      <a:pt x="452" y="31"/>
                      <a:pt x="471" y="42"/>
                      <a:pt x="473" y="49"/>
                    </a:cubicBezTo>
                    <a:cubicBezTo>
                      <a:pt x="475" y="56"/>
                      <a:pt x="464" y="60"/>
                      <a:pt x="449" y="67"/>
                    </a:cubicBezTo>
                    <a:cubicBezTo>
                      <a:pt x="434" y="74"/>
                      <a:pt x="410" y="83"/>
                      <a:pt x="381" y="89"/>
                    </a:cubicBezTo>
                    <a:cubicBezTo>
                      <a:pt x="352" y="95"/>
                      <a:pt x="316" y="99"/>
                      <a:pt x="277" y="101"/>
                    </a:cubicBezTo>
                    <a:cubicBezTo>
                      <a:pt x="238" y="103"/>
                      <a:pt x="186" y="102"/>
                      <a:pt x="149" y="99"/>
                    </a:cubicBezTo>
                    <a:cubicBezTo>
                      <a:pt x="112" y="96"/>
                      <a:pt x="79" y="87"/>
                      <a:pt x="55" y="80"/>
                    </a:cubicBezTo>
                    <a:cubicBezTo>
                      <a:pt x="31" y="73"/>
                      <a:pt x="11" y="66"/>
                      <a:pt x="5" y="5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1ffff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716360" y="4161240"/>
                <a:ext cx="863640" cy="137160"/>
              </a:xfrm>
              <a:custGeom>
                <a:avLst/>
                <a:gdLst/>
                <a:ahLst/>
                <a:rect l="l" t="t" r="r" b="b"/>
                <a:pathLst>
                  <a:path w="706" h="98">
                    <a:moveTo>
                      <a:pt x="0" y="18"/>
                    </a:moveTo>
                    <a:cubicBezTo>
                      <a:pt x="6" y="22"/>
                      <a:pt x="17" y="35"/>
                      <a:pt x="36" y="44"/>
                    </a:cubicBezTo>
                    <a:cubicBezTo>
                      <a:pt x="55" y="53"/>
                      <a:pt x="83" y="64"/>
                      <a:pt x="115" y="72"/>
                    </a:cubicBezTo>
                    <a:cubicBezTo>
                      <a:pt x="147" y="80"/>
                      <a:pt x="189" y="86"/>
                      <a:pt x="230" y="90"/>
                    </a:cubicBezTo>
                    <a:cubicBezTo>
                      <a:pt x="271" y="94"/>
                      <a:pt x="318" y="98"/>
                      <a:pt x="364" y="98"/>
                    </a:cubicBezTo>
                    <a:cubicBezTo>
                      <a:pt x="410" y="98"/>
                      <a:pt x="467" y="96"/>
                      <a:pt x="508" y="90"/>
                    </a:cubicBezTo>
                    <a:cubicBezTo>
                      <a:pt x="549" y="84"/>
                      <a:pt x="582" y="73"/>
                      <a:pt x="610" y="64"/>
                    </a:cubicBezTo>
                    <a:cubicBezTo>
                      <a:pt x="638" y="55"/>
                      <a:pt x="660" y="45"/>
                      <a:pt x="676" y="34"/>
                    </a:cubicBezTo>
                    <a:cubicBezTo>
                      <a:pt x="692" y="23"/>
                      <a:pt x="700" y="7"/>
                      <a:pt x="706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716360" y="4041000"/>
                <a:ext cx="863640" cy="123840"/>
              </a:xfrm>
              <a:custGeom>
                <a:avLst/>
                <a:gdLst/>
                <a:ahLst/>
                <a:rect l="l" t="t" r="r" b="b"/>
                <a:pathLst>
                  <a:path w="706" h="90">
                    <a:moveTo>
                      <a:pt x="706" y="70"/>
                    </a:moveTo>
                    <a:cubicBezTo>
                      <a:pt x="699" y="65"/>
                      <a:pt x="685" y="49"/>
                      <a:pt x="664" y="40"/>
                    </a:cubicBezTo>
                    <a:cubicBezTo>
                      <a:pt x="643" y="31"/>
                      <a:pt x="611" y="22"/>
                      <a:pt x="580" y="16"/>
                    </a:cubicBezTo>
                    <a:cubicBezTo>
                      <a:pt x="549" y="10"/>
                      <a:pt x="514" y="4"/>
                      <a:pt x="478" y="2"/>
                    </a:cubicBezTo>
                    <a:cubicBezTo>
                      <a:pt x="442" y="0"/>
                      <a:pt x="399" y="1"/>
                      <a:pt x="361" y="1"/>
                    </a:cubicBezTo>
                    <a:cubicBezTo>
                      <a:pt x="323" y="1"/>
                      <a:pt x="286" y="1"/>
                      <a:pt x="252" y="4"/>
                    </a:cubicBezTo>
                    <a:cubicBezTo>
                      <a:pt x="218" y="7"/>
                      <a:pt x="183" y="14"/>
                      <a:pt x="154" y="20"/>
                    </a:cubicBezTo>
                    <a:cubicBezTo>
                      <a:pt x="125" y="26"/>
                      <a:pt x="97" y="34"/>
                      <a:pt x="76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716360" y="3638160"/>
                <a:ext cx="853920" cy="138600"/>
              </a:xfrm>
              <a:custGeom>
                <a:avLst/>
                <a:gdLst/>
                <a:ahLst/>
                <a:rect l="l" t="t" r="r" b="b"/>
                <a:pathLst>
                  <a:path w="698" h="100">
                    <a:moveTo>
                      <a:pt x="0" y="20"/>
                    </a:moveTo>
                    <a:cubicBezTo>
                      <a:pt x="6" y="24"/>
                      <a:pt x="17" y="37"/>
                      <a:pt x="36" y="46"/>
                    </a:cubicBezTo>
                    <a:cubicBezTo>
                      <a:pt x="55" y="55"/>
                      <a:pt x="84" y="66"/>
                      <a:pt x="116" y="74"/>
                    </a:cubicBezTo>
                    <a:cubicBezTo>
                      <a:pt x="148" y="82"/>
                      <a:pt x="191" y="88"/>
                      <a:pt x="232" y="92"/>
                    </a:cubicBezTo>
                    <a:cubicBezTo>
                      <a:pt x="273" y="96"/>
                      <a:pt x="321" y="100"/>
                      <a:pt x="367" y="100"/>
                    </a:cubicBezTo>
                    <a:cubicBezTo>
                      <a:pt x="413" y="100"/>
                      <a:pt x="471" y="98"/>
                      <a:pt x="512" y="92"/>
                    </a:cubicBezTo>
                    <a:cubicBezTo>
                      <a:pt x="554" y="86"/>
                      <a:pt x="587" y="75"/>
                      <a:pt x="615" y="66"/>
                    </a:cubicBezTo>
                    <a:cubicBezTo>
                      <a:pt x="643" y="57"/>
                      <a:pt x="668" y="47"/>
                      <a:pt x="682" y="36"/>
                    </a:cubicBezTo>
                    <a:cubicBezTo>
                      <a:pt x="696" y="25"/>
                      <a:pt x="695" y="7"/>
                      <a:pt x="698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717440" y="3532320"/>
                <a:ext cx="850320" cy="125280"/>
              </a:xfrm>
              <a:custGeom>
                <a:avLst/>
                <a:gdLst/>
                <a:ahLst/>
                <a:rect l="l" t="t" r="r" b="b"/>
                <a:pathLst>
                  <a:path w="696" h="90">
                    <a:moveTo>
                      <a:pt x="696" y="68"/>
                    </a:moveTo>
                    <a:cubicBezTo>
                      <a:pt x="691" y="63"/>
                      <a:pt x="688" y="49"/>
                      <a:pt x="670" y="40"/>
                    </a:cubicBezTo>
                    <a:cubicBezTo>
                      <a:pt x="652" y="31"/>
                      <a:pt x="616" y="22"/>
                      <a:pt x="585" y="16"/>
                    </a:cubicBezTo>
                    <a:cubicBezTo>
                      <a:pt x="554" y="10"/>
                      <a:pt x="518" y="4"/>
                      <a:pt x="482" y="2"/>
                    </a:cubicBezTo>
                    <a:cubicBezTo>
                      <a:pt x="446" y="0"/>
                      <a:pt x="402" y="1"/>
                      <a:pt x="364" y="1"/>
                    </a:cubicBezTo>
                    <a:cubicBezTo>
                      <a:pt x="326" y="1"/>
                      <a:pt x="288" y="1"/>
                      <a:pt x="254" y="4"/>
                    </a:cubicBezTo>
                    <a:cubicBezTo>
                      <a:pt x="220" y="7"/>
                      <a:pt x="185" y="14"/>
                      <a:pt x="155" y="20"/>
                    </a:cubicBezTo>
                    <a:cubicBezTo>
                      <a:pt x="126" y="26"/>
                      <a:pt x="98" y="34"/>
                      <a:pt x="77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"/>
            <p:cNvSpPr/>
            <p:nvPr/>
          </p:nvSpPr>
          <p:spPr>
            <a:xfrm>
              <a:off x="4643280" y="364500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7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4716360" y="3789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2,8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6012000" y="3141720"/>
            <a:ext cx="935640" cy="1439640"/>
            <a:chOff x="6012000" y="3141720"/>
            <a:chExt cx="935640" cy="1439640"/>
          </a:xfrm>
        </p:grpSpPr>
        <p:grpSp>
          <p:nvGrpSpPr>
            <p:cNvPr id="399" name=""/>
            <p:cNvGrpSpPr/>
            <p:nvPr/>
          </p:nvGrpSpPr>
          <p:grpSpPr>
            <a:xfrm>
              <a:off x="6084720" y="3141720"/>
              <a:ext cx="862920" cy="1439640"/>
              <a:chOff x="6084720" y="3141720"/>
              <a:chExt cx="862920" cy="1439640"/>
            </a:xfrm>
          </p:grpSpPr>
          <p:sp>
            <p:nvSpPr>
              <p:cNvPr id="400" name=""/>
              <p:cNvSpPr/>
              <p:nvPr/>
            </p:nvSpPr>
            <p:spPr>
              <a:xfrm>
                <a:off x="6090480" y="3141720"/>
                <a:ext cx="857160" cy="1439640"/>
              </a:xfrm>
              <a:custGeom>
                <a:avLst/>
                <a:gdLst/>
                <a:ahLst/>
                <a:rect l="l" t="t" r="r" b="b"/>
                <a:pathLst>
                  <a:path w="977" h="1445">
                    <a:moveTo>
                      <a:pt x="125" y="327"/>
                    </a:moveTo>
                    <a:cubicBezTo>
                      <a:pt x="110" y="330"/>
                      <a:pt x="101" y="330"/>
                      <a:pt x="86" y="340"/>
                    </a:cubicBezTo>
                    <a:cubicBezTo>
                      <a:pt x="71" y="348"/>
                      <a:pt x="46" y="360"/>
                      <a:pt x="33" y="380"/>
                    </a:cubicBezTo>
                    <a:cubicBezTo>
                      <a:pt x="19" y="401"/>
                      <a:pt x="12" y="403"/>
                      <a:pt x="7" y="467"/>
                    </a:cubicBezTo>
                    <a:cubicBezTo>
                      <a:pt x="1" y="532"/>
                      <a:pt x="3" y="676"/>
                      <a:pt x="1" y="769"/>
                    </a:cubicBezTo>
                    <a:cubicBezTo>
                      <a:pt x="1" y="861"/>
                      <a:pt x="0" y="935"/>
                      <a:pt x="1" y="1024"/>
                    </a:cubicBezTo>
                    <a:cubicBezTo>
                      <a:pt x="4" y="1112"/>
                      <a:pt x="0" y="1240"/>
                      <a:pt x="12" y="1300"/>
                    </a:cubicBezTo>
                    <a:cubicBezTo>
                      <a:pt x="25" y="1360"/>
                      <a:pt x="30" y="1360"/>
                      <a:pt x="75" y="1382"/>
                    </a:cubicBezTo>
                    <a:cubicBezTo>
                      <a:pt x="119" y="1405"/>
                      <a:pt x="202" y="1423"/>
                      <a:pt x="283" y="1432"/>
                    </a:cubicBezTo>
                    <a:cubicBezTo>
                      <a:pt x="363" y="1442"/>
                      <a:pt x="471" y="1445"/>
                      <a:pt x="561" y="1441"/>
                    </a:cubicBezTo>
                    <a:cubicBezTo>
                      <a:pt x="651" y="1437"/>
                      <a:pt x="761" y="1424"/>
                      <a:pt x="823" y="1412"/>
                    </a:cubicBezTo>
                    <a:cubicBezTo>
                      <a:pt x="886" y="1399"/>
                      <a:pt x="915" y="1382"/>
                      <a:pt x="940" y="1361"/>
                    </a:cubicBezTo>
                    <a:cubicBezTo>
                      <a:pt x="965" y="1340"/>
                      <a:pt x="964" y="1339"/>
                      <a:pt x="970" y="1284"/>
                    </a:cubicBezTo>
                    <a:cubicBezTo>
                      <a:pt x="976" y="1229"/>
                      <a:pt x="973" y="1148"/>
                      <a:pt x="974" y="1032"/>
                    </a:cubicBezTo>
                    <a:cubicBezTo>
                      <a:pt x="975" y="916"/>
                      <a:pt x="977" y="692"/>
                      <a:pt x="974" y="589"/>
                    </a:cubicBezTo>
                    <a:cubicBezTo>
                      <a:pt x="971" y="486"/>
                      <a:pt x="966" y="449"/>
                      <a:pt x="958" y="411"/>
                    </a:cubicBezTo>
                    <a:cubicBezTo>
                      <a:pt x="951" y="373"/>
                      <a:pt x="937" y="378"/>
                      <a:pt x="927" y="365"/>
                    </a:cubicBezTo>
                    <a:cubicBezTo>
                      <a:pt x="916" y="353"/>
                      <a:pt x="915" y="347"/>
                      <a:pt x="895" y="340"/>
                    </a:cubicBezTo>
                    <a:cubicBezTo>
                      <a:pt x="877" y="332"/>
                      <a:pt x="834" y="325"/>
                      <a:pt x="814" y="319"/>
                    </a:cubicBezTo>
                    <a:cubicBezTo>
                      <a:pt x="794" y="314"/>
                      <a:pt x="786" y="314"/>
                      <a:pt x="772" y="309"/>
                    </a:cubicBezTo>
                    <a:cubicBezTo>
                      <a:pt x="760" y="304"/>
                      <a:pt x="746" y="297"/>
                      <a:pt x="736" y="288"/>
                    </a:cubicBezTo>
                    <a:cubicBezTo>
                      <a:pt x="726" y="280"/>
                      <a:pt x="717" y="272"/>
                      <a:pt x="712" y="261"/>
                    </a:cubicBezTo>
                    <a:cubicBezTo>
                      <a:pt x="708" y="248"/>
                      <a:pt x="704" y="233"/>
                      <a:pt x="710" y="217"/>
                    </a:cubicBezTo>
                    <a:cubicBezTo>
                      <a:pt x="715" y="202"/>
                      <a:pt x="733" y="180"/>
                      <a:pt x="746" y="164"/>
                    </a:cubicBezTo>
                    <a:cubicBezTo>
                      <a:pt x="758" y="149"/>
                      <a:pt x="778" y="142"/>
                      <a:pt x="789" y="128"/>
                    </a:cubicBezTo>
                    <a:cubicBezTo>
                      <a:pt x="800" y="114"/>
                      <a:pt x="812" y="95"/>
                      <a:pt x="812" y="81"/>
                    </a:cubicBezTo>
                    <a:cubicBezTo>
                      <a:pt x="812" y="67"/>
                      <a:pt x="821" y="53"/>
                      <a:pt x="793" y="42"/>
                    </a:cubicBezTo>
                    <a:cubicBezTo>
                      <a:pt x="765" y="31"/>
                      <a:pt x="701" y="21"/>
                      <a:pt x="647" y="14"/>
                    </a:cubicBezTo>
                    <a:cubicBezTo>
                      <a:pt x="593" y="7"/>
                      <a:pt x="531" y="0"/>
                      <a:pt x="467" y="0"/>
                    </a:cubicBezTo>
                    <a:cubicBezTo>
                      <a:pt x="403" y="0"/>
                      <a:pt x="313" y="7"/>
                      <a:pt x="262" y="17"/>
                    </a:cubicBezTo>
                    <a:cubicBezTo>
                      <a:pt x="211" y="26"/>
                      <a:pt x="176" y="40"/>
                      <a:pt x="162" y="59"/>
                    </a:cubicBezTo>
                    <a:cubicBezTo>
                      <a:pt x="148" y="77"/>
                      <a:pt x="169" y="111"/>
                      <a:pt x="177" y="130"/>
                    </a:cubicBezTo>
                    <a:cubicBezTo>
                      <a:pt x="184" y="149"/>
                      <a:pt x="198" y="159"/>
                      <a:pt x="208" y="171"/>
                    </a:cubicBezTo>
                    <a:cubicBezTo>
                      <a:pt x="219" y="184"/>
                      <a:pt x="234" y="195"/>
                      <a:pt x="243" y="205"/>
                    </a:cubicBezTo>
                    <a:cubicBezTo>
                      <a:pt x="250" y="213"/>
                      <a:pt x="254" y="215"/>
                      <a:pt x="255" y="224"/>
                    </a:cubicBezTo>
                    <a:cubicBezTo>
                      <a:pt x="256" y="234"/>
                      <a:pt x="258" y="249"/>
                      <a:pt x="252" y="261"/>
                    </a:cubicBezTo>
                    <a:cubicBezTo>
                      <a:pt x="248" y="272"/>
                      <a:pt x="240" y="281"/>
                      <a:pt x="226" y="291"/>
                    </a:cubicBezTo>
                    <a:cubicBezTo>
                      <a:pt x="213" y="301"/>
                      <a:pt x="194" y="311"/>
                      <a:pt x="177" y="316"/>
                    </a:cubicBezTo>
                    <a:cubicBezTo>
                      <a:pt x="161" y="322"/>
                      <a:pt x="140" y="323"/>
                      <a:pt x="125" y="32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1ffff"/>
                  </a:gs>
                  <a:gs pos="100000">
                    <a:srgbClr val="00f4ee"/>
                  </a:gs>
                </a:gsLst>
                <a:lin ang="5400000"/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226560" y="3141720"/>
                <a:ext cx="578880" cy="143640"/>
              </a:xfrm>
              <a:custGeom>
                <a:avLst/>
                <a:gdLst/>
                <a:ahLst/>
                <a:rect l="l" t="t" r="r" b="b"/>
                <a:pathLst>
                  <a:path w="475" h="103">
                    <a:moveTo>
                      <a:pt x="5" y="57"/>
                    </a:moveTo>
                    <a:cubicBezTo>
                      <a:pt x="0" y="49"/>
                      <a:pt x="8" y="37"/>
                      <a:pt x="25" y="29"/>
                    </a:cubicBezTo>
                    <a:cubicBezTo>
                      <a:pt x="42" y="21"/>
                      <a:pt x="76" y="16"/>
                      <a:pt x="107" y="11"/>
                    </a:cubicBezTo>
                    <a:cubicBezTo>
                      <a:pt x="138" y="6"/>
                      <a:pt x="180" y="2"/>
                      <a:pt x="213" y="1"/>
                    </a:cubicBezTo>
                    <a:cubicBezTo>
                      <a:pt x="246" y="0"/>
                      <a:pt x="279" y="1"/>
                      <a:pt x="307" y="3"/>
                    </a:cubicBezTo>
                    <a:cubicBezTo>
                      <a:pt x="335" y="5"/>
                      <a:pt x="357" y="9"/>
                      <a:pt x="379" y="13"/>
                    </a:cubicBezTo>
                    <a:cubicBezTo>
                      <a:pt x="401" y="17"/>
                      <a:pt x="422" y="19"/>
                      <a:pt x="437" y="25"/>
                    </a:cubicBezTo>
                    <a:cubicBezTo>
                      <a:pt x="452" y="31"/>
                      <a:pt x="471" y="42"/>
                      <a:pt x="473" y="49"/>
                    </a:cubicBezTo>
                    <a:cubicBezTo>
                      <a:pt x="475" y="56"/>
                      <a:pt x="464" y="60"/>
                      <a:pt x="449" y="67"/>
                    </a:cubicBezTo>
                    <a:cubicBezTo>
                      <a:pt x="434" y="74"/>
                      <a:pt x="410" y="83"/>
                      <a:pt x="381" y="89"/>
                    </a:cubicBezTo>
                    <a:cubicBezTo>
                      <a:pt x="352" y="95"/>
                      <a:pt x="316" y="99"/>
                      <a:pt x="277" y="101"/>
                    </a:cubicBezTo>
                    <a:cubicBezTo>
                      <a:pt x="238" y="103"/>
                      <a:pt x="186" y="102"/>
                      <a:pt x="149" y="99"/>
                    </a:cubicBezTo>
                    <a:cubicBezTo>
                      <a:pt x="112" y="96"/>
                      <a:pt x="79" y="87"/>
                      <a:pt x="55" y="80"/>
                    </a:cubicBezTo>
                    <a:cubicBezTo>
                      <a:pt x="31" y="73"/>
                      <a:pt x="11" y="66"/>
                      <a:pt x="5" y="5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1ffff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090480" y="4272120"/>
                <a:ext cx="851400" cy="144000"/>
              </a:xfrm>
              <a:custGeom>
                <a:avLst/>
                <a:gdLst/>
                <a:ahLst/>
                <a:rect l="l" t="t" r="r" b="b"/>
                <a:pathLst>
                  <a:path w="713" h="109">
                    <a:moveTo>
                      <a:pt x="0" y="24"/>
                    </a:moveTo>
                    <a:cubicBezTo>
                      <a:pt x="6" y="28"/>
                      <a:pt x="17" y="42"/>
                      <a:pt x="37" y="52"/>
                    </a:cubicBezTo>
                    <a:cubicBezTo>
                      <a:pt x="56" y="61"/>
                      <a:pt x="85" y="73"/>
                      <a:pt x="117" y="81"/>
                    </a:cubicBezTo>
                    <a:cubicBezTo>
                      <a:pt x="150" y="90"/>
                      <a:pt x="193" y="96"/>
                      <a:pt x="235" y="101"/>
                    </a:cubicBezTo>
                    <a:cubicBezTo>
                      <a:pt x="276" y="105"/>
                      <a:pt x="324" y="109"/>
                      <a:pt x="371" y="109"/>
                    </a:cubicBezTo>
                    <a:cubicBezTo>
                      <a:pt x="418" y="109"/>
                      <a:pt x="477" y="106"/>
                      <a:pt x="518" y="101"/>
                    </a:cubicBezTo>
                    <a:cubicBezTo>
                      <a:pt x="559" y="96"/>
                      <a:pt x="592" y="91"/>
                      <a:pt x="620" y="81"/>
                    </a:cubicBezTo>
                    <a:cubicBezTo>
                      <a:pt x="648" y="71"/>
                      <a:pt x="674" y="55"/>
                      <a:pt x="689" y="41"/>
                    </a:cubicBezTo>
                    <a:cubicBezTo>
                      <a:pt x="704" y="27"/>
                      <a:pt x="708" y="9"/>
                      <a:pt x="713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084720" y="3779280"/>
                <a:ext cx="850320" cy="138600"/>
              </a:xfrm>
              <a:custGeom>
                <a:avLst/>
                <a:gdLst/>
                <a:ahLst/>
                <a:rect l="l" t="t" r="r" b="b"/>
                <a:pathLst>
                  <a:path w="712" h="105">
                    <a:moveTo>
                      <a:pt x="0" y="21"/>
                    </a:moveTo>
                    <a:cubicBezTo>
                      <a:pt x="6" y="25"/>
                      <a:pt x="17" y="39"/>
                      <a:pt x="37" y="48"/>
                    </a:cubicBezTo>
                    <a:cubicBezTo>
                      <a:pt x="56" y="58"/>
                      <a:pt x="86" y="69"/>
                      <a:pt x="118" y="78"/>
                    </a:cubicBezTo>
                    <a:cubicBezTo>
                      <a:pt x="151" y="86"/>
                      <a:pt x="195" y="92"/>
                      <a:pt x="237" y="97"/>
                    </a:cubicBezTo>
                    <a:cubicBezTo>
                      <a:pt x="278" y="101"/>
                      <a:pt x="327" y="105"/>
                      <a:pt x="374" y="105"/>
                    </a:cubicBezTo>
                    <a:cubicBezTo>
                      <a:pt x="421" y="105"/>
                      <a:pt x="480" y="103"/>
                      <a:pt x="522" y="97"/>
                    </a:cubicBezTo>
                    <a:cubicBezTo>
                      <a:pt x="565" y="90"/>
                      <a:pt x="599" y="79"/>
                      <a:pt x="627" y="69"/>
                    </a:cubicBezTo>
                    <a:cubicBezTo>
                      <a:pt x="655" y="59"/>
                      <a:pt x="675" y="45"/>
                      <a:pt x="689" y="34"/>
                    </a:cubicBezTo>
                    <a:cubicBezTo>
                      <a:pt x="703" y="23"/>
                      <a:pt x="707" y="7"/>
                      <a:pt x="712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084720" y="3661920"/>
                <a:ext cx="841680" cy="126360"/>
              </a:xfrm>
              <a:custGeom>
                <a:avLst/>
                <a:gdLst/>
                <a:ahLst/>
                <a:rect l="l" t="t" r="r" b="b"/>
                <a:pathLst>
                  <a:path w="705" h="96">
                    <a:moveTo>
                      <a:pt x="705" y="72"/>
                    </a:moveTo>
                    <a:cubicBezTo>
                      <a:pt x="693" y="66"/>
                      <a:pt x="655" y="45"/>
                      <a:pt x="630" y="36"/>
                    </a:cubicBezTo>
                    <a:cubicBezTo>
                      <a:pt x="605" y="27"/>
                      <a:pt x="583" y="26"/>
                      <a:pt x="555" y="21"/>
                    </a:cubicBezTo>
                    <a:cubicBezTo>
                      <a:pt x="527" y="16"/>
                      <a:pt x="491" y="9"/>
                      <a:pt x="459" y="6"/>
                    </a:cubicBezTo>
                    <a:cubicBezTo>
                      <a:pt x="427" y="3"/>
                      <a:pt x="393" y="0"/>
                      <a:pt x="360" y="0"/>
                    </a:cubicBezTo>
                    <a:cubicBezTo>
                      <a:pt x="327" y="0"/>
                      <a:pt x="292" y="4"/>
                      <a:pt x="261" y="6"/>
                    </a:cubicBezTo>
                    <a:cubicBezTo>
                      <a:pt x="230" y="8"/>
                      <a:pt x="200" y="11"/>
                      <a:pt x="171" y="15"/>
                    </a:cubicBezTo>
                    <a:cubicBezTo>
                      <a:pt x="142" y="19"/>
                      <a:pt x="110" y="26"/>
                      <a:pt x="87" y="33"/>
                    </a:cubicBezTo>
                    <a:cubicBezTo>
                      <a:pt x="64" y="40"/>
                      <a:pt x="44" y="47"/>
                      <a:pt x="30" y="57"/>
                    </a:cubicBezTo>
                    <a:cubicBezTo>
                      <a:pt x="16" y="67"/>
                      <a:pt x="6" y="88"/>
                      <a:pt x="0" y="96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084720" y="3678840"/>
                <a:ext cx="846360" cy="237600"/>
              </a:xfrm>
              <a:custGeom>
                <a:avLst/>
                <a:gdLst/>
                <a:ahLst/>
                <a:rect l="l" t="t" r="r" b="b"/>
                <a:pathLst>
                  <a:path w="709" h="180">
                    <a:moveTo>
                      <a:pt x="3" y="93"/>
                    </a:moveTo>
                    <a:cubicBezTo>
                      <a:pt x="0" y="103"/>
                      <a:pt x="18" y="108"/>
                      <a:pt x="36" y="117"/>
                    </a:cubicBezTo>
                    <a:cubicBezTo>
                      <a:pt x="54" y="126"/>
                      <a:pt x="80" y="141"/>
                      <a:pt x="114" y="150"/>
                    </a:cubicBezTo>
                    <a:cubicBezTo>
                      <a:pt x="148" y="159"/>
                      <a:pt x="195" y="166"/>
                      <a:pt x="240" y="171"/>
                    </a:cubicBezTo>
                    <a:cubicBezTo>
                      <a:pt x="285" y="176"/>
                      <a:pt x="342" y="180"/>
                      <a:pt x="387" y="180"/>
                    </a:cubicBezTo>
                    <a:cubicBezTo>
                      <a:pt x="432" y="180"/>
                      <a:pt x="475" y="178"/>
                      <a:pt x="510" y="174"/>
                    </a:cubicBezTo>
                    <a:cubicBezTo>
                      <a:pt x="545" y="170"/>
                      <a:pt x="572" y="161"/>
                      <a:pt x="597" y="153"/>
                    </a:cubicBezTo>
                    <a:cubicBezTo>
                      <a:pt x="622" y="145"/>
                      <a:pt x="646" y="136"/>
                      <a:pt x="663" y="126"/>
                    </a:cubicBezTo>
                    <a:cubicBezTo>
                      <a:pt x="680" y="116"/>
                      <a:pt x="696" y="99"/>
                      <a:pt x="702" y="90"/>
                    </a:cubicBezTo>
                    <a:cubicBezTo>
                      <a:pt x="708" y="81"/>
                      <a:pt x="709" y="81"/>
                      <a:pt x="699" y="72"/>
                    </a:cubicBezTo>
                    <a:cubicBezTo>
                      <a:pt x="689" y="63"/>
                      <a:pt x="675" y="46"/>
                      <a:pt x="642" y="36"/>
                    </a:cubicBezTo>
                    <a:cubicBezTo>
                      <a:pt x="609" y="26"/>
                      <a:pt x="543" y="14"/>
                      <a:pt x="501" y="9"/>
                    </a:cubicBezTo>
                    <a:cubicBezTo>
                      <a:pt x="459" y="4"/>
                      <a:pt x="427" y="4"/>
                      <a:pt x="387" y="3"/>
                    </a:cubicBezTo>
                    <a:cubicBezTo>
                      <a:pt x="347" y="2"/>
                      <a:pt x="300" y="0"/>
                      <a:pt x="258" y="3"/>
                    </a:cubicBezTo>
                    <a:cubicBezTo>
                      <a:pt x="216" y="6"/>
                      <a:pt x="171" y="13"/>
                      <a:pt x="135" y="21"/>
                    </a:cubicBezTo>
                    <a:cubicBezTo>
                      <a:pt x="99" y="29"/>
                      <a:pt x="64" y="39"/>
                      <a:pt x="42" y="51"/>
                    </a:cubicBezTo>
                    <a:cubicBezTo>
                      <a:pt x="20" y="63"/>
                      <a:pt x="11" y="84"/>
                      <a:pt x="3" y="9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7ffff"/>
                  </a:gs>
                  <a:gs pos="100000">
                    <a:srgbClr val="01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090480" y="4158720"/>
                <a:ext cx="852480" cy="245520"/>
              </a:xfrm>
              <a:custGeom>
                <a:avLst/>
                <a:gdLst/>
                <a:ahLst/>
                <a:rect l="l" t="t" r="r" b="b"/>
                <a:pathLst>
                  <a:path w="714" h="186">
                    <a:moveTo>
                      <a:pt x="8" y="89"/>
                    </a:moveTo>
                    <a:cubicBezTo>
                      <a:pt x="0" y="101"/>
                      <a:pt x="18" y="110"/>
                      <a:pt x="34" y="121"/>
                    </a:cubicBezTo>
                    <a:cubicBezTo>
                      <a:pt x="50" y="132"/>
                      <a:pt x="63" y="145"/>
                      <a:pt x="107" y="155"/>
                    </a:cubicBezTo>
                    <a:cubicBezTo>
                      <a:pt x="151" y="165"/>
                      <a:pt x="228" y="180"/>
                      <a:pt x="296" y="183"/>
                    </a:cubicBezTo>
                    <a:cubicBezTo>
                      <a:pt x="364" y="186"/>
                      <a:pt x="464" y="181"/>
                      <a:pt x="515" y="176"/>
                    </a:cubicBezTo>
                    <a:cubicBezTo>
                      <a:pt x="566" y="171"/>
                      <a:pt x="577" y="162"/>
                      <a:pt x="602" y="155"/>
                    </a:cubicBezTo>
                    <a:cubicBezTo>
                      <a:pt x="627" y="148"/>
                      <a:pt x="647" y="143"/>
                      <a:pt x="665" y="131"/>
                    </a:cubicBezTo>
                    <a:cubicBezTo>
                      <a:pt x="683" y="119"/>
                      <a:pt x="700" y="96"/>
                      <a:pt x="707" y="86"/>
                    </a:cubicBezTo>
                    <a:cubicBezTo>
                      <a:pt x="714" y="76"/>
                      <a:pt x="714" y="77"/>
                      <a:pt x="704" y="68"/>
                    </a:cubicBezTo>
                    <a:cubicBezTo>
                      <a:pt x="694" y="59"/>
                      <a:pt x="680" y="42"/>
                      <a:pt x="647" y="32"/>
                    </a:cubicBezTo>
                    <a:cubicBezTo>
                      <a:pt x="614" y="22"/>
                      <a:pt x="549" y="10"/>
                      <a:pt x="506" y="5"/>
                    </a:cubicBezTo>
                    <a:cubicBezTo>
                      <a:pt x="463" y="0"/>
                      <a:pt x="429" y="2"/>
                      <a:pt x="389" y="2"/>
                    </a:cubicBezTo>
                    <a:cubicBezTo>
                      <a:pt x="349" y="2"/>
                      <a:pt x="305" y="1"/>
                      <a:pt x="263" y="5"/>
                    </a:cubicBezTo>
                    <a:cubicBezTo>
                      <a:pt x="221" y="9"/>
                      <a:pt x="171" y="21"/>
                      <a:pt x="137" y="29"/>
                    </a:cubicBezTo>
                    <a:cubicBezTo>
                      <a:pt x="103" y="37"/>
                      <a:pt x="77" y="43"/>
                      <a:pt x="56" y="53"/>
                    </a:cubicBezTo>
                    <a:cubicBezTo>
                      <a:pt x="35" y="63"/>
                      <a:pt x="18" y="82"/>
                      <a:pt x="8" y="8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7ffff"/>
                  </a:gs>
                  <a:gs pos="100000">
                    <a:srgbClr val="00f8f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090480" y="4158720"/>
                <a:ext cx="841680" cy="117720"/>
              </a:xfrm>
              <a:custGeom>
                <a:avLst/>
                <a:gdLst/>
                <a:ahLst/>
                <a:rect l="l" t="t" r="r" b="b"/>
                <a:pathLst>
                  <a:path w="705" h="89">
                    <a:moveTo>
                      <a:pt x="705" y="68"/>
                    </a:moveTo>
                    <a:cubicBezTo>
                      <a:pt x="698" y="63"/>
                      <a:pt x="692" y="50"/>
                      <a:pt x="672" y="42"/>
                    </a:cubicBezTo>
                    <a:cubicBezTo>
                      <a:pt x="652" y="34"/>
                      <a:pt x="618" y="23"/>
                      <a:pt x="587" y="17"/>
                    </a:cubicBezTo>
                    <a:cubicBezTo>
                      <a:pt x="555" y="10"/>
                      <a:pt x="519" y="4"/>
                      <a:pt x="482" y="2"/>
                    </a:cubicBezTo>
                    <a:cubicBezTo>
                      <a:pt x="446" y="0"/>
                      <a:pt x="402" y="1"/>
                      <a:pt x="363" y="1"/>
                    </a:cubicBezTo>
                    <a:cubicBezTo>
                      <a:pt x="324" y="1"/>
                      <a:pt x="287" y="1"/>
                      <a:pt x="252" y="4"/>
                    </a:cubicBezTo>
                    <a:cubicBezTo>
                      <a:pt x="217" y="7"/>
                      <a:pt x="182" y="12"/>
                      <a:pt x="153" y="17"/>
                    </a:cubicBezTo>
                    <a:cubicBezTo>
                      <a:pt x="124" y="22"/>
                      <a:pt x="97" y="28"/>
                      <a:pt x="75" y="35"/>
                    </a:cubicBezTo>
                    <a:cubicBezTo>
                      <a:pt x="53" y="42"/>
                      <a:pt x="30" y="53"/>
                      <a:pt x="18" y="62"/>
                    </a:cubicBezTo>
                    <a:cubicBezTo>
                      <a:pt x="6" y="71"/>
                      <a:pt x="4" y="84"/>
                      <a:pt x="0" y="89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090480" y="4339440"/>
                <a:ext cx="832320" cy="92520"/>
              </a:xfrm>
              <a:custGeom>
                <a:avLst/>
                <a:gdLst/>
                <a:ahLst/>
                <a:rect l="l" t="t" r="r" b="b"/>
                <a:pathLst>
                  <a:path w="948" h="92">
                    <a:moveTo>
                      <a:pt x="948" y="80"/>
                    </a:moveTo>
                    <a:cubicBezTo>
                      <a:pt x="926" y="71"/>
                      <a:pt x="900" y="39"/>
                      <a:pt x="822" y="26"/>
                    </a:cubicBezTo>
                    <a:cubicBezTo>
                      <a:pt x="744" y="13"/>
                      <a:pt x="587" y="0"/>
                      <a:pt x="477" y="1"/>
                    </a:cubicBezTo>
                    <a:cubicBezTo>
                      <a:pt x="366" y="3"/>
                      <a:pt x="231" y="20"/>
                      <a:pt x="152" y="35"/>
                    </a:cubicBezTo>
                    <a:cubicBezTo>
                      <a:pt x="73" y="50"/>
                      <a:pt x="32" y="80"/>
                      <a:pt x="0" y="92"/>
                    </a:cubicBezTo>
                  </a:path>
                </a:pathLst>
              </a:custGeom>
              <a:noFill/>
              <a:ln w="19080">
                <a:solidFill>
                  <a:srgbClr val="0000d2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9" name=""/>
            <p:cNvSpPr/>
            <p:nvPr/>
          </p:nvSpPr>
          <p:spPr>
            <a:xfrm>
              <a:off x="6012000" y="378936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9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"/>
          <p:cNvSpPr/>
          <p:nvPr/>
        </p:nvSpPr>
        <p:spPr>
          <a:xfrm>
            <a:off x="6156360" y="4005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1,8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7451640" y="2924280"/>
            <a:ext cx="1150560" cy="1658880"/>
            <a:chOff x="7451640" y="2924280"/>
            <a:chExt cx="1150560" cy="1658880"/>
          </a:xfrm>
        </p:grpSpPr>
        <p:sp>
          <p:nvSpPr>
            <p:cNvPr id="412" name=""/>
            <p:cNvSpPr/>
            <p:nvPr/>
          </p:nvSpPr>
          <p:spPr>
            <a:xfrm>
              <a:off x="7451640" y="2924280"/>
              <a:ext cx="1147320" cy="1658880"/>
            </a:xfrm>
            <a:custGeom>
              <a:avLst/>
              <a:gdLst/>
              <a:ahLst/>
              <a:rect l="l" t="t" r="r" b="b"/>
              <a:pathLst>
                <a:path w="977" h="1445">
                  <a:moveTo>
                    <a:pt x="125" y="327"/>
                  </a:moveTo>
                  <a:cubicBezTo>
                    <a:pt x="110" y="330"/>
                    <a:pt x="101" y="330"/>
                    <a:pt x="86" y="340"/>
                  </a:cubicBezTo>
                  <a:cubicBezTo>
                    <a:pt x="71" y="348"/>
                    <a:pt x="46" y="360"/>
                    <a:pt x="33" y="380"/>
                  </a:cubicBezTo>
                  <a:cubicBezTo>
                    <a:pt x="19" y="401"/>
                    <a:pt x="12" y="403"/>
                    <a:pt x="7" y="467"/>
                  </a:cubicBezTo>
                  <a:cubicBezTo>
                    <a:pt x="1" y="532"/>
                    <a:pt x="3" y="676"/>
                    <a:pt x="1" y="769"/>
                  </a:cubicBezTo>
                  <a:cubicBezTo>
                    <a:pt x="1" y="861"/>
                    <a:pt x="0" y="935"/>
                    <a:pt x="1" y="1024"/>
                  </a:cubicBezTo>
                  <a:cubicBezTo>
                    <a:pt x="4" y="1112"/>
                    <a:pt x="0" y="1240"/>
                    <a:pt x="12" y="1300"/>
                  </a:cubicBezTo>
                  <a:cubicBezTo>
                    <a:pt x="25" y="1360"/>
                    <a:pt x="30" y="1360"/>
                    <a:pt x="75" y="1382"/>
                  </a:cubicBezTo>
                  <a:cubicBezTo>
                    <a:pt x="119" y="1405"/>
                    <a:pt x="202" y="1423"/>
                    <a:pt x="283" y="1432"/>
                  </a:cubicBezTo>
                  <a:cubicBezTo>
                    <a:pt x="363" y="1442"/>
                    <a:pt x="471" y="1445"/>
                    <a:pt x="561" y="1441"/>
                  </a:cubicBezTo>
                  <a:cubicBezTo>
                    <a:pt x="651" y="1437"/>
                    <a:pt x="761" y="1424"/>
                    <a:pt x="823" y="1412"/>
                  </a:cubicBezTo>
                  <a:cubicBezTo>
                    <a:pt x="886" y="1399"/>
                    <a:pt x="915" y="1382"/>
                    <a:pt x="940" y="1361"/>
                  </a:cubicBezTo>
                  <a:cubicBezTo>
                    <a:pt x="965" y="1340"/>
                    <a:pt x="964" y="1339"/>
                    <a:pt x="970" y="1284"/>
                  </a:cubicBezTo>
                  <a:cubicBezTo>
                    <a:pt x="976" y="1229"/>
                    <a:pt x="973" y="1148"/>
                    <a:pt x="974" y="1032"/>
                  </a:cubicBezTo>
                  <a:cubicBezTo>
                    <a:pt x="975" y="916"/>
                    <a:pt x="977" y="692"/>
                    <a:pt x="974" y="589"/>
                  </a:cubicBezTo>
                  <a:cubicBezTo>
                    <a:pt x="971" y="486"/>
                    <a:pt x="966" y="449"/>
                    <a:pt x="958" y="411"/>
                  </a:cubicBezTo>
                  <a:cubicBezTo>
                    <a:pt x="951" y="373"/>
                    <a:pt x="937" y="378"/>
                    <a:pt x="927" y="365"/>
                  </a:cubicBezTo>
                  <a:cubicBezTo>
                    <a:pt x="916" y="353"/>
                    <a:pt x="915" y="347"/>
                    <a:pt x="895" y="340"/>
                  </a:cubicBezTo>
                  <a:cubicBezTo>
                    <a:pt x="877" y="332"/>
                    <a:pt x="834" y="325"/>
                    <a:pt x="814" y="319"/>
                  </a:cubicBezTo>
                  <a:cubicBezTo>
                    <a:pt x="794" y="314"/>
                    <a:pt x="786" y="314"/>
                    <a:pt x="772" y="309"/>
                  </a:cubicBezTo>
                  <a:cubicBezTo>
                    <a:pt x="760" y="304"/>
                    <a:pt x="746" y="297"/>
                    <a:pt x="736" y="288"/>
                  </a:cubicBezTo>
                  <a:cubicBezTo>
                    <a:pt x="726" y="280"/>
                    <a:pt x="717" y="272"/>
                    <a:pt x="712" y="261"/>
                  </a:cubicBezTo>
                  <a:cubicBezTo>
                    <a:pt x="708" y="248"/>
                    <a:pt x="704" y="233"/>
                    <a:pt x="710" y="217"/>
                  </a:cubicBezTo>
                  <a:cubicBezTo>
                    <a:pt x="715" y="202"/>
                    <a:pt x="733" y="180"/>
                    <a:pt x="746" y="164"/>
                  </a:cubicBezTo>
                  <a:cubicBezTo>
                    <a:pt x="758" y="149"/>
                    <a:pt x="778" y="142"/>
                    <a:pt x="789" y="128"/>
                  </a:cubicBezTo>
                  <a:cubicBezTo>
                    <a:pt x="800" y="114"/>
                    <a:pt x="812" y="95"/>
                    <a:pt x="812" y="81"/>
                  </a:cubicBezTo>
                  <a:cubicBezTo>
                    <a:pt x="812" y="67"/>
                    <a:pt x="821" y="53"/>
                    <a:pt x="793" y="42"/>
                  </a:cubicBezTo>
                  <a:cubicBezTo>
                    <a:pt x="765" y="31"/>
                    <a:pt x="701" y="21"/>
                    <a:pt x="647" y="14"/>
                  </a:cubicBezTo>
                  <a:cubicBezTo>
                    <a:pt x="593" y="7"/>
                    <a:pt x="531" y="0"/>
                    <a:pt x="467" y="0"/>
                  </a:cubicBezTo>
                  <a:cubicBezTo>
                    <a:pt x="403" y="0"/>
                    <a:pt x="313" y="7"/>
                    <a:pt x="262" y="17"/>
                  </a:cubicBezTo>
                  <a:cubicBezTo>
                    <a:pt x="211" y="26"/>
                    <a:pt x="176" y="40"/>
                    <a:pt x="162" y="59"/>
                  </a:cubicBezTo>
                  <a:cubicBezTo>
                    <a:pt x="148" y="77"/>
                    <a:pt x="169" y="111"/>
                    <a:pt x="177" y="130"/>
                  </a:cubicBezTo>
                  <a:cubicBezTo>
                    <a:pt x="184" y="149"/>
                    <a:pt x="198" y="159"/>
                    <a:pt x="208" y="171"/>
                  </a:cubicBezTo>
                  <a:cubicBezTo>
                    <a:pt x="219" y="184"/>
                    <a:pt x="234" y="195"/>
                    <a:pt x="243" y="205"/>
                  </a:cubicBezTo>
                  <a:cubicBezTo>
                    <a:pt x="250" y="213"/>
                    <a:pt x="254" y="215"/>
                    <a:pt x="255" y="224"/>
                  </a:cubicBezTo>
                  <a:cubicBezTo>
                    <a:pt x="256" y="234"/>
                    <a:pt x="258" y="249"/>
                    <a:pt x="252" y="261"/>
                  </a:cubicBezTo>
                  <a:cubicBezTo>
                    <a:pt x="248" y="272"/>
                    <a:pt x="240" y="281"/>
                    <a:pt x="226" y="291"/>
                  </a:cubicBezTo>
                  <a:cubicBezTo>
                    <a:pt x="213" y="301"/>
                    <a:pt x="194" y="311"/>
                    <a:pt x="177" y="316"/>
                  </a:cubicBezTo>
                  <a:cubicBezTo>
                    <a:pt x="161" y="322"/>
                    <a:pt x="140" y="323"/>
                    <a:pt x="125" y="327"/>
                  </a:cubicBezTo>
                  <a:close/>
                </a:path>
              </a:pathLst>
            </a:custGeom>
            <a:gradFill rotWithShape="0">
              <a:gsLst>
                <a:gs pos="0">
                  <a:srgbClr val="e1ffff"/>
                </a:gs>
                <a:gs pos="100000">
                  <a:srgbClr val="00f4ee"/>
                </a:gs>
              </a:gsLst>
              <a:lin ang="5400000"/>
            </a:gradFill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467480" y="4329000"/>
              <a:ext cx="1113840" cy="106560"/>
            </a:xfrm>
            <a:custGeom>
              <a:avLst/>
              <a:gdLst/>
              <a:ahLst/>
              <a:rect l="l" t="t" r="r" b="b"/>
              <a:pathLst>
                <a:path w="948" h="92">
                  <a:moveTo>
                    <a:pt x="948" y="80"/>
                  </a:moveTo>
                  <a:cubicBezTo>
                    <a:pt x="926" y="71"/>
                    <a:pt x="900" y="39"/>
                    <a:pt x="822" y="26"/>
                  </a:cubicBezTo>
                  <a:cubicBezTo>
                    <a:pt x="744" y="13"/>
                    <a:pt x="587" y="0"/>
                    <a:pt x="477" y="1"/>
                  </a:cubicBezTo>
                  <a:cubicBezTo>
                    <a:pt x="366" y="3"/>
                    <a:pt x="231" y="20"/>
                    <a:pt x="152" y="35"/>
                  </a:cubicBezTo>
                  <a:cubicBezTo>
                    <a:pt x="73" y="50"/>
                    <a:pt x="32" y="80"/>
                    <a:pt x="0" y="92"/>
                  </a:cubicBezTo>
                </a:path>
              </a:pathLst>
            </a:custGeom>
            <a:noFill/>
            <a:ln w="19080">
              <a:solidFill>
                <a:srgbClr val="0000d2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633440" y="2924280"/>
              <a:ext cx="775080" cy="165600"/>
            </a:xfrm>
            <a:custGeom>
              <a:avLst/>
              <a:gdLst/>
              <a:ahLst/>
              <a:rect l="l" t="t" r="r" b="b"/>
              <a:pathLst>
                <a:path w="475" h="103">
                  <a:moveTo>
                    <a:pt x="5" y="57"/>
                  </a:moveTo>
                  <a:cubicBezTo>
                    <a:pt x="0" y="49"/>
                    <a:pt x="8" y="37"/>
                    <a:pt x="25" y="29"/>
                  </a:cubicBezTo>
                  <a:cubicBezTo>
                    <a:pt x="42" y="21"/>
                    <a:pt x="76" y="16"/>
                    <a:pt x="107" y="11"/>
                  </a:cubicBezTo>
                  <a:cubicBezTo>
                    <a:pt x="138" y="6"/>
                    <a:pt x="180" y="2"/>
                    <a:pt x="213" y="1"/>
                  </a:cubicBezTo>
                  <a:cubicBezTo>
                    <a:pt x="246" y="0"/>
                    <a:pt x="279" y="1"/>
                    <a:pt x="307" y="3"/>
                  </a:cubicBezTo>
                  <a:cubicBezTo>
                    <a:pt x="335" y="5"/>
                    <a:pt x="357" y="9"/>
                    <a:pt x="379" y="13"/>
                  </a:cubicBezTo>
                  <a:cubicBezTo>
                    <a:pt x="401" y="17"/>
                    <a:pt x="422" y="19"/>
                    <a:pt x="437" y="25"/>
                  </a:cubicBezTo>
                  <a:cubicBezTo>
                    <a:pt x="452" y="31"/>
                    <a:pt x="471" y="42"/>
                    <a:pt x="473" y="49"/>
                  </a:cubicBezTo>
                  <a:cubicBezTo>
                    <a:pt x="475" y="56"/>
                    <a:pt x="464" y="60"/>
                    <a:pt x="449" y="67"/>
                  </a:cubicBezTo>
                  <a:cubicBezTo>
                    <a:pt x="434" y="74"/>
                    <a:pt x="410" y="83"/>
                    <a:pt x="381" y="89"/>
                  </a:cubicBezTo>
                  <a:cubicBezTo>
                    <a:pt x="352" y="95"/>
                    <a:pt x="316" y="99"/>
                    <a:pt x="277" y="101"/>
                  </a:cubicBezTo>
                  <a:cubicBezTo>
                    <a:pt x="238" y="103"/>
                    <a:pt x="186" y="102"/>
                    <a:pt x="149" y="99"/>
                  </a:cubicBezTo>
                  <a:cubicBezTo>
                    <a:pt x="112" y="96"/>
                    <a:pt x="79" y="87"/>
                    <a:pt x="55" y="80"/>
                  </a:cubicBezTo>
                  <a:cubicBezTo>
                    <a:pt x="31" y="73"/>
                    <a:pt x="11" y="66"/>
                    <a:pt x="5" y="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1ffff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451640" y="4098960"/>
              <a:ext cx="1150560" cy="158400"/>
            </a:xfrm>
            <a:custGeom>
              <a:avLst/>
              <a:gdLst/>
              <a:ahLst/>
              <a:rect l="l" t="t" r="r" b="b"/>
              <a:pathLst>
                <a:path w="706" h="98">
                  <a:moveTo>
                    <a:pt x="0" y="18"/>
                  </a:moveTo>
                  <a:cubicBezTo>
                    <a:pt x="6" y="22"/>
                    <a:pt x="17" y="35"/>
                    <a:pt x="36" y="44"/>
                  </a:cubicBezTo>
                  <a:cubicBezTo>
                    <a:pt x="55" y="53"/>
                    <a:pt x="83" y="64"/>
                    <a:pt x="115" y="72"/>
                  </a:cubicBezTo>
                  <a:cubicBezTo>
                    <a:pt x="147" y="80"/>
                    <a:pt x="189" y="86"/>
                    <a:pt x="230" y="90"/>
                  </a:cubicBezTo>
                  <a:cubicBezTo>
                    <a:pt x="271" y="94"/>
                    <a:pt x="318" y="98"/>
                    <a:pt x="364" y="98"/>
                  </a:cubicBezTo>
                  <a:cubicBezTo>
                    <a:pt x="410" y="98"/>
                    <a:pt x="467" y="96"/>
                    <a:pt x="508" y="90"/>
                  </a:cubicBezTo>
                  <a:cubicBezTo>
                    <a:pt x="549" y="84"/>
                    <a:pt x="582" y="73"/>
                    <a:pt x="610" y="64"/>
                  </a:cubicBezTo>
                  <a:cubicBezTo>
                    <a:pt x="638" y="55"/>
                    <a:pt x="660" y="45"/>
                    <a:pt x="676" y="34"/>
                  </a:cubicBezTo>
                  <a:cubicBezTo>
                    <a:pt x="692" y="23"/>
                    <a:pt x="700" y="7"/>
                    <a:pt x="706" y="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451640" y="3960720"/>
              <a:ext cx="1150560" cy="142560"/>
            </a:xfrm>
            <a:custGeom>
              <a:avLst/>
              <a:gdLst/>
              <a:ahLst/>
              <a:rect l="l" t="t" r="r" b="b"/>
              <a:pathLst>
                <a:path w="706" h="90">
                  <a:moveTo>
                    <a:pt x="706" y="70"/>
                  </a:moveTo>
                  <a:cubicBezTo>
                    <a:pt x="699" y="65"/>
                    <a:pt x="685" y="49"/>
                    <a:pt x="664" y="40"/>
                  </a:cubicBezTo>
                  <a:cubicBezTo>
                    <a:pt x="643" y="31"/>
                    <a:pt x="611" y="22"/>
                    <a:pt x="580" y="16"/>
                  </a:cubicBezTo>
                  <a:cubicBezTo>
                    <a:pt x="549" y="10"/>
                    <a:pt x="514" y="4"/>
                    <a:pt x="478" y="2"/>
                  </a:cubicBezTo>
                  <a:cubicBezTo>
                    <a:pt x="442" y="0"/>
                    <a:pt x="399" y="1"/>
                    <a:pt x="361" y="1"/>
                  </a:cubicBezTo>
                  <a:cubicBezTo>
                    <a:pt x="323" y="1"/>
                    <a:pt x="286" y="1"/>
                    <a:pt x="252" y="4"/>
                  </a:cubicBezTo>
                  <a:cubicBezTo>
                    <a:pt x="218" y="7"/>
                    <a:pt x="183" y="14"/>
                    <a:pt x="154" y="20"/>
                  </a:cubicBezTo>
                  <a:cubicBezTo>
                    <a:pt x="125" y="26"/>
                    <a:pt x="97" y="34"/>
                    <a:pt x="76" y="42"/>
                  </a:cubicBezTo>
                  <a:cubicBezTo>
                    <a:pt x="55" y="50"/>
                    <a:pt x="40" y="60"/>
                    <a:pt x="28" y="68"/>
                  </a:cubicBezTo>
                  <a:cubicBezTo>
                    <a:pt x="16" y="76"/>
                    <a:pt x="6" y="86"/>
                    <a:pt x="0" y="9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451640" y="3496320"/>
              <a:ext cx="1137600" cy="159480"/>
            </a:xfrm>
            <a:custGeom>
              <a:avLst/>
              <a:gdLst/>
              <a:ahLst/>
              <a:rect l="l" t="t" r="r" b="b"/>
              <a:pathLst>
                <a:path w="698" h="100">
                  <a:moveTo>
                    <a:pt x="0" y="20"/>
                  </a:moveTo>
                  <a:cubicBezTo>
                    <a:pt x="6" y="24"/>
                    <a:pt x="17" y="37"/>
                    <a:pt x="36" y="46"/>
                  </a:cubicBezTo>
                  <a:cubicBezTo>
                    <a:pt x="55" y="55"/>
                    <a:pt x="84" y="66"/>
                    <a:pt x="116" y="74"/>
                  </a:cubicBezTo>
                  <a:cubicBezTo>
                    <a:pt x="148" y="82"/>
                    <a:pt x="191" y="88"/>
                    <a:pt x="232" y="92"/>
                  </a:cubicBezTo>
                  <a:cubicBezTo>
                    <a:pt x="273" y="96"/>
                    <a:pt x="321" y="100"/>
                    <a:pt x="367" y="100"/>
                  </a:cubicBezTo>
                  <a:cubicBezTo>
                    <a:pt x="413" y="100"/>
                    <a:pt x="471" y="98"/>
                    <a:pt x="512" y="92"/>
                  </a:cubicBezTo>
                  <a:cubicBezTo>
                    <a:pt x="554" y="86"/>
                    <a:pt x="587" y="75"/>
                    <a:pt x="615" y="66"/>
                  </a:cubicBezTo>
                  <a:cubicBezTo>
                    <a:pt x="643" y="57"/>
                    <a:pt x="668" y="47"/>
                    <a:pt x="682" y="36"/>
                  </a:cubicBezTo>
                  <a:cubicBezTo>
                    <a:pt x="696" y="25"/>
                    <a:pt x="695" y="7"/>
                    <a:pt x="698" y="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453080" y="3374640"/>
              <a:ext cx="1132920" cy="144360"/>
            </a:xfrm>
            <a:custGeom>
              <a:avLst/>
              <a:gdLst/>
              <a:ahLst/>
              <a:rect l="l" t="t" r="r" b="b"/>
              <a:pathLst>
                <a:path w="696" h="90">
                  <a:moveTo>
                    <a:pt x="696" y="68"/>
                  </a:moveTo>
                  <a:cubicBezTo>
                    <a:pt x="691" y="63"/>
                    <a:pt x="688" y="49"/>
                    <a:pt x="670" y="40"/>
                  </a:cubicBezTo>
                  <a:cubicBezTo>
                    <a:pt x="652" y="31"/>
                    <a:pt x="616" y="22"/>
                    <a:pt x="585" y="16"/>
                  </a:cubicBezTo>
                  <a:cubicBezTo>
                    <a:pt x="554" y="10"/>
                    <a:pt x="518" y="4"/>
                    <a:pt x="482" y="2"/>
                  </a:cubicBezTo>
                  <a:cubicBezTo>
                    <a:pt x="446" y="0"/>
                    <a:pt x="402" y="1"/>
                    <a:pt x="364" y="1"/>
                  </a:cubicBezTo>
                  <a:cubicBezTo>
                    <a:pt x="326" y="1"/>
                    <a:pt x="288" y="1"/>
                    <a:pt x="254" y="4"/>
                  </a:cubicBezTo>
                  <a:cubicBezTo>
                    <a:pt x="220" y="7"/>
                    <a:pt x="185" y="14"/>
                    <a:pt x="155" y="20"/>
                  </a:cubicBezTo>
                  <a:cubicBezTo>
                    <a:pt x="126" y="26"/>
                    <a:pt x="98" y="34"/>
                    <a:pt x="77" y="42"/>
                  </a:cubicBezTo>
                  <a:cubicBezTo>
                    <a:pt x="55" y="50"/>
                    <a:pt x="40" y="60"/>
                    <a:pt x="28" y="68"/>
                  </a:cubicBezTo>
                  <a:cubicBezTo>
                    <a:pt x="16" y="76"/>
                    <a:pt x="6" y="86"/>
                    <a:pt x="0" y="9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4859280" y="450864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4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227640" y="4508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812000" y="4508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6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859280" y="501336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Допустимые зна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роцентного содерж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500720" y="4797360"/>
            <a:ext cx="4643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Из второго сосуда в первы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можно перелить максимальное количество раствора кислоты 2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651640" y="37162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020000" y="37162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4643280" y="4797360"/>
            <a:ext cx="4267080" cy="434880"/>
            <a:chOff x="4643280" y="4797360"/>
            <a:chExt cx="4267080" cy="434880"/>
          </a:xfrm>
        </p:grpSpPr>
        <mc:AlternateContent>
          <mc:Choice xmlns:a14="http://schemas.microsoft.com/office/drawing/2010/main" Requires="a14">
            <p:sp>
              <p:nvSpPr>
                <p:cNvPr id="427" name=""/>
                <p:cNvSpPr txBox="1"/>
                <p:nvPr/>
              </p:nvSpPr>
              <p:spPr>
                <a:xfrm>
                  <a:off x="4643280" y="4870080"/>
                  <a:ext cx="1549440" cy="36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,9</m:t>
                      </m:r>
                      <m:r>
                        <m:t xml:space="preserve">⋅</m:t>
                      </m:r>
                      <m:r>
                        <m:t xml:space="preserve">2</m:t>
                      </m:r>
                      <m:r>
                        <m:t xml:space="preserve">=</m:t>
                      </m:r>
                      <m:r>
                        <m:t xml:space="preserve">1,8</m:t>
                      </m:r>
                      <m:r>
                        <m:t xml:space="preserve">(</m:t>
                      </m:r>
                      <m:r>
                        <m:t xml:space="preserve">л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28" name=""/>
            <p:cNvSpPr/>
            <p:nvPr/>
          </p:nvSpPr>
          <p:spPr>
            <a:xfrm>
              <a:off x="6082920" y="4797360"/>
              <a:ext cx="28274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кислоты в 2 литрах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4500720" y="5157720"/>
            <a:ext cx="4464000" cy="433440"/>
            <a:chOff x="4500720" y="5157720"/>
            <a:chExt cx="4464000" cy="433440"/>
          </a:xfrm>
        </p:grpSpPr>
        <mc:AlternateContent>
          <mc:Choice xmlns:a14="http://schemas.microsoft.com/office/drawing/2010/main" Requires="a14">
            <p:sp>
              <p:nvSpPr>
                <p:cNvPr id="430" name=""/>
                <p:cNvSpPr txBox="1"/>
                <p:nvPr/>
              </p:nvSpPr>
              <p:spPr>
                <a:xfrm>
                  <a:off x="4500720" y="5229360"/>
                  <a:ext cx="1830240" cy="36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,8</m:t>
                      </m:r>
                      <m:r>
                        <m:t xml:space="preserve">+</m:t>
                      </m:r>
                      <m:r>
                        <m:t xml:space="preserve">1,8</m:t>
                      </m:r>
                      <m:r>
                        <m:t xml:space="preserve">=</m:t>
                      </m:r>
                      <m:r>
                        <m:t xml:space="preserve">4,6</m:t>
                      </m:r>
                      <m:r>
                        <m:t xml:space="preserve">(</m:t>
                      </m:r>
                      <m:r>
                        <m:t xml:space="preserve">л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31" name=""/>
            <p:cNvSpPr/>
            <p:nvPr/>
          </p:nvSpPr>
          <p:spPr>
            <a:xfrm>
              <a:off x="6229440" y="5157720"/>
              <a:ext cx="2735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кислоты в 1 сосуд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7596360" y="386064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4,6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4859280" y="5445000"/>
                <a:ext cx="177336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,6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4" name=""/>
          <p:cNvGrpSpPr/>
          <p:nvPr/>
        </p:nvGrpSpPr>
        <p:grpSpPr>
          <a:xfrm>
            <a:off x="4284720" y="6138720"/>
            <a:ext cx="4032360" cy="718920"/>
            <a:chOff x="4284720" y="6138720"/>
            <a:chExt cx="4032360" cy="718920"/>
          </a:xfrm>
        </p:grpSpPr>
        <p:sp>
          <p:nvSpPr>
            <p:cNvPr id="435" name=""/>
            <p:cNvSpPr/>
            <p:nvPr/>
          </p:nvSpPr>
          <p:spPr>
            <a:xfrm>
              <a:off x="4284720" y="6138720"/>
              <a:ext cx="4032360" cy="647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Ответ: 1л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6" name=""/>
                <p:cNvSpPr txBox="1"/>
                <p:nvPr/>
              </p:nvSpPr>
              <p:spPr>
                <a:xfrm>
                  <a:off x="6013440" y="6138720"/>
                  <a:ext cx="2213280" cy="71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[</m:t>
                      </m:r>
                      <m:r>
                        <m:rPr>
                          <m:lit/>
                          <m:nor/>
                        </m:rPr>
                        <m:t xml:space="preserve">70</m:t>
                      </m:r>
                      <m:r>
                        <m:rPr>
                          <m:lit/>
                          <m:nor/>
                        </m:rPr>
                        <m:t xml:space="preserve">%;</m:t>
                      </m:r>
                      <m:r>
                        <m:rPr>
                          <m:lit/>
                          <m:nor/>
                        </m:rPr>
                        <m:t xml:space="preserve">76</m:t>
                      </m:r>
                      <m:r>
                        <m:t xml:space="preserve">2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%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iming>
    <p:tnLst>
      <p:par>
        <p:cTn id="454" dur="indefinite" restart="never" nodeType="tmRoot">
          <p:childTnLst>
            <p:seq>
              <p:cTn id="455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456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7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4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500"/>
                            </p:stCondLst>
                            <p:childTnLst>
                              <p:par>
                                <p:cTn id="48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8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2500"/>
                            </p:stCondLst>
                            <p:childTnLst>
                              <p:par>
                                <p:cTn id="4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2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3500"/>
                            </p:stCondLst>
                            <p:childTnLst>
                              <p:par>
                                <p:cTn id="4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6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4500"/>
                            </p:stCondLst>
                            <p:childTnLst>
                              <p:par>
                                <p:cTn id="4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0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5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000"/>
                            </p:stCondLst>
                            <p:childTnLst>
                              <p:par>
                                <p:cTn id="50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9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4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8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3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000"/>
                            </p:stCondLst>
                            <p:childTnLst>
                              <p:par>
                                <p:cTn id="5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7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1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4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7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3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000"/>
                            </p:stCondLst>
                            <p:childTnLst>
                              <p:par>
                                <p:cTn id="5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7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2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6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1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6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9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4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7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0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84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0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9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500"/>
                            </p:stCondLst>
                            <p:childTnLst>
                              <p:par>
                                <p:cTn id="60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3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500"/>
                            </p:stCondLst>
                            <p:childTnLst>
                              <p:par>
                                <p:cTn id="6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3000"/>
                            </p:stCondLst>
                            <p:childTnLst>
                              <p:par>
                                <p:cTn id="6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1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4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18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4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000"/>
                            </p:stCondLst>
                            <p:childTnLst>
                              <p:par>
                                <p:cTn id="6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3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000"/>
                            </p:stCondLst>
                            <p:childTnLst>
                              <p:par>
                                <p:cTn id="6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2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6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2000"/>
                            </p:stCondLst>
                            <p:childTnLst>
                              <p:par>
                                <p:cTn id="6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0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3492360" y="6165720"/>
            <a:ext cx="2303640" cy="50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твет: 9 к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395280" y="2205000"/>
            <a:ext cx="8496360" cy="2160720"/>
            <a:chOff x="395280" y="2205000"/>
            <a:chExt cx="8496360" cy="2160720"/>
          </a:xfrm>
        </p:grpSpPr>
        <p:grpSp>
          <p:nvGrpSpPr>
            <p:cNvPr id="439" name=""/>
            <p:cNvGrpSpPr/>
            <p:nvPr/>
          </p:nvGrpSpPr>
          <p:grpSpPr>
            <a:xfrm>
              <a:off x="395280" y="2205000"/>
              <a:ext cx="8496360" cy="2160720"/>
              <a:chOff x="395280" y="2205000"/>
              <a:chExt cx="8496360" cy="2160720"/>
            </a:xfrm>
          </p:grpSpPr>
          <p:sp>
            <p:nvSpPr>
              <p:cNvPr id="440" name=""/>
              <p:cNvSpPr/>
              <p:nvPr/>
            </p:nvSpPr>
            <p:spPr>
              <a:xfrm>
                <a:off x="395280" y="2205000"/>
                <a:ext cx="8496360" cy="21607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990000"/>
                    </a:solidFill>
                    <a:latin typeface="Times New Roman"/>
                  </a:rPr>
                  <a:t> 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 txBox="1"/>
              <p:nvPr/>
            </p:nvSpPr>
            <p:spPr>
              <a:xfrm>
                <a:off x="2916360" y="3429000"/>
                <a:ext cx="360360" cy="431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e2c5"/>
                    </a:solidFill>
                    <a:latin typeface="Arial"/>
                  </a:rPr>
                  <a:t>+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e2c5"/>
                  </a:solidFill>
                  <a:latin typeface="Arial"/>
                  <a:ea typeface="Arial"/>
                </a:endParaRPr>
              </a:p>
            </p:txBody>
          </p:sp>
          <p:grpSp>
            <p:nvGrpSpPr>
              <p:cNvPr id="442" name=""/>
              <p:cNvGrpSpPr/>
              <p:nvPr/>
            </p:nvGrpSpPr>
            <p:grpSpPr>
              <a:xfrm>
                <a:off x="5724360" y="3500280"/>
                <a:ext cx="360360" cy="216000"/>
                <a:chOff x="5724360" y="3500280"/>
                <a:chExt cx="360360" cy="216000"/>
              </a:xfrm>
            </p:grpSpPr>
            <p:sp>
              <p:nvSpPr>
                <p:cNvPr id="443" name=""/>
                <p:cNvSpPr txBox="1"/>
                <p:nvPr/>
              </p:nvSpPr>
              <p:spPr>
                <a:xfrm>
                  <a:off x="5724360" y="3500280"/>
                  <a:ext cx="360360" cy="71280"/>
                </a:xfrm>
                <a:prstGeom prst="rect">
                  <a:avLst/>
                </a:prstGeom>
              </p:spPr>
              <p:txBody>
                <a:bodyPr wrap="none" lIns="90000" rIns="90000" tIns="24840" bIns="2484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gradFill rotWithShape="0">
                        <a:gsLst>
                          <a:gs pos="0">
                            <a:srgbClr val="ffffff"/>
                          </a:gs>
                          <a:gs pos="100000">
                            <a:srgbClr val="990000"/>
                          </a:gs>
                        </a:gsLst>
                        <a:lin ang="5400000"/>
                      </a:gradFill>
                      <a:latin typeface="Arial"/>
                    </a:rPr>
                    <a:t>_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990000"/>
                        </a:gs>
                      </a:gsLst>
                      <a:lin ang="5400000"/>
                    </a:gradFill>
                    <a:latin typeface="Arial"/>
                    <a:ea typeface="Arial"/>
                  </a:endParaRPr>
                </a:p>
              </p:txBody>
            </p:sp>
            <p:sp>
              <p:nvSpPr>
                <p:cNvPr id="444" name=""/>
                <p:cNvSpPr txBox="1"/>
                <p:nvPr/>
              </p:nvSpPr>
              <p:spPr>
                <a:xfrm>
                  <a:off x="5724360" y="3644640"/>
                  <a:ext cx="360360" cy="71640"/>
                </a:xfrm>
                <a:prstGeom prst="rect">
                  <a:avLst/>
                </a:prstGeom>
              </p:spPr>
              <p:txBody>
                <a:bodyPr wrap="none" lIns="90000" rIns="90000" tIns="25200" bIns="252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e2c5"/>
                      </a:solidFill>
                      <a:latin typeface="Arial"/>
                    </a:rPr>
                    <a:t>_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e2c5"/>
                    </a:solidFill>
                    <a:latin typeface="Arial"/>
                    <a:ea typeface="Arial"/>
                  </a:endParaRPr>
                </a:p>
              </p:txBody>
            </p:sp>
          </p:grpSp>
          <p:grpSp>
            <p:nvGrpSpPr>
              <p:cNvPr id="445" name=""/>
              <p:cNvGrpSpPr/>
              <p:nvPr/>
            </p:nvGrpSpPr>
            <p:grpSpPr>
              <a:xfrm>
                <a:off x="3348000" y="2276640"/>
                <a:ext cx="2505960" cy="1728360"/>
                <a:chOff x="3348000" y="2276640"/>
                <a:chExt cx="2505960" cy="1728360"/>
              </a:xfrm>
            </p:grpSpPr>
            <p:grpSp>
              <p:nvGrpSpPr>
                <p:cNvPr id="446" name=""/>
                <p:cNvGrpSpPr/>
                <p:nvPr/>
              </p:nvGrpSpPr>
              <p:grpSpPr>
                <a:xfrm>
                  <a:off x="3348000" y="2276640"/>
                  <a:ext cx="2310840" cy="1728360"/>
                  <a:chOff x="3348000" y="2276640"/>
                  <a:chExt cx="2310840" cy="1728360"/>
                </a:xfrm>
              </p:grpSpPr>
              <p:sp>
                <p:nvSpPr>
                  <p:cNvPr id="447" name=""/>
                  <p:cNvSpPr/>
                  <p:nvPr/>
                </p:nvSpPr>
                <p:spPr>
                  <a:xfrm>
                    <a:off x="3425760" y="2276640"/>
                    <a:ext cx="2233080" cy="10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552" h="781">
                        <a:moveTo>
                          <a:pt x="393" y="9"/>
                        </a:moveTo>
                        <a:cubicBezTo>
                          <a:pt x="336" y="16"/>
                          <a:pt x="278" y="70"/>
                          <a:pt x="231" y="99"/>
                        </a:cubicBezTo>
                        <a:cubicBezTo>
                          <a:pt x="184" y="128"/>
                          <a:pt x="145" y="150"/>
                          <a:pt x="108" y="183"/>
                        </a:cubicBezTo>
                        <a:cubicBezTo>
                          <a:pt x="71" y="216"/>
                          <a:pt x="0" y="266"/>
                          <a:pt x="11" y="296"/>
                        </a:cubicBezTo>
                        <a:cubicBezTo>
                          <a:pt x="22" y="326"/>
                          <a:pt x="116" y="339"/>
                          <a:pt x="175" y="364"/>
                        </a:cubicBezTo>
                        <a:cubicBezTo>
                          <a:pt x="234" y="389"/>
                          <a:pt x="302" y="418"/>
                          <a:pt x="363" y="444"/>
                        </a:cubicBezTo>
                        <a:cubicBezTo>
                          <a:pt x="424" y="470"/>
                          <a:pt x="470" y="490"/>
                          <a:pt x="539" y="520"/>
                        </a:cubicBezTo>
                        <a:cubicBezTo>
                          <a:pt x="608" y="550"/>
                          <a:pt x="707" y="593"/>
                          <a:pt x="779" y="624"/>
                        </a:cubicBezTo>
                        <a:cubicBezTo>
                          <a:pt x="851" y="655"/>
                          <a:pt x="913" y="681"/>
                          <a:pt x="971" y="704"/>
                        </a:cubicBezTo>
                        <a:cubicBezTo>
                          <a:pt x="1029" y="727"/>
                          <a:pt x="1094" y="747"/>
                          <a:pt x="1127" y="760"/>
                        </a:cubicBezTo>
                        <a:cubicBezTo>
                          <a:pt x="1160" y="773"/>
                          <a:pt x="1158" y="779"/>
                          <a:pt x="1167" y="780"/>
                        </a:cubicBezTo>
                        <a:cubicBezTo>
                          <a:pt x="1176" y="781"/>
                          <a:pt x="1161" y="781"/>
                          <a:pt x="1183" y="764"/>
                        </a:cubicBezTo>
                        <a:cubicBezTo>
                          <a:pt x="1205" y="747"/>
                          <a:pt x="1252" y="715"/>
                          <a:pt x="1299" y="680"/>
                        </a:cubicBezTo>
                        <a:cubicBezTo>
                          <a:pt x="1346" y="645"/>
                          <a:pt x="1424" y="592"/>
                          <a:pt x="1463" y="556"/>
                        </a:cubicBezTo>
                        <a:cubicBezTo>
                          <a:pt x="1502" y="520"/>
                          <a:pt x="1552" y="498"/>
                          <a:pt x="1531" y="464"/>
                        </a:cubicBezTo>
                        <a:cubicBezTo>
                          <a:pt x="1510" y="430"/>
                          <a:pt x="1403" y="384"/>
                          <a:pt x="1339" y="352"/>
                        </a:cubicBezTo>
                        <a:cubicBezTo>
                          <a:pt x="1275" y="320"/>
                          <a:pt x="1229" y="305"/>
                          <a:pt x="1147" y="272"/>
                        </a:cubicBezTo>
                        <a:cubicBezTo>
                          <a:pt x="1065" y="239"/>
                          <a:pt x="943" y="192"/>
                          <a:pt x="847" y="156"/>
                        </a:cubicBezTo>
                        <a:cubicBezTo>
                          <a:pt x="751" y="120"/>
                          <a:pt x="649" y="81"/>
                          <a:pt x="573" y="57"/>
                        </a:cubicBezTo>
                        <a:cubicBezTo>
                          <a:pt x="497" y="33"/>
                          <a:pt x="449" y="0"/>
                          <a:pt x="393" y="9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be7d"/>
                      </a:gs>
                      <a:gs pos="50000">
                        <a:srgbClr val="ffffff"/>
                      </a:gs>
                      <a:gs pos="100000">
                        <a:srgbClr val="ffbe7d"/>
                      </a:gs>
                    </a:gsLst>
                    <a:lin ang="5400000"/>
                  </a:gradFill>
                  <a:ln w="19080">
                    <a:solidFill>
                      <a:srgbClr val="cc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3348000" y="2644560"/>
                    <a:ext cx="1757160" cy="136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22" h="1007">
                        <a:moveTo>
                          <a:pt x="276" y="111"/>
                        </a:moveTo>
                        <a:cubicBezTo>
                          <a:pt x="198" y="85"/>
                          <a:pt x="149" y="61"/>
                          <a:pt x="111" y="47"/>
                        </a:cubicBezTo>
                        <a:cubicBezTo>
                          <a:pt x="73" y="33"/>
                          <a:pt x="62" y="0"/>
                          <a:pt x="47" y="26"/>
                        </a:cubicBezTo>
                        <a:cubicBezTo>
                          <a:pt x="32" y="53"/>
                          <a:pt x="27" y="154"/>
                          <a:pt x="23" y="205"/>
                        </a:cubicBezTo>
                        <a:cubicBezTo>
                          <a:pt x="19" y="256"/>
                          <a:pt x="20" y="285"/>
                          <a:pt x="20" y="331"/>
                        </a:cubicBezTo>
                        <a:cubicBezTo>
                          <a:pt x="20" y="377"/>
                          <a:pt x="0" y="446"/>
                          <a:pt x="20" y="483"/>
                        </a:cubicBezTo>
                        <a:cubicBezTo>
                          <a:pt x="40" y="520"/>
                          <a:pt x="93" y="527"/>
                          <a:pt x="140" y="551"/>
                        </a:cubicBezTo>
                        <a:cubicBezTo>
                          <a:pt x="187" y="575"/>
                          <a:pt x="251" y="602"/>
                          <a:pt x="304" y="627"/>
                        </a:cubicBezTo>
                        <a:cubicBezTo>
                          <a:pt x="357" y="652"/>
                          <a:pt x="409" y="681"/>
                          <a:pt x="456" y="703"/>
                        </a:cubicBezTo>
                        <a:cubicBezTo>
                          <a:pt x="503" y="725"/>
                          <a:pt x="542" y="738"/>
                          <a:pt x="588" y="759"/>
                        </a:cubicBezTo>
                        <a:cubicBezTo>
                          <a:pt x="634" y="780"/>
                          <a:pt x="678" y="803"/>
                          <a:pt x="732" y="827"/>
                        </a:cubicBezTo>
                        <a:cubicBezTo>
                          <a:pt x="786" y="851"/>
                          <a:pt x="862" y="882"/>
                          <a:pt x="912" y="903"/>
                        </a:cubicBezTo>
                        <a:cubicBezTo>
                          <a:pt x="962" y="924"/>
                          <a:pt x="1002" y="939"/>
                          <a:pt x="1032" y="951"/>
                        </a:cubicBezTo>
                        <a:cubicBezTo>
                          <a:pt x="1062" y="963"/>
                          <a:pt x="1066" y="966"/>
                          <a:pt x="1095" y="973"/>
                        </a:cubicBezTo>
                        <a:cubicBezTo>
                          <a:pt x="1124" y="980"/>
                          <a:pt x="1186" y="1007"/>
                          <a:pt x="1204" y="995"/>
                        </a:cubicBezTo>
                        <a:cubicBezTo>
                          <a:pt x="1222" y="983"/>
                          <a:pt x="1203" y="938"/>
                          <a:pt x="1204" y="903"/>
                        </a:cubicBezTo>
                        <a:cubicBezTo>
                          <a:pt x="1205" y="868"/>
                          <a:pt x="1207" y="824"/>
                          <a:pt x="1208" y="787"/>
                        </a:cubicBezTo>
                        <a:cubicBezTo>
                          <a:pt x="1209" y="750"/>
                          <a:pt x="1211" y="719"/>
                          <a:pt x="1212" y="683"/>
                        </a:cubicBezTo>
                        <a:cubicBezTo>
                          <a:pt x="1213" y="647"/>
                          <a:pt x="1213" y="602"/>
                          <a:pt x="1212" y="571"/>
                        </a:cubicBezTo>
                        <a:cubicBezTo>
                          <a:pt x="1211" y="540"/>
                          <a:pt x="1219" y="515"/>
                          <a:pt x="1208" y="499"/>
                        </a:cubicBezTo>
                        <a:cubicBezTo>
                          <a:pt x="1197" y="483"/>
                          <a:pt x="1183" y="490"/>
                          <a:pt x="1144" y="475"/>
                        </a:cubicBezTo>
                        <a:cubicBezTo>
                          <a:pt x="1105" y="460"/>
                          <a:pt x="1042" y="438"/>
                          <a:pt x="976" y="411"/>
                        </a:cubicBezTo>
                        <a:cubicBezTo>
                          <a:pt x="910" y="384"/>
                          <a:pt x="821" y="346"/>
                          <a:pt x="748" y="315"/>
                        </a:cubicBezTo>
                        <a:cubicBezTo>
                          <a:pt x="675" y="284"/>
                          <a:pt x="615" y="257"/>
                          <a:pt x="536" y="223"/>
                        </a:cubicBezTo>
                        <a:cubicBezTo>
                          <a:pt x="457" y="189"/>
                          <a:pt x="330" y="134"/>
                          <a:pt x="276" y="111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be7d"/>
                      </a:gs>
                      <a:gs pos="50000">
                        <a:srgbClr val="ffffff"/>
                      </a:gs>
                      <a:gs pos="100000">
                        <a:srgbClr val="ffbe7d"/>
                      </a:gs>
                    </a:gsLst>
                    <a:lin ang="5400000"/>
                  </a:gradFill>
                  <a:ln w="19080">
                    <a:solidFill>
                      <a:srgbClr val="cc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5032440" y="2893680"/>
                    <a:ext cx="599760" cy="10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4" h="749">
                        <a:moveTo>
                          <a:pt x="347" y="161"/>
                        </a:moveTo>
                        <a:cubicBezTo>
                          <a:pt x="347" y="194"/>
                          <a:pt x="347" y="240"/>
                          <a:pt x="347" y="272"/>
                        </a:cubicBezTo>
                        <a:cubicBezTo>
                          <a:pt x="347" y="304"/>
                          <a:pt x="347" y="324"/>
                          <a:pt x="347" y="353"/>
                        </a:cubicBezTo>
                        <a:cubicBezTo>
                          <a:pt x="347" y="382"/>
                          <a:pt x="347" y="428"/>
                          <a:pt x="344" y="449"/>
                        </a:cubicBezTo>
                        <a:cubicBezTo>
                          <a:pt x="341" y="470"/>
                          <a:pt x="338" y="466"/>
                          <a:pt x="328" y="478"/>
                        </a:cubicBezTo>
                        <a:cubicBezTo>
                          <a:pt x="318" y="490"/>
                          <a:pt x="302" y="506"/>
                          <a:pt x="284" y="523"/>
                        </a:cubicBezTo>
                        <a:cubicBezTo>
                          <a:pt x="266" y="539"/>
                          <a:pt x="239" y="563"/>
                          <a:pt x="221" y="581"/>
                        </a:cubicBezTo>
                        <a:cubicBezTo>
                          <a:pt x="202" y="598"/>
                          <a:pt x="194" y="607"/>
                          <a:pt x="173" y="626"/>
                        </a:cubicBezTo>
                        <a:cubicBezTo>
                          <a:pt x="152" y="644"/>
                          <a:pt x="121" y="672"/>
                          <a:pt x="95" y="692"/>
                        </a:cubicBezTo>
                        <a:cubicBezTo>
                          <a:pt x="69" y="712"/>
                          <a:pt x="28" y="749"/>
                          <a:pt x="14" y="746"/>
                        </a:cubicBezTo>
                        <a:cubicBezTo>
                          <a:pt x="0" y="743"/>
                          <a:pt x="11" y="701"/>
                          <a:pt x="11" y="674"/>
                        </a:cubicBezTo>
                        <a:cubicBezTo>
                          <a:pt x="11" y="647"/>
                          <a:pt x="13" y="612"/>
                          <a:pt x="14" y="584"/>
                        </a:cubicBezTo>
                        <a:cubicBezTo>
                          <a:pt x="15" y="556"/>
                          <a:pt x="13" y="535"/>
                          <a:pt x="14" y="506"/>
                        </a:cubicBezTo>
                        <a:cubicBezTo>
                          <a:pt x="15" y="477"/>
                          <a:pt x="16" y="445"/>
                          <a:pt x="17" y="410"/>
                        </a:cubicBezTo>
                        <a:cubicBezTo>
                          <a:pt x="18" y="375"/>
                          <a:pt x="12" y="322"/>
                          <a:pt x="22" y="293"/>
                        </a:cubicBezTo>
                        <a:cubicBezTo>
                          <a:pt x="32" y="264"/>
                          <a:pt x="55" y="256"/>
                          <a:pt x="75" y="238"/>
                        </a:cubicBezTo>
                        <a:cubicBezTo>
                          <a:pt x="96" y="219"/>
                          <a:pt x="119" y="205"/>
                          <a:pt x="147" y="182"/>
                        </a:cubicBezTo>
                        <a:cubicBezTo>
                          <a:pt x="174" y="160"/>
                          <a:pt x="215" y="125"/>
                          <a:pt x="241" y="102"/>
                        </a:cubicBezTo>
                        <a:cubicBezTo>
                          <a:pt x="266" y="79"/>
                          <a:pt x="285" y="57"/>
                          <a:pt x="302" y="41"/>
                        </a:cubicBezTo>
                        <a:cubicBezTo>
                          <a:pt x="319" y="26"/>
                          <a:pt x="338" y="0"/>
                          <a:pt x="346" y="5"/>
                        </a:cubicBezTo>
                        <a:cubicBezTo>
                          <a:pt x="354" y="10"/>
                          <a:pt x="350" y="45"/>
                          <a:pt x="350" y="71"/>
                        </a:cubicBezTo>
                        <a:cubicBezTo>
                          <a:pt x="350" y="97"/>
                          <a:pt x="347" y="128"/>
                          <a:pt x="347" y="161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be7d"/>
                      </a:gs>
                      <a:gs pos="50000">
                        <a:srgbClr val="ffffff"/>
                      </a:gs>
                      <a:gs pos="100000">
                        <a:srgbClr val="ffbe7d"/>
                      </a:gs>
                    </a:gsLst>
                    <a:lin ang="5400000"/>
                  </a:gradFill>
                  <a:ln w="19080">
                    <a:solidFill>
                      <a:srgbClr val="cc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4306320" y="2588760"/>
                    <a:ext cx="624600" cy="1130400"/>
                  </a:xfrm>
                  <a:custGeom>
                    <a:avLst/>
                    <a:gdLst/>
                    <a:ahLst/>
                    <a:rect l="l" t="t" r="r" b="b"/>
                    <a:pathLst>
                      <a:path w="369" h="771">
                        <a:moveTo>
                          <a:pt x="369" y="0"/>
                        </a:moveTo>
                        <a:cubicBezTo>
                          <a:pt x="349" y="16"/>
                          <a:pt x="288" y="71"/>
                          <a:pt x="251" y="103"/>
                        </a:cubicBezTo>
                        <a:cubicBezTo>
                          <a:pt x="214" y="135"/>
                          <a:pt x="175" y="170"/>
                          <a:pt x="147" y="195"/>
                        </a:cubicBezTo>
                        <a:cubicBezTo>
                          <a:pt x="119" y="220"/>
                          <a:pt x="99" y="237"/>
                          <a:pt x="81" y="255"/>
                        </a:cubicBezTo>
                        <a:cubicBezTo>
                          <a:pt x="63" y="273"/>
                          <a:pt x="46" y="282"/>
                          <a:pt x="36" y="306"/>
                        </a:cubicBezTo>
                        <a:cubicBezTo>
                          <a:pt x="26" y="330"/>
                          <a:pt x="25" y="366"/>
                          <a:pt x="21" y="399"/>
                        </a:cubicBezTo>
                        <a:cubicBezTo>
                          <a:pt x="17" y="432"/>
                          <a:pt x="14" y="476"/>
                          <a:pt x="12" y="507"/>
                        </a:cubicBezTo>
                        <a:cubicBezTo>
                          <a:pt x="10" y="538"/>
                          <a:pt x="10" y="559"/>
                          <a:pt x="9" y="588"/>
                        </a:cubicBezTo>
                        <a:cubicBezTo>
                          <a:pt x="8" y="617"/>
                          <a:pt x="4" y="651"/>
                          <a:pt x="3" y="681"/>
                        </a:cubicBezTo>
                        <a:cubicBezTo>
                          <a:pt x="2" y="711"/>
                          <a:pt x="1" y="752"/>
                          <a:pt x="0" y="771"/>
                        </a:cubicBezTo>
                      </a:path>
                    </a:pathLst>
                  </a:custGeom>
                  <a:noFill/>
                  <a:ln w="19080">
                    <a:solidFill>
                      <a:srgbClr val="cc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1" name=""/>
                <p:cNvSpPr/>
                <p:nvPr/>
              </p:nvSpPr>
              <p:spPr>
                <a:xfrm rot="19645800">
                  <a:off x="4932720" y="3139560"/>
                  <a:ext cx="865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медь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2" name=""/>
              <p:cNvGrpSpPr/>
              <p:nvPr/>
            </p:nvGrpSpPr>
            <p:grpSpPr>
              <a:xfrm>
                <a:off x="468360" y="2276640"/>
                <a:ext cx="2505960" cy="1728360"/>
                <a:chOff x="468360" y="2276640"/>
                <a:chExt cx="2505960" cy="1728360"/>
              </a:xfrm>
            </p:grpSpPr>
            <p:grpSp>
              <p:nvGrpSpPr>
                <p:cNvPr id="453" name=""/>
                <p:cNvGrpSpPr/>
                <p:nvPr/>
              </p:nvGrpSpPr>
              <p:grpSpPr>
                <a:xfrm>
                  <a:off x="468360" y="2276640"/>
                  <a:ext cx="2311200" cy="1728360"/>
                  <a:chOff x="468360" y="2276640"/>
                  <a:chExt cx="2311200" cy="1728360"/>
                </a:xfrm>
              </p:grpSpPr>
              <p:sp>
                <p:nvSpPr>
                  <p:cNvPr id="454" name=""/>
                  <p:cNvSpPr/>
                  <p:nvPr/>
                </p:nvSpPr>
                <p:spPr>
                  <a:xfrm>
                    <a:off x="546120" y="2276640"/>
                    <a:ext cx="2233440" cy="10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552" h="781">
                        <a:moveTo>
                          <a:pt x="393" y="9"/>
                        </a:moveTo>
                        <a:cubicBezTo>
                          <a:pt x="336" y="16"/>
                          <a:pt x="278" y="70"/>
                          <a:pt x="231" y="99"/>
                        </a:cubicBezTo>
                        <a:cubicBezTo>
                          <a:pt x="184" y="128"/>
                          <a:pt x="145" y="150"/>
                          <a:pt x="108" y="183"/>
                        </a:cubicBezTo>
                        <a:cubicBezTo>
                          <a:pt x="71" y="216"/>
                          <a:pt x="0" y="266"/>
                          <a:pt x="11" y="296"/>
                        </a:cubicBezTo>
                        <a:cubicBezTo>
                          <a:pt x="22" y="326"/>
                          <a:pt x="116" y="339"/>
                          <a:pt x="175" y="364"/>
                        </a:cubicBezTo>
                        <a:cubicBezTo>
                          <a:pt x="234" y="389"/>
                          <a:pt x="302" y="418"/>
                          <a:pt x="363" y="444"/>
                        </a:cubicBezTo>
                        <a:cubicBezTo>
                          <a:pt x="424" y="470"/>
                          <a:pt x="470" y="490"/>
                          <a:pt x="539" y="520"/>
                        </a:cubicBezTo>
                        <a:cubicBezTo>
                          <a:pt x="608" y="550"/>
                          <a:pt x="707" y="593"/>
                          <a:pt x="779" y="624"/>
                        </a:cubicBezTo>
                        <a:cubicBezTo>
                          <a:pt x="851" y="655"/>
                          <a:pt x="913" y="681"/>
                          <a:pt x="971" y="704"/>
                        </a:cubicBezTo>
                        <a:cubicBezTo>
                          <a:pt x="1029" y="727"/>
                          <a:pt x="1094" y="747"/>
                          <a:pt x="1127" y="760"/>
                        </a:cubicBezTo>
                        <a:cubicBezTo>
                          <a:pt x="1160" y="773"/>
                          <a:pt x="1158" y="779"/>
                          <a:pt x="1167" y="780"/>
                        </a:cubicBezTo>
                        <a:cubicBezTo>
                          <a:pt x="1176" y="781"/>
                          <a:pt x="1161" y="781"/>
                          <a:pt x="1183" y="764"/>
                        </a:cubicBezTo>
                        <a:cubicBezTo>
                          <a:pt x="1205" y="747"/>
                          <a:pt x="1252" y="715"/>
                          <a:pt x="1299" y="680"/>
                        </a:cubicBezTo>
                        <a:cubicBezTo>
                          <a:pt x="1346" y="645"/>
                          <a:pt x="1424" y="592"/>
                          <a:pt x="1463" y="556"/>
                        </a:cubicBezTo>
                        <a:cubicBezTo>
                          <a:pt x="1502" y="520"/>
                          <a:pt x="1552" y="498"/>
                          <a:pt x="1531" y="464"/>
                        </a:cubicBezTo>
                        <a:cubicBezTo>
                          <a:pt x="1510" y="430"/>
                          <a:pt x="1403" y="384"/>
                          <a:pt x="1339" y="352"/>
                        </a:cubicBezTo>
                        <a:cubicBezTo>
                          <a:pt x="1275" y="320"/>
                          <a:pt x="1229" y="305"/>
                          <a:pt x="1147" y="272"/>
                        </a:cubicBezTo>
                        <a:cubicBezTo>
                          <a:pt x="1065" y="239"/>
                          <a:pt x="943" y="192"/>
                          <a:pt x="847" y="156"/>
                        </a:cubicBezTo>
                        <a:cubicBezTo>
                          <a:pt x="751" y="120"/>
                          <a:pt x="649" y="81"/>
                          <a:pt x="573" y="57"/>
                        </a:cubicBezTo>
                        <a:cubicBezTo>
                          <a:pt x="497" y="33"/>
                          <a:pt x="449" y="0"/>
                          <a:pt x="393" y="9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be7d"/>
                      </a:gs>
                      <a:gs pos="50000">
                        <a:srgbClr val="ffffff"/>
                      </a:gs>
                      <a:gs pos="100000">
                        <a:srgbClr val="ffbe7d"/>
                      </a:gs>
                    </a:gsLst>
                    <a:lin ang="5400000"/>
                  </a:gradFill>
                  <a:ln w="19080">
                    <a:solidFill>
                      <a:srgbClr val="cc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468360" y="2644560"/>
                    <a:ext cx="1757520" cy="136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22" h="1007">
                        <a:moveTo>
                          <a:pt x="276" y="111"/>
                        </a:moveTo>
                        <a:cubicBezTo>
                          <a:pt x="198" y="85"/>
                          <a:pt x="149" y="61"/>
                          <a:pt x="111" y="47"/>
                        </a:cubicBezTo>
                        <a:cubicBezTo>
                          <a:pt x="73" y="33"/>
                          <a:pt x="62" y="0"/>
                          <a:pt x="47" y="26"/>
                        </a:cubicBezTo>
                        <a:cubicBezTo>
                          <a:pt x="32" y="53"/>
                          <a:pt x="27" y="154"/>
                          <a:pt x="23" y="205"/>
                        </a:cubicBezTo>
                        <a:cubicBezTo>
                          <a:pt x="19" y="256"/>
                          <a:pt x="20" y="285"/>
                          <a:pt x="20" y="331"/>
                        </a:cubicBezTo>
                        <a:cubicBezTo>
                          <a:pt x="20" y="377"/>
                          <a:pt x="0" y="446"/>
                          <a:pt x="20" y="483"/>
                        </a:cubicBezTo>
                        <a:cubicBezTo>
                          <a:pt x="40" y="520"/>
                          <a:pt x="93" y="527"/>
                          <a:pt x="140" y="551"/>
                        </a:cubicBezTo>
                        <a:cubicBezTo>
                          <a:pt x="187" y="575"/>
                          <a:pt x="251" y="602"/>
                          <a:pt x="304" y="627"/>
                        </a:cubicBezTo>
                        <a:cubicBezTo>
                          <a:pt x="357" y="652"/>
                          <a:pt x="409" y="681"/>
                          <a:pt x="456" y="703"/>
                        </a:cubicBezTo>
                        <a:cubicBezTo>
                          <a:pt x="503" y="725"/>
                          <a:pt x="542" y="738"/>
                          <a:pt x="588" y="759"/>
                        </a:cubicBezTo>
                        <a:cubicBezTo>
                          <a:pt x="634" y="780"/>
                          <a:pt x="678" y="803"/>
                          <a:pt x="732" y="827"/>
                        </a:cubicBezTo>
                        <a:cubicBezTo>
                          <a:pt x="786" y="851"/>
                          <a:pt x="862" y="882"/>
                          <a:pt x="912" y="903"/>
                        </a:cubicBezTo>
                        <a:cubicBezTo>
                          <a:pt x="962" y="924"/>
                          <a:pt x="1002" y="939"/>
                          <a:pt x="1032" y="951"/>
                        </a:cubicBezTo>
                        <a:cubicBezTo>
                          <a:pt x="1062" y="963"/>
                          <a:pt x="1066" y="966"/>
                          <a:pt x="1095" y="973"/>
                        </a:cubicBezTo>
                        <a:cubicBezTo>
                          <a:pt x="1124" y="980"/>
                          <a:pt x="1186" y="1007"/>
                          <a:pt x="1204" y="995"/>
                        </a:cubicBezTo>
                        <a:cubicBezTo>
                          <a:pt x="1222" y="983"/>
                          <a:pt x="1203" y="938"/>
                          <a:pt x="1204" y="903"/>
                        </a:cubicBezTo>
                        <a:cubicBezTo>
                          <a:pt x="1205" y="868"/>
                          <a:pt x="1207" y="824"/>
                          <a:pt x="1208" y="787"/>
                        </a:cubicBezTo>
                        <a:cubicBezTo>
                          <a:pt x="1209" y="750"/>
                          <a:pt x="1211" y="719"/>
                          <a:pt x="1212" y="683"/>
                        </a:cubicBezTo>
                        <a:cubicBezTo>
                          <a:pt x="1213" y="647"/>
                          <a:pt x="1213" y="602"/>
                          <a:pt x="1212" y="571"/>
                        </a:cubicBezTo>
                        <a:cubicBezTo>
                          <a:pt x="1211" y="540"/>
                          <a:pt x="1219" y="515"/>
                          <a:pt x="1208" y="499"/>
                        </a:cubicBezTo>
                        <a:cubicBezTo>
                          <a:pt x="1197" y="483"/>
                          <a:pt x="1183" y="490"/>
                          <a:pt x="1144" y="475"/>
                        </a:cubicBezTo>
                        <a:cubicBezTo>
                          <a:pt x="1105" y="460"/>
                          <a:pt x="1042" y="438"/>
                          <a:pt x="976" y="411"/>
                        </a:cubicBezTo>
                        <a:cubicBezTo>
                          <a:pt x="910" y="384"/>
                          <a:pt x="821" y="346"/>
                          <a:pt x="748" y="315"/>
                        </a:cubicBezTo>
                        <a:cubicBezTo>
                          <a:pt x="675" y="284"/>
                          <a:pt x="615" y="257"/>
                          <a:pt x="536" y="223"/>
                        </a:cubicBezTo>
                        <a:cubicBezTo>
                          <a:pt x="457" y="189"/>
                          <a:pt x="330" y="134"/>
                          <a:pt x="276" y="111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be7d"/>
                      </a:gs>
                      <a:gs pos="50000">
                        <a:srgbClr val="ffffff"/>
                      </a:gs>
                      <a:gs pos="100000">
                        <a:srgbClr val="ffbe7d"/>
                      </a:gs>
                    </a:gsLst>
                    <a:lin ang="5400000"/>
                  </a:gradFill>
                  <a:ln w="19080">
                    <a:solidFill>
                      <a:srgbClr val="cc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2152800" y="2893680"/>
                    <a:ext cx="599760" cy="10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4" h="749">
                        <a:moveTo>
                          <a:pt x="347" y="161"/>
                        </a:moveTo>
                        <a:cubicBezTo>
                          <a:pt x="347" y="194"/>
                          <a:pt x="347" y="240"/>
                          <a:pt x="347" y="272"/>
                        </a:cubicBezTo>
                        <a:cubicBezTo>
                          <a:pt x="347" y="304"/>
                          <a:pt x="347" y="324"/>
                          <a:pt x="347" y="353"/>
                        </a:cubicBezTo>
                        <a:cubicBezTo>
                          <a:pt x="347" y="382"/>
                          <a:pt x="347" y="428"/>
                          <a:pt x="344" y="449"/>
                        </a:cubicBezTo>
                        <a:cubicBezTo>
                          <a:pt x="341" y="470"/>
                          <a:pt x="338" y="466"/>
                          <a:pt x="328" y="478"/>
                        </a:cubicBezTo>
                        <a:cubicBezTo>
                          <a:pt x="318" y="490"/>
                          <a:pt x="302" y="506"/>
                          <a:pt x="284" y="523"/>
                        </a:cubicBezTo>
                        <a:cubicBezTo>
                          <a:pt x="266" y="539"/>
                          <a:pt x="239" y="563"/>
                          <a:pt x="221" y="581"/>
                        </a:cubicBezTo>
                        <a:cubicBezTo>
                          <a:pt x="202" y="598"/>
                          <a:pt x="194" y="607"/>
                          <a:pt x="173" y="626"/>
                        </a:cubicBezTo>
                        <a:cubicBezTo>
                          <a:pt x="152" y="644"/>
                          <a:pt x="121" y="672"/>
                          <a:pt x="95" y="692"/>
                        </a:cubicBezTo>
                        <a:cubicBezTo>
                          <a:pt x="69" y="712"/>
                          <a:pt x="28" y="749"/>
                          <a:pt x="14" y="746"/>
                        </a:cubicBezTo>
                        <a:cubicBezTo>
                          <a:pt x="0" y="743"/>
                          <a:pt x="11" y="701"/>
                          <a:pt x="11" y="674"/>
                        </a:cubicBezTo>
                        <a:cubicBezTo>
                          <a:pt x="11" y="647"/>
                          <a:pt x="13" y="612"/>
                          <a:pt x="14" y="584"/>
                        </a:cubicBezTo>
                        <a:cubicBezTo>
                          <a:pt x="15" y="556"/>
                          <a:pt x="13" y="535"/>
                          <a:pt x="14" y="506"/>
                        </a:cubicBezTo>
                        <a:cubicBezTo>
                          <a:pt x="15" y="477"/>
                          <a:pt x="16" y="445"/>
                          <a:pt x="17" y="410"/>
                        </a:cubicBezTo>
                        <a:cubicBezTo>
                          <a:pt x="18" y="375"/>
                          <a:pt x="12" y="322"/>
                          <a:pt x="22" y="293"/>
                        </a:cubicBezTo>
                        <a:cubicBezTo>
                          <a:pt x="32" y="264"/>
                          <a:pt x="55" y="256"/>
                          <a:pt x="75" y="238"/>
                        </a:cubicBezTo>
                        <a:cubicBezTo>
                          <a:pt x="96" y="219"/>
                          <a:pt x="119" y="205"/>
                          <a:pt x="147" y="182"/>
                        </a:cubicBezTo>
                        <a:cubicBezTo>
                          <a:pt x="174" y="160"/>
                          <a:pt x="215" y="125"/>
                          <a:pt x="241" y="102"/>
                        </a:cubicBezTo>
                        <a:cubicBezTo>
                          <a:pt x="266" y="79"/>
                          <a:pt x="285" y="57"/>
                          <a:pt x="302" y="41"/>
                        </a:cubicBezTo>
                        <a:cubicBezTo>
                          <a:pt x="319" y="26"/>
                          <a:pt x="338" y="0"/>
                          <a:pt x="346" y="5"/>
                        </a:cubicBezTo>
                        <a:cubicBezTo>
                          <a:pt x="354" y="10"/>
                          <a:pt x="350" y="45"/>
                          <a:pt x="350" y="71"/>
                        </a:cubicBezTo>
                        <a:cubicBezTo>
                          <a:pt x="350" y="97"/>
                          <a:pt x="347" y="128"/>
                          <a:pt x="347" y="161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be7d"/>
                      </a:gs>
                      <a:gs pos="50000">
                        <a:srgbClr val="ffffff"/>
                      </a:gs>
                      <a:gs pos="100000">
                        <a:srgbClr val="ffbe7d"/>
                      </a:gs>
                    </a:gsLst>
                    <a:lin ang="5400000"/>
                  </a:gradFill>
                  <a:ln w="19080">
                    <a:solidFill>
                      <a:srgbClr val="cc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1426680" y="2588760"/>
                    <a:ext cx="624600" cy="1130400"/>
                  </a:xfrm>
                  <a:custGeom>
                    <a:avLst/>
                    <a:gdLst/>
                    <a:ahLst/>
                    <a:rect l="l" t="t" r="r" b="b"/>
                    <a:pathLst>
                      <a:path w="369" h="771">
                        <a:moveTo>
                          <a:pt x="369" y="0"/>
                        </a:moveTo>
                        <a:cubicBezTo>
                          <a:pt x="349" y="16"/>
                          <a:pt x="288" y="71"/>
                          <a:pt x="251" y="103"/>
                        </a:cubicBezTo>
                        <a:cubicBezTo>
                          <a:pt x="214" y="135"/>
                          <a:pt x="175" y="170"/>
                          <a:pt x="147" y="195"/>
                        </a:cubicBezTo>
                        <a:cubicBezTo>
                          <a:pt x="119" y="220"/>
                          <a:pt x="99" y="237"/>
                          <a:pt x="81" y="255"/>
                        </a:cubicBezTo>
                        <a:cubicBezTo>
                          <a:pt x="63" y="273"/>
                          <a:pt x="46" y="282"/>
                          <a:pt x="36" y="306"/>
                        </a:cubicBezTo>
                        <a:cubicBezTo>
                          <a:pt x="26" y="330"/>
                          <a:pt x="25" y="366"/>
                          <a:pt x="21" y="399"/>
                        </a:cubicBezTo>
                        <a:cubicBezTo>
                          <a:pt x="17" y="432"/>
                          <a:pt x="14" y="476"/>
                          <a:pt x="12" y="507"/>
                        </a:cubicBezTo>
                        <a:cubicBezTo>
                          <a:pt x="10" y="538"/>
                          <a:pt x="10" y="559"/>
                          <a:pt x="9" y="588"/>
                        </a:cubicBezTo>
                        <a:cubicBezTo>
                          <a:pt x="8" y="617"/>
                          <a:pt x="4" y="651"/>
                          <a:pt x="3" y="681"/>
                        </a:cubicBezTo>
                        <a:cubicBezTo>
                          <a:pt x="2" y="711"/>
                          <a:pt x="1" y="752"/>
                          <a:pt x="0" y="771"/>
                        </a:cubicBezTo>
                      </a:path>
                    </a:pathLst>
                  </a:custGeom>
                  <a:noFill/>
                  <a:ln w="19080">
                    <a:solidFill>
                      <a:srgbClr val="cc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8" name=""/>
                <p:cNvSpPr/>
                <p:nvPr/>
              </p:nvSpPr>
              <p:spPr>
                <a:xfrm rot="19645800">
                  <a:off x="2053080" y="3141000"/>
                  <a:ext cx="865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медь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9" name=""/>
              <p:cNvGrpSpPr/>
              <p:nvPr/>
            </p:nvGrpSpPr>
            <p:grpSpPr>
              <a:xfrm>
                <a:off x="6156360" y="2349360"/>
                <a:ext cx="2503800" cy="1728360"/>
                <a:chOff x="6156360" y="2349360"/>
                <a:chExt cx="2503800" cy="1728360"/>
              </a:xfrm>
            </p:grpSpPr>
            <p:grpSp>
              <p:nvGrpSpPr>
                <p:cNvPr id="460" name=""/>
                <p:cNvGrpSpPr/>
                <p:nvPr/>
              </p:nvGrpSpPr>
              <p:grpSpPr>
                <a:xfrm>
                  <a:off x="6156360" y="2349360"/>
                  <a:ext cx="2310840" cy="1728360"/>
                  <a:chOff x="6156360" y="2349360"/>
                  <a:chExt cx="2310840" cy="1728360"/>
                </a:xfrm>
              </p:grpSpPr>
              <p:sp>
                <p:nvSpPr>
                  <p:cNvPr id="461" name=""/>
                  <p:cNvSpPr/>
                  <p:nvPr/>
                </p:nvSpPr>
                <p:spPr>
                  <a:xfrm>
                    <a:off x="6234120" y="2349360"/>
                    <a:ext cx="2233080" cy="10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552" h="781">
                        <a:moveTo>
                          <a:pt x="393" y="9"/>
                        </a:moveTo>
                        <a:cubicBezTo>
                          <a:pt x="336" y="16"/>
                          <a:pt x="278" y="70"/>
                          <a:pt x="231" y="99"/>
                        </a:cubicBezTo>
                        <a:cubicBezTo>
                          <a:pt x="184" y="128"/>
                          <a:pt x="145" y="150"/>
                          <a:pt x="108" y="183"/>
                        </a:cubicBezTo>
                        <a:cubicBezTo>
                          <a:pt x="71" y="216"/>
                          <a:pt x="0" y="266"/>
                          <a:pt x="11" y="296"/>
                        </a:cubicBezTo>
                        <a:cubicBezTo>
                          <a:pt x="22" y="326"/>
                          <a:pt x="116" y="339"/>
                          <a:pt x="175" y="364"/>
                        </a:cubicBezTo>
                        <a:cubicBezTo>
                          <a:pt x="234" y="389"/>
                          <a:pt x="302" y="418"/>
                          <a:pt x="363" y="444"/>
                        </a:cubicBezTo>
                        <a:cubicBezTo>
                          <a:pt x="424" y="470"/>
                          <a:pt x="470" y="490"/>
                          <a:pt x="539" y="520"/>
                        </a:cubicBezTo>
                        <a:cubicBezTo>
                          <a:pt x="608" y="550"/>
                          <a:pt x="707" y="593"/>
                          <a:pt x="779" y="624"/>
                        </a:cubicBezTo>
                        <a:cubicBezTo>
                          <a:pt x="851" y="655"/>
                          <a:pt x="913" y="681"/>
                          <a:pt x="971" y="704"/>
                        </a:cubicBezTo>
                        <a:cubicBezTo>
                          <a:pt x="1029" y="727"/>
                          <a:pt x="1094" y="747"/>
                          <a:pt x="1127" y="760"/>
                        </a:cubicBezTo>
                        <a:cubicBezTo>
                          <a:pt x="1160" y="773"/>
                          <a:pt x="1158" y="779"/>
                          <a:pt x="1167" y="780"/>
                        </a:cubicBezTo>
                        <a:cubicBezTo>
                          <a:pt x="1176" y="781"/>
                          <a:pt x="1161" y="781"/>
                          <a:pt x="1183" y="764"/>
                        </a:cubicBezTo>
                        <a:cubicBezTo>
                          <a:pt x="1205" y="747"/>
                          <a:pt x="1252" y="715"/>
                          <a:pt x="1299" y="680"/>
                        </a:cubicBezTo>
                        <a:cubicBezTo>
                          <a:pt x="1346" y="645"/>
                          <a:pt x="1424" y="592"/>
                          <a:pt x="1463" y="556"/>
                        </a:cubicBezTo>
                        <a:cubicBezTo>
                          <a:pt x="1502" y="520"/>
                          <a:pt x="1552" y="498"/>
                          <a:pt x="1531" y="464"/>
                        </a:cubicBezTo>
                        <a:cubicBezTo>
                          <a:pt x="1510" y="430"/>
                          <a:pt x="1403" y="384"/>
                          <a:pt x="1339" y="352"/>
                        </a:cubicBezTo>
                        <a:cubicBezTo>
                          <a:pt x="1275" y="320"/>
                          <a:pt x="1229" y="305"/>
                          <a:pt x="1147" y="272"/>
                        </a:cubicBezTo>
                        <a:cubicBezTo>
                          <a:pt x="1065" y="239"/>
                          <a:pt x="943" y="192"/>
                          <a:pt x="847" y="156"/>
                        </a:cubicBezTo>
                        <a:cubicBezTo>
                          <a:pt x="751" y="120"/>
                          <a:pt x="649" y="81"/>
                          <a:pt x="573" y="57"/>
                        </a:cubicBezTo>
                        <a:cubicBezTo>
                          <a:pt x="497" y="33"/>
                          <a:pt x="449" y="0"/>
                          <a:pt x="393" y="9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be7d"/>
                      </a:gs>
                      <a:gs pos="50000">
                        <a:srgbClr val="ffffff"/>
                      </a:gs>
                      <a:gs pos="100000">
                        <a:srgbClr val="ffbe7d"/>
                      </a:gs>
                    </a:gsLst>
                    <a:lin ang="5400000"/>
                  </a:gradFill>
                  <a:ln w="19080">
                    <a:solidFill>
                      <a:srgbClr val="cc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6156360" y="2717280"/>
                    <a:ext cx="1757160" cy="136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22" h="1007">
                        <a:moveTo>
                          <a:pt x="276" y="111"/>
                        </a:moveTo>
                        <a:cubicBezTo>
                          <a:pt x="198" y="85"/>
                          <a:pt x="149" y="61"/>
                          <a:pt x="111" y="47"/>
                        </a:cubicBezTo>
                        <a:cubicBezTo>
                          <a:pt x="73" y="33"/>
                          <a:pt x="62" y="0"/>
                          <a:pt x="47" y="26"/>
                        </a:cubicBezTo>
                        <a:cubicBezTo>
                          <a:pt x="32" y="53"/>
                          <a:pt x="27" y="154"/>
                          <a:pt x="23" y="205"/>
                        </a:cubicBezTo>
                        <a:cubicBezTo>
                          <a:pt x="19" y="256"/>
                          <a:pt x="20" y="285"/>
                          <a:pt x="20" y="331"/>
                        </a:cubicBezTo>
                        <a:cubicBezTo>
                          <a:pt x="20" y="377"/>
                          <a:pt x="0" y="446"/>
                          <a:pt x="20" y="483"/>
                        </a:cubicBezTo>
                        <a:cubicBezTo>
                          <a:pt x="40" y="520"/>
                          <a:pt x="93" y="527"/>
                          <a:pt x="140" y="551"/>
                        </a:cubicBezTo>
                        <a:cubicBezTo>
                          <a:pt x="187" y="575"/>
                          <a:pt x="251" y="602"/>
                          <a:pt x="304" y="627"/>
                        </a:cubicBezTo>
                        <a:cubicBezTo>
                          <a:pt x="357" y="652"/>
                          <a:pt x="409" y="681"/>
                          <a:pt x="456" y="703"/>
                        </a:cubicBezTo>
                        <a:cubicBezTo>
                          <a:pt x="503" y="725"/>
                          <a:pt x="542" y="738"/>
                          <a:pt x="588" y="759"/>
                        </a:cubicBezTo>
                        <a:cubicBezTo>
                          <a:pt x="634" y="780"/>
                          <a:pt x="678" y="803"/>
                          <a:pt x="732" y="827"/>
                        </a:cubicBezTo>
                        <a:cubicBezTo>
                          <a:pt x="786" y="851"/>
                          <a:pt x="862" y="882"/>
                          <a:pt x="912" y="903"/>
                        </a:cubicBezTo>
                        <a:cubicBezTo>
                          <a:pt x="962" y="924"/>
                          <a:pt x="1002" y="939"/>
                          <a:pt x="1032" y="951"/>
                        </a:cubicBezTo>
                        <a:cubicBezTo>
                          <a:pt x="1062" y="963"/>
                          <a:pt x="1066" y="966"/>
                          <a:pt x="1095" y="973"/>
                        </a:cubicBezTo>
                        <a:cubicBezTo>
                          <a:pt x="1124" y="980"/>
                          <a:pt x="1186" y="1007"/>
                          <a:pt x="1204" y="995"/>
                        </a:cubicBezTo>
                        <a:cubicBezTo>
                          <a:pt x="1222" y="983"/>
                          <a:pt x="1203" y="938"/>
                          <a:pt x="1204" y="903"/>
                        </a:cubicBezTo>
                        <a:cubicBezTo>
                          <a:pt x="1205" y="868"/>
                          <a:pt x="1207" y="824"/>
                          <a:pt x="1208" y="787"/>
                        </a:cubicBezTo>
                        <a:cubicBezTo>
                          <a:pt x="1209" y="750"/>
                          <a:pt x="1211" y="719"/>
                          <a:pt x="1212" y="683"/>
                        </a:cubicBezTo>
                        <a:cubicBezTo>
                          <a:pt x="1213" y="647"/>
                          <a:pt x="1213" y="602"/>
                          <a:pt x="1212" y="571"/>
                        </a:cubicBezTo>
                        <a:cubicBezTo>
                          <a:pt x="1211" y="540"/>
                          <a:pt x="1219" y="515"/>
                          <a:pt x="1208" y="499"/>
                        </a:cubicBezTo>
                        <a:cubicBezTo>
                          <a:pt x="1197" y="483"/>
                          <a:pt x="1183" y="490"/>
                          <a:pt x="1144" y="475"/>
                        </a:cubicBezTo>
                        <a:cubicBezTo>
                          <a:pt x="1105" y="460"/>
                          <a:pt x="1042" y="438"/>
                          <a:pt x="976" y="411"/>
                        </a:cubicBezTo>
                        <a:cubicBezTo>
                          <a:pt x="910" y="384"/>
                          <a:pt x="821" y="346"/>
                          <a:pt x="748" y="315"/>
                        </a:cubicBezTo>
                        <a:cubicBezTo>
                          <a:pt x="675" y="284"/>
                          <a:pt x="615" y="257"/>
                          <a:pt x="536" y="223"/>
                        </a:cubicBezTo>
                        <a:cubicBezTo>
                          <a:pt x="457" y="189"/>
                          <a:pt x="330" y="134"/>
                          <a:pt x="276" y="111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be7d"/>
                      </a:gs>
                      <a:gs pos="50000">
                        <a:srgbClr val="ffffff"/>
                      </a:gs>
                      <a:gs pos="100000">
                        <a:srgbClr val="ffbe7d"/>
                      </a:gs>
                    </a:gsLst>
                    <a:lin ang="5400000"/>
                  </a:gradFill>
                  <a:ln w="19080">
                    <a:solidFill>
                      <a:srgbClr val="cc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7840800" y="2966400"/>
                    <a:ext cx="599760" cy="10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4" h="749">
                        <a:moveTo>
                          <a:pt x="347" y="161"/>
                        </a:moveTo>
                        <a:cubicBezTo>
                          <a:pt x="347" y="194"/>
                          <a:pt x="347" y="240"/>
                          <a:pt x="347" y="272"/>
                        </a:cubicBezTo>
                        <a:cubicBezTo>
                          <a:pt x="347" y="304"/>
                          <a:pt x="347" y="324"/>
                          <a:pt x="347" y="353"/>
                        </a:cubicBezTo>
                        <a:cubicBezTo>
                          <a:pt x="347" y="382"/>
                          <a:pt x="347" y="428"/>
                          <a:pt x="344" y="449"/>
                        </a:cubicBezTo>
                        <a:cubicBezTo>
                          <a:pt x="341" y="470"/>
                          <a:pt x="338" y="466"/>
                          <a:pt x="328" y="478"/>
                        </a:cubicBezTo>
                        <a:cubicBezTo>
                          <a:pt x="318" y="490"/>
                          <a:pt x="302" y="506"/>
                          <a:pt x="284" y="523"/>
                        </a:cubicBezTo>
                        <a:cubicBezTo>
                          <a:pt x="266" y="539"/>
                          <a:pt x="239" y="563"/>
                          <a:pt x="221" y="581"/>
                        </a:cubicBezTo>
                        <a:cubicBezTo>
                          <a:pt x="202" y="598"/>
                          <a:pt x="194" y="607"/>
                          <a:pt x="173" y="626"/>
                        </a:cubicBezTo>
                        <a:cubicBezTo>
                          <a:pt x="152" y="644"/>
                          <a:pt x="121" y="672"/>
                          <a:pt x="95" y="692"/>
                        </a:cubicBezTo>
                        <a:cubicBezTo>
                          <a:pt x="69" y="712"/>
                          <a:pt x="28" y="749"/>
                          <a:pt x="14" y="746"/>
                        </a:cubicBezTo>
                        <a:cubicBezTo>
                          <a:pt x="0" y="743"/>
                          <a:pt x="11" y="701"/>
                          <a:pt x="11" y="674"/>
                        </a:cubicBezTo>
                        <a:cubicBezTo>
                          <a:pt x="11" y="647"/>
                          <a:pt x="13" y="612"/>
                          <a:pt x="14" y="584"/>
                        </a:cubicBezTo>
                        <a:cubicBezTo>
                          <a:pt x="15" y="556"/>
                          <a:pt x="13" y="535"/>
                          <a:pt x="14" y="506"/>
                        </a:cubicBezTo>
                        <a:cubicBezTo>
                          <a:pt x="15" y="477"/>
                          <a:pt x="16" y="445"/>
                          <a:pt x="17" y="410"/>
                        </a:cubicBezTo>
                        <a:cubicBezTo>
                          <a:pt x="18" y="375"/>
                          <a:pt x="12" y="322"/>
                          <a:pt x="22" y="293"/>
                        </a:cubicBezTo>
                        <a:cubicBezTo>
                          <a:pt x="32" y="264"/>
                          <a:pt x="55" y="256"/>
                          <a:pt x="75" y="238"/>
                        </a:cubicBezTo>
                        <a:cubicBezTo>
                          <a:pt x="96" y="219"/>
                          <a:pt x="119" y="205"/>
                          <a:pt x="147" y="182"/>
                        </a:cubicBezTo>
                        <a:cubicBezTo>
                          <a:pt x="174" y="160"/>
                          <a:pt x="215" y="125"/>
                          <a:pt x="241" y="102"/>
                        </a:cubicBezTo>
                        <a:cubicBezTo>
                          <a:pt x="266" y="79"/>
                          <a:pt x="285" y="57"/>
                          <a:pt x="302" y="41"/>
                        </a:cubicBezTo>
                        <a:cubicBezTo>
                          <a:pt x="319" y="26"/>
                          <a:pt x="338" y="0"/>
                          <a:pt x="346" y="5"/>
                        </a:cubicBezTo>
                        <a:cubicBezTo>
                          <a:pt x="354" y="10"/>
                          <a:pt x="350" y="45"/>
                          <a:pt x="350" y="71"/>
                        </a:cubicBezTo>
                        <a:cubicBezTo>
                          <a:pt x="350" y="97"/>
                          <a:pt x="347" y="128"/>
                          <a:pt x="347" y="161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be7d"/>
                      </a:gs>
                      <a:gs pos="50000">
                        <a:srgbClr val="ffffff"/>
                      </a:gs>
                      <a:gs pos="100000">
                        <a:srgbClr val="ffbe7d"/>
                      </a:gs>
                    </a:gsLst>
                    <a:lin ang="5400000"/>
                  </a:gradFill>
                  <a:ln w="19080">
                    <a:solidFill>
                      <a:srgbClr val="cc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7114680" y="2661480"/>
                    <a:ext cx="624600" cy="1130400"/>
                  </a:xfrm>
                  <a:custGeom>
                    <a:avLst/>
                    <a:gdLst/>
                    <a:ahLst/>
                    <a:rect l="l" t="t" r="r" b="b"/>
                    <a:pathLst>
                      <a:path w="369" h="771">
                        <a:moveTo>
                          <a:pt x="369" y="0"/>
                        </a:moveTo>
                        <a:cubicBezTo>
                          <a:pt x="349" y="16"/>
                          <a:pt x="288" y="71"/>
                          <a:pt x="251" y="103"/>
                        </a:cubicBezTo>
                        <a:cubicBezTo>
                          <a:pt x="214" y="135"/>
                          <a:pt x="175" y="170"/>
                          <a:pt x="147" y="195"/>
                        </a:cubicBezTo>
                        <a:cubicBezTo>
                          <a:pt x="119" y="220"/>
                          <a:pt x="99" y="237"/>
                          <a:pt x="81" y="255"/>
                        </a:cubicBezTo>
                        <a:cubicBezTo>
                          <a:pt x="63" y="273"/>
                          <a:pt x="46" y="282"/>
                          <a:pt x="36" y="306"/>
                        </a:cubicBezTo>
                        <a:cubicBezTo>
                          <a:pt x="26" y="330"/>
                          <a:pt x="25" y="366"/>
                          <a:pt x="21" y="399"/>
                        </a:cubicBezTo>
                        <a:cubicBezTo>
                          <a:pt x="17" y="432"/>
                          <a:pt x="14" y="476"/>
                          <a:pt x="12" y="507"/>
                        </a:cubicBezTo>
                        <a:cubicBezTo>
                          <a:pt x="10" y="538"/>
                          <a:pt x="10" y="559"/>
                          <a:pt x="9" y="588"/>
                        </a:cubicBezTo>
                        <a:cubicBezTo>
                          <a:pt x="8" y="617"/>
                          <a:pt x="4" y="651"/>
                          <a:pt x="3" y="681"/>
                        </a:cubicBezTo>
                        <a:cubicBezTo>
                          <a:pt x="2" y="711"/>
                          <a:pt x="1" y="752"/>
                          <a:pt x="0" y="771"/>
                        </a:cubicBezTo>
                      </a:path>
                    </a:pathLst>
                  </a:custGeom>
                  <a:noFill/>
                  <a:ln w="19080">
                    <a:solidFill>
                      <a:srgbClr val="cc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5" name=""/>
                <p:cNvSpPr/>
                <p:nvPr/>
              </p:nvSpPr>
              <p:spPr>
                <a:xfrm rot="19501800">
                  <a:off x="7741080" y="3213720"/>
                  <a:ext cx="865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медь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66" name=""/>
            <p:cNvSpPr/>
            <p:nvPr/>
          </p:nvSpPr>
          <p:spPr>
            <a:xfrm rot="1279800">
              <a:off x="1402560" y="3284640"/>
              <a:ext cx="81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1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137000">
              <a:off x="4284360" y="328428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4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1152000">
              <a:off x="7092360" y="3357360"/>
              <a:ext cx="81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3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539640" y="4437000"/>
            <a:ext cx="8064720" cy="165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332000" y="3933720"/>
            <a:ext cx="8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х к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564000" y="3933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х+3) к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300720" y="393372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х+(х+3)) к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211640" y="270828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0,4(х+3)к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093080" y="278136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0,3(2х+3)к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4000" y="260280"/>
            <a:ext cx="8496000" cy="1873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Первый сплав содержит 10% меди, второй – 40% мед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Масса второго сплава больше массы первого на 3к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Из этих двух сплавов получили третий сплав, содержащ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30% меди. Найдите массу третьего спла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Ответ дайте в килограммах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260360" y="27082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0,1х к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684360" y="4941720"/>
                <a:ext cx="4103640" cy="5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1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0,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0,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684360" y="5516640"/>
                <a:ext cx="41036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1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0,4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1,2</m:t>
                    </m:r>
                    <m:r>
                      <m:t xml:space="preserve">=</m:t>
                    </m:r>
                    <m:r>
                      <m:t xml:space="preserve">0,6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0,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5219640" y="4508640"/>
                <a:ext cx="316872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5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0,6</m:t>
                    </m:r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0,9</m:t>
                    </m:r>
                    <m:r>
                      <m:t xml:space="preserve">−</m:t>
                    </m:r>
                    <m:r>
                      <m:t xml:space="preserve">1,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"/>
              <p:cNvSpPr txBox="1"/>
              <p:nvPr/>
            </p:nvSpPr>
            <p:spPr>
              <a:xfrm>
                <a:off x="6732720" y="4941720"/>
                <a:ext cx="72684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6084720" y="5445000"/>
                <a:ext cx="19954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кг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2" name=""/>
          <p:cNvSpPr/>
          <p:nvPr/>
        </p:nvSpPr>
        <p:spPr>
          <a:xfrm>
            <a:off x="250920" y="6165720"/>
            <a:ext cx="1873080" cy="476280"/>
          </a:xfrm>
          <a:custGeom>
            <a:avLst/>
            <a:gdLst>
              <a:gd name="textAreaLeft" fmla="*/ 30600 w 1873080"/>
              <a:gd name="textAreaRight" fmla="*/ 1842480 w 1873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84899" h="21600">
                <a:moveTo>
                  <a:pt x="0" y="0"/>
                </a:moveTo>
                <a:lnTo>
                  <a:pt x="84899" y="0"/>
                </a:lnTo>
                <a:lnTo>
                  <a:pt x="84899" y="21600"/>
                </a:lnTo>
                <a:lnTo>
                  <a:pt x="0" y="21600"/>
                </a:lnTo>
                <a:close/>
              </a:path>
              <a:path fill="lightenLess" w="84899" h="21600">
                <a:moveTo>
                  <a:pt x="0" y="0"/>
                </a:moveTo>
                <a:lnTo>
                  <a:pt x="84899" y="0"/>
                </a:lnTo>
                <a:lnTo>
                  <a:pt x="83499" y="1400"/>
                </a:lnTo>
                <a:lnTo>
                  <a:pt x="1400" y="1400"/>
                </a:lnTo>
                <a:close/>
              </a:path>
              <a:path fill="darken" w="84899" h="21600">
                <a:moveTo>
                  <a:pt x="84899" y="0"/>
                </a:moveTo>
                <a:lnTo>
                  <a:pt x="84899" y="21600"/>
                </a:lnTo>
                <a:lnTo>
                  <a:pt x="83499" y="20200"/>
                </a:lnTo>
                <a:lnTo>
                  <a:pt x="83499" y="1400"/>
                </a:lnTo>
                <a:close/>
              </a:path>
              <a:path fill="darkenLess" w="84899" h="21600">
                <a:moveTo>
                  <a:pt x="848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3499" y="20200"/>
                </a:lnTo>
                <a:close/>
              </a:path>
              <a:path fill="lighten" w="848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lackadder ITC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>
            <a:hlinkClick r:id="" action="ppaction://hlinkshowjump?jump=nextslide"/>
          </p:cNvPr>
          <p:cNvSpPr/>
          <p:nvPr/>
        </p:nvSpPr>
        <p:spPr>
          <a:xfrm>
            <a:off x="8459640" y="6165720"/>
            <a:ext cx="505080" cy="5382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760 h 538200"/>
              <a:gd name="textAreaBottom" fmla="*/ 505800 h 538200"/>
            </a:gdLst>
            <a:ahLst/>
            <a:rect l="textAreaLeft" t="textAreaTop" r="textAreaRight" b="textAreaBottom"/>
            <a:pathLst>
              <a:path w="21600" h="23015">
                <a:moveTo>
                  <a:pt x="0" y="0"/>
                </a:moveTo>
                <a:lnTo>
                  <a:pt x="21600" y="0"/>
                </a:lnTo>
                <a:lnTo>
                  <a:pt x="21600" y="23015"/>
                </a:lnTo>
                <a:lnTo>
                  <a:pt x="0" y="23015"/>
                </a:lnTo>
                <a:close/>
              </a:path>
              <a:path fill="lightenLess" w="21600" h="230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15">
                <a:moveTo>
                  <a:pt x="21600" y="0"/>
                </a:moveTo>
                <a:lnTo>
                  <a:pt x="21600" y="23015"/>
                </a:lnTo>
                <a:lnTo>
                  <a:pt x="20200" y="21615"/>
                </a:lnTo>
                <a:lnTo>
                  <a:pt x="20200" y="1400"/>
                </a:lnTo>
                <a:close/>
              </a:path>
              <a:path fill="darkenLess" w="21600" h="23015">
                <a:moveTo>
                  <a:pt x="21600" y="23015"/>
                </a:moveTo>
                <a:lnTo>
                  <a:pt x="0" y="23015"/>
                </a:lnTo>
                <a:lnTo>
                  <a:pt x="1400" y="21615"/>
                </a:lnTo>
                <a:lnTo>
                  <a:pt x="20200" y="21615"/>
                </a:lnTo>
                <a:close/>
              </a:path>
              <a:path fill="lighten" w="21600" h="23015">
                <a:moveTo>
                  <a:pt x="0" y="230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15"/>
                </a:lnTo>
                <a:close/>
              </a:path>
              <a:path fill="darken" w="21600" h="23015">
                <a:moveTo>
                  <a:pt x="3794" y="4501"/>
                </a:moveTo>
                <a:lnTo>
                  <a:pt x="17806" y="11508"/>
                </a:lnTo>
                <a:lnTo>
                  <a:pt x="3794" y="1851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979640" y="443700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Масса меди в первом сплаве 0,1х(к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979640" y="494172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о втором – 0,4(х+3)(к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908000" y="5445000"/>
            <a:ext cx="47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 третьем – 0,3(2х+3)(к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55640" y="4437000"/>
            <a:ext cx="31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олучим урав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1" dur="indefinite" restart="never" nodeType="tmRoot">
          <p:childTnLst>
            <p:seq>
              <p:cTn id="652" restart="whenNotActive" nodeType="interactiveSeq" fill="hold">
                <p:stCondLst>
                  <p:cond evt="onClick">
                    <p:tgtEl>
                      <p:spTgt spid="482"/>
                    </p:tgtEl>
                  </p:cond>
                </p:stCondLst>
                <p:childTnLst>
                  <p:par>
                    <p:cTn id="653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7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500"/>
                            </p:stCondLst>
                            <p:childTnLst>
                              <p:par>
                                <p:cTn id="6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6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0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5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8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1000"/>
                            </p:stCondLst>
                            <p:childTnLst>
                              <p:par>
                                <p:cTn id="68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2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7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1000"/>
                            </p:stCondLst>
                            <p:childTnLst>
                              <p:par>
                                <p:cTn id="68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6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0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0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0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1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5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2000"/>
                            </p:stCondLst>
                            <p:childTnLst>
                              <p:par>
                                <p:cTn id="717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8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4000"/>
                            </p:stCondLst>
                            <p:childTnLst>
                              <p:par>
                                <p:cTn id="720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1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6000"/>
                            </p:stCondLst>
                            <p:childTnLst>
                              <p:par>
                                <p:cTn id="7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5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7000"/>
                            </p:stCondLst>
                            <p:childTnLst>
                              <p:par>
                                <p:cTn id="7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9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4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9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4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9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500"/>
                            </p:stCondLst>
                            <p:childTnLst>
                              <p:par>
                                <p:cTn id="75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7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9T18:42:21Z</dcterms:created>
  <dc:creator>Алекс</dc:creator>
  <dc:description/>
  <dc:language>en-US</dc:language>
  <cp:lastModifiedBy>Алекс</cp:lastModifiedBy>
  <dcterms:modified xsi:type="dcterms:W3CDTF">2012-05-03T19:57:36Z</dcterms:modified>
  <cp:revision>53</cp:revision>
  <dc:subject/>
  <dc:title>Слайд 1</dc:title>
</cp:coreProperties>
</file>