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5198-C32B-4D13-9A6C-975C0BB78D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0ABF-0874-41DB-99E3-1F17870369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E4E8-F218-44AF-A4D0-5CB6721C0B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2"/>
          <p:cNvSpPr/>
          <p:nvPr/>
        </p:nvSpPr>
        <p:spPr>
          <a:xfrm>
            <a:off x="3852720" y="9429840"/>
            <a:ext cx="294480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F72-3C63-4C2B-8EB9-8C093D3AE8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A9FD-3003-499A-A172-77250603E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F1F-A05A-4794-BD7A-0F1D04E8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374-3100-46B2-B9AA-EED7715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8154-6F8E-4275-8D15-69E24613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F4C-8885-414A-AB5C-F77096D7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9B07-61DB-4F71-8437-FFC6551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9D8-79A9-49CD-A2AB-5CCA6576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B16C-765F-4DA3-BC71-516BACC5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19BF-28D4-4DE5-9663-B9B855B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FF01-C323-47BE-B9FE-4979F11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2351-0C6E-4F98-B731-6F038262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7D71-1E1D-4B08-A8D3-AE8DC18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5D6-2AEE-41AA-BF81-510FF368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C1CA-3328-4650-AE8D-A17DB4A2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62F2-C4C1-4A09-949F-6A465BE2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0CEF-DE1C-4137-8798-C380B89E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76B2-ACB8-43CB-AE9F-8F4AA08B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C0A6-891B-46A4-92E2-FFCA976D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17B-C91E-40BF-BE44-F7802AD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0FF-9903-4F08-B33F-C3B8EE4D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1A0-64B8-4CE9-BF11-DD9B3E01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480" y="43920"/>
            <a:ext cx="896904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FCA9-2919-4740-B4FC-75AAFFA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0EE-74BB-46EF-B21D-493A08E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F8D-B754-45DC-BD76-9C27BC3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8A4-A5AE-409B-AE8A-621E1BB6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FAE1-346B-4854-97CD-A9B3C4AAE153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C391-4E1C-431C-A797-A27E013462F7}" type="datetime">
              <a:rPr b="0" lang="ru-RU" sz="24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BD9A-7864-40EB-BDC6-6E301D74DF5A}" type="slidenum">
              <a:rPr b="0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480" y="43920"/>
            <a:ext cx="896904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iig.su/%22%20%5Ct%20%22_top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zdorovoe.menu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6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"/>
          <p:cNvSpPr/>
          <p:nvPr/>
        </p:nvSpPr>
        <p:spPr>
          <a:xfrm>
            <a:off x="468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437920"/>
            <a:ext cx="8172360" cy="15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Региональный стандарт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Verdana"/>
                <a:ea typeface="Verdana"/>
              </a:rPr>
              <a:t>обеспечения бесплатным питанием в 1-4 классах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Прямоугольник 8"/>
          <p:cNvSpPr/>
          <p:nvPr/>
        </p:nvSpPr>
        <p:spPr>
          <a:xfrm>
            <a:off x="6659640" y="11826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Тю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Verdana"/>
                <a:ea typeface="Verdana"/>
              </a:rPr>
              <a:t>17 августа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9"/>
          <p:cNvSpPr/>
          <p:nvPr/>
        </p:nvSpPr>
        <p:spPr>
          <a:xfrm>
            <a:off x="8710560" y="1197000"/>
            <a:ext cx="0" cy="21081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979560"/>
            <a:ext cx="865656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формирование среды, способствующей повышению информированности граждан об основных принципах здорового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нлайн-обучение педагогов, родителей, учеников 5-11 класс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учение представленного информационного материал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полнение самостоятельной работы, тес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местная работа родителей с детьми по формированию режима дня и рациона питания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уровня сложност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1 - для 5-6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2 - для 7-9 класс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, sans-serif"/>
              </a:rPr>
              <a:t>3 - для 10-11 классов, педагогов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Calibri, sans-serif"/>
              </a:rPr>
              <a:t>Срок: до 01.10.2020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b3"/>
                </a:solidFill>
                <a:latin typeface="Arial"/>
                <a:ea typeface="Calibri, sans-serif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ea typeface="Calibri, sans-serif"/>
                <a:hlinkClick r:id="rId1"/>
              </a:rPr>
              <a:t>http://www.niig.su/</a:t>
            </a:r>
            <a:r>
              <a:rPr b="0" lang="ru-RU" sz="1300" spc="-1" strike="noStrike">
                <a:solidFill>
                  <a:srgbClr val="0066b3"/>
                </a:solidFill>
                <a:latin typeface="Arial"/>
                <a:ea typeface="Microsoft YaHei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04920" y="182520"/>
            <a:ext cx="8686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Проект по реализации всероссийской просветительской програм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«Основы здорового питания»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76320" y="5715000"/>
            <a:ext cx="896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*Проект в рамках ФП «Формирование системы мотивации граждан к здоровому образу жизни и отказ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от вредных привычек (Укрепление общественного здоровья)» нацпроекта «Демограф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Calibri"/>
                <a:ea typeface="Microsoft YaHei"/>
              </a:rPr>
              <a:t>Координатор - Роспотребнадзо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208080" y="20952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  <a:ea typeface="Verdana"/>
              </a:rPr>
              <a:t>Задачи, требующие конкретизации «на мест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96360" y="1177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"/>
          <p:cNvSpPr/>
          <p:nvPr/>
        </p:nvSpPr>
        <p:spPr>
          <a:xfrm>
            <a:off x="345960" y="863640"/>
            <a:ext cx="856944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Муниципальные органы управления образованием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Организация бесплатного горячего питания 1-4 классов в муниципальных и государственных школах в соответствии 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еречнем мероприятий (Дорожной картой), утвержденного приказом Департамента от 10.07.2020 №325/ОД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Региональным стандартом оказания услуги по обеспечению горячим питанием обучающихся по образовательным программам начального общего образования (1-4 классы) в государственных и муниципальных образовательных организациях, расположенных в Тюменской обла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овершенствование организации школьного питания в основной и средней школе (вариативность, специализированные меню, «Учет питания», современное материально-техническое оснащение пищеблоков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Контроль и мониторинг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d43333"/>
                </a:solidFill>
                <a:latin typeface="Arial"/>
                <a:ea typeface="Times New Roman"/>
              </a:rPr>
              <a:t>Образовательные организаци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Выполнение всех обязательных требований к организации бесплатного горячего питания 1-4 клас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1f4e7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Проведение информационно-просветительской работы с родительской общественностью по вопросам организации школьн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1f4e79"/>
                </a:solidFill>
                <a:latin typeface="Verdana"/>
                <a:ea typeface="Times New Roman"/>
              </a:rPr>
              <a:t>Срок: постоян</a:t>
            </a:r>
            <a:r>
              <a:rPr b="0" i="1" lang="ru-RU" sz="1600" spc="-1" strike="noStrike">
                <a:solidFill>
                  <a:srgbClr val="1f4e79"/>
                </a:solidFill>
                <a:latin typeface="Verdana"/>
                <a:ea typeface="Times New Roman"/>
              </a:rPr>
              <a:t>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8729640" y="6453360"/>
            <a:ext cx="38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stomShape 1"/>
          <p:cNvSpPr/>
          <p:nvPr/>
        </p:nvSpPr>
        <p:spPr>
          <a:xfrm>
            <a:off x="304920" y="131760"/>
            <a:ext cx="8685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Региональный стандарт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казания услуги по обеспечению горячим питанием обучающихся по образовательным программам НОО                               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</a:rPr>
              <a:t>(приказ ДОН Т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ustomShape 2"/>
          <p:cNvSpPr/>
          <p:nvPr/>
        </p:nvSpPr>
        <p:spPr>
          <a:xfrm>
            <a:off x="406440" y="15238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stomShape 3"/>
          <p:cNvSpPr/>
          <p:nvPr/>
        </p:nvSpPr>
        <p:spPr>
          <a:xfrm>
            <a:off x="338040" y="112860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stomShape 4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ustomShape 5"/>
          <p:cNvSpPr/>
          <p:nvPr/>
        </p:nvSpPr>
        <p:spPr>
          <a:xfrm>
            <a:off x="735120" y="1012680"/>
            <a:ext cx="804384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едеральный закон от 01.03.2020 №47-ФЗ «О внесении изменений в Федеральный закон «О качестве и безопасности пищевых продуктов и статью 37 ФЗ «Об образовании в РФ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нПиН 2.4.5.2409-08 «Санитарно-эпидемиологические требования к организации питания обучающихся в общеобразовательных учреждениях, учреждениях начального и среднего профессионального образования», утвержденные постановлением Главного государственного санитарного врача РФ от 23.07.2008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ановление Правительства Тюменской области от 30.09.2013 №423-п  «Об утверждении Положения об обеспечении питанием обучающихся государственных и муниципальных организаций, расположенных в Тюме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ические рекомендации 2.4.0179-20 «Рекомендации по организации питания обучающихся общеобразовательных организаций. МР 2.4.0179-20», утвержденные руководителем Федеральной службы по надзору в сфере защиты прав потребителей и благополучия человека,  Главным государственным санитарным врачом РФ 18.05.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рожная карта по организации бесплатного горячего питания обучающихся, утвержденная приказом Департамента образования и науки Тюменской области от 10.07.2020 №325/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шение между Минпросвещением России и Правительством Тюменской области о предоставлении субсидии из федерального бюджета бюджету субъект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ustomShape 6"/>
          <p:cNvSpPr/>
          <p:nvPr/>
        </p:nvSpPr>
        <p:spPr>
          <a:xfrm>
            <a:off x="266760" y="171756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ustomShape 7"/>
          <p:cNvSpPr/>
          <p:nvPr/>
        </p:nvSpPr>
        <p:spPr>
          <a:xfrm>
            <a:off x="299880" y="1738440"/>
            <a:ext cx="26064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ustomShape 8"/>
          <p:cNvSpPr/>
          <p:nvPr/>
        </p:nvSpPr>
        <p:spPr>
          <a:xfrm>
            <a:off x="392040" y="345744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ustomShape 9"/>
          <p:cNvSpPr/>
          <p:nvPr/>
        </p:nvSpPr>
        <p:spPr>
          <a:xfrm>
            <a:off x="349200" y="28814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ustomShape 10"/>
          <p:cNvSpPr/>
          <p:nvPr/>
        </p:nvSpPr>
        <p:spPr>
          <a:xfrm>
            <a:off x="384120" y="441468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ustomShape 11"/>
          <p:cNvSpPr/>
          <p:nvPr/>
        </p:nvSpPr>
        <p:spPr>
          <a:xfrm>
            <a:off x="349200" y="3719520"/>
            <a:ext cx="26028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ustomShape 12"/>
          <p:cNvSpPr/>
          <p:nvPr/>
        </p:nvSpPr>
        <p:spPr>
          <a:xfrm>
            <a:off x="249120" y="4906800"/>
            <a:ext cx="274680" cy="346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ustomShape 13"/>
          <p:cNvSpPr/>
          <p:nvPr/>
        </p:nvSpPr>
        <p:spPr>
          <a:xfrm>
            <a:off x="349200" y="4938840"/>
            <a:ext cx="260280" cy="24264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ustomShape 13"/>
          <p:cNvSpPr/>
          <p:nvPr/>
        </p:nvSpPr>
        <p:spPr>
          <a:xfrm>
            <a:off x="380880" y="5776920"/>
            <a:ext cx="260640" cy="243000"/>
          </a:xfrm>
          <a:custGeom>
            <a:avLst/>
            <a:gdLst/>
            <a:ahLst/>
            <a:rect l="l" t="t" r="r" b="b"/>
            <a:pathLst>
              <a:path w="61" h="60">
                <a:moveTo>
                  <a:pt x="61" y="4"/>
                </a:moveTo>
                <a:cubicBezTo>
                  <a:pt x="57" y="0"/>
                  <a:pt x="57" y="0"/>
                  <a:pt x="57" y="0"/>
                </a:cubicBezTo>
                <a:cubicBezTo>
                  <a:pt x="47" y="11"/>
                  <a:pt x="47" y="11"/>
                  <a:pt x="47" y="11"/>
                </a:cubicBezTo>
                <a:cubicBezTo>
                  <a:pt x="42" y="7"/>
                  <a:pt x="35" y="4"/>
                  <a:pt x="28" y="4"/>
                </a:cubicBezTo>
                <a:cubicBezTo>
                  <a:pt x="12" y="4"/>
                  <a:pt x="0" y="16"/>
                  <a:pt x="0" y="32"/>
                </a:cubicBezTo>
                <a:cubicBezTo>
                  <a:pt x="0" y="47"/>
                  <a:pt x="12" y="60"/>
                  <a:pt x="28" y="60"/>
                </a:cubicBezTo>
                <a:cubicBezTo>
                  <a:pt x="43" y="60"/>
                  <a:pt x="56" y="47"/>
                  <a:pt x="56" y="32"/>
                </a:cubicBezTo>
                <a:cubicBezTo>
                  <a:pt x="56" y="26"/>
                  <a:pt x="54" y="21"/>
                  <a:pt x="51" y="17"/>
                </a:cubicBezTo>
                <a:lnTo>
                  <a:pt x="61" y="4"/>
                </a:lnTo>
                <a:close/>
                <a:moveTo>
                  <a:pt x="52" y="32"/>
                </a:moveTo>
                <a:cubicBezTo>
                  <a:pt x="52" y="45"/>
                  <a:pt x="41" y="56"/>
                  <a:pt x="28" y="56"/>
                </a:cubicBezTo>
                <a:cubicBezTo>
                  <a:pt x="14" y="56"/>
                  <a:pt x="4" y="45"/>
                  <a:pt x="4" y="32"/>
                </a:cubicBezTo>
                <a:cubicBezTo>
                  <a:pt x="4" y="19"/>
                  <a:pt x="14" y="8"/>
                  <a:pt x="28" y="8"/>
                </a:cubicBezTo>
                <a:cubicBezTo>
                  <a:pt x="34" y="8"/>
                  <a:pt x="40" y="10"/>
                  <a:pt x="44" y="14"/>
                </a:cubicBezTo>
                <a:cubicBezTo>
                  <a:pt x="27" y="34"/>
                  <a:pt x="27" y="34"/>
                  <a:pt x="27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0" y="30"/>
                  <a:pt x="10" y="30"/>
                  <a:pt x="10" y="30"/>
                </a:cubicBezTo>
                <a:cubicBezTo>
                  <a:pt x="23" y="45"/>
                  <a:pt x="23" y="45"/>
                  <a:pt x="23" y="45"/>
                </a:cubicBezTo>
                <a:cubicBezTo>
                  <a:pt x="26" y="49"/>
                  <a:pt x="26" y="49"/>
                  <a:pt x="26" y="49"/>
                </a:cubicBezTo>
                <a:cubicBezTo>
                  <a:pt x="29" y="45"/>
                  <a:pt x="29" y="45"/>
                  <a:pt x="29" y="45"/>
                </a:cubicBezTo>
                <a:cubicBezTo>
                  <a:pt x="49" y="20"/>
                  <a:pt x="49" y="20"/>
                  <a:pt x="49" y="20"/>
                </a:cubicBezTo>
                <a:cubicBezTo>
                  <a:pt x="51" y="24"/>
                  <a:pt x="52" y="28"/>
                  <a:pt x="52" y="32"/>
                </a:cubicBezTo>
                <a:close/>
              </a:path>
            </a:pathLst>
          </a:custGeom>
          <a:solidFill>
            <a:srgbClr val="0d598a"/>
          </a:solidFill>
          <a:ln w="9360">
            <a:solidFill>
              <a:srgbClr val="0046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ustomShape 2"/>
          <p:cNvSpPr/>
          <p:nvPr/>
        </p:nvSpPr>
        <p:spPr>
          <a:xfrm>
            <a:off x="609480" y="1398600"/>
            <a:ext cx="83520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всех обучающихся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дин раз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списочному состав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ля обучающихся с ОВЗ, детей-инвалидов -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ва раза в день </a:t>
            </a:r>
            <a:r>
              <a:rPr b="0" i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огласно приказу руководителя ОО по факту выявления обстоятельств в течение г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ustomShape 3"/>
          <p:cNvSpPr/>
          <p:nvPr/>
        </p:nvSpPr>
        <p:spPr>
          <a:xfrm>
            <a:off x="685800" y="5178600"/>
            <a:ext cx="7970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заявлению родителей (законных представителей) обучающиес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ополнительно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обеспечиваются двух- или трехразовым питанием (с учетом продолжительности пребывания ребенка в школе)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за счет средств родителей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(законных представителей) обучающихс</a:t>
            </a: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ustomShape 4"/>
          <p:cNvSpPr/>
          <p:nvPr/>
        </p:nvSpPr>
        <p:spPr>
          <a:xfrm>
            <a:off x="685800" y="1060560"/>
            <a:ext cx="643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обходимо создать условия для питания 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- </a:t>
            </a: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вариант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457200" y="11239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57200" y="5181480"/>
            <a:ext cx="0" cy="144792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ustomShape 7"/>
          <p:cNvSpPr/>
          <p:nvPr/>
        </p:nvSpPr>
        <p:spPr>
          <a:xfrm>
            <a:off x="111240" y="228600"/>
            <a:ext cx="9032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marL="712800" indent="-712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Цель:</a:t>
            </a:r>
            <a:r>
              <a:rPr b="1" lang="ru-RU" sz="1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ff0000"/>
                </a:solidFill>
                <a:latin typeface="Calibri"/>
              </a:rPr>
              <a:t>укрепление здоровья, обеспечение безопасности, качества, доступности, совершенствование организации пита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7128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ustomShape 8"/>
          <p:cNvSpPr/>
          <p:nvPr/>
        </p:nvSpPr>
        <p:spPr>
          <a:xfrm>
            <a:off x="523800" y="2590920"/>
            <a:ext cx="822492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ВА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При зачислении обучающегося в 1-4 классы в течение учебного года горячее питание предоставляется </a:t>
            </a:r>
            <a:r>
              <a:rPr b="1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с первого его учебного д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Основание для у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 с ОВЗ - заключение психолого-медико-педагогической коми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Calibri"/>
                <a:ea typeface="Calibri, sans-serif"/>
              </a:rPr>
              <a:t>детей-инвалидов - справка, подтверждающая факт установления инвалид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ustomShape 3"/>
          <p:cNvSpPr/>
          <p:nvPr/>
        </p:nvSpPr>
        <p:spPr>
          <a:xfrm>
            <a:off x="609480" y="11430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водят мониторинг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обучающихся 1-4 классов, получающих горячее пит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с использованием модуля «Учет питания» АИС «Электронная школа ТО»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учитываю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 представляемые родителями сведения о состоянии здоровья обучающегося (в том числе об изменении, уточнении, снятии диагноза либо изменении иных сведений) и обусловленные состоянием здоровья специальные потребности в питании (диетическое питание, исключение из рациона отдельных продуктов и т.п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уют 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информационно-просветительскую работу по формированию культуры здорового питани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аю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на сайте сведения о порядке организации питания, включая примерное и фактическое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601"/>
              </a:spcAft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едут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учет экономии* бюджетных средств, сложившейся за счет пропусков учебных дней обучающимися по причинам карантина, болезни, актированных дней и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ustomShape 4"/>
          <p:cNvSpPr/>
          <p:nvPr/>
        </p:nvSpPr>
        <p:spPr>
          <a:xfrm>
            <a:off x="457200" y="642960"/>
            <a:ext cx="3740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разовательные орган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380880" y="64296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ustomShape 6"/>
          <p:cNvSpPr/>
          <p:nvPr/>
        </p:nvSpPr>
        <p:spPr>
          <a:xfrm>
            <a:off x="338040" y="4654440"/>
            <a:ext cx="84139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*Сложившаяся экономия на основании приказа руководителя ОО направляется на осуществление мероприятий по улучшению организации питания всех категорий обучающихся и (или) обучающихся из малоимущих семей, а также обучающихся из семей, находящихся в трудной жизненной ситуа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 исключением экономии бюджетных средств, передаваемых в местные бюджеты из областного бюджета в фор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бсидий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 обеспечение питанием обучающихся 1-4 классов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длежащих возврат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 доход областного бюджета в соответствии с Правилами формирования, предоставления и распределения субсидий из областного бюджета местным бюджетам, утвержденными Правительством Тюме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CustomShape 1"/>
          <p:cNvSpPr/>
          <p:nvPr/>
        </p:nvSpPr>
        <p:spPr>
          <a:xfrm>
            <a:off x="423720" y="131760"/>
            <a:ext cx="86853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360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CustomShape 2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stomShape 3"/>
          <p:cNvSpPr/>
          <p:nvPr/>
        </p:nvSpPr>
        <p:spPr>
          <a:xfrm>
            <a:off x="4164120" y="1209600"/>
            <a:ext cx="47876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существляет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только в дни учебных занятий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ез права получения компенсаций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бюджетного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финансирования за пропущенные дни и отказ от предлагаемого питан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Формат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ухих пайков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именим только в случае временной невозможности организовать горячее питание (авария на пищеблоке, отсутствие электричества и т.п.), либо при обучении ребенка на дому по медицинским показания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став сухого пайка определяется и согласовывается с родителями, исходя из примерного меню. С учетом заболевани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пускается замена 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коропортящихся и запрещенных ребенку продук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1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е обучающихся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1-ую или 2-ую смены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должно быть одинаковым по стоимости, с учетом «суточного» режима питания, в том числе </a:t>
            </a:r>
            <a:r>
              <a:rPr b="1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дома</a:t>
            </a:r>
            <a:r>
              <a:rPr b="0" lang="ru-RU" sz="15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ustomShape 4"/>
          <p:cNvSpPr/>
          <p:nvPr/>
        </p:nvSpPr>
        <p:spPr>
          <a:xfrm>
            <a:off x="450720" y="519120"/>
            <a:ext cx="3740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обенности организации 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380880" y="533520"/>
            <a:ext cx="0" cy="4237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ustomShape 9"/>
          <p:cNvSpPr/>
          <p:nvPr/>
        </p:nvSpPr>
        <p:spPr>
          <a:xfrm>
            <a:off x="152280" y="579132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Предприятия или предприниматели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, оказывающие услуги общественного питания и/или поставки продуктов, отвечают за их качество и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Users\User\Desktop\часы.jpg"/>
          <p:cNvPicPr/>
          <p:nvPr/>
        </p:nvPicPr>
        <p:blipFill>
          <a:blip r:embed="rId1"/>
          <a:stretch/>
        </p:blipFill>
        <p:spPr>
          <a:xfrm>
            <a:off x="30240" y="1447920"/>
            <a:ext cx="4167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ustomShape 2"/>
          <p:cNvSpPr/>
          <p:nvPr/>
        </p:nvSpPr>
        <p:spPr>
          <a:xfrm>
            <a:off x="798480" y="3957480"/>
            <a:ext cx="7848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держи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одного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сновного горячего блюда (поочередно в течение учебной недели с учетом выбора родителей из предложенных вариантов меню),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апиток и хлеб - ежедневно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735120" y="4997520"/>
            <a:ext cx="7975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Необходимо использ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дукты повышенной пищевой ценности, в том числе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богащенные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продукты (макро- и микроэлементами, пищевыми волокнами и биологически активными веществам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ищевые продукты с ограниченным содержанием жира, сахара и с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ustomShape 4"/>
          <p:cNvSpPr/>
          <p:nvPr/>
        </p:nvSpPr>
        <p:spPr>
          <a:xfrm>
            <a:off x="401760" y="20304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609480" y="873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27120" y="2209680"/>
            <a:ext cx="0" cy="4143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98480" y="790560"/>
            <a:ext cx="782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рганизатор питания разрабатывает, согласовывает в установленном порядке, утверждает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менее 2 вариантов меню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меню для детей, нуждающихся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пециализированном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питании (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тдельный раздел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в меню), обеспечивает возможность выбора блюд  детьми и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609480" y="4876920"/>
            <a:ext cx="0" cy="144756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ustomShape 9"/>
          <p:cNvSpPr/>
          <p:nvPr/>
        </p:nvSpPr>
        <p:spPr>
          <a:xfrm>
            <a:off x="833400" y="2120760"/>
            <a:ext cx="81280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Специализированное питание организуется на основании отдельного, согласованного руководителями ОО и территориального органа Роспотребнадзора, меню (с использованием утвержденных Главным государственным врачом РФ Методических рекомендаций МР 2.4.0162-19 «Особенности организации питания детей, страдающих сахарным диабетом и иными заболеваниями, сопровождающимися ограничениями в питании в образовательных и оздоровительных организациях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576360" y="3240000"/>
            <a:ext cx="813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algn="just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аспорт пищеблока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 заполняется/обновляется каждой образовательной организацией (включая структурные подразделения и филиалы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algn="r">
              <a:lnSpc>
                <a:spcPct val="100000"/>
              </a:lnSpc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ежегодно до 20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ustomShape 3"/>
          <p:cNvSpPr/>
          <p:nvPr/>
        </p:nvSpPr>
        <p:spPr>
          <a:xfrm>
            <a:off x="792000" y="743040"/>
            <a:ext cx="79758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роверки комиссией в состав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руководитель образовательной организации, администратор питания (при наличии), медицинский работник, представители органа государственно-общественного управления, родительской обще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ок - </a:t>
            </a: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не реже 1 раза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(по результатам составляются акты, справки, рекоменд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ustomShape 4"/>
          <p:cNvSpPr/>
          <p:nvPr/>
        </p:nvSpPr>
        <p:spPr>
          <a:xfrm>
            <a:off x="380880" y="2109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609480" y="819000"/>
            <a:ext cx="0" cy="40032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47640" y="3384720"/>
            <a:ext cx="0" cy="414000"/>
          </a:xfrm>
          <a:prstGeom prst="line">
            <a:avLst/>
          </a:prstGeom>
          <a:ln w="572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662040" y="490536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ustomShape 8"/>
          <p:cNvSpPr/>
          <p:nvPr/>
        </p:nvSpPr>
        <p:spPr>
          <a:xfrm>
            <a:off x="790560" y="4746600"/>
            <a:ext cx="78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роизводственный контроль, включающий проведение лабораторных и инструментальных исследо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ustomShape 9"/>
          <p:cNvSpPr/>
          <p:nvPr/>
        </p:nvSpPr>
        <p:spPr>
          <a:xfrm>
            <a:off x="76320" y="57150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Ответствен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за организацию питанием возлагается на </a:t>
            </a: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Calibri, sans-serif"/>
              </a:rPr>
              <a:t>руководителя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2"/>
          <p:cNvSpPr/>
          <p:nvPr/>
        </p:nvSpPr>
        <p:spPr>
          <a:xfrm>
            <a:off x="-3240" y="0"/>
            <a:ext cx="9147240" cy="685800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3840" y="228240"/>
            <a:ext cx="817236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нформационно-просветительская работа по формированию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культуры здорового питания</a:t>
            </a:r>
            <a:endParaRPr b="0" lang="en-US" sz="2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914400" y="1066680"/>
            <a:ext cx="792468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Общеобразовательная организация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овместно с организатором 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питания, общественными и иными заинтересованными организациями (сообществами) осуществляет информационно-просветительскую работу по популяризации школьного питания и формированию культуры здорового питания любыми доступными способ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организация </a:t>
            </a: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«горячих линий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» по вопросам горячего пит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акции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 для детей с родителями с целью повышения имиджа «школьной столовой», в том числе через разъяснения состава школьного меню, выбора продуктов питания, изготавливаемых блю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31859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диалоговые площадки </a:t>
            </a:r>
            <a:r>
              <a:rPr b="0" lang="ru-RU" sz="1800" spc="-1" strike="noStrike">
                <a:solidFill>
                  <a:srgbClr val="31859c"/>
                </a:solidFill>
                <a:latin typeface="Calibri"/>
                <a:ea typeface="Calibri, sans-serif"/>
              </a:rPr>
              <a:t>по обсуждению роли «домашних привычек» в питании, необходимости качественного дополнения рациона школьного питания составом домашних блю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Размещение информации в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средствах массовой коммуникации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Calibri, sans-serif"/>
              </a:rPr>
              <a:t>, в том числе на  официальных Интернет-сайтах шк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Arial"/>
              </a:rPr>
              <a:t>Проведение и освещение мероприятий, направленных на формирование культуры здорового питания в семье в рамках реализации проектов «Здоровое питание от А до Я», «Основы здорового пита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62120" y="1143000"/>
            <a:ext cx="0" cy="8380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762120" y="269568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62120" y="47815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762120" y="5467320"/>
            <a:ext cx="0" cy="39996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609480" y="996840"/>
            <a:ext cx="815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Цель</a:t>
            </a: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– научить взрослых и детей управлять своим здоровьем и телом, осознанно подходить к выбору продуктов питания и обращать внимание на количество и качество потребляемой пи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тражает современные тенденции правильного питания детей и психофизиологические аспекты ожирения у детей, способствует формированию правильных пищевых привычек у детей в сочетании с освоением и применением ИКТ в образовательном процесс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ует требованиям ФГОС НОО на основании 5 самых популярных УМК для использования на уроках «Окружающий мир» или на внеурочных занят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тей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уроков по здоровому питанию в начальной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одителе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нлайн-курс по вопросам правильного питания, механизмам формирования здоровых привычек у ребенка через увлекательные интерактивные уроки о вредности снеков, фастфудов и газ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: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zdorovoe.men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латфор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ustomShape 4"/>
          <p:cNvSpPr/>
          <p:nvPr/>
        </p:nvSpPr>
        <p:spPr>
          <a:xfrm>
            <a:off x="365040" y="182520"/>
            <a:ext cx="841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роект по внедрению интерактивного курс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«Здоровое питание от А до 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ustomShape 1"/>
          <p:cNvSpPr/>
          <p:nvPr/>
        </p:nvSpPr>
        <p:spPr>
          <a:xfrm>
            <a:off x="8778960" y="6615000"/>
            <a:ext cx="3650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36:38Z</dcterms:created>
  <dc:creator>Веселин Роман Андреевич</dc:creator>
  <dc:description/>
  <dc:language>en-US</dc:language>
  <cp:lastModifiedBy>User</cp:lastModifiedBy>
  <cp:lastPrinted>2020-08-15T11:46:40Z</cp:lastPrinted>
  <dcterms:modified xsi:type="dcterms:W3CDTF">2020-08-15T11:48:14Z</dcterms:modified>
  <cp:revision>358</cp:revision>
  <dc:subject/>
  <dc:title>Основные показатели прогноза социально-экономического развития  Тюменской области на 2017 год и на плановый период 2018 и 2019 год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3-27T00:00:00Z</vt:filetime>
  </property>
  <property fmtid="{D5CDD505-2E9C-101B-9397-08002B2CF9AE}" pid="3" name="Creator">
    <vt:lpwstr>Microsoft® PowerPoint® 2016</vt:lpwstr>
  </property>
  <property fmtid="{D5CDD505-2E9C-101B-9397-08002B2CF9AE}" pid="4" name="LastSaved">
    <vt:filetime>2019-04-02T00:00:00Z</vt:filetime>
  </property>
</Properties>
</file>