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364-6605-4603-9BAC-EE591B50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E16-BC70-4B71-BF52-A2DBE058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E59-2A14-4D36-9962-DD398F38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229-6BA7-4DA3-B5AC-EA141D9F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6A14-699C-443F-903C-7585D61D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3F8F-7C48-42B2-AD0F-A4F66A69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BD76-D52C-45FF-B9CC-2227635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A2AF-369E-4767-B613-5496143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0EE-8CA4-4B90-B8E7-BFEFCA3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9198-D85E-42FB-A395-021D9F40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764-A04A-4BA4-8B62-F346BC4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6BA-4CED-4705-A2E1-CA20C26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C91F-754D-4DFD-AE26-15DEECD6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F6AB-AC14-4D8C-95CB-63A877C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6E69-0DA1-42F2-803E-3AC255F2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DD7-245E-4B2D-966A-F6475058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3801-56BF-40F1-B629-08606028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4649-0C31-4B94-8A48-7E2B4AD8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33FC-0156-401C-88B8-28D105F6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885F-FCF7-4F4C-865E-939EC6C7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85FE-1F3C-422F-A079-8E28B65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737A-471E-4D4C-BF53-18198AEB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C83-FB0C-4930-81D0-C62A7A20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9900-3876-492B-8880-57B43B6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34E8-356D-4793-81F6-59821A3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F955-D375-4833-AB68-276ABBE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FA9B-0208-489B-A86A-1FE44145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DD98-CF3B-432D-AFE4-E48AE790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0235-48B2-48B8-91E0-CAF8DFEB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2395-7282-409D-A4B9-E7B49328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624C-9447-4E52-B463-CC3BEC28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8C97-9CB6-4F94-8A16-C3083E2C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0A93-FB2C-4D91-9F07-F7528DE4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6C3-137F-44B8-AED8-C602311F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DA80-287C-4F8C-BAA7-98BA7A52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B267-7F97-4623-A3EF-F433294C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1D72-766B-474A-A002-E2DBA0CC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8C9B-43C9-4D14-A7B8-59E7EB9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97FE-93B6-4C48-9B2A-3821EED2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05BE-FFA5-4520-9005-1294407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806C-D0AA-47A8-B5CC-43D0D4B8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EA40-894B-4D1C-86F9-48F38ED7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D477-6808-4A71-9914-A7D0A728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4EA4-FFD3-431A-8B12-13AE0453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931-4260-458F-B94F-9BCACCDC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BD75-A2FF-464B-9ED2-B4B30CA2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2D92-1D3B-4CCC-8ECE-EF69A2A4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2564E-1EBB-40E3-9F87-7661E373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BD6C-EDB0-41EE-8C8E-C3262059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8126-AED1-4608-87C8-A662F4CD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97B4-F0C0-4B02-98A2-FF8F2F0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117F-2C9B-4B06-89E7-29BD721E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4AB6-B9D4-4056-BF7D-75A9C83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1893-A7B6-4052-A8BF-B87FC67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E792-731B-4855-89B7-A04E5FFA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E4B-2CAE-411C-9FDD-778F9DC8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B039-6FE9-4C9B-AE97-A7045F76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3BDE-9E65-4091-96D8-5BB5377A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DFE07-D960-467F-9831-F9DAAB1E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3697-8262-4258-9175-D4ABBB0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AC543-C7C6-42BE-89E7-72DB3E65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709D-C4F4-43B1-8F2B-53DD98B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EC65-CE16-4073-999D-65B3616D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67DEA-6795-4543-8487-7B5AF6DA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82991-3222-4CAA-97E7-5936E11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909D-3360-4102-8EFD-E807F81B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18B-9F81-480F-8F38-6DAE5C19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F66AA-2FE2-457F-ACCF-DE65719C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6EDA2-E56C-4606-9B21-71E30584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13F0-3BAD-49EE-9DB1-D8C3BC9A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C782-A128-4DF3-9E84-718A8151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DDC7B-4125-4B6E-8C7B-6A268276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CD422-C38F-45F6-9D91-F0172948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DFE55-2706-4509-B42D-7DE9A5C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05C99-AC4B-4C55-8CF6-8E5474D5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DB1DC-68AF-4D5F-9C64-8D40F7E3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550B3-74D6-454F-85EF-9104D2E0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7B4-EC16-43DB-AFEA-524B37B9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EAFCA-CAA1-48F5-8F42-A35AB33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B035B-0989-4D50-B045-7E7FD93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B5A8-355B-4801-B09B-91166EDA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686BE-91FB-488D-8C14-4D50C661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D3D44-76CE-4FC9-88BB-F8FBCD28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B6F-CCAF-45BC-A401-9A6E05D2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D48-DA33-49D7-937D-4BE0A2D90411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67C7-A8B6-449E-A04A-E6D2DD995E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ABD1-0B31-4970-A0BF-77DD404005F5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9900-44AD-4D09-8588-8D75CE7FD1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AB10-60D8-49F7-AC4F-A4D4EB57BF80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CD87-B412-48B8-A695-A9ED13F487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D79E-A1F5-4831-89BD-6DBCCBBAB0A0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3C68-C0B2-437E-926E-7A8286D1AA1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FC68-1C11-4C0E-A5E4-D18DD60353A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D823-C1DE-4496-8894-EED557049F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0EB5-15AA-4543-BE59-672C73E0B9BE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A157-38DE-403A-BD13-FAE1BB4776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AE74-2B99-45CF-B62A-7D964186C050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101C-9142-4159-8C52-D7461B759A7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Ольга\Desktop\i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3"/>
          <p:cNvSpPr/>
          <p:nvPr/>
        </p:nvSpPr>
        <p:spPr>
          <a:xfrm>
            <a:off x="114300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истые руки – залог здоровь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"/>
          <p:cNvSpPr/>
          <p:nvPr/>
        </p:nvSpPr>
        <p:spPr>
          <a:xfrm>
            <a:off x="914400" y="152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Tahoma"/>
              </a:rPr>
              <a:t>Чистые руки – залог здоровь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Рисунок 10" descr="F:\DCIM\100CANON\IMG_1318.JPG"/>
          <p:cNvPicPr/>
          <p:nvPr/>
        </p:nvPicPr>
        <p:blipFill>
          <a:blip r:embed="rId1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Ольга\Desktop\detskie-kartinki-dlya-prezintatsiy-13344-large.jpg"/>
          <p:cNvPicPr/>
          <p:nvPr/>
        </p:nvPicPr>
        <p:blipFill>
          <a:blip r:embed="rId2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" descr=""/>
          <p:cNvPicPr/>
          <p:nvPr/>
        </p:nvPicPr>
        <p:blipFill>
          <a:blip r:embed="rId3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Рисунок 1" descr=""/>
          <p:cNvPicPr/>
          <p:nvPr/>
        </p:nvPicPr>
        <p:blipFill>
          <a:blip r:embed="rId2"/>
          <a:stretch/>
        </p:blipFill>
        <p:spPr>
          <a:xfrm>
            <a:off x="1371600" y="586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609480" y="1066680"/>
            <a:ext cx="8305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Calibri"/>
              </a:rPr>
              <a:t>15 октября – Всемирный день чистых рук. </a:t>
            </a:r>
            <a:r>
              <a:rPr b="0" lang="ru-RU" sz="4000" spc="-1" strike="noStrike">
                <a:solidFill>
                  <a:srgbClr val="444444"/>
                </a:solidFill>
                <a:latin typeface="Candara"/>
                <a:ea typeface="Calibri"/>
              </a:rPr>
              <a:t> Этот необычный праздник был придуман десять лет назад, чтобы предупредить людей о неприятных и даже опасных последствиях несоблюдения простых правил гигиен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609480" y="10666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Знаете ли вы, что: на наших руках от кончиков пальцев до локтей может находиться от 2 млн до 140 млн бактерий; на руках бактерии и микробы могут оставаться живыми до 3 часов; мокрые руки передают в 1000 раз больше бактерий, чем сухие; под часами или браслетом на руке прячутся миллионы 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имптомы болезней «грязных рук» боль в животе; частая тошнота, рвота; воспалительные заболевания желудочно-кишечного тракта; утомляемость, раздражительность, тревожный сон; аллергические состояния; резкое снижение массы те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огда следует мыть руки: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работой с продуктами питания (особенно тщательно перед разделыванием мяса и после него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, как приниматься за ед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осещения любых общественных мест: магазинов, детской площадки, автобусов и другого транспорт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рикосновения к деньгам – на них скапливается максимальное количество бактери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физического контакта с животными или их отходам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того, как убрали квартир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на руках есть любое очевидное загрязнение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до и после любой медицинской процедуры: обработки ран, перевязке, массаж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 как ставите  линзы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возвращения домой с любой прогулки, даже если не посещали общественные места, поскольку в любом случае, прикасались к кнопке лифта, перилам или ручке входной двер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контакта с больными людьми (в особенности, болеющими инфекциями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вы чихаете или кашляете, прикрывая рот рукой. Бактерии осядут на ладони, их нужно обязательно смыть, чтобы не заражать других людей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85640" y="3352680"/>
            <a:ext cx="408636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485640" y="228600"/>
            <a:ext cx="8209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1 ФБУЗ «Центр гигиены и эпидемиологии в Тюменской области» посетили корреспонденты тюменского интернет издания «72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» с целью – проверить чистоту рук и предметов ежедневного пользования. После небольшого инструктажа посетителей сотрудники лаборатории отобрали смывы со всех поверхностей: с мобильного телефона, с грязных и чистых рук, с фотоаппарата, с компьютерной клавиатуры, с бумажных и металлических денег. Смывы с поверхностей помещены в пробирки со стерильными питательными средами для ускорения роста микроорганизмов, если таковые обнаружатся в исследуемом материа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79920" y="335268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7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47840" y="3184560"/>
            <a:ext cx="408600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F:\DCIM\100CANON\IMG_1326.JPG"/>
          <p:cNvPicPr/>
          <p:nvPr/>
        </p:nvPicPr>
        <p:blipFill>
          <a:blip r:embed="rId4"/>
          <a:stretch/>
        </p:blipFill>
        <p:spPr>
          <a:xfrm>
            <a:off x="485640" y="152280"/>
            <a:ext cx="4010040" cy="29289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7" descr="F:\DCIM\100CANON\IMG_1300.JPG"/>
          <p:cNvPicPr/>
          <p:nvPr/>
        </p:nvPicPr>
        <p:blipFill>
          <a:blip r:embed="rId5"/>
          <a:stretch/>
        </p:blipFill>
        <p:spPr>
          <a:xfrm>
            <a:off x="4579920" y="152280"/>
            <a:ext cx="412452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так, что же у нас получилось? Как оказалось, самыми грязными, судя по результатам нашего эксперимента, оказались руки после поездки в автобусе.  Кроме того, специалисты обнаружили на ладонях стафилококк гемолитический, который является опасной, но довольно распространенной бактерией. Сделав смыв с фотоаппарата, лаборанты увидели золотистого стафилококка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51360" cy="38102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2" descr=""/>
          <p:cNvPicPr/>
          <p:nvPr/>
        </p:nvPicPr>
        <p:blipFill>
          <a:blip r:embed="rId3"/>
          <a:stretch/>
        </p:blipFill>
        <p:spPr>
          <a:xfrm>
            <a:off x="4408560" y="1295280"/>
            <a:ext cx="4278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w072003004</dc:creator>
  <dc:description/>
  <dc:language>en-US</dc:language>
  <cp:lastModifiedBy>user</cp:lastModifiedBy>
  <dcterms:modified xsi:type="dcterms:W3CDTF">2019-10-07T11:28:00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