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CCE-07F7-481C-8474-70658F043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E82-F82C-49CA-9A3B-5595F64605EC}" type="slidenum">
              <a:rPr b="0" i="1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F4E-E668-4A5F-8EDD-E84154D7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EDE-A131-475C-8AC5-B3BA757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1E2F-F094-4D44-9924-D9AEAA6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90227-AF45-4CCA-B274-F1EC38AD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90804-4001-42EF-B868-199DA66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F5E4-55E6-462F-BF07-72E2807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6F58-2E66-40F2-8810-B9CD26D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CC560-ED28-4F9D-9A2A-FDD248F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DB981-15CD-42FA-89D4-DB6179D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ED4C-1B26-4E47-819D-BAA25AAE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87165-D76A-480F-8004-CAC9F220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CBC8A-E72A-4988-AFAB-E4CD8F29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0A6-FA95-4CDD-B08B-85446FBC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0B7E6-5412-4DA3-9F7D-C8F39F8E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7F994-F47E-4D8A-9F17-22DFE36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204B7-C449-4E9D-9CB0-DC251268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EFD8-394A-4700-8B2F-B192274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9792-D227-44F8-BEA8-EC2A6A9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79816-E2D6-4D8E-99D6-443112E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68B0B-A310-423B-BDE6-D60189A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A2A4C-B0CB-4005-B7BC-A48690A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9356-F4BC-4198-9856-B2AA5B3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94C5F-3416-40E1-8DBA-F35438C9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708-D0BD-4A1A-9FB9-5434DEE8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4756-94C7-43BC-AF5B-17D9378D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0E0C8-9270-433B-B90B-B75424CC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A68EC-44C7-4CD5-8F8A-52D295E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BEE9A-495D-42F9-BBBE-624187A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38E7F-1E18-45E3-86A8-B6327A2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54430-594E-4DC1-888D-EB211DC5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0A2D4-128A-45EE-A4B8-FF347511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1310E-D011-4030-8D58-C8E8715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1F916-3304-478B-8507-7EB7F78D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96600-161C-4034-8292-1AE6E39A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6A3F-A6D3-458A-ADDE-66C6692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C2033-1315-4461-BCF8-9E20ABD1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DEC79-66E0-44C0-8619-5F8068E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79A-F529-47DA-8C95-F464A674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9A9-5D6D-4FA4-B862-B8F027E6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51D-BF7D-4CB1-83E0-2A5B2D6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980D-C782-4C6C-86D1-23FAE88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DCC-E358-4B1C-B692-402EE47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FBB1-8184-42B1-89D5-10935DCF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64B-2FB8-4A47-AD41-B8D9D3F1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510-72EC-4BC4-A59E-9BA2305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C1B-BC53-409A-8771-3C6FD141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43B4-B40C-4AEC-A3E4-3F8DCCF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FD1-42E7-431C-92C5-9421812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D620-6446-4686-A368-386FD30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6FEE-5447-4F71-9231-F0268A1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BE5-FD1B-4295-85D3-70FC23F9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E140-3EA4-4D53-B287-73D53964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B520-3664-4A6A-ABB5-F2DA879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8D0E-8BE1-47D1-A56C-1A23E403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CD4-671B-4A4C-8DB5-D335EB43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CE65-9652-4CE7-A946-1BC5338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D0B7-FA53-489E-A1F3-2E059BBB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B06F-AD30-4CCC-8DEC-DA858D1D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D2A5-420C-4DE3-BC6A-78A3473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BDA7-56CD-4E26-95BE-24F06D6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D14D-3976-45AC-83A1-CCD98B9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A565-6C35-4C59-92E7-C08E159D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772A-D5F5-4677-9F68-E121FF0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E68F-3FF5-46DD-8E4F-C884021B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0AE2-446A-4511-89E9-54492953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BDC-9B45-4831-BA1C-F563A0D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9F4A-16A4-404E-967B-BA719AA6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F277-975B-4123-812F-50DA3762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97B87-3155-41FA-A7C7-F32C2CE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8802-2131-42A9-A7F2-36A59AB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5FE8-1C3B-43F8-A6CB-0257899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835CF-440D-4D61-BE20-6FBA5D7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2FDB-64D5-4B1A-8706-6B1CE96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C7BF-BA79-4529-A579-E6B23EC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E72F-47A0-46D0-B3CD-D2676D80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DE14-A69C-4588-ABAE-8BF1C926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3AA-6A36-4D56-9315-610FCC2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BC91-F98A-4E14-A9AA-D522EF4A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6CAA-B4EB-47C0-B55A-124A8F02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5ACA-821F-41BD-A8C9-6BDF171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C05C2-8C7E-4C7A-B9FF-5CAAAC55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635A-0057-48EB-AEAD-6CA049AE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0B6B-A394-4087-8D84-30F3E56C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42BA-F9E8-4B8C-9932-D9A8405E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D715-4048-4C38-8DA7-C50CA4B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275A-DAD2-46C8-9E3F-1BA9C0C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D56FB-2774-4373-A9A2-59B1BF8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0A2-7C8F-4A54-9EB2-BA01440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B792-9437-4025-8A32-903E46B9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B1D34-834C-4AA9-B203-F1BC4B9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6452C-932F-4435-988B-06E60CC8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B57B-9EC4-401F-ADA8-8274616C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DC6F-6456-4166-886B-7AB207C3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EE26-D26D-416D-B0F0-2E0BC34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ED4A-0C82-4078-B00D-8A9B9C91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7D7C-BD25-4418-875B-6B5863D7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FBA2-C610-4541-8014-7D6D5A6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385B-321B-4223-B742-08F81ACC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D4B-7AE3-4252-8D9D-F198339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928F-7E55-4F2C-A9C9-66A9C40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8023-CA89-47C5-9C81-24C516F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AC59-C171-4335-871C-AF82519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0591-3E20-4E8E-A1C5-22B584F4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B141-0614-4699-8717-6A4DA2F5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1968E-B360-4DF4-8751-0880B837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E18F3-90FC-4451-BB98-DDD0E90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2D55-FBC6-4B25-8A3A-A497F50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9903-2CF3-48AB-8852-825FFC92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EF4A-BFB4-4C0F-AE62-835C336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A5F-4DB4-4DC3-9B37-3B4A2B33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2B55-38E6-49A2-B9F7-50A57EDC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F0AD3-4749-4DED-9442-81731E81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08C7-193B-41DB-AD05-24FF866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0280-742E-4802-B14F-CDACAA4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E360-C41E-49CA-AF1F-AEAAC7B0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7467-1BA5-43D1-A2A3-90572DA4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054B4-EA6D-45A8-ADB1-7C63322D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8C27A-3358-48E4-8771-AD297288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5774-788A-4CFF-881F-2CD9B6C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5668-97C1-4ED1-A6C2-5A63BB4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1EFD-DC81-4130-8189-7D48D9900C1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3DC2-CCE7-4B13-8C7C-6C85DC1F88B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344-37C2-49FC-8C35-E60DAF042C5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D08-8BD5-42B7-A1DD-607B5E8FC9C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553-6C73-4EDD-A5DB-F11D5DCE209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6B9-6679-4D5F-9749-714988FE307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7984-2F5B-44E8-A7E1-24C401ACF0A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FD91-0AC0-4D56-93A8-7E64722779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80A6-8209-4553-A137-8B0C94A99A5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68DF-C1B9-4429-81DF-DF621D0C748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  <a:ea typeface="Arial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4" descr=""/>
          <p:cNvPicPr/>
          <p:nvPr/>
        </p:nvPicPr>
        <p:blipFill>
          <a:blip r:embed="rId1"/>
          <a:stretch/>
        </p:blipFill>
        <p:spPr>
          <a:xfrm>
            <a:off x="4498920" y="274680"/>
            <a:ext cx="4187880" cy="5888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0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  <a:ea typeface="Arial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  <a:ea typeface="Arial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  <a:ea typeface="Arial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User</cp:lastModifiedBy>
  <dcterms:modified xsi:type="dcterms:W3CDTF">2015-11-30T11:02:29Z</dcterms:modified>
  <cp:revision>122</cp:revision>
  <dc:subject/>
  <dc:title>Беседа о толерантности  для учащихся 1-2 класса.</dc:title>
</cp:coreProperties>
</file>