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B8C-820E-4FD5-8A0C-D84105DB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EBE-4DB4-4F68-92BC-3BB88974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D49-2A91-4A8A-8461-EE38182B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D94-B565-444C-8F32-C17A657B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6F0D-A549-467C-9332-FD6D8F17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BF29-5D3A-4DD7-A184-8B36D84A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8E9A-7C9A-4514-8A7F-B42D1E6F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6CAE-6EEB-4321-96F6-1A5FFDD2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3D86-6847-452E-ABF6-B00E6D67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9E3E-3B6E-4A5F-9AE3-4D19C646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AB0A-A254-4338-8AD4-A8C905C3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49D-D961-4010-A4BC-776C28E3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EC83-CAB3-4166-8517-021355C6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D932-8F34-4769-B779-D4C44D3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B8DB-596C-481C-A944-B1612DB0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5D59-C4E1-4CD0-B83B-149CBAB9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2B46-0776-4319-AD9E-F4E455BA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2FB7-D2B9-4AC3-8F7A-AF40C0A5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95E2D-1392-4662-BCEB-BC47A6D7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CC12-57C9-4A41-B0A7-AA7122E2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2DEF-2EAD-4406-B13A-76458EE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ACAAA-AC40-44A2-B33F-3CF5957C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B9E-E538-4C08-9E7C-5BCA9EC3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21DE-87FE-46DF-9331-D45E1639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4575-00B1-489F-BF78-5902EAAA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B9595-E4A0-447E-B588-C2123F6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A967-DDBC-42E8-92ED-72ABF609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6ED42-BC76-4BDD-9D20-03CD8EE3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321B-3D4F-4A61-A343-8E12A0C6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29B6D-DD9F-44F2-9E50-E4077155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0B4C-21DE-44C5-A81F-66FAA3D7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BCDCE-D997-4AC2-B4A1-7403E294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AC75D-747D-455E-944E-1DE181D9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BFF-8211-4792-8892-A462A0BD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A377A-36B0-4233-A279-2FC460C0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EC95-7311-4DA4-80B2-A0B38028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17942-932D-40AD-A5C5-37D5EFF8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7611D-1C7A-4FCE-8088-E5DB682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6BCF-E36A-47B7-B5F1-3A7E011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73EB-470F-43F8-9396-503CF39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A92BD-F723-4430-99AA-CA205486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9678C-A87C-4A11-B716-8715EC58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ABF3-0A4E-464A-8111-0C9F3366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C672F-7388-4362-9067-154D1411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51B-788C-429A-A2DA-4156DD48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A042-E147-459A-A5C6-F2694AC9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02E5D-B83E-4553-A301-A9CE2449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6E42-1532-49E1-B045-CA338B93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ADE0C-41E7-493B-8E40-6D370322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601A1-161F-428A-A32F-8D3DE6A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959C-88F0-4584-8B86-95C2C6CE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FE0D6-6796-46CD-9A31-8D888EA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B86EA-CA9F-4041-A21F-BF342A3F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2B427-0D25-4396-9DBC-74E4A98F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1BA64-293E-4C1F-996C-77DE934D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C1F-807C-4725-BEA9-942D3766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62091-72B6-4F9B-A018-92E19DDA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8EBC-3365-42E2-B104-D61BA52D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FCF97-B57C-4D3F-8F04-FAF74E22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A552A-4858-4A66-8BA2-A4B3680E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06E8C-D1BF-413B-AECA-EB1F1B91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3C6DA-4C54-46E7-BC70-FDF21E9F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F4215-54D5-47E7-B938-969697BE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29FA5-FE7E-4149-8C97-B72DA7FA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5112F-CF58-4325-957B-3629495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044E8-9F85-46A8-A83E-4E66B11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248-7FE0-4E9F-9DBC-19BF0CCA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A4B82-72C7-40D2-9A72-805B513B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F90C3-C2A7-4E8A-AC07-9BD43B8D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1DD8-3F2D-43E1-A853-149ED77C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3AD15-D880-4712-AF90-F06448C9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156B3-CA14-4D83-9941-991A24A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1221-B3BF-4C7D-9DC6-62BFC78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D66B-AA85-4BA0-AA41-F8E7AF93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48549-1179-4981-8F37-850B6A3B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98A1A-8A77-473D-BC8C-A907CB41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E8970-10B6-4BA9-8293-7105860C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60B-3189-4165-937F-3C34E42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55596-1112-4B53-9BEC-A367D645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7AE27-5F7B-4CF8-B32D-0E01B4B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3D112-B213-4AEB-B161-C4B499E2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0EBC3-D28A-4022-BF2D-AA3E0C88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7FA9C-8E5B-43F5-AE06-8C61B3C3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F6F-0E79-4A36-B96E-F1C3561B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F176-6EBC-426F-B09E-15AE4A28EFF5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28DA-5040-407D-AA2B-25496BFEA9C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31BC-D6E1-48F2-A9EA-C1B5D371211A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7C6B-05D4-49DF-9427-0C441CE9E9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4835-743D-4FF4-A14A-8618AC5DC99A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2762-EA6D-4CE5-A02B-142ED000E94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0191-6A8E-4A31-B050-1DD90CC6B323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B1F8-6A58-4A71-B7E5-936CE0E4210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5CCE-0628-443A-BC20-A0C31303CC89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BC5-C140-49F8-A7A2-623DD43C86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0054-9B26-4604-B6EA-A5291ED30D38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5230-4661-43B1-8D75-09E95F41C6B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2745-A6DC-488B-A533-2CECD0A7B4DB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38C8-92EA-42AD-A2E6-65EAC24B4E8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C:\Users\Ольга\Desktop\i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3"/>
          <p:cNvSpPr/>
          <p:nvPr/>
        </p:nvSpPr>
        <p:spPr>
          <a:xfrm>
            <a:off x="114300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Чистые руки – залог здоровь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"/>
          <p:cNvSpPr/>
          <p:nvPr/>
        </p:nvSpPr>
        <p:spPr>
          <a:xfrm>
            <a:off x="914400" y="1522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83f4"/>
                </a:solidFill>
                <a:latin typeface="Tahoma"/>
              </a:rPr>
              <a:t>Чистые руки – залог здоровь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8" name="Рисунок 10" descr="F:\DCIM\100CANON\IMG_1318.JPG"/>
          <p:cNvPicPr/>
          <p:nvPr/>
        </p:nvPicPr>
        <p:blipFill>
          <a:blip r:embed="rId1"/>
          <a:stretch/>
        </p:blipFill>
        <p:spPr>
          <a:xfrm>
            <a:off x="4589640" y="31924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Ольга\Desktop\detskie-kartinki-dlya-prezintatsiy-13344-large.jpg"/>
          <p:cNvPicPr/>
          <p:nvPr/>
        </p:nvPicPr>
        <p:blipFill>
          <a:blip r:embed="rId2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" descr=""/>
          <p:cNvPicPr/>
          <p:nvPr/>
        </p:nvPicPr>
        <p:blipFill>
          <a:blip r:embed="rId3"/>
          <a:stretch/>
        </p:blipFill>
        <p:spPr>
          <a:xfrm>
            <a:off x="4680" y="0"/>
            <a:ext cx="9139320" cy="6861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3" name="Рисунок 1" descr=""/>
          <p:cNvPicPr/>
          <p:nvPr/>
        </p:nvPicPr>
        <p:blipFill>
          <a:blip r:embed="rId2"/>
          <a:stretch/>
        </p:blipFill>
        <p:spPr>
          <a:xfrm>
            <a:off x="1371600" y="58680"/>
            <a:ext cx="6705720" cy="6705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2"/>
          <p:cNvSpPr/>
          <p:nvPr/>
        </p:nvSpPr>
        <p:spPr>
          <a:xfrm>
            <a:off x="60948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Прямоугольник 1"/>
          <p:cNvSpPr/>
          <p:nvPr/>
        </p:nvSpPr>
        <p:spPr>
          <a:xfrm>
            <a:off x="609480" y="1066680"/>
            <a:ext cx="8305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  <a:ea typeface="Calibri"/>
              </a:rPr>
              <a:t>15 октября – Всемирный день чистых рук. </a:t>
            </a:r>
            <a:r>
              <a:rPr b="0" lang="ru-RU" sz="4000" spc="-1" strike="noStrike">
                <a:solidFill>
                  <a:srgbClr val="444444"/>
                </a:solidFill>
                <a:latin typeface="Candara"/>
                <a:ea typeface="Calibri"/>
              </a:rPr>
              <a:t> Этот необычный праздник был придуман десять лет назад, чтобы предупредить людей о неприятных и даже опасных последствиях несоблюдения простых правил гигиен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2"/>
          <p:cNvSpPr/>
          <p:nvPr/>
        </p:nvSpPr>
        <p:spPr>
          <a:xfrm>
            <a:off x="609480" y="304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Прямоугольник 1"/>
          <p:cNvSpPr/>
          <p:nvPr/>
        </p:nvSpPr>
        <p:spPr>
          <a:xfrm>
            <a:off x="609480" y="106668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Arial"/>
                <a:ea typeface="Times New Roman"/>
              </a:rPr>
              <a:t>Знаете ли вы, что: на наших руках от кончиков пальцев до локтей может находиться от 2 млн до 140 млн бактерий; на руках бактерии и микробы могут оставаться живыми до 3 часов; мокрые руки передают в 1000 раз больше бактерий, чем сухие; под часами или браслетом на руке прячутся миллионы 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52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имптомы болезней «грязных рук» боль в животе; частая тошнота, рвота; воспалительные заболевания желудочно-кишечного тракта; утомляемость, раздражительность, тревожный сон; аллергические состояния; резкое снижение массы тел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Когда следует мыть руки: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работой с продуктами питания (особенно тщательно перед разделыванием мяса и после него)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тем, как приниматься за еду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посещения любых общественных мест: магазинов, детской площадки, автобусов и другого транспорта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прикосновения к деньгам – на них скапливается максимальное количество бактерий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физического контакта с животными или их отходами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того, как убрали квартиру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если на руках есть любое очевидное загрязнение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до и после любой медицинской процедуры: обработки ран, перевязке, массажа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еред тем как ставите  линзы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возвращения домой с любой прогулки, даже если не посещали общественные места, поскольку в любом случае, прикасались к кнопке лифта, перилам или ручке входной двери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после контакта с больными людьми (в особенности, болеющими инфекциями);</a:t>
            </a:r>
            <a:br>
              <a:rPr sz="1800"/>
            </a:b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если вы чихаете или кашляете, прикрывая рот рукой. Бактерии осядут на ладони, их нужно обязательно смыть, чтобы не заражать других людей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2" name="Рисунок 3" descr="F:\DCIM\100CANON\IMG_1308.JPG"/>
          <p:cNvPicPr/>
          <p:nvPr/>
        </p:nvPicPr>
        <p:blipFill>
          <a:blip r:embed="rId2"/>
          <a:stretch/>
        </p:blipFill>
        <p:spPr>
          <a:xfrm>
            <a:off x="485640" y="3352680"/>
            <a:ext cx="4086360" cy="304812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1"/>
          <p:cNvSpPr/>
          <p:nvPr/>
        </p:nvSpPr>
        <p:spPr>
          <a:xfrm>
            <a:off x="485640" y="228600"/>
            <a:ext cx="82090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Calibri"/>
              </a:rPr>
              <a:t>1 ФБУЗ «Центр гигиены и эпидемиологии в Тюменской области» посетили корреспонденты тюменского интернет издания «72.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Calibri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Calibri"/>
              </a:rPr>
              <a:t>» с целью – проверить чистоту рук и предметов ежедневного пользования. После небольшого инструктажа посетителей сотрудники лаборатории отобрали смывы со всех поверхностей: с мобильного телефона, с грязных и чистых рук, с фотоаппарата, с компьютерной клавиатуры, с бумажных и металлических денег. Смывы с поверхностей помещены в пробирки со стерильными питательными средами для ускорения роста микроорганизмов, если таковые обнаружатся в исследуемом материал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Рисунок 5" descr="F:\DCIM\100CANON\IMG_1318.JPG"/>
          <p:cNvPicPr/>
          <p:nvPr/>
        </p:nvPicPr>
        <p:blipFill>
          <a:blip r:embed="rId3"/>
          <a:stretch/>
        </p:blipFill>
        <p:spPr>
          <a:xfrm>
            <a:off x="4579920" y="335268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038480"/>
            <a:ext cx="816120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7" name="Рисунок 3" descr="F:\DCIM\100CANON\IMG_1308.JPG"/>
          <p:cNvPicPr/>
          <p:nvPr/>
        </p:nvPicPr>
        <p:blipFill>
          <a:blip r:embed="rId2"/>
          <a:stretch/>
        </p:blipFill>
        <p:spPr>
          <a:xfrm>
            <a:off x="447840" y="3184560"/>
            <a:ext cx="4086000" cy="30481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F:\DCIM\100CANON\IMG_1318.JPG"/>
          <p:cNvPicPr/>
          <p:nvPr/>
        </p:nvPicPr>
        <p:blipFill>
          <a:blip r:embed="rId3"/>
          <a:stretch/>
        </p:blipFill>
        <p:spPr>
          <a:xfrm>
            <a:off x="4589640" y="3192480"/>
            <a:ext cx="4114800" cy="304812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6" descr="F:\DCIM\100CANON\IMG_1326.JPG"/>
          <p:cNvPicPr/>
          <p:nvPr/>
        </p:nvPicPr>
        <p:blipFill>
          <a:blip r:embed="rId4"/>
          <a:stretch/>
        </p:blipFill>
        <p:spPr>
          <a:xfrm>
            <a:off x="485640" y="152280"/>
            <a:ext cx="4010040" cy="29289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7" descr="F:\DCIM\100CANON\IMG_1300.JPG"/>
          <p:cNvPicPr/>
          <p:nvPr/>
        </p:nvPicPr>
        <p:blipFill>
          <a:blip r:embed="rId5"/>
          <a:stretch/>
        </p:blipFill>
        <p:spPr>
          <a:xfrm>
            <a:off x="4579920" y="152280"/>
            <a:ext cx="412452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512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Итак, что же у нас получилось? Как оказалось, самыми грязными, судя по результатам нашего эксперимента, оказались руки после поездки в автобусе.  Кроме того, специалисты обнаружили на ладонях стафилококк гемолитический, который является опасной, но довольно распространенной бактерией. Сделав смыв с фотоаппарата, лаборанты увидели золотистого стафилококка.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C:\Users\Ольга\Desktop\detskie-kartinki-dlya-prezintatsiy-13344-large.jpg"/>
          <p:cNvPicPr/>
          <p:nvPr/>
        </p:nvPicPr>
        <p:blipFill>
          <a:blip r:embed="rId1"/>
          <a:stretch/>
        </p:blipFill>
        <p:spPr>
          <a:xfrm>
            <a:off x="4680" y="-1764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5" name="Рисунок 1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51360" cy="381024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2" descr=""/>
          <p:cNvPicPr/>
          <p:nvPr/>
        </p:nvPicPr>
        <p:blipFill>
          <a:blip r:embed="rId3"/>
          <a:stretch/>
        </p:blipFill>
        <p:spPr>
          <a:xfrm>
            <a:off x="4408560" y="1295280"/>
            <a:ext cx="427824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w072003004</dc:creator>
  <dc:description/>
  <dc:language>en-US</dc:language>
  <cp:lastModifiedBy>user</cp:lastModifiedBy>
  <dcterms:modified xsi:type="dcterms:W3CDTF">2019-10-07T11:28:00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