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0" y="94312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5"/>
          </p:nvPr>
        </p:nvSpPr>
        <p:spPr>
          <a:xfrm>
            <a:off x="384768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fld id="{6EFFAFC9-2F31-4B00-865A-9E03590FA2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0FC71-7540-4368-B265-23F89439C43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326E5-E7B1-4BB5-8719-3FAF46BD44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ACA-C394-45EC-A7D7-C63AA1D3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192-9053-4165-B995-BC059BF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A3B-A66D-4E01-A951-3FCF4262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87C-4CC2-4335-8C38-8F6D258B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030-62A0-47FB-9EAF-514BBDB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CD3-D152-4745-9B2E-AD8ABB58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89C-6D28-4902-B8AD-A765C08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834-CA29-4BB7-8E48-803A64BB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769-316A-470C-ACCF-465BA89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CE7-F8FC-434D-B0CC-7A14B28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6F2-B744-4BC2-8765-098A127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6A5-6618-45DD-92C6-37477D4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9C6EDE-FEB3-4203-B9BF-A4DC98385732}" type="datetime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2640" y="624492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19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B749C9-02E5-44B7-B78B-2B65DAFA49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250920" y="1915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32B8D2-C08F-4F61-B3AB-D9CC0BD58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520" y="1125360"/>
          <a:ext cx="8642520" cy="49453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циональные исследования качества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.04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борка ОУ определяется Р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ctr" pos="73836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кружающий 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4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250920" y="262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39FBF3-031A-4DC6-B4CD-6CADC1B68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22200" y="1176480"/>
          <a:ext cx="8642520" cy="49831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801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-8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мплексные метапредмет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тательск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-26.02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курс-исследование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нансов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-04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петиционные экза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02.-11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О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Е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 (П, Б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58:48Z</dcterms:created>
  <dc:creator>Vladimir</dc:creator>
  <dc:description/>
  <dc:language>en-US</dc:language>
  <cp:lastModifiedBy>Пользователь</cp:lastModifiedBy>
  <cp:lastPrinted>2019-01-16T16:00:29Z</cp:lastPrinted>
  <dcterms:modified xsi:type="dcterms:W3CDTF">2019-01-28T09:26:54Z</dcterms:modified>
  <cp:revision>1355</cp:revision>
  <dc:subject/>
  <dc:title>Проблемы современной семьи</dc:title>
</cp:coreProperties>
</file>