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notesMasterIdLst>
    <p:notesMasterId r:id="rId40"/>
  </p:notesMasterIdLst>
  <p:sldIdLst>
    <p:sldId id="256" r:id="rId41"/>
    <p:sldId id="257" r:id="rId42"/>
    <p:sldId id="258" r:id="rId43"/>
    <p:sldId id="259" r:id="rId44"/>
    <p:sldId id="260" r:id="rId45"/>
    <p:sldId id="261" r:id="rId46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notesMaster" Target="notesMasters/notesMaster1.xml"/><Relationship Id="rId41" Type="http://schemas.openxmlformats.org/officeDocument/2006/relationships/slide" Target="slides/slide1.xml"/><Relationship Id="rId42" Type="http://schemas.openxmlformats.org/officeDocument/2006/relationships/slide" Target="slides/slide2.xml"/><Relationship Id="rId43" Type="http://schemas.openxmlformats.org/officeDocument/2006/relationships/slide" Target="slides/slide3.xml"/><Relationship Id="rId44" Type="http://schemas.openxmlformats.org/officeDocument/2006/relationships/slide" Target="slides/slide4.xml"/><Relationship Id="rId45" Type="http://schemas.openxmlformats.org/officeDocument/2006/relationships/slide" Target="slides/slide5.xml"/><Relationship Id="rId46" Type="http://schemas.openxmlformats.org/officeDocument/2006/relationships/slide" Target="slides/slide6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dt" idx="115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 type="sldImg"/>
          </p:nvPr>
        </p:nvSpPr>
        <p:spPr>
          <a:xfrm>
            <a:off x="928440" y="74412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 type="ftr" idx="116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6"/>
          <p:cNvSpPr>
            <a:spLocks noGrp="1"/>
          </p:cNvSpPr>
          <p:nvPr>
            <p:ph type="sldNum" idx="117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D473-41FC-4F18-A830-D782E26023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6FF7-9A0B-41CA-A559-76AFEE5DA0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932040" y="746280"/>
            <a:ext cx="4960800" cy="372240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Номер слайда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E9C5-3484-4D70-BD6C-75D4FF7088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75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Номер слайда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4DC8-D99C-49F5-B473-871F221EF4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Номер слайда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4B1F-AAE2-4202-8D7C-4DDB0CEC2F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81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Номер слайда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3D40-F713-4A00-8C71-1025102752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Номер слайда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FF09-DB4A-4C3E-B995-1B3AF83365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02FB1-8C1E-46A0-A71E-6313DAE1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CCE5E-9E2D-41F6-B738-5A0B9B1C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77AC56-4BE8-40EA-9B05-55429A58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58A97F-ACB7-4320-BAD3-E20A99D1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321CE3-4CFB-4DEB-872B-22DB3F5D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0FEFF0-7FD9-4DA4-9704-230C3B7C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17F133-AC24-486A-8CB6-AEEFCAB0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C7BC16-7F2E-432E-96E7-C479F903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EE30F3-3473-44F1-9274-FCD35E41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E366A0-FB5E-443B-B917-12851B57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E8AE76-E4A5-42CB-B7F7-67BC69F0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8F2C18-D9B7-4ECA-8517-591AE6EC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CC14E-189B-4334-B953-497D3E00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52BC23-CE64-4EC2-9C75-CCCCC187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C14CD9-CAD0-4CFB-875F-CF82DB1B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5C167B-BA88-4D2D-9F1F-359F7648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5D0102-795D-4948-9761-67F4F51D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ABCDD5-B3E7-4716-8CC6-02612243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03CCCC-5F35-4CC9-8937-D8A38897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9C53ED-ABA1-431F-93AA-E10E7C13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DCB0AC-4F69-4981-837A-A65640FC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69D96F-96DB-4851-B6F4-5734B353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A9701A-6BAD-41FF-B239-02D3B9E8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9DBB3-C955-4BB1-9BAB-86E184C9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F79447-6345-4080-AAE4-1F8733F1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28573A-F28B-413C-B34E-45736359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F22D32-2757-4566-974B-DBF02B7A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A1DCA1-82E9-4757-BE04-5C2C9503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251392-F8DD-4C19-A19D-8C43F43A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A6F300-F71A-46D0-98F1-22BBA71E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1D12BD-C95D-42AE-B650-3DEEECF2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9B5F80-3779-4307-B3B6-A1809EE4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1E9D50-04BD-4AE6-B9EC-7DC510CD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D8A711-2FA7-4046-9A50-44C0E6BC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3658-3C52-410A-91A0-A379447B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46308F-E470-4CC5-8248-C4602C14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B99774-D1B1-496F-9F9B-118CDD89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22353E-3A69-4E7E-8B86-9D214ED5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D449CE-7AC6-4614-A0E7-BA2B645D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1197C4-AD0C-4B36-903A-D0009B56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92B330-7009-451B-B172-E188D562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B3302D-2A38-431D-B215-CEC401AE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F26CBE-358C-4FE6-A5D1-74A1C0DA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F8D2D4-B2BE-4A60-B96A-3255AD64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28F4D8-4C70-4CBE-B076-8D96676A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D9EF-DBA3-4186-AC78-6530AE90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AE91C1-8D94-4748-8F70-ADDE5BA4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E3E0BB-6E7E-4A1D-930C-E5EA046D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162EB2-9B1A-41C7-8605-94909615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3E207A-4CE2-4519-A097-9EC7F34C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4AFBAA-5E82-4D96-9BDB-6FFBA273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026810-5BA1-4CCC-8F17-698FDFFA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14B5DA-D9F2-4B8B-BCC9-DFC61F5D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B5F173-6C06-4F10-9C5A-54D3351A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07357A-0CD7-41B5-AFBB-D044F61F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8A22BB-CA2E-479A-83FB-A2888BA1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3DBA-418A-45CD-81C0-3DD92CB8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B45D1D-3673-4C58-9A04-C638CC27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438230-0755-4035-8456-F02271B0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119993-0AE9-4862-86A5-94D36B6A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52E82C-FFD2-4609-A872-369A54C4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5F671A-E7AF-4A8A-BA7A-6E42AEE5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22F7FC-3A2A-43C1-AE41-A1CC0546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9AF249-FEAE-4634-8924-C0A3F353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E31C7F5-E170-4946-9E91-321F3C978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A331535-7B8B-4D33-9ECB-DDBD335E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9E748F8-C31F-4ECB-976F-49D78765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4E5E-CBD8-4B82-8B36-56F1A3A8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2A7ABEF-71B9-4BB7-9953-30F309DC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3CBB63F-9B65-41EA-8D33-B46B412E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5FD7BC4-0303-415C-BC6C-A43D7461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241481C-2066-4856-BC0E-992FA461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59D2CF-1B3D-4B61-B966-D2186CCE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3530C2E-5FBC-4BEB-8EDE-1ADA8379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924B77B-2459-4884-87E6-593F9DDA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898487F-52F8-4238-A0B2-852F597E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B5E7072-6C4E-4962-A9F0-BEEC1C07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26BC67-E436-4C89-B577-857CA5E0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C234-F768-4D6A-A884-3E03027C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569F35-0494-4C7D-AE35-20D1A444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EBE15D-BA2E-4581-BD40-999B0BF2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C71311-17D4-46E4-837E-6158057D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5DE436-8084-40BB-A291-6840DC52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62DAEB-1E73-4565-A4F0-A729A37E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F4B9AF-685D-4233-A074-2890E139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C003E8-FE39-4386-9C75-E3EA5271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D7479F-241C-4597-831B-AAEC05A0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62FA99-F616-4EE1-AC3E-F193559C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69187A-5486-4511-9BF6-E0BEA9EC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FC1F-03F6-4CB7-B0E5-6625B6F1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102836-9220-49C4-8394-6424B353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FE3AB5-A1AE-4EAC-81B9-555DCF57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FE4573-0DEE-4604-A6B7-76A59A1F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9B19ED-48B2-4BAA-B269-8867D9B1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6277FE-0977-4CA9-9817-2E7B0234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1E3BFC-569A-4425-AFAA-963687D8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95DAB8-170B-4143-A943-7946EA63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8CDF18-907B-4D56-881F-417EDF1E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6D0A8F-99B1-4DA5-B441-3DBABE03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8CB92F-4E5D-465A-A71A-340B5713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85EF-0C1E-4BA7-935F-E522F0DD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A1E961-D261-4EAE-9116-7738BC77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BF2646-BA10-43D4-BDE3-56F611BA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90EA3A-D451-4E9E-9F1D-98830DC4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94A3F2-A8AB-45D7-986B-1ACB7EFA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AB0CE3-0A3A-42F4-B079-A4AF5934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A42DDD-8F2B-4D7A-87C4-57202DAC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EB88B3-0D5A-45BF-A1BE-E14AFF0E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DFE33F-1936-43C6-8E65-40E665DC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EE0330-8C9D-4421-B3A5-E4821873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5428F8-A49D-43C6-B957-55519E60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6EA05-DB23-4B61-9AA3-21A5B792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E366-5943-452A-AACB-8F24AA52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4F0613-9894-4856-BF3E-89FC861F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403661-AB74-49CB-998B-EBDE9DA3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B2EBDD-1B2C-4E61-8356-7119AE19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250DBA-9996-4AC4-9E9A-97B18253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B58D1F-55FB-46A4-9E85-6078903F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D4008F-5CCB-4750-AF7C-291F7728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99FFB0-A61A-45D1-89BC-0D401CDE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FFB9D5-44CB-4D63-8635-5F69549F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9D14D0-E18E-4805-BFC5-8A7873E1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3DD6EC-826B-4320-91E1-1C86073C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7897-1618-416E-AF65-2F52B65B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8D0037-90FB-4FA3-A7E2-ABF4462A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DE390A-DFE2-4D17-BE2C-2E766E1D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64695D-513F-47C6-A9B2-BDB9CCFC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676EF7-71D4-4C19-96DB-80D734F3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BFFCF6-FBE1-4B77-B261-FACC06CF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061818-15F6-4445-A7D8-4588BD78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CDCA4C-5645-4197-B166-55AC8762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58CF94-123C-474C-AFFB-896FE491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2E83F9-D58B-4235-85EE-B3EB9544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784540-75E3-424F-9E23-8C6D218B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CAF7-8908-4F78-914E-CB17A812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EFF755-5527-4A58-A87C-A59FDD4E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751C93-C97A-4272-95DE-EFD1FCE6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DE6947-EACD-4246-80CC-2BED353A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0B50FD-1EB2-4591-BB34-66917CB2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224D35-F112-4D63-BA78-2F442471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85AA76-955E-4A0D-8E8E-C3C3FCDE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35D045-010B-41EB-A193-5D16B9D2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B667DA-BECE-4182-BA62-6023100A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7AF4C1-3AD5-4D05-913C-89A66C06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C2827F-3253-43B7-8F3F-A25960FB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FABF-DE4B-499B-AFAA-3F6B8658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5AA0A1-946A-4342-91E7-15B8BCEC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D1B27A-72C2-40C7-A0D4-F36F65AC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F58523-8F84-437F-A28A-83AE6972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DC803E-3F2E-417D-8AF5-141B63E1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11A383-BFAB-47FB-B513-DEC2CE94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75CE3B-FBD1-46D5-BF30-EA4FB032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670AF9-C57D-4499-BEC2-106D9956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9D0FB6-C93F-4286-BD5C-6414282A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BF83E6-3328-4515-89BF-EEEDCEA9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399FBA-9C7E-416A-8B27-82B0998D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79BB-C7F5-4D81-87FE-DF463BD6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27F9A4-806B-4E95-BCAB-FB21F13B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775C9B-D7CC-4235-8622-7453E19E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50D3A4-F51E-410A-9BDB-C80C59B1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34353D-9E46-4CF5-85E5-0F21C68D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CA189C-C2A9-4706-9939-2CAE9C2F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B4AECE-2C47-432D-B59B-D480DCF7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9C4407-2339-4A6B-8BFA-0EE669AA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8E04C5-9428-4995-9944-C486724E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EE5A96-E242-4BF8-9EA5-2D9C7E9F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63C399-7322-45A3-B955-9A19D1E9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21669-D7EB-48D3-A5EC-8F0C9550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F162BC-D958-4E3C-AEFB-485AA46B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70219B-4AC4-458F-9699-833B4E75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743835-B2AE-4442-9273-5B6C1A96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13B335-ADB7-4EEB-B3DC-9E996AA7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A9303A-7917-4703-B695-092AC3AE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CB482B-7575-466B-9BD2-111C2D9A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F99E29-8387-42EA-B711-663D0750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C00AE2-A9B5-4CB3-BB54-66BD3849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935661-6CDB-406F-9EEF-DFEADCC6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F4E2EC-E1DF-4B91-AE3B-B550FC4E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6231E-25DF-4143-A492-4AAB9827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6A0E7D-3AA3-4869-92C2-2F64AFC3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90E0D8-11F6-4880-B566-6862054F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EEC6CB-A0E1-4F4C-AA2E-C34031CF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F9BFE3-2C81-45E2-8F5D-5D8ADDEF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F2DE68-9A5C-49F8-B3F8-DDD2692E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FD6234-1633-4583-85D5-A731E450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9C968F-9038-4177-8388-BE7F0BB5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34747E-B9DC-4A32-9C06-56FD4BB5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5688E7-3DF6-434D-9536-624F1600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F67494-83F1-4A50-9673-49389E84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B2FC8-F30C-4D7E-B3A0-C60037BE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B912CF-30F5-40D1-9128-9A080C87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ED3963-268D-4B54-BD03-733B7B7E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669DEC-CDB6-422F-A4FC-36DED930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0307AD-D27F-4FFA-8F66-6CA3F6F0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7228CB-0B47-4539-8B84-D2C93C1E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0C93DA-911B-4478-BA5C-F7BC760E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22393B-BB98-4BBC-AD41-3E3FB8D0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976DEF-8AEE-4DF2-B4C2-2B531E9C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D7EC12-5AB5-4D60-B60F-F02A8373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9D9267-07BD-4752-9F21-3FB5CE2C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A136F-F33D-4598-9ED5-1632781C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7D4425-F3BC-458A-B5E1-979B25A0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C0C165-4D17-462A-B947-009F1EF2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F4BF65-1C12-4097-AE62-5A02D7CE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5E786E-178F-4029-A7D9-B9A06876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BE8EB8-29AE-4BF1-A0C4-6432EE33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B50DBB-C302-43F5-A94C-2ACF550E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8D6DB7-BF95-41F0-8908-5A86202B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E94CF0-FD33-4FC8-975E-4C64CE61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76C798-285E-446A-B489-EBA11217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593F16-934F-4BF8-9BA7-C246F301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56E61-7838-4E63-8C6C-29C3239D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5754B0-6996-49A7-A4E9-57175181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EE8BE2-6BAC-4EB6-9E6C-3EED6703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41568C-043A-40B7-BDCF-0D457B3D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E76C38-F6B6-4135-90A6-501C58C6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8E3B24-0E81-4F98-A398-B123E1E6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1D870D-878A-4FC7-9FFB-FBA441DC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B1C2B7-DE1F-4CA9-8DEF-A0A29BEB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E2096F-70C6-4985-877B-487597C3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533092-E8DF-4415-9BBF-85BF631F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A0CE29-AB75-499C-9210-89E16AC2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E36A7-75A6-4B23-A831-F3C96A8E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02435-4675-4885-9666-2344316C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B9FECA-F917-4EBF-84B8-34CCAA74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10E4CFE-CD16-43B9-BDEA-829B612D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99343AE-AD38-4482-8748-05FE2175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B15C10F-55BF-4CF1-BF7E-88D66944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848F77D-B8A6-4793-BD91-51E8EC9D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25826C9-9C49-4058-890F-DF1E2E64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3D92789-A0FE-42FC-A0D3-77C53912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EB03CAF-03CF-4655-A5EE-4BDFEECC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A77B542-D68A-4404-807F-1160565A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B03B876-121E-453F-BAD0-2FB83C8A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E0E1C-8095-4C6A-A7DE-4A03F7D5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BA67A3E-B51C-4376-8062-A4E57982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5CD5ABF-B2FC-4497-8D31-D0D5B466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7BCDBBE-E56D-4658-86D5-C4F01763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39CDEC-859A-4265-81B1-8CF1DFCE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473CA7-8CB5-46CA-9BCF-973C6A4C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6642FC-C043-4720-BE14-3E3D473B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B97C13-0D6D-4022-8BA9-00903D4B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469168-A37A-400E-A1B3-49327216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2A9FB2-ACCE-4BD1-AFBC-06EC541E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3CC2CA-EE42-4614-9DC0-B7EA4F81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8CA02-14F5-4B99-951A-54B62DA4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C70329-37D4-4940-9243-1D43241A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D8A1CF-A482-4577-AACC-575FB22E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6FA451-89BB-4CCE-A8DE-9112F8DA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611137B-E28C-4A6D-BEED-102B08BA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03DAA2-01EB-4FAD-97F1-19DCC2C4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09002F-75A6-4B6F-9FE9-1FD156D5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B69C50B-B0D1-40F1-B77E-B2F78ECF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A8E3F4-6342-4AA4-9465-52494D2A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283261-089F-495A-934B-5492F4EE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6F632E-088B-43EE-8766-F328042D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2E9E5-4D1C-4CDC-976C-D928259E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24A465-3467-459E-B373-929FE400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C10204-93BD-45AC-B247-B8F121A5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E88941-3826-4A94-B719-5DF4D593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1C4D21-12FE-4CC8-B68F-58E41473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92A65B-005A-4BDA-8340-A5D6A52E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97DD63-4FBA-4A35-8531-6886A07B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5CFD8E-E605-4B51-95DF-F83F6DC3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9A0D545-9453-4BDB-B27D-6CEBCA3D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7BDAD2-F2A7-4CD1-B5A5-9C995369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D9B8CFE-05C0-46D2-827A-FE9964FD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081C2-3BE2-4D03-AF63-6B6620C7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BDCAA66-9518-4133-B672-B4944FA0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01653D-4625-42B5-B5EB-DF4812BC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333FEB-018C-456C-835F-2E0A9032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D604E6-C776-48EB-9232-D054BDF3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8F1FF7-D775-464D-AE6B-C851BDC1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287B05-9172-490C-90A8-42642FDE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7D2F53-3CC4-4749-B7E1-80E8B32D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5267BCE-E6A9-4CA8-9B1E-390921F4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788236C-CDC5-49FB-B3B0-28B201AA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2861B1-8953-47FF-A71A-2C03328E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25234-C7D5-49A2-B4BF-2438F5F3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5A32F3-6A47-4DC0-916A-73D79B54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DF67A6-0AF6-47EA-A0AB-C152173B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10D2D1-B1B5-488B-A413-E6819C15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263EC1-BCAF-436B-B4C3-03B3D1B9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BD4E6D-9EC3-49DB-B239-D641E4AB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9D044B-999F-44AB-83BE-0FE6D912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2C633E2-CDFC-45BA-84B0-113F64D7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9FAD5A-02D0-407C-A8B0-CCCAB289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4AC7FBA-F828-46AD-9295-1F667025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2A4702-5A1F-43BA-AF89-AA5D7342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89E85-1DEA-4156-AF3C-69711B5E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12D4DE-6BB7-4240-A367-5E77B216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E37EB8A-8409-4C32-B0CF-7C06AEED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9984C9-2AFB-4B9B-B572-8A71338B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54E43D-5A22-4F19-80EC-B8FEEEEB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A48E5E-DDD3-4E30-BE2D-024D65D8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169AD8-5E37-4E31-A8D7-ACECFEC9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2924AC-BC1B-449C-B908-805DD74A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048C96-085F-4EF7-ACD0-A4014BB8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928C175-1C02-4C6F-A223-3DC1A42B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2E39CD-650B-4FF1-8190-EDD16684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851DD2-92CB-4D74-963A-2B397215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60A2B40-D967-4E84-95C9-58CCD8D7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83CAF90-FD16-4D3A-820C-6D29C421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7917A27-DBA7-445C-900F-35A3D144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E200878-613E-432A-870B-73AC3E42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284A99A-D859-4BA4-98BA-EF2E85AD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BE4F80C-C1B4-46FC-93E0-B3FB9D05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81223E1-C556-4FBF-940E-3F237259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8F0564B-8834-4D56-8B09-729EFC5E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1C1DA65-A494-446E-A44D-F0DFA1B2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02DFE13-331D-4D52-BFC0-7B9F7FF9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4AE020-F803-42DD-B337-023F2360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9E63320-3ACA-4320-870D-CA407025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5412D52-0A72-42F4-9D3C-485FAA7D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C417883-B3F8-4E21-8149-CC2E9BD2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1C87CF2-3BC1-4218-8082-A490FF35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D851D0B-E332-45C8-860B-7CB9CE0E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1C25DC1-0BF6-4709-ABFC-A932964A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9A08E64-CB2C-4A82-9136-1DAA60CC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6266AC-20B4-4A23-8673-61AA1834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CE21DF5-5BF1-42A5-9756-E27FF888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95A2875-413C-43C0-A6A0-F4FCC723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C35D70-1B43-4440-BDE2-1EE66718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FE2FACD-4CDB-4AD8-974F-F38252FA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F440F7C-6881-4D08-9E83-9F5A417F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B172FC-4631-4598-9B17-07941AA6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597A6A1-A9A8-42A6-8A82-EE3DB4D6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E8E1BCE-2CA2-438A-BD0E-F24CDA78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B4F021D-3E7B-4D06-AB0F-55BA7DF6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1F06F53-5CDF-4B66-B2B8-093C58C2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C32C762-7E2A-48D7-97BC-395740EB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B09E032-36B8-420D-B974-4011A5D2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CE7CD63-DDAE-44C0-ADB9-F32A5433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D49C4-7AB4-496F-A082-BDE45E54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B3E43F-CAFF-4A20-8EB8-16B88E3B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B5A277A-6D70-4E22-AC9B-293F6647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9E2B1E-EC19-4995-A328-EDE79222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7E0CA97-186E-447D-8A0C-45703917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6B9E1DC-92B5-46BF-8B50-3048CB0E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8B8EDC5-E156-42C4-BD35-0CB9B6B1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A2DE2FB-FA45-4B75-9388-7A7C9EF9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1A49262-8D88-4028-9E85-E2A70912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C0816E7-ABED-44D0-BA3C-B2D3096E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87461A5-B0F3-406B-B8EC-434BBD22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5AB953D-F8A6-432F-84C0-0DBA2BB8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E7A7B4-E01A-4E1D-9E14-45B52CA0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4E1781C-0051-4A82-832C-739B6461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E6DBEFD-1096-45E8-A172-9ABD71F1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9E4B91A-0886-4653-B26D-9B6AEB32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014E9F5-DD80-48A4-B0E8-1E8E507E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3726537-06D7-4E33-9F7E-8F50DB1C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570B623-8E37-4E35-94E1-8111F9D7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0829A53-EB15-4362-B8D0-87B3928C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55D68CE-58A7-4156-BAFB-102CF099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243E699-043F-4E3C-B354-A3B634BD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3CC0FAC-8B78-4156-A137-BEC58D45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FA740D-CBC8-4261-A9A1-64BDF9D1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4815F46-D63D-4E89-AF42-78E14703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AA2260F-9266-451C-A001-3A79CD18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BD9EF23-0D94-43AB-8F46-5E175896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D184FC2-1339-43B5-AB85-C4C666F6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18E152D-3240-48E0-B719-EF632F6B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24963E0-100C-4DB2-8C3D-BA745954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8A48053-CFBC-4313-BE0B-A2D7F446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545287D-4065-4409-BB9A-01C15D7B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BF75F15-FE32-4991-8BDA-27823E3E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B591B6C-BEF1-4E86-AA64-DA2CD48D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1F0908-79D0-4414-83EB-791D9E15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F8A1788-3EEB-4FD8-847E-C57BD22A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ECE512C-9E02-408E-8933-DCA32ED3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6250636-F683-4ACE-AD67-306A8FF6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D012C57-C24D-412E-BCB3-B6121C14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4E881C2-AD3F-4D4F-9159-CF34BCA5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7D7B918-03BB-49C4-B4E1-01129FEC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3F97908-15E5-4F1F-A248-8B0EE95E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25D9B71-E2E6-4651-93EF-B0480408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61E2511-6627-4908-98DB-ECEE1443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C10CDF9-F4F0-4875-A661-E7CC3E26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8BC957-AE93-4479-9B99-68A28289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C20FF0D-A721-413D-9129-70288F80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BFBC945-CA60-4C12-92AC-EDE2CB60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0F813B3-1A8A-4B61-BCE5-E3329430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9761F6E-2C3D-4E35-ABDD-EA4552E4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9B847D6-1D51-4168-816F-0CCABEF9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89C305F-094D-4C92-9116-5010C6D0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003E5F1-A93B-46E6-B5A3-2A1FBEF3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EC31361-49DB-45A5-A6DC-8D960B5D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0C062D6-2A6C-47A8-9E3E-15190251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C28A0C0-D7D3-440E-A7C8-39455813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63B08E-B368-4621-9D1F-28D6289C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B81D236-2DB7-4BAD-82E8-D77B5F50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3E16891-448E-4184-AB79-4AAFB4DC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7749731-52D1-493C-AA39-B21618C9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787C0BB-A225-4E32-877D-78E2EA85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927F55C-3C0B-4B9F-8C5C-99D5A829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71AF56C-E0AF-445B-9BB2-1A8348B2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61DD012-4DC3-44C0-9A23-3FC607D9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0282E2-442D-48F5-8B3B-3DE34E3B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A0DB1C-6164-4284-BB80-2EB03A9C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DEADF5-5A69-461A-8668-7A88256C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A0F7BC-A755-4BF2-9B92-C7D67261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AD852-A20E-43AB-8138-59231FF9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F58C61-E50A-449D-AC10-213C9295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A3AA1F-CF14-495E-A8E1-09FD8A3C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BE0FB4-09BE-48B0-91BC-186167BD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D33BC5-26D8-40B5-B871-F4DC4093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C10788-C2F6-436B-B16D-28053AFF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F64A7F-B2BC-4E97-8F8A-783DB12C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3E8DCF-EF4A-40DF-8DD8-B107E952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8CA5F6-0445-4E27-B5BB-4C184247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E129AE-BEF6-41BC-B46C-8521F685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4158E7-B0EF-44E2-81C3-C29FA5A6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56222-E339-4A11-93A8-32363495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EDC856-DC3B-4843-BCD9-8D2AB611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D74C10-044F-4D89-ABC9-B918AE89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1D8BB7-9D40-4990-B282-3F384925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DF1652-7124-4D2F-8141-D4534DCB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4740C0-DBFD-4A37-918B-5B368C57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1CDD9F-163F-4527-815A-13ACC05E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92ED9B-C81E-4DA4-B762-786B798C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261B32-8E52-41AC-A1CE-562C41C2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521C1D-6160-4910-8C8A-615E170D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283F2F-8C0C-41AE-9BC5-2AF7F8A6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1AFF9-AFD4-4A4F-9035-9AD90A83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28A5D2-62AB-4C75-AC56-398D2242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BCD0F8-BBE5-48AA-ABC9-877E9D5A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9F071D-EBB9-48D1-BF3D-A08D53B6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3CBD1C-922E-4C70-B486-2BA48244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EE7782-60BA-463D-A524-1177E989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282A8F-FB5A-4A1C-A954-F902A5B9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44F665-DB4C-43DB-A247-250E705A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C6A394-E4E8-4927-ABC8-C07AE7FD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F52C9C-DAC0-40C4-9CD7-B91F1CC6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7886C7-FB7C-4C75-AD51-F91BF24C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4EBBF-D48D-46A5-A911-A769E973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5EC145-E6BC-468D-9368-44775F13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E331E4-9271-4FBA-BC06-85371D50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B82A1E-1806-4BF8-BF7B-CBE9680B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A87799-5660-4507-891F-BD0B810A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CB0CE4-A769-4297-AAFC-B06FADAA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F98ED4-EFF2-421E-A27B-1DAE9794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7B949C-1DE9-4390-8BBF-4D1F05DD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C74366-F440-48B5-8045-4D1F7E1E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9C4C1C-76F3-4A27-BEB3-87A0E1CD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3E53B6-0A54-461E-AAE8-3AB01F9D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4FE09-7422-422D-BC09-84965EA8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608130-1309-4029-9334-AA565D3C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98C149-5D2D-404A-B215-88A3783D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7D3C4D-B459-43C0-82A5-801CC3ED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848A48-0859-400C-B5D5-723A9B2F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2D83E3-8991-43A2-8ED5-D40AF4B7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138896-E3CF-469B-9FD5-7724E1EC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A71888-4EA2-4379-8BB9-9D3EE0D5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7B6872-391A-4A08-96A7-A3AADB71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A1E7F9-E310-4057-A58F-1F17D59F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BAE866-1B73-4C3E-B74F-27A9A997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2C23-29E9-48F9-8BF4-D568C1046DB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ADFF-4A5F-4D81-AA48-5973998E93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500C-A218-41D1-A092-EA792DCC003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DF64-53D3-4DF9-A83E-2DE828F598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F9F2-9CE0-4051-A7A7-CF3E276391C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3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8AD7-6F79-46C3-A2B7-0D7B974E1A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890D-4AA7-4CA8-9F7C-671529BF49D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sldNum" idx="3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4ACB-CFEB-4E71-91C6-449765CE17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ED29-D6E8-4714-8C98-95E656849E8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sldNum" idx="38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0D95-CF62-453C-8B7B-73988EA89C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46DA-1402-4326-A881-7A4B373F48C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sldNum" idx="4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7483-453F-4B2F-89B0-DE8598C1B3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075D-2825-4A9A-8955-990EC79A147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8924-94EA-4EA1-BEE5-AF11CD3097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B4A3-DB90-4997-94CE-D3B66B931E6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B80E-8BCF-4AA2-A612-7E7B104723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4017-B1CD-4BE5-8E79-D880336E7D0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AC15-9E9E-4E89-8AB0-0AF66B2CB7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84DE-6025-45F2-A86F-DB56FDD1035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A25F-B0CD-47F9-B74F-C26609D175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C63B-FE45-4747-AF56-3FA71E685AA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D597-A110-4269-BF28-81499B041E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DEEA-E30C-42C3-AA50-A97BC9804E7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7AF1-B171-41FF-B66C-24DA292F66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A53A-7A44-4D78-9C24-47D5678D4F4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44D6-72DC-4362-9BAE-7298284539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99C0-BB1A-4209-AC21-5F208FF6AF1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945E-7D5F-4E3F-BAF7-AA420CA1DB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1513-787A-45DF-AB90-509CB71DC98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DD86-671E-4F60-9B20-92076D7791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F8CD-E731-4B73-AAC7-D9A9D9E9815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5D39-B822-4E45-AD01-EFDF5FB3A4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A848-DF68-4A1D-BC8E-D83F77C4905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9574-D177-47A3-8FAC-9604B218FA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9384-A411-4F89-8AEE-8094F364264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E17B-414E-4813-90C5-DE0B85C9E2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76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DB82-70B2-4738-BFDB-9C1351800A8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77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08FA-6DF1-42E5-A387-BE737ADC27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ftr" idx="78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4FA5-21E0-4368-ADC0-CF1C04B4E61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3FD6-BA4A-4999-BF10-0F06941857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76D9-CF26-4459-93EA-FC037D62E35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571C-1099-4777-98C1-9348923E32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DD5D-B121-4CDB-A656-2CAC6A3C77E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95E2-BC8A-419B-B462-883E5CC8E6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0DF5-FA09-4F6D-8C8B-989DF741B16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E624-B8D9-4CBD-8764-CA85B6EE03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7948-6E57-4C38-A5A5-9C8A6924DB4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0266-FE7F-4452-B8AA-D0130F8FB5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3AEB-C1E0-4DCD-8667-4734BC64352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BD4B-B9D1-4EF7-8553-B25DDBC8EE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860C-4F4C-47CF-9D71-7EE7B10A982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4664-6102-4C2B-94C5-61D75E545F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4B07-3D87-4F71-9A16-8E7847798E4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EB95-0484-47D0-AB67-6139146C01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6BBA-728B-45BF-9BD8-CC0B1EA78A7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D16F-D863-44FE-AB85-E5459C4052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B15C-D83E-4DD6-B8D0-474AC1AA701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D927-3460-4419-9A02-2267B08EF2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09B6-5BBB-4465-B918-EA49F8A0D4B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8386-2F41-418F-9605-0418892574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FC39-1CCC-42C9-83AE-D89945A0849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68A0-1583-4601-B6F5-ADECCC4482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 type="dt" idx="1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5D43-E6AB-42CE-9DC9-0D6470BFBE3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D960-CB8D-46F3-976D-3196F4B99B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BB31-FB62-4FD2-BB82-3CE26F587E5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CD6E-9DBE-495A-8AA2-7F089A34DD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91C6-B88F-438C-92D5-78A3A6B66D7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D464-440E-4654-9FD6-0D0FF12758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8A81-DFEA-4105-90DE-C8264A2C098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7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3DD5-67DF-484D-A04D-7D934668A9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C01E-ECD9-4CEB-B5E3-DFBE49C9EE1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20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70E1-574B-4E11-873F-B6346B911A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81B7-867E-4B59-BB67-75127B643A9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2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A274-4BBD-4245-B9CD-5C606211F2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4945-819A-4B43-88B1-2C1EF3EF566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2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7C5B-924D-4628-AA0B-B9596746B1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8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Прямоугольник 2"/>
          <p:cNvSpPr/>
          <p:nvPr/>
        </p:nvSpPr>
        <p:spPr>
          <a:xfrm>
            <a:off x="0" y="762120"/>
            <a:ext cx="9144000" cy="6095880"/>
          </a:xfrm>
          <a:prstGeom prst="rect">
            <a:avLst/>
          </a:prstGeom>
          <a:solidFill>
            <a:srgbClr val="ffffff">
              <a:alpha val="85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AutoShape 5"/>
          <p:cNvSpPr/>
          <p:nvPr/>
        </p:nvSpPr>
        <p:spPr>
          <a:xfrm>
            <a:off x="0" y="1523880"/>
            <a:ext cx="9144000" cy="3200400"/>
          </a:xfrm>
          <a:prstGeom prst="roundRect">
            <a:avLst>
              <a:gd name="adj" fmla="val 824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онцепц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нформационно-просветительского проек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Мы - потомки героев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Rectangle 6"/>
          <p:cNvSpPr/>
          <p:nvPr/>
        </p:nvSpPr>
        <p:spPr>
          <a:xfrm>
            <a:off x="0" y="103320"/>
            <a:ext cx="9144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епартамент образования и науки Тюменской обла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Прямоугольник 24"/>
          <p:cNvSpPr/>
          <p:nvPr/>
        </p:nvSpPr>
        <p:spPr>
          <a:xfrm>
            <a:off x="0" y="0"/>
            <a:ext cx="3279600" cy="685800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Номер слайда 1"/>
          <p:cNvSpPr/>
          <p:nvPr/>
        </p:nvSpPr>
        <p:spPr>
          <a:xfrm>
            <a:off x="8763120" y="6534000"/>
            <a:ext cx="30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5CF1-7538-4975-8554-729BA02F51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Скругленный прямоугольник 16"/>
          <p:cNvSpPr/>
          <p:nvPr/>
        </p:nvSpPr>
        <p:spPr>
          <a:xfrm>
            <a:off x="-11160" y="641520"/>
            <a:ext cx="3260880" cy="1573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цепция информационно-просветительского про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Мы - потомки героев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Прямоугольник 18"/>
          <p:cNvSpPr/>
          <p:nvPr/>
        </p:nvSpPr>
        <p:spPr>
          <a:xfrm>
            <a:off x="4680" y="2225520"/>
            <a:ext cx="32385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Calibri"/>
              </a:rPr>
              <a:t>апрель 2016 г. - май 202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Прямоугольник 2"/>
          <p:cNvSpPr/>
          <p:nvPr/>
        </p:nvSpPr>
        <p:spPr>
          <a:xfrm>
            <a:off x="3524400" y="2214720"/>
            <a:ext cx="535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развитие интереса и популяризация знаний о ключевых исторических событиях и лицах Великой Отечественной вой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активизация просветительской работы среди обучающихся через востребованные детьми и молодёжью формы и методы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использование информационных ресурсов региональных СМИ в гражданско-патриотическом воспитании детей и молодё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Прямоугольник 4"/>
          <p:cNvSpPr/>
          <p:nvPr/>
        </p:nvSpPr>
        <p:spPr>
          <a:xfrm>
            <a:off x="3770280" y="22212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Прямоугольник 5"/>
          <p:cNvSpPr/>
          <p:nvPr/>
        </p:nvSpPr>
        <p:spPr>
          <a:xfrm>
            <a:off x="3794040" y="633240"/>
            <a:ext cx="527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формирование у обучающихся гражданского самосознания, сохранение памяти о героическом прошлом своей страны и Тюме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Прямоугольник 6"/>
          <p:cNvSpPr/>
          <p:nvPr/>
        </p:nvSpPr>
        <p:spPr>
          <a:xfrm>
            <a:off x="3795120" y="18194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дач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Равнобедренный треугольник 44"/>
          <p:cNvSpPr/>
          <p:nvPr/>
        </p:nvSpPr>
        <p:spPr>
          <a:xfrm rot="5400000">
            <a:off x="3540240" y="34992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Равнобедренный треугольник 49"/>
          <p:cNvSpPr/>
          <p:nvPr/>
        </p:nvSpPr>
        <p:spPr>
          <a:xfrm rot="5400000">
            <a:off x="3559320" y="195480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Прямая соединительная линия 54"/>
          <p:cNvSpPr/>
          <p:nvPr/>
        </p:nvSpPr>
        <p:spPr>
          <a:xfrm flipH="1">
            <a:off x="3274920" y="0"/>
            <a:ext cx="28800" cy="685800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Прямоугольник 4"/>
          <p:cNvSpPr/>
          <p:nvPr/>
        </p:nvSpPr>
        <p:spPr>
          <a:xfrm>
            <a:off x="3887640" y="50292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ники реализации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Прямоугольник 5"/>
          <p:cNvSpPr/>
          <p:nvPr/>
        </p:nvSpPr>
        <p:spPr>
          <a:xfrm>
            <a:off x="3911760" y="5440320"/>
            <a:ext cx="49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дети школьного возраста, студенческая и рабочая молодежь, родители, педагоги, общественные организации, государственные учреждения различных проф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Равнобедренный треугольник 43"/>
          <p:cNvSpPr/>
          <p:nvPr/>
        </p:nvSpPr>
        <p:spPr>
          <a:xfrm rot="5400000">
            <a:off x="3658320" y="5156640"/>
            <a:ext cx="215640" cy="144720"/>
          </a:xfrm>
          <a:prstGeom prst="triangle">
            <a:avLst>
              <a:gd name="adj" fmla="val 50000"/>
            </a:avLst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Прямая соединительная линия 10"/>
          <p:cNvSpPr/>
          <p:nvPr/>
        </p:nvSpPr>
        <p:spPr>
          <a:xfrm>
            <a:off x="3911760" y="1676520"/>
            <a:ext cx="462276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Прямая соединительная линия 51"/>
          <p:cNvSpPr/>
          <p:nvPr/>
        </p:nvSpPr>
        <p:spPr>
          <a:xfrm>
            <a:off x="3911760" y="4952880"/>
            <a:ext cx="462276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Прямоугольник 3"/>
          <p:cNvSpPr/>
          <p:nvPr/>
        </p:nvSpPr>
        <p:spPr>
          <a:xfrm>
            <a:off x="246240" y="3475080"/>
            <a:ext cx="278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 Light"/>
              </a:rPr>
              <a:t>Тематические направ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Прямоугольник 19"/>
          <p:cNvSpPr/>
          <p:nvPr/>
        </p:nvSpPr>
        <p:spPr>
          <a:xfrm>
            <a:off x="522360" y="4319640"/>
            <a:ext cx="245412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- </a:t>
            </a:r>
            <a:r>
              <a:rPr b="0" lang="ru-RU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Великая Отечественная война: ключевые события и исторические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- </a:t>
            </a:r>
            <a:r>
              <a:rPr b="0" lang="ru-RU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Тюменский край в годы Великой Отечественной вой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Прямая соединительная линия 20"/>
          <p:cNvSpPr/>
          <p:nvPr/>
        </p:nvSpPr>
        <p:spPr>
          <a:xfrm>
            <a:off x="598320" y="3048120"/>
            <a:ext cx="237816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Номер слайда 2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209D-88F0-4328-A552-A09C98AF61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Text Box 2"/>
          <p:cNvSpPr/>
          <p:nvPr/>
        </p:nvSpPr>
        <p:spPr>
          <a:xfrm>
            <a:off x="144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аты реализации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Прямоугольник 19"/>
          <p:cNvSpPr/>
          <p:nvPr/>
        </p:nvSpPr>
        <p:spPr>
          <a:xfrm>
            <a:off x="3525840" y="685800"/>
            <a:ext cx="25462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6600"/>
                </a:solidFill>
                <a:latin typeface="Calibri"/>
              </a:rPr>
              <a:t>Сайты образовательных организац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Прямоугольник 20"/>
          <p:cNvSpPr/>
          <p:nvPr/>
        </p:nvSpPr>
        <p:spPr>
          <a:xfrm>
            <a:off x="152280" y="685800"/>
            <a:ext cx="297180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597a0"/>
                </a:solidFill>
                <a:latin typeface="Calibri"/>
              </a:rPr>
              <a:t>Площадки популярных социальных с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Прямоугольник 22"/>
          <p:cNvSpPr/>
          <p:nvPr/>
        </p:nvSpPr>
        <p:spPr>
          <a:xfrm>
            <a:off x="6378480" y="685800"/>
            <a:ext cx="27655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Образовательные и иные заинтересованные орган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Straight Connector 28"/>
          <p:cNvSpPr/>
          <p:nvPr/>
        </p:nvSpPr>
        <p:spPr>
          <a:xfrm>
            <a:off x="727200" y="1571760"/>
            <a:ext cx="1695240" cy="0"/>
          </a:xfrm>
          <a:prstGeom prst="line">
            <a:avLst/>
          </a:prstGeom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Straight Connector 28"/>
          <p:cNvSpPr/>
          <p:nvPr/>
        </p:nvSpPr>
        <p:spPr>
          <a:xfrm>
            <a:off x="3984480" y="1566720"/>
            <a:ext cx="1695600" cy="0"/>
          </a:xfrm>
          <a:prstGeom prst="line">
            <a:avLst/>
          </a:prstGeom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Straight Connector 28"/>
          <p:cNvSpPr/>
          <p:nvPr/>
        </p:nvSpPr>
        <p:spPr>
          <a:xfrm>
            <a:off x="7004160" y="1566720"/>
            <a:ext cx="1695240" cy="0"/>
          </a:xfrm>
          <a:prstGeom prst="line">
            <a:avLst/>
          </a:prstGeom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Прямоугольник 34"/>
          <p:cNvSpPr/>
          <p:nvPr/>
        </p:nvSpPr>
        <p:spPr>
          <a:xfrm>
            <a:off x="393840" y="1758960"/>
            <a:ext cx="2730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597a0"/>
                </a:solidFill>
                <a:latin typeface="Calibri Light"/>
                <a:ea typeface="Arial"/>
              </a:rPr>
              <a:t>Проведение конкурсов видеороликов, плакатов, стихотворных, песенных и иных художественных произведений юных автор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597a0"/>
                </a:solidFill>
                <a:latin typeface="Calibri Light"/>
                <a:ea typeface="Arial"/>
              </a:rPr>
              <a:t>Презентации исследовательских работ, выполненных школьниками и студентами индивидуально, в соавторстве, совместно со взрослы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597a0"/>
                </a:solidFill>
                <a:latin typeface="Calibri Light"/>
                <a:ea typeface="Arial"/>
              </a:rPr>
              <a:t>Организация отчетно-новостной площадки - форума для предоставления широкой публике информации о наиболее интересных и удачных мероприятия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Прямоугольник 35"/>
          <p:cNvSpPr/>
          <p:nvPr/>
        </p:nvSpPr>
        <p:spPr>
          <a:xfrm>
            <a:off x="3519360" y="1690560"/>
            <a:ext cx="26528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c6600"/>
                </a:solidFill>
                <a:latin typeface="Calibri Light"/>
                <a:ea typeface="Arial"/>
              </a:rPr>
              <a:t>Создание интерактивных «копилок» видеоматериалов, ссылок на тематические порталы, методических презентаций, документальных и иных материалов для использования в работе педагогами и деть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c6600"/>
                </a:solidFill>
                <a:latin typeface="Calibri Light"/>
                <a:ea typeface="Arial"/>
              </a:rPr>
              <a:t>Новостные площадки акций, проектов, отражающих специфику учреждений, территории, историю жителей родного города, сел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c6600"/>
                </a:solidFill>
                <a:latin typeface="Calibri Light"/>
                <a:ea typeface="Arial"/>
              </a:rPr>
              <a:t>Виртуальные музейные «окна», основанные на работах детей и молодёжи совместно с родителями, общественными и иными организациями и учреждения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Прямоугольник 36"/>
          <p:cNvSpPr/>
          <p:nvPr/>
        </p:nvSpPr>
        <p:spPr>
          <a:xfrm>
            <a:off x="6504120" y="1758960"/>
            <a:ext cx="2514600" cy="38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24b50"/>
                </a:solidFill>
                <a:latin typeface="Calibri Light"/>
                <a:ea typeface="Arial"/>
              </a:rPr>
              <a:t>Обновление («перезагрузка») работы районных, городских, школьных музеев (музейных комнат), библиоте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24b50"/>
                </a:solidFill>
                <a:latin typeface="Calibri Light"/>
                <a:ea typeface="Arial"/>
              </a:rPr>
              <a:t>Работа дискуссионных взросло - детских площадок с последующим отражением материалов на сайтах, организация и проведение конкурсных мероприятий совместно со СМИ, массовых акций, открытых совместных занятий по заявленной тематике, флеш-мобов и др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Прямоугольник 3"/>
          <p:cNvSpPr/>
          <p:nvPr/>
        </p:nvSpPr>
        <p:spPr>
          <a:xfrm>
            <a:off x="0" y="0"/>
            <a:ext cx="3129120" cy="6848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Прямоугольник 3"/>
          <p:cNvSpPr/>
          <p:nvPr/>
        </p:nvSpPr>
        <p:spPr>
          <a:xfrm>
            <a:off x="71280" y="2430360"/>
            <a:ext cx="307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ганизационно-методиче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Номер слайда 1"/>
          <p:cNvSpPr/>
          <p:nvPr/>
        </p:nvSpPr>
        <p:spPr>
          <a:xfrm>
            <a:off x="8763120" y="6534000"/>
            <a:ext cx="30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6" name="Group 38" descr=""/>
          <p:cNvPicPr/>
          <p:nvPr/>
        </p:nvPicPr>
        <p:blipFill>
          <a:blip r:embed="rId1"/>
          <a:stretch/>
        </p:blipFill>
        <p:spPr>
          <a:xfrm>
            <a:off x="3309840" y="396720"/>
            <a:ext cx="208080" cy="206640"/>
          </a:xfrm>
          <a:prstGeom prst="rect">
            <a:avLst/>
          </a:prstGeom>
          <a:ln w="0">
            <a:noFill/>
          </a:ln>
        </p:spPr>
      </p:pic>
      <p:sp>
        <p:nvSpPr>
          <p:cNvPr id="1607" name="Прямоугольник 5"/>
          <p:cNvSpPr/>
          <p:nvPr/>
        </p:nvSpPr>
        <p:spPr>
          <a:xfrm>
            <a:off x="3625920" y="304920"/>
            <a:ext cx="527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направление в общеобразовательные организации перечня ключевых событий (дат), личностей, подготовка кратких информационных материалов по содержанию заявленных в проекте направл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Прямоугольник 34"/>
          <p:cNvSpPr/>
          <p:nvPr/>
        </p:nvSpPr>
        <p:spPr>
          <a:xfrm>
            <a:off x="5486400" y="1376280"/>
            <a:ext cx="32767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ДОН ТО совместно с ТОГИР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9" name="Group 38" descr=""/>
          <p:cNvPicPr/>
          <p:nvPr/>
        </p:nvPicPr>
        <p:blipFill>
          <a:blip r:embed="rId2"/>
          <a:stretch/>
        </p:blipFill>
        <p:spPr>
          <a:xfrm>
            <a:off x="3365640" y="2163600"/>
            <a:ext cx="206280" cy="208080"/>
          </a:xfrm>
          <a:prstGeom prst="rect">
            <a:avLst/>
          </a:prstGeom>
          <a:ln w="0">
            <a:noFill/>
          </a:ln>
        </p:spPr>
      </p:pic>
      <p:sp>
        <p:nvSpPr>
          <p:cNvPr id="1610" name="Прямоугольник 5"/>
          <p:cNvSpPr/>
          <p:nvPr/>
        </p:nvSpPr>
        <p:spPr>
          <a:xfrm>
            <a:off x="3625920" y="2057400"/>
            <a:ext cx="527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постоянное методическое сопровождение работы педагогов очно и дистанционно в рамках реализации мероприятий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Прямоугольник 39"/>
          <p:cNvSpPr/>
          <p:nvPr/>
        </p:nvSpPr>
        <p:spPr>
          <a:xfrm>
            <a:off x="6000840" y="2757600"/>
            <a:ext cx="27651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ТОГИР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2" name="Group 38" descr=""/>
          <p:cNvPicPr/>
          <p:nvPr/>
        </p:nvPicPr>
        <p:blipFill>
          <a:blip r:embed="rId3"/>
          <a:stretch/>
        </p:blipFill>
        <p:spPr>
          <a:xfrm>
            <a:off x="3389400" y="3535200"/>
            <a:ext cx="207720" cy="208080"/>
          </a:xfrm>
          <a:prstGeom prst="rect">
            <a:avLst/>
          </a:prstGeom>
          <a:ln w="0">
            <a:noFill/>
          </a:ln>
        </p:spPr>
      </p:pic>
      <p:sp>
        <p:nvSpPr>
          <p:cNvPr id="1613" name="Прямоугольник 5"/>
          <p:cNvSpPr/>
          <p:nvPr/>
        </p:nvSpPr>
        <p:spPr>
          <a:xfrm>
            <a:off x="3641760" y="3429000"/>
            <a:ext cx="54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подготовка и реализация циклов тематических программ, видеосюжетов, радиопередач, мультимедийных и видеоуроков по тематике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Прямоугольник 44"/>
          <p:cNvSpPr/>
          <p:nvPr/>
        </p:nvSpPr>
        <p:spPr>
          <a:xfrm>
            <a:off x="6031080" y="4313160"/>
            <a:ext cx="27651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ДИП ТО совместно со С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5" name="Group 38" descr=""/>
          <p:cNvPicPr/>
          <p:nvPr/>
        </p:nvPicPr>
        <p:blipFill>
          <a:blip r:embed="rId4"/>
          <a:stretch/>
        </p:blipFill>
        <p:spPr>
          <a:xfrm>
            <a:off x="3389400" y="5175360"/>
            <a:ext cx="207720" cy="207720"/>
          </a:xfrm>
          <a:prstGeom prst="rect">
            <a:avLst/>
          </a:prstGeom>
          <a:ln w="0">
            <a:noFill/>
          </a:ln>
        </p:spPr>
      </p:pic>
      <p:sp>
        <p:nvSpPr>
          <p:cNvPr id="1616" name="Прямоугольник 5"/>
          <p:cNvSpPr/>
          <p:nvPr/>
        </p:nvSpPr>
        <p:spPr>
          <a:xfrm>
            <a:off x="3651120" y="5075280"/>
            <a:ext cx="527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проведение конкурсных семейно-школьных и молодёжных мероприятий муниципального и регионального уров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Прямоугольник 49"/>
          <p:cNvSpPr/>
          <p:nvPr/>
        </p:nvSpPr>
        <p:spPr>
          <a:xfrm>
            <a:off x="6031080" y="5861160"/>
            <a:ext cx="27651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СМИ, ДИП ТО, ДОН 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Прямая соединительная линия 53"/>
          <p:cNvSpPr/>
          <p:nvPr/>
        </p:nvSpPr>
        <p:spPr>
          <a:xfrm flipH="1">
            <a:off x="3106800" y="0"/>
            <a:ext cx="22320" cy="684864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Прямоугольник 3"/>
          <p:cNvSpPr/>
          <p:nvPr/>
        </p:nvSpPr>
        <p:spPr>
          <a:xfrm>
            <a:off x="0" y="0"/>
            <a:ext cx="3129120" cy="6848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Номер слайда 1"/>
          <p:cNvSpPr/>
          <p:nvPr/>
        </p:nvSpPr>
        <p:spPr>
          <a:xfrm>
            <a:off x="8763120" y="6534000"/>
            <a:ext cx="30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1" name="Group 38" descr=""/>
          <p:cNvPicPr/>
          <p:nvPr/>
        </p:nvPicPr>
        <p:blipFill>
          <a:blip r:embed="rId1"/>
          <a:stretch/>
        </p:blipFill>
        <p:spPr>
          <a:xfrm>
            <a:off x="5425920" y="231840"/>
            <a:ext cx="212760" cy="206280"/>
          </a:xfrm>
          <a:prstGeom prst="rect">
            <a:avLst/>
          </a:prstGeom>
          <a:ln w="0">
            <a:noFill/>
          </a:ln>
        </p:spPr>
      </p:pic>
      <p:sp>
        <p:nvSpPr>
          <p:cNvPr id="1622" name="Прямоугольник 5"/>
          <p:cNvSpPr/>
          <p:nvPr/>
        </p:nvSpPr>
        <p:spPr>
          <a:xfrm>
            <a:off x="3152880" y="668160"/>
            <a:ext cx="231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проект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Киноуроки Великой Побед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Прямоугольник 34"/>
          <p:cNvSpPr/>
          <p:nvPr/>
        </p:nvSpPr>
        <p:spPr>
          <a:xfrm>
            <a:off x="5718240" y="1811160"/>
            <a:ext cx="3276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ЗАО «Сибинформбюр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Прямоугольник 3"/>
          <p:cNvSpPr/>
          <p:nvPr/>
        </p:nvSpPr>
        <p:spPr>
          <a:xfrm>
            <a:off x="239760" y="1862280"/>
            <a:ext cx="278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4b50"/>
                </a:solidFill>
                <a:latin typeface="Calibri Light"/>
              </a:rPr>
              <a:t>Тематическое на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4b50"/>
                </a:solidFill>
                <a:latin typeface="Calibri Light"/>
              </a:rPr>
              <a:t>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Прямая соединительная линия 51"/>
          <p:cNvSpPr/>
          <p:nvPr/>
        </p:nvSpPr>
        <p:spPr>
          <a:xfrm>
            <a:off x="473040" y="3021120"/>
            <a:ext cx="237816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Прямоугольник 52"/>
          <p:cNvSpPr/>
          <p:nvPr/>
        </p:nvSpPr>
        <p:spPr>
          <a:xfrm>
            <a:off x="425520" y="3200400"/>
            <a:ext cx="24541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- </a:t>
            </a:r>
            <a:r>
              <a:rPr b="0" lang="ru-RU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Великая Отечественная война: ключевые события </a:t>
            </a:r>
            <a:br>
              <a:rPr sz="1600"/>
            </a:br>
            <a:r>
              <a:rPr b="0" lang="ru-RU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и исторические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Прямая соединительная линия 53"/>
          <p:cNvSpPr/>
          <p:nvPr/>
        </p:nvSpPr>
        <p:spPr>
          <a:xfrm flipH="1">
            <a:off x="3106800" y="0"/>
            <a:ext cx="22320" cy="684864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Прямоугольник 4"/>
          <p:cNvSpPr/>
          <p:nvPr/>
        </p:nvSpPr>
        <p:spPr>
          <a:xfrm>
            <a:off x="3441600" y="136440"/>
            <a:ext cx="16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ро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Равнобедренный треугольник 54"/>
          <p:cNvSpPr/>
          <p:nvPr/>
        </p:nvSpPr>
        <p:spPr>
          <a:xfrm rot="5400000">
            <a:off x="3240360" y="23724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Прямоугольник 4"/>
          <p:cNvSpPr/>
          <p:nvPr/>
        </p:nvSpPr>
        <p:spPr>
          <a:xfrm>
            <a:off x="5649840" y="147600"/>
            <a:ext cx="16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Прямоугольник 5"/>
          <p:cNvSpPr/>
          <p:nvPr/>
        </p:nvSpPr>
        <p:spPr>
          <a:xfrm>
            <a:off x="5381640" y="577800"/>
            <a:ext cx="345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Цикл фильмов и программ, посвященных знаковым событиям Великой Отечественной войны для показов и обсуждений в образовательных организац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Прямоугольник 5"/>
          <p:cNvSpPr/>
          <p:nvPr/>
        </p:nvSpPr>
        <p:spPr>
          <a:xfrm>
            <a:off x="3274920" y="2492280"/>
            <a:ext cx="207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едиапро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Уроки Победы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Прямоугольник 59"/>
          <p:cNvSpPr/>
          <p:nvPr/>
        </p:nvSpPr>
        <p:spPr>
          <a:xfrm>
            <a:off x="5781600" y="3149640"/>
            <a:ext cx="3276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ВГТРК ГТРК «Регион - Тюмен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Прямоугольник 5"/>
          <p:cNvSpPr/>
          <p:nvPr/>
        </p:nvSpPr>
        <p:spPr>
          <a:xfrm>
            <a:off x="5367240" y="2230560"/>
            <a:ext cx="347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Создание совместно со школьниками видеосюжетов для уроков истории по изучению тем Великой Отечественной вой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Прямоугольник 5"/>
          <p:cNvSpPr/>
          <p:nvPr/>
        </p:nvSpPr>
        <p:spPr>
          <a:xfrm>
            <a:off x="3057480" y="359244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проект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Единые мультимедийны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ро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Прямоугольник 62"/>
          <p:cNvSpPr/>
          <p:nvPr/>
        </p:nvSpPr>
        <p:spPr>
          <a:xfrm>
            <a:off x="5821200" y="4554360"/>
            <a:ext cx="327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Департамент образования и нау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Прямоугольник 5"/>
          <p:cNvSpPr/>
          <p:nvPr/>
        </p:nvSpPr>
        <p:spPr>
          <a:xfrm>
            <a:off x="5418000" y="3568680"/>
            <a:ext cx="3497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Проведение единых мультимедийных уроков совместно с региональным центром Президентской библиотеки имени Б.Н. Ельц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Прямоугольник 5"/>
          <p:cNvSpPr/>
          <p:nvPr/>
        </p:nvSpPr>
        <p:spPr>
          <a:xfrm>
            <a:off x="3057480" y="515448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адиопроект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Наша Победа.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о рассказ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 войн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Прямоугольник 65"/>
          <p:cNvSpPr/>
          <p:nvPr/>
        </p:nvSpPr>
        <p:spPr>
          <a:xfrm>
            <a:off x="5843520" y="6135840"/>
            <a:ext cx="3276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ВГТРК ГТРК «Регион - Тюмен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Прямоугольник 5"/>
          <p:cNvSpPr/>
          <p:nvPr/>
        </p:nvSpPr>
        <p:spPr>
          <a:xfrm>
            <a:off x="5427720" y="4952880"/>
            <a:ext cx="3487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Радиовещание корреспондентов - участников фестиваля детских радиопрограмм «Птенец» на радиостанциях: «Радио России - «Регион - Тюмень», Вести ФМ», «Мая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Прямоугольник 3"/>
          <p:cNvSpPr/>
          <p:nvPr/>
        </p:nvSpPr>
        <p:spPr>
          <a:xfrm>
            <a:off x="0" y="0"/>
            <a:ext cx="2558880" cy="6848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Номер слайда 1"/>
          <p:cNvSpPr/>
          <p:nvPr/>
        </p:nvSpPr>
        <p:spPr>
          <a:xfrm>
            <a:off x="8763120" y="6534000"/>
            <a:ext cx="30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3" name="Group 38" descr=""/>
          <p:cNvPicPr/>
          <p:nvPr/>
        </p:nvPicPr>
        <p:blipFill>
          <a:blip r:embed="rId1"/>
          <a:stretch/>
        </p:blipFill>
        <p:spPr>
          <a:xfrm>
            <a:off x="4541760" y="85680"/>
            <a:ext cx="206280" cy="206280"/>
          </a:xfrm>
          <a:prstGeom prst="rect">
            <a:avLst/>
          </a:prstGeom>
          <a:ln w="0">
            <a:noFill/>
          </a:ln>
        </p:spPr>
      </p:pic>
      <p:sp>
        <p:nvSpPr>
          <p:cNvPr id="1644" name="Прямоугольник 5"/>
          <p:cNvSpPr/>
          <p:nvPr/>
        </p:nvSpPr>
        <p:spPr>
          <a:xfrm>
            <a:off x="2530440" y="652320"/>
            <a:ext cx="192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едиапроек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Детям - о войн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Прямоугольник 34"/>
          <p:cNvSpPr/>
          <p:nvPr/>
        </p:nvSpPr>
        <p:spPr>
          <a:xfrm>
            <a:off x="5195880" y="692280"/>
            <a:ext cx="3887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АНО «Тюменская область сегодн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Прямоугольник 3"/>
          <p:cNvSpPr/>
          <p:nvPr/>
        </p:nvSpPr>
        <p:spPr>
          <a:xfrm>
            <a:off x="76320" y="18622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4b50"/>
                </a:solidFill>
                <a:latin typeface="Calibri Light"/>
              </a:rPr>
              <a:t>Тематическое на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4b50"/>
                </a:solidFill>
                <a:latin typeface="Calibri Light"/>
              </a:rPr>
              <a:t>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Прямая соединительная линия 51"/>
          <p:cNvSpPr/>
          <p:nvPr/>
        </p:nvSpPr>
        <p:spPr>
          <a:xfrm>
            <a:off x="76320" y="3006720"/>
            <a:ext cx="237780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Прямоугольник 52"/>
          <p:cNvSpPr/>
          <p:nvPr/>
        </p:nvSpPr>
        <p:spPr>
          <a:xfrm>
            <a:off x="25560" y="3211560"/>
            <a:ext cx="24541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- </a:t>
            </a:r>
            <a:r>
              <a:rPr b="0" lang="ru-RU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Тюменский край в годы Великой Отечественной вой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Прямая соединительная линия 53"/>
          <p:cNvSpPr/>
          <p:nvPr/>
        </p:nvSpPr>
        <p:spPr>
          <a:xfrm flipH="1">
            <a:off x="2557080" y="0"/>
            <a:ext cx="11160" cy="685152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Прямоугольник 4"/>
          <p:cNvSpPr/>
          <p:nvPr/>
        </p:nvSpPr>
        <p:spPr>
          <a:xfrm>
            <a:off x="2793960" y="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ро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Равнобедренный треугольник 54"/>
          <p:cNvSpPr/>
          <p:nvPr/>
        </p:nvSpPr>
        <p:spPr>
          <a:xfrm rot="5400000">
            <a:off x="2631240" y="86040"/>
            <a:ext cx="216000" cy="144720"/>
          </a:xfrm>
          <a:prstGeom prst="triangle">
            <a:avLst>
              <a:gd name="adj" fmla="val 500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Прямоугольник 4"/>
          <p:cNvSpPr/>
          <p:nvPr/>
        </p:nvSpPr>
        <p:spPr>
          <a:xfrm>
            <a:off x="4768920" y="4680"/>
            <a:ext cx="16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Прямоугольник 5"/>
          <p:cNvSpPr/>
          <p:nvPr/>
        </p:nvSpPr>
        <p:spPr>
          <a:xfrm>
            <a:off x="4433760" y="304920"/>
            <a:ext cx="466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Уроки - встречи с журналистами газеты  в школах, где готовились материалы проекта «Народная памят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Прямоугольник 5"/>
          <p:cNvSpPr/>
          <p:nvPr/>
        </p:nvSpPr>
        <p:spPr>
          <a:xfrm>
            <a:off x="2490840" y="1846440"/>
            <a:ext cx="20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етевой подпроект «Улица геро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Прямоугольник 59"/>
          <p:cNvSpPr/>
          <p:nvPr/>
        </p:nvSpPr>
        <p:spPr>
          <a:xfrm>
            <a:off x="5821200" y="2341440"/>
            <a:ext cx="32767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ИА «Тюменская ли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Прямоугольник 5"/>
          <p:cNvSpPr/>
          <p:nvPr/>
        </p:nvSpPr>
        <p:spPr>
          <a:xfrm>
            <a:off x="4433760" y="1752480"/>
            <a:ext cx="4600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Создание инфографических материалов и видеосюжетов о героях войны, именами которых названы улицы, на интернет - ресурсах школ и в социальных се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Прямоугольник 5"/>
          <p:cNvSpPr/>
          <p:nvPr/>
        </p:nvSpPr>
        <p:spPr>
          <a:xfrm>
            <a:off x="2610000" y="2733840"/>
            <a:ext cx="1823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дпроек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В Сибири не было войны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Прямоугольник 5"/>
          <p:cNvSpPr/>
          <p:nvPr/>
        </p:nvSpPr>
        <p:spPr>
          <a:xfrm>
            <a:off x="4433760" y="2666880"/>
            <a:ext cx="4600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Разработка социальных проектов о земляках – участниках войны, трудовом вкладе в Победу, учителях-фронтовиках, выпускниках 1941-1945 годов.</a:t>
            </a:r>
            <a:r>
              <a:rPr b="0" lang="en-US" sz="1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Публикация лучших работ в рубрике «Уголок России» в газете «Тюменская правда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Прямоугольник 5"/>
          <p:cNvSpPr/>
          <p:nvPr/>
        </p:nvSpPr>
        <p:spPr>
          <a:xfrm>
            <a:off x="4433760" y="944640"/>
            <a:ext cx="4600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Уроки - встречи тюменских байкеров со школьниками с возложением цветов к памятникам погибш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Прямоугольник 26"/>
          <p:cNvSpPr/>
          <p:nvPr/>
        </p:nvSpPr>
        <p:spPr>
          <a:xfrm>
            <a:off x="5176800" y="1300320"/>
            <a:ext cx="3888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Мотоклуб «Ночные вол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Департамент образования и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Прямоугольник 27"/>
          <p:cNvSpPr/>
          <p:nvPr/>
        </p:nvSpPr>
        <p:spPr>
          <a:xfrm>
            <a:off x="5821200" y="3554280"/>
            <a:ext cx="3276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Департамент образования и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АНО «Тюменская правд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Прямоугольник 5"/>
          <p:cNvSpPr/>
          <p:nvPr/>
        </p:nvSpPr>
        <p:spPr>
          <a:xfrm>
            <a:off x="2562120" y="3948120"/>
            <a:ext cx="2021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к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Узнай Героя - земля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Прямоугольник 5"/>
          <p:cNvSpPr/>
          <p:nvPr/>
        </p:nvSpPr>
        <p:spPr>
          <a:xfrm>
            <a:off x="4433760" y="3981600"/>
            <a:ext cx="4600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Проведение в рамках акции конкурса на лучший альбом, стенгазету, музейную экспозицию, урок памяти, посвященные землякам - Героям Советского Союза, полным кавалерам ордена Слав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Прямоугольник 37"/>
          <p:cNvSpPr/>
          <p:nvPr/>
        </p:nvSpPr>
        <p:spPr>
          <a:xfrm>
            <a:off x="4592520" y="4971960"/>
            <a:ext cx="45054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Совет ветеранов войны, труда и правоохранительных орг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Департамент образования и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Прямоугольник 5"/>
          <p:cNvSpPr/>
          <p:nvPr/>
        </p:nvSpPr>
        <p:spPr>
          <a:xfrm>
            <a:off x="2660760" y="5559480"/>
            <a:ext cx="189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дпроек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Отечества достойные сын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Прямоугольник 5"/>
          <p:cNvSpPr/>
          <p:nvPr/>
        </p:nvSpPr>
        <p:spPr>
          <a:xfrm>
            <a:off x="4502160" y="5334120"/>
            <a:ext cx="4649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Проведение конкурса музыкально-литературных композиций на краеведческом материале; конкурсов музеев и сочинений, посвященных 105 годовщине со дня рождения легендарного разведчика Н.И. Кузнецова; конкурсов чтецов; театрализованных постановок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Прямоугольник 40"/>
          <p:cNvSpPr/>
          <p:nvPr/>
        </p:nvSpPr>
        <p:spPr>
          <a:xfrm>
            <a:off x="4748040" y="6386400"/>
            <a:ext cx="4158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Департамент образования и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Ветеранские общественные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узнецова Наталья Александровна</dc:creator>
  <dc:description/>
  <dc:language>en-US</dc:language>
  <cp:lastModifiedBy>User</cp:lastModifiedBy>
  <cp:lastPrinted>2015-12-14T06:58:34Z</cp:lastPrinted>
  <dcterms:modified xsi:type="dcterms:W3CDTF">2016-03-28T04:19:41Z</dcterms:modified>
  <cp:revision>10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