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2F9-CD28-489B-9711-582F9FFD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1C6-231D-4ED5-827C-3B3CC23B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064-AFD1-4F0F-9DF1-0D9D50CD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2B5-646F-4B5D-96BA-8CCF6F67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066-E65D-4547-99FA-7FD5C50A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DDF-B699-4A3F-B786-C440B3E3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988-B1FB-4C15-9D73-87C4C803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369-907A-4301-BC5E-DE8C40D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220-2F57-4334-BDFE-298B0E04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704-EE32-4AFB-88DE-48470E88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B33-5132-4FB7-8BAE-7CC713E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184-2B69-4E45-8055-1239168D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C780-689D-4CD1-AEEE-21D248518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7416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 обыкновен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График1"/>
          <p:cNvPicPr/>
          <p:nvPr/>
        </p:nvPicPr>
        <p:blipFill>
          <a:blip r:embed="rId1"/>
          <a:stretch/>
        </p:blipFill>
        <p:spPr>
          <a:xfrm>
            <a:off x="4140360" y="189000"/>
            <a:ext cx="4752720" cy="640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360036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Monotype Corsiva"/>
              </a:rPr>
              <a:t>Из истории развития обыкновен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2"/>
          <p:cNvSpPr/>
          <p:nvPr/>
        </p:nvSpPr>
        <p:spPr>
          <a:xfrm>
            <a:off x="468360" y="3500280"/>
            <a:ext cx="49068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"/>
          <p:cNvSpPr/>
          <p:nvPr/>
        </p:nvSpPr>
        <p:spPr>
          <a:xfrm>
            <a:off x="5148360" y="0"/>
            <a:ext cx="3995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ревних времен людям приходилось не только считать предметы (для чего требовались натуральные числа), но измерять длину, время, площадь, вести расчеты за купленные или проданные тов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6"/>
          <p:cNvSpPr/>
          <p:nvPr/>
        </p:nvSpPr>
        <p:spPr>
          <a:xfrm>
            <a:off x="-181080" y="5105520"/>
            <a:ext cx="91458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 всегда результат измерения или стоимость товара удавалось выразить натуральным числом. Приходилось учитывать и части, доли меры. Так появились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дроби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7" descr="График 2"/>
          <p:cNvPicPr/>
          <p:nvPr/>
        </p:nvPicPr>
        <p:blipFill>
          <a:blip r:embed="rId1"/>
          <a:stretch/>
        </p:blipFill>
        <p:spPr>
          <a:xfrm>
            <a:off x="250920" y="477720"/>
            <a:ext cx="511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сканирование0015"/>
          <p:cNvPicPr/>
          <p:nvPr/>
        </p:nvPicPr>
        <p:blipFill>
          <a:blip r:embed="rId2"/>
          <a:stretch/>
        </p:blipFill>
        <p:spPr>
          <a:xfrm>
            <a:off x="0" y="1230480"/>
            <a:ext cx="9144000" cy="551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8964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Первые конкретные дроби возникли как части некоторых определенных мер. Подтверждением этого являются названия мер длины, сохранившиеся до наш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19240" y="6156360"/>
            <a:ext cx="2120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Локо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(45 с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297240" y="610884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Маховая саж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(176 с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164280" y="6178680"/>
            <a:ext cx="237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Косая саж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(248 с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9"/>
          <p:cNvSpPr/>
          <p:nvPr/>
        </p:nvSpPr>
        <p:spPr>
          <a:xfrm>
            <a:off x="250920" y="95400"/>
            <a:ext cx="8640720" cy="6578280"/>
          </a:xfrm>
          <a:prstGeom prst="horizontalScroll">
            <a:avLst>
              <a:gd name="adj" fmla="val 3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63040" y="419040"/>
            <a:ext cx="8580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оимость товара тоже не всегда удав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разить натуральным числом. Поэтому в стар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Руси использовались монеты досто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ньше одной копейки: грош -     к. и полушка -    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ругие монеты тоже имели названия: 3 к. - алты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 к. - пятак, 15 к. - пятиалтынный, 10 к. - гривен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0 к. - двугривенный, 25 к. - четвертак, 50 к. – полти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и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5116680" y="1973160"/>
                <a:ext cx="27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0"/>
              <p:cNvSpPr txBox="1"/>
              <p:nvPr/>
            </p:nvSpPr>
            <p:spPr>
              <a:xfrm>
                <a:off x="7524720" y="1957320"/>
                <a:ext cx="27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7" name="Picture 17" descr="Деньги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dbf"/>
            </a:gs>
            <a:gs pos="100000">
              <a:srgbClr val="e5f5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русском языке слово «дробь» появилось 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ке, оно происходит от глагола – «дробить» - разбивать, ломать на части. В первых учебниках математики дроби так и назывались -«ломаные числ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547640" y="2492280"/>
            <a:ext cx="30258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овина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ч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-полч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ая ч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788000" y="2492280"/>
            <a:ext cx="3025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ть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-трет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ятина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дьмина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ятина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2"/>
          <p:cNvGrpSpPr/>
          <p:nvPr/>
        </p:nvGrpSpPr>
        <p:grpSpPr>
          <a:xfrm>
            <a:off x="2700360" y="2492280"/>
            <a:ext cx="1520280" cy="3216240"/>
            <a:chOff x="2700360" y="2492280"/>
            <a:chExt cx="1520280" cy="3216240"/>
          </a:xfrm>
        </p:grpSpPr>
        <mc:AlternateContent>
          <mc:Choice xmlns:a14="http://schemas.microsoft.com/office/drawing/2010/main" Requires="a14">
            <p:sp>
              <p:nvSpPr>
                <p:cNvPr id="62" name="Object 5"/>
                <p:cNvSpPr txBox="1"/>
                <p:nvPr/>
              </p:nvSpPr>
              <p:spPr>
                <a:xfrm>
                  <a:off x="3595320" y="4951440"/>
                  <a:ext cx="45684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Object 8"/>
                <p:cNvSpPr txBox="1"/>
                <p:nvPr/>
              </p:nvSpPr>
              <p:spPr>
                <a:xfrm>
                  <a:off x="2700360" y="3098880"/>
                  <a:ext cx="298080" cy="73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13"/>
                <p:cNvSpPr txBox="1"/>
                <p:nvPr/>
              </p:nvSpPr>
              <p:spPr>
                <a:xfrm>
                  <a:off x="3327120" y="2492280"/>
                  <a:ext cx="3124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Object 14"/>
                <p:cNvSpPr txBox="1"/>
                <p:nvPr/>
              </p:nvSpPr>
              <p:spPr>
                <a:xfrm>
                  <a:off x="3188880" y="3705120"/>
                  <a:ext cx="2840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Object 15"/>
                <p:cNvSpPr txBox="1"/>
                <p:nvPr/>
              </p:nvSpPr>
              <p:spPr>
                <a:xfrm>
                  <a:off x="3777840" y="4317840"/>
                  <a:ext cx="4428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" name="Group 23"/>
          <p:cNvGrpSpPr/>
          <p:nvPr/>
        </p:nvGrpSpPr>
        <p:grpSpPr>
          <a:xfrm>
            <a:off x="6227640" y="2492280"/>
            <a:ext cx="868320" cy="3238560"/>
            <a:chOff x="6227640" y="2492280"/>
            <a:chExt cx="868320" cy="3238560"/>
          </a:xfrm>
        </p:grpSpPr>
        <mc:AlternateContent>
          <mc:Choice xmlns:a14="http://schemas.microsoft.com/office/drawing/2010/main" Requires="a14">
            <p:sp>
              <p:nvSpPr>
                <p:cNvPr id="68" name="Object 12"/>
                <p:cNvSpPr txBox="1"/>
                <p:nvPr/>
              </p:nvSpPr>
              <p:spPr>
                <a:xfrm>
                  <a:off x="6829200" y="3090960"/>
                  <a:ext cx="26676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Object 16"/>
                <p:cNvSpPr txBox="1"/>
                <p:nvPr/>
              </p:nvSpPr>
              <p:spPr>
                <a:xfrm>
                  <a:off x="6627600" y="4976640"/>
                  <a:ext cx="41292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7"/>
                <p:cNvSpPr txBox="1"/>
                <p:nvPr/>
              </p:nvSpPr>
              <p:spPr>
                <a:xfrm>
                  <a:off x="6586200" y="4368960"/>
                  <a:ext cx="29232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18"/>
                <p:cNvSpPr txBox="1"/>
                <p:nvPr/>
              </p:nvSpPr>
              <p:spPr>
                <a:xfrm>
                  <a:off x="6302160" y="3738600"/>
                  <a:ext cx="2682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Object 19"/>
                <p:cNvSpPr txBox="1"/>
                <p:nvPr/>
              </p:nvSpPr>
              <p:spPr>
                <a:xfrm>
                  <a:off x="6227640" y="2492280"/>
                  <a:ext cx="2682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77"/>
          <p:cNvSpPr/>
          <p:nvPr/>
        </p:nvSpPr>
        <p:spPr>
          <a:xfrm>
            <a:off x="84240" y="189000"/>
            <a:ext cx="8964360" cy="6192720"/>
          </a:xfrm>
          <a:prstGeom prst="verticalScroll">
            <a:avLst>
              <a:gd name="adj" fmla="val 2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665280"/>
            <a:ext cx="896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Древнем Египте дробь изобража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Древнем Китае вместо черты использовали точ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Арабских странах точка ставилась над ч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Индии дробь записывали без зна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5" descr="Image1610"/>
          <p:cNvPicPr/>
          <p:nvPr/>
        </p:nvPicPr>
        <p:blipFill>
          <a:blip r:embed="rId1"/>
          <a:stretch/>
        </p:blipFill>
        <p:spPr>
          <a:xfrm>
            <a:off x="2916360" y="1125360"/>
            <a:ext cx="2720880" cy="7542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37"/>
          <p:cNvGrpSpPr/>
          <p:nvPr/>
        </p:nvGrpSpPr>
        <p:grpSpPr>
          <a:xfrm>
            <a:off x="3949560" y="2819520"/>
            <a:ext cx="963720" cy="66600"/>
            <a:chOff x="3949560" y="2819520"/>
            <a:chExt cx="963720" cy="66600"/>
          </a:xfrm>
        </p:grpSpPr>
        <p:sp>
          <p:nvSpPr>
            <p:cNvPr id="77" name="Line 28"/>
            <p:cNvSpPr/>
            <p:nvPr/>
          </p:nvSpPr>
          <p:spPr>
            <a:xfrm>
              <a:off x="3949560" y="2847960"/>
              <a:ext cx="28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4"/>
            <p:cNvGrpSpPr/>
            <p:nvPr/>
          </p:nvGrpSpPr>
          <p:grpSpPr>
            <a:xfrm>
              <a:off x="4348080" y="2819520"/>
              <a:ext cx="252360" cy="66600"/>
              <a:chOff x="4348080" y="2819520"/>
              <a:chExt cx="252360" cy="66600"/>
            </a:xfrm>
          </p:grpSpPr>
          <p:sp>
            <p:nvSpPr>
              <p:cNvPr id="79" name="Line 32"/>
              <p:cNvSpPr/>
              <p:nvPr/>
            </p:nvSpPr>
            <p:spPr>
              <a:xfrm>
                <a:off x="4348080" y="28195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>
                <a:off x="4348080" y="28861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Oval 35"/>
            <p:cNvSpPr/>
            <p:nvPr/>
          </p:nvSpPr>
          <p:spPr>
            <a:xfrm>
              <a:off x="4876920" y="282924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6"/>
          <p:cNvGrpSpPr/>
          <p:nvPr/>
        </p:nvGrpSpPr>
        <p:grpSpPr>
          <a:xfrm>
            <a:off x="3948120" y="3800520"/>
            <a:ext cx="741240" cy="390600"/>
            <a:chOff x="3948120" y="3800520"/>
            <a:chExt cx="741240" cy="390600"/>
          </a:xfrm>
        </p:grpSpPr>
        <p:sp>
          <p:nvSpPr>
            <p:cNvPr id="83" name="Line 41"/>
            <p:cNvSpPr/>
            <p:nvPr/>
          </p:nvSpPr>
          <p:spPr>
            <a:xfrm>
              <a:off x="3948120" y="4152960"/>
              <a:ext cx="28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2"/>
            <p:cNvGrpSpPr/>
            <p:nvPr/>
          </p:nvGrpSpPr>
          <p:grpSpPr>
            <a:xfrm>
              <a:off x="4346640" y="4124520"/>
              <a:ext cx="252360" cy="66600"/>
              <a:chOff x="4346640" y="4124520"/>
              <a:chExt cx="252360" cy="66600"/>
            </a:xfrm>
          </p:grpSpPr>
          <p:sp>
            <p:nvSpPr>
              <p:cNvPr id="85" name="Line 43"/>
              <p:cNvSpPr/>
              <p:nvPr/>
            </p:nvSpPr>
            <p:spPr>
              <a:xfrm>
                <a:off x="4346640" y="41245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4"/>
              <p:cNvSpPr/>
              <p:nvPr/>
            </p:nvSpPr>
            <p:spPr>
              <a:xfrm>
                <a:off x="4346640" y="41911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val 45"/>
            <p:cNvSpPr/>
            <p:nvPr/>
          </p:nvSpPr>
          <p:spPr>
            <a:xfrm>
              <a:off x="4653000" y="380052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59"/>
          <p:cNvGrpSpPr/>
          <p:nvPr/>
        </p:nvGrpSpPr>
        <p:grpSpPr>
          <a:xfrm>
            <a:off x="2932200" y="5443560"/>
            <a:ext cx="650880" cy="66600"/>
            <a:chOff x="2932200" y="5443560"/>
            <a:chExt cx="650880" cy="66600"/>
          </a:xfrm>
        </p:grpSpPr>
        <p:sp>
          <p:nvSpPr>
            <p:cNvPr id="89" name="Line 54"/>
            <p:cNvSpPr/>
            <p:nvPr/>
          </p:nvSpPr>
          <p:spPr>
            <a:xfrm>
              <a:off x="2932200" y="5472000"/>
              <a:ext cx="28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55"/>
            <p:cNvGrpSpPr/>
            <p:nvPr/>
          </p:nvGrpSpPr>
          <p:grpSpPr>
            <a:xfrm>
              <a:off x="3330720" y="5443560"/>
              <a:ext cx="252360" cy="66600"/>
              <a:chOff x="3330720" y="5443560"/>
              <a:chExt cx="252360" cy="66600"/>
            </a:xfrm>
          </p:grpSpPr>
          <p:sp>
            <p:nvSpPr>
              <p:cNvPr id="91" name="Line 56"/>
              <p:cNvSpPr/>
              <p:nvPr/>
            </p:nvSpPr>
            <p:spPr>
              <a:xfrm>
                <a:off x="3330720" y="54435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7"/>
              <p:cNvSpPr/>
              <p:nvPr/>
            </p:nvSpPr>
            <p:spPr>
              <a:xfrm>
                <a:off x="3330720" y="55101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Rectangle 60"/>
          <p:cNvSpPr/>
          <p:nvPr/>
        </p:nvSpPr>
        <p:spPr>
          <a:xfrm>
            <a:off x="5235480" y="518940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1"/>
          <p:cNvGrpSpPr/>
          <p:nvPr/>
        </p:nvGrpSpPr>
        <p:grpSpPr>
          <a:xfrm>
            <a:off x="5508720" y="4946760"/>
            <a:ext cx="1158840" cy="952200"/>
            <a:chOff x="5508720" y="4946760"/>
            <a:chExt cx="1158840" cy="952200"/>
          </a:xfrm>
        </p:grpSpPr>
        <p:grpSp>
          <p:nvGrpSpPr>
            <p:cNvPr id="95" name="Group 67"/>
            <p:cNvGrpSpPr/>
            <p:nvPr/>
          </p:nvGrpSpPr>
          <p:grpSpPr>
            <a:xfrm>
              <a:off x="5508720" y="4962600"/>
              <a:ext cx="503280" cy="936360"/>
              <a:chOff x="5508720" y="4962600"/>
              <a:chExt cx="503280" cy="936360"/>
            </a:xfrm>
          </p:grpSpPr>
          <p:sp>
            <p:nvSpPr>
              <p:cNvPr id="96" name="Rectangle 61"/>
              <p:cNvSpPr/>
              <p:nvPr/>
            </p:nvSpPr>
            <p:spPr>
              <a:xfrm>
                <a:off x="5508720" y="4962600"/>
                <a:ext cx="50328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63"/>
              <p:cNvSpPr/>
              <p:nvPr/>
            </p:nvSpPr>
            <p:spPr>
              <a:xfrm>
                <a:off x="5619960" y="5419440"/>
                <a:ext cx="289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64"/>
            <p:cNvGrpSpPr/>
            <p:nvPr/>
          </p:nvGrpSpPr>
          <p:grpSpPr>
            <a:xfrm>
              <a:off x="5994360" y="5378400"/>
              <a:ext cx="252360" cy="66600"/>
              <a:chOff x="5994360" y="5378400"/>
              <a:chExt cx="252360" cy="66600"/>
            </a:xfrm>
          </p:grpSpPr>
          <p:sp>
            <p:nvSpPr>
              <p:cNvPr id="99" name="Line 65"/>
              <p:cNvSpPr/>
              <p:nvPr/>
            </p:nvSpPr>
            <p:spPr>
              <a:xfrm>
                <a:off x="5994360" y="537840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6"/>
              <p:cNvSpPr/>
              <p:nvPr/>
            </p:nvSpPr>
            <p:spPr>
              <a:xfrm>
                <a:off x="5994360" y="544500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Rectangle 69"/>
            <p:cNvSpPr/>
            <p:nvPr/>
          </p:nvSpPr>
          <p:spPr>
            <a:xfrm>
              <a:off x="6164280" y="4946760"/>
              <a:ext cx="50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435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оло 1200 г. арабы стали впервые ставить «черту» для отделения числителя от знаменателя, а в 1202 г. итальянский купец и путешественник, сын городского писаря Фибоначчи (Леонардо Пизанский) ввел слово «дроб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еке греческий монах Максим Плануд ввел названия «числитель» и «знаменател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1:47:54Z</dcterms:created>
  <dc:creator>Александр</dc:creator>
  <dc:description/>
  <dc:language>en-US</dc:language>
  <cp:lastModifiedBy>Кадры</cp:lastModifiedBy>
  <dcterms:modified xsi:type="dcterms:W3CDTF">2016-01-20T02:27:33Z</dcterms:modified>
  <cp:revision>15</cp:revision>
  <dc:subject/>
  <dc:title>Из истории развития обыкновенных дробей</dc:title>
</cp:coreProperties>
</file>